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58013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8D373-C9CD-4F5A-A3F0-E1BA360DE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07517-9DAB-469C-98A4-3301A9D66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1BC8C-F29E-47C5-AFDE-3012E7E20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682C7-2804-4F3F-8DC6-77927A611F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E1D9C-2FF2-4266-AA10-4738168401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FA40A-9BB6-4CF2-AF01-8F12A512F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43CBE-E740-4CBC-8E4C-9C057EB49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02CFF-BE68-4871-82CE-09FADA9F6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A201-CBD0-4208-BE47-95F2B5F76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984F-01F2-4AE2-ADBE-098D3A5BA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5C6B2-1A06-4FD3-9B0C-9E838B91F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A8C49-9CCA-40E2-B9B7-B7028448F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AB013368-454E-41A1-924F-A6DCC210254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ogical Effort of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Higher Valency Add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ember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5193-1C45-4BBF-858B-E84822F68612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lency 3: H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85800" y="2827440"/>
          <a:ext cx="777240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27440"/>
                    <a:ext cx="777240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874D5-034E-48BF-82B0-CDC382EADAC5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ding Blo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Cells, Gray Cells,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cells compute G and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y cells comput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ted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tless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2F457-AF1D-4A9F-924A-6F776C5AEFA8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lency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5800" y="2209680"/>
          <a:ext cx="777240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7724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27CCF-C630-4622-B932-0A38A15672B7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lency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5800" y="1676520"/>
          <a:ext cx="7772400" cy="25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25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4704-7C04-4186-A028-2E468B317132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Parameters (v=2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1981080"/>
          <a:ext cx="5943600" cy="306864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219320"/>
                <a:gridCol w="1218960"/>
                <a:gridCol w="914400"/>
                <a:gridCol w="1067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ing C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inverting C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ted Do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tless Do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 +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+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* 5/6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1B9D8-D384-494F-806F-3A78EB84777E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Parameters (v=3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00200" y="1752480"/>
          <a:ext cx="5943600" cy="41641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1143000"/>
                <a:gridCol w="1219320"/>
                <a:gridCol w="990720"/>
                <a:gridCol w="10666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ing C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inverting C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ted Do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tless Do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3 +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+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9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5E104-3B30-4CED-99D8-35684D7CDDC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Parameters (v=4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00200" y="1523880"/>
          <a:ext cx="5943600" cy="445788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1143000"/>
                <a:gridCol w="1219320"/>
                <a:gridCol w="990720"/>
                <a:gridCol w="10666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ing C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inverting C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ted Do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tless Do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/3 +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+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2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9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9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6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10A1-D3FC-4D60-B947-D012B75B886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contribute capacitance per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track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anned by each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wire cap / track) / unit inverter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= sum(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4E647-BCAA-4B21-95C8-2A2C032CE7A0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25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ly choose best size for each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125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25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valid if wire parasitics are neg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25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, make each stage have unit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125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125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125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25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performance does this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25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ittle unless stage efforts are non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25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estimates delay of Sklansky / LF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1780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384200" y="2057400"/>
          <a:ext cx="250200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2057400"/>
                    <a:ext cx="25020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427500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351080" y="3276720"/>
          <a:ext cx="6497640" cy="14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1080" y="3276720"/>
                    <a:ext cx="649764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C1B27-F280-44F8-AA42-F7FFECEDA371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ho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MATLAB models of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stage, list f, p,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architecture, valency, circuit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TLAB to calculate tota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ideal and unit drive delays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s unit drive si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 vs. # of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6BBAC-E673-431E-BCA3-1B33A4E6C4D8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higher valency adders worth the hass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3593A-911B-45FC-9EAD-47205BAB9585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676520" y="1239840"/>
          <a:ext cx="5638680" cy="48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39840"/>
                    <a:ext cx="563868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68675-A46A-412F-BDC7-AE6471887CBF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fast prefix networks, the logical effort model predicts that valency barely affects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ency 2 designs are sim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ost commercial designs use valency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es of logical effor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predicts g for higher val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predicts p for higher val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e model through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imulate entire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19BFB-37A8-44FC-B949-2CBF1EDD3C5F}" type="slidenum">
              <a:t>21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efix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69048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3000" y="1523880"/>
          <a:ext cx="6931080" cy="44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23880"/>
                    <a:ext cx="6931080" cy="44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9FEF8-AE77-4F27-A31B-87F365C3A927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e/post compu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143000" y="4419720"/>
            <a:ext cx="7162560" cy="1465200"/>
            <a:chOff x="1143000" y="4419720"/>
            <a:chExt cx="7162560" cy="1465200"/>
          </a:xfrm>
        </p:grpSpPr>
        <p:grpSp>
          <p:nvGrpSpPr>
            <p:cNvPr id="61" name=""/>
            <p:cNvGrpSpPr/>
            <p:nvPr/>
          </p:nvGrpSpPr>
          <p:grpSpPr>
            <a:xfrm>
              <a:off x="1146600" y="4420800"/>
              <a:ext cx="7154280" cy="1462680"/>
              <a:chOff x="1146600" y="4420800"/>
              <a:chExt cx="7154280" cy="146268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146600" y="4420800"/>
                <a:ext cx="1117800" cy="243720"/>
                <a:chOff x="1146600" y="4420800"/>
                <a:chExt cx="1117800" cy="2437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226160" y="4420800"/>
                  <a:ext cx="958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el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146600" y="4420800"/>
                  <a:ext cx="111780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2264760" y="4420800"/>
                <a:ext cx="761040" cy="243720"/>
                <a:chOff x="2264760" y="4420800"/>
                <a:chExt cx="761040" cy="243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2344320" y="4420800"/>
                  <a:ext cx="6015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e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264760" y="4420800"/>
                  <a:ext cx="7610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026520" y="4420800"/>
                <a:ext cx="1495800" cy="243720"/>
                <a:chOff x="3026520" y="4420800"/>
                <a:chExt cx="1495800" cy="2437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105720" y="4420800"/>
                  <a:ext cx="1336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oninverting CMO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026520" y="4420800"/>
                  <a:ext cx="149580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4523040" y="4420800"/>
                <a:ext cx="1273680" cy="243720"/>
                <a:chOff x="4523040" y="4420800"/>
                <a:chExt cx="1273680" cy="24372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4602600" y="4420800"/>
                  <a:ext cx="11142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verting CMO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523040" y="4420800"/>
                  <a:ext cx="127368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5797080" y="4420800"/>
                <a:ext cx="1214640" cy="243720"/>
                <a:chOff x="5797080" y="4420800"/>
                <a:chExt cx="1214640" cy="2437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5876280" y="4420800"/>
                  <a:ext cx="1055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Footed Domino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797080" y="4420800"/>
                  <a:ext cx="12146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7012440" y="4420800"/>
                <a:ext cx="1288440" cy="243720"/>
                <a:chOff x="7012440" y="4420800"/>
                <a:chExt cx="1288440" cy="2437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7091640" y="4420800"/>
                  <a:ext cx="112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Footless Domino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012440" y="4420800"/>
                  <a:ext cx="12884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146600" y="4664520"/>
                <a:ext cx="1117800" cy="487440"/>
                <a:chOff x="1146600" y="4664520"/>
                <a:chExt cx="1117800" cy="4874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226160" y="4664520"/>
                  <a:ext cx="95868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itwi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146600" y="4664520"/>
                  <a:ext cx="111780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264760" y="4664520"/>
                <a:ext cx="761040" cy="243720"/>
                <a:chOff x="2264760" y="4664520"/>
                <a:chExt cx="761040" cy="24372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344320" y="4664520"/>
                  <a:ext cx="6015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E</a:t>
                  </a:r>
                  <a:r>
                    <a:rPr b="0" lang="en-US" sz="1200" spc="-1" strike="noStrike" baseline="-30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i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264760" y="4664520"/>
                  <a:ext cx="7610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3026520" y="4664520"/>
                <a:ext cx="1495800" cy="243720"/>
                <a:chOff x="3026520" y="4664520"/>
                <a:chExt cx="1495800" cy="24372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3105720" y="4664520"/>
                  <a:ext cx="1336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9/3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026520" y="4664520"/>
                  <a:ext cx="149580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4523040" y="4664520"/>
                <a:ext cx="1273680" cy="243720"/>
                <a:chOff x="4523040" y="4664520"/>
                <a:chExt cx="1273680" cy="24372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4602600" y="4664520"/>
                  <a:ext cx="11142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9/3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523040" y="4664520"/>
                  <a:ext cx="127368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5797080" y="4664520"/>
                <a:ext cx="1214640" cy="243720"/>
                <a:chOff x="5797080" y="4664520"/>
                <a:chExt cx="1214640" cy="24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876280" y="4664520"/>
                  <a:ext cx="1055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/3 * 5/6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797080" y="4664520"/>
                  <a:ext cx="12146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7012440" y="4664520"/>
                <a:ext cx="1288440" cy="243720"/>
                <a:chOff x="7012440" y="4664520"/>
                <a:chExt cx="1288440" cy="24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7091640" y="4664520"/>
                  <a:ext cx="112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/3 * 5/6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012440" y="4664520"/>
                  <a:ext cx="12884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2264760" y="4908240"/>
                <a:ext cx="761040" cy="243720"/>
                <a:chOff x="2264760" y="4908240"/>
                <a:chExt cx="761040" cy="24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2344320" y="4908240"/>
                  <a:ext cx="6015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D</a:t>
                  </a:r>
                  <a:r>
                    <a:rPr b="0" lang="en-US" sz="1200" spc="-1" strike="noStrike" baseline="-30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i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264760" y="4908240"/>
                  <a:ext cx="7610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3026520" y="4908240"/>
                <a:ext cx="1495800" cy="243720"/>
                <a:chOff x="3026520" y="4908240"/>
                <a:chExt cx="1495800" cy="2437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105720" y="4908240"/>
                  <a:ext cx="1336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/3 + 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026520" y="4908240"/>
                  <a:ext cx="149580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4523040" y="4908240"/>
                <a:ext cx="1273680" cy="243720"/>
                <a:chOff x="4523040" y="4908240"/>
                <a:chExt cx="1273680" cy="2437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602600" y="4908240"/>
                  <a:ext cx="11142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/3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523040" y="4908240"/>
                  <a:ext cx="127368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97080" y="4908240"/>
                <a:ext cx="1214640" cy="243720"/>
                <a:chOff x="5797080" y="4908240"/>
                <a:chExt cx="1214640" cy="2437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876280" y="4908240"/>
                  <a:ext cx="1055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/3 + 5/6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797080" y="4908240"/>
                  <a:ext cx="12146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7012440" y="4908240"/>
                <a:ext cx="1288440" cy="243720"/>
                <a:chOff x="7012440" y="4908240"/>
                <a:chExt cx="1288440" cy="2437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7091640" y="4908240"/>
                  <a:ext cx="112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/3 + 5/6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012440" y="4908240"/>
                  <a:ext cx="12884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146600" y="5151960"/>
                <a:ext cx="1117800" cy="487440"/>
                <a:chOff x="1146600" y="5151960"/>
                <a:chExt cx="1117800" cy="4874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226160" y="5151960"/>
                  <a:ext cx="95868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um X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146600" y="5151960"/>
                  <a:ext cx="111780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264760" y="5151960"/>
                <a:ext cx="761040" cy="243720"/>
                <a:chOff x="2264760" y="5151960"/>
                <a:chExt cx="761040" cy="24372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344320" y="5151960"/>
                  <a:ext cx="6015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E</a:t>
                  </a:r>
                  <a:r>
                    <a:rPr b="0" lang="en-US" sz="1200" spc="-1" strike="noStrike" baseline="-30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x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264760" y="5151960"/>
                  <a:ext cx="7610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026520" y="5151960"/>
                <a:ext cx="1495800" cy="243720"/>
                <a:chOff x="3026520" y="5151960"/>
                <a:chExt cx="1495800" cy="2437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105720" y="5151960"/>
                  <a:ext cx="1336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9/3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026520" y="5151960"/>
                  <a:ext cx="149580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523040" y="5151960"/>
                <a:ext cx="1273680" cy="243720"/>
                <a:chOff x="4523040" y="5151960"/>
                <a:chExt cx="1273680" cy="2437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4602600" y="5151960"/>
                  <a:ext cx="11142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9/3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523040" y="5151960"/>
                  <a:ext cx="127368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797080" y="5151960"/>
                <a:ext cx="1214640" cy="243720"/>
                <a:chOff x="5797080" y="5151960"/>
                <a:chExt cx="1214640" cy="2437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876280" y="5151960"/>
                  <a:ext cx="1055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/3 * 5/6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797080" y="5151960"/>
                  <a:ext cx="12146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7012440" y="5151960"/>
                <a:ext cx="1288440" cy="243720"/>
                <a:chOff x="7012440" y="5151960"/>
                <a:chExt cx="1288440" cy="2437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7091640" y="5151960"/>
                  <a:ext cx="112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/3 * 5/6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012440" y="5151960"/>
                  <a:ext cx="12884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264760" y="5395680"/>
                <a:ext cx="761040" cy="243720"/>
                <a:chOff x="2264760" y="5395680"/>
                <a:chExt cx="761040" cy="2437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344320" y="5395680"/>
                  <a:ext cx="6015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D</a:t>
                  </a:r>
                  <a:r>
                    <a:rPr b="0" lang="en-US" sz="1200" spc="-1" strike="noStrike" baseline="-30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x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264760" y="5395680"/>
                  <a:ext cx="7610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3026520" y="5395680"/>
                <a:ext cx="1495800" cy="243720"/>
                <a:chOff x="3026520" y="5395680"/>
                <a:chExt cx="1495800" cy="243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105720" y="5395680"/>
                  <a:ext cx="1336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9/3 + 12/3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26520" y="5395680"/>
                  <a:ext cx="149580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4523040" y="5395680"/>
                <a:ext cx="1273680" cy="243720"/>
                <a:chOff x="4523040" y="5395680"/>
                <a:chExt cx="1273680" cy="243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4602600" y="5395680"/>
                  <a:ext cx="11142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9/3 + 12/3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523040" y="5395680"/>
                  <a:ext cx="127368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797080" y="5395680"/>
                <a:ext cx="1214640" cy="243720"/>
                <a:chOff x="5797080" y="5395680"/>
                <a:chExt cx="1214640" cy="243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876280" y="5395680"/>
                  <a:ext cx="1055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/3 + 5/6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797080" y="5395680"/>
                  <a:ext cx="12146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7012440" y="5395680"/>
                <a:ext cx="1288440" cy="243720"/>
                <a:chOff x="7012440" y="5395680"/>
                <a:chExt cx="1288440" cy="2437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091640" y="5395680"/>
                  <a:ext cx="112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/3 + 5/6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012440" y="5395680"/>
                  <a:ext cx="12884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146600" y="5639760"/>
                <a:ext cx="1117800" cy="243720"/>
                <a:chOff x="1146600" y="5639760"/>
                <a:chExt cx="1117800" cy="2437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226160" y="5639760"/>
                  <a:ext cx="958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uff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146600" y="5639760"/>
                  <a:ext cx="111780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264760" y="5639760"/>
                <a:ext cx="761040" cy="243720"/>
                <a:chOff x="2264760" y="5639760"/>
                <a:chExt cx="761040" cy="2437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344320" y="5639760"/>
                  <a:ext cx="6015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E</a:t>
                  </a:r>
                  <a:r>
                    <a:rPr b="0" lang="en-US" sz="1200" spc="-1" strike="noStrike" baseline="-30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u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264760" y="5639760"/>
                  <a:ext cx="7610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3026520" y="5639760"/>
                <a:ext cx="1495800" cy="243720"/>
                <a:chOff x="3026520" y="5639760"/>
                <a:chExt cx="1495800" cy="2437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3105720" y="5639760"/>
                  <a:ext cx="1336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 * 1/2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026520" y="5639760"/>
                  <a:ext cx="149580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4523040" y="5639760"/>
                <a:ext cx="1273680" cy="243720"/>
                <a:chOff x="4523040" y="5639760"/>
                <a:chExt cx="1273680" cy="2437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4602600" y="5639760"/>
                  <a:ext cx="11142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 * 1/2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523040" y="5639760"/>
                  <a:ext cx="127368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797080" y="5639760"/>
                <a:ext cx="1214640" cy="243720"/>
                <a:chOff x="5797080" y="5639760"/>
                <a:chExt cx="1214640" cy="2437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876280" y="5639760"/>
                  <a:ext cx="1055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/3 * 5/6 * 1/2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97080" y="5639760"/>
                  <a:ext cx="12146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7012440" y="5639760"/>
                <a:ext cx="1288440" cy="243720"/>
                <a:chOff x="7012440" y="5639760"/>
                <a:chExt cx="1288440" cy="2437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7091640" y="5639760"/>
                  <a:ext cx="112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/3 * 5/6 * 1/2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012440" y="5639760"/>
                  <a:ext cx="12884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4" name=""/>
            <p:cNvSpPr/>
            <p:nvPr/>
          </p:nvSpPr>
          <p:spPr>
            <a:xfrm>
              <a:off x="1143000" y="4419720"/>
              <a:ext cx="7162560" cy="14652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5" name=""/>
          <p:cNvGraphicFramePr/>
          <p:nvPr/>
        </p:nvGraphicFramePr>
        <p:xfrm>
          <a:off x="1828800" y="1676520"/>
          <a:ext cx="5799240" cy="45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76520"/>
                    <a:ext cx="5799240" cy="45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032AC-60A0-46B0-84C1-A407F3248354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lency 2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828800" y="1523880"/>
          <a:ext cx="5286240" cy="44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523880"/>
                    <a:ext cx="528624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6837D-B533-423D-A3CE-CEB8E2F5DAB6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lency 3: B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2698920"/>
          <a:ext cx="7772400" cy="22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98920"/>
                    <a:ext cx="7772400" cy="22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27C73-ADB8-46EF-8DB4-C4605E6BAB94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lency 3: LF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5800" y="2743200"/>
          <a:ext cx="777240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43200"/>
                    <a:ext cx="777240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15B91-CDF5-4C94-BE22-307CBD7E8BBC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lency 3: Sklansk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5800" y="2984400"/>
          <a:ext cx="7772400" cy="16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84400"/>
                    <a:ext cx="77724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F94D4-A8A9-47DB-816A-84C915DDF856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lency 3: 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5800" y="2876400"/>
          <a:ext cx="7772400" cy="18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76400"/>
                    <a:ext cx="7772400" cy="18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D19A6-D1A7-4DEF-BBE6-404896985389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04-11-19T02:13:11Z</dcterms:modified>
  <cp:revision>436</cp:revision>
  <dc:subject/>
  <dc:title>PowerPoint Presentation</dc:title>
</cp:coreProperties>
</file>