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958013" cy="9244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595B4-5F62-41AA-95A7-04812E6F11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0847D-655A-4E09-B08E-ADBB37A73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D556E-8ECE-497C-ACA5-2D56294BF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31B9F-EA62-4A77-85AC-389EBD721F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E7682-A18B-4AEF-830F-8C85086343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843B2-C7C8-45D5-8A93-43BE60817D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1AFE6-5C2A-41A3-BFB6-AAF59E149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85A82-6ADB-43A7-BAC1-2F5971CD4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459CF-99AD-4F4F-B15B-D6D6354238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1ED5C-E6E8-4053-B117-976C9FA987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06004-3072-4861-B465-45698758B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C4856-EB81-4E88-B570-8925587E2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Slide </a:t>
            </a:r>
            <a:fld id="{8DD91F26-DD98-467D-8B76-80ECE858843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Logical Effort of</a:t>
            </a:r>
            <a:br>
              <a:rPr sz="4000"/>
            </a:br>
            <a:r>
              <a:rPr b="0" lang="en-US" sz="4000" spc="-1" strike="noStrike">
                <a:solidFill>
                  <a:srgbClr val="0000ff"/>
                </a:solidFill>
                <a:latin typeface="Arial Black"/>
              </a:rPr>
              <a:t>Higher Valency Add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rvey Mudd 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vember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505320" y="4648320"/>
            <a:ext cx="2133360" cy="1284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B3772-75DC-42DA-B514-412D9E555B3C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lency 3: H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85800" y="2827440"/>
          <a:ext cx="7772400" cy="196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27440"/>
                    <a:ext cx="7772400" cy="196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6DBC3-D9C6-4392-A159-C5F0018BFFD5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ding Blo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Cells, Gray Cells,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 cells compute G and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y cells comput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ted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tless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018FF-9909-4B8D-B673-FE1710375B3C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lency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685800" y="2209680"/>
          <a:ext cx="777240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7724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5F382-6A07-483B-A95E-BD5919AF722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lency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685800" y="1676520"/>
          <a:ext cx="7772400" cy="25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25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BE1BF-2FD8-4AB4-B5BC-C5BAF0ECCEEF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Parameters (v=2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523880" y="1981080"/>
          <a:ext cx="5943600" cy="306864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219320"/>
                <a:gridCol w="1218960"/>
                <a:gridCol w="914400"/>
                <a:gridCol w="10670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ing C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inverting C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ted Do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tless Do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 +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+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* 5/6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0BCE4-DBDA-41D6-BB96-E4C428092EE1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Parameters (v=3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00200" y="1752480"/>
          <a:ext cx="5943600" cy="41641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1143000"/>
                <a:gridCol w="1219320"/>
                <a:gridCol w="990720"/>
                <a:gridCol w="10666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ing C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inverting C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ted Do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tless Do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3 +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+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9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2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91DCDB-4CA7-416A-92B1-01C405E1CC43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Parameters (v=4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600200" y="1523880"/>
          <a:ext cx="5943600" cy="445788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1143000"/>
                <a:gridCol w="1219320"/>
                <a:gridCol w="990720"/>
                <a:gridCol w="10666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ing C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inverting C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ted Do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otless Domi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/3 +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D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+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+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12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9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9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6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p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 * 5/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E5198-5E7A-45EC-9B57-DB98066DC27C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contribute capacitance per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track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anned by each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wire cap / track) / unit inverter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 = sum(w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FE008-C697-47B3-AF73-59EC6CCE5900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25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ly choose best size for each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125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25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valid if wire parasitics are neg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25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, make each stage have unit d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125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125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125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25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performance does this co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25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little unless stage efforts are non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25892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estimates delay of Sklansky / LF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17800" y="332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384200" y="2057400"/>
          <a:ext cx="250200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2057400"/>
                    <a:ext cx="250200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"/>
          <p:cNvSpPr/>
          <p:nvPr/>
        </p:nvSpPr>
        <p:spPr>
          <a:xfrm>
            <a:off x="427500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351080" y="3276720"/>
          <a:ext cx="6497640" cy="14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51080" y="3276720"/>
                    <a:ext cx="6497640" cy="14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7E7BD-FB6A-4210-8873-5FA763836E47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ho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MATLAB models of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stage, list f, p,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architecture, valency, circuit fami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TLAB to calculate tota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ideal and unit drive delays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s unit drive si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 vs. # of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16EAC-CB86-4791-AB3D-CEBD931A1ADA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higher valency adders worth the hass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3B71F-895C-4995-B370-0014FE93D396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676520" y="1239840"/>
          <a:ext cx="5638680" cy="48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39840"/>
                    <a:ext cx="563868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E5F6BB-5300-465E-856F-3150743F0BB4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fast prefix networks, the logical effort model predicts that valency barely affects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ency 2 designs are sim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ost commercial designs use valency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es of logical effor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predicts g for higher val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predicts p for higher vale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ibrate model through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simulate entire desig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F183A-58A5-4E19-AD3E-A89C6B61D52C}" type="slidenum">
              <a:t>21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efix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"/>
          <p:cNvSpPr/>
          <p:nvPr/>
        </p:nvSpPr>
        <p:spPr>
          <a:xfrm>
            <a:off x="69048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143000" y="1523880"/>
          <a:ext cx="6931080" cy="441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523880"/>
                    <a:ext cx="6931080" cy="44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F4A36-F308-4A21-99A4-2451CD9E132F}" type="slidenum">
              <a:t>3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e/post compu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143000" y="4419720"/>
            <a:ext cx="7162560" cy="1465200"/>
            <a:chOff x="1143000" y="4419720"/>
            <a:chExt cx="7162560" cy="1465200"/>
          </a:xfrm>
        </p:grpSpPr>
        <p:grpSp>
          <p:nvGrpSpPr>
            <p:cNvPr id="61" name=""/>
            <p:cNvGrpSpPr/>
            <p:nvPr/>
          </p:nvGrpSpPr>
          <p:grpSpPr>
            <a:xfrm>
              <a:off x="1146600" y="4420800"/>
              <a:ext cx="7154280" cy="1462680"/>
              <a:chOff x="1146600" y="4420800"/>
              <a:chExt cx="7154280" cy="146268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146600" y="4420800"/>
                <a:ext cx="1117800" cy="243720"/>
                <a:chOff x="1146600" y="4420800"/>
                <a:chExt cx="1117800" cy="2437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226160" y="4420800"/>
                  <a:ext cx="958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el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146600" y="4420800"/>
                  <a:ext cx="111780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2264760" y="4420800"/>
                <a:ext cx="761040" cy="243720"/>
                <a:chOff x="2264760" y="4420800"/>
                <a:chExt cx="761040" cy="2437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2344320" y="4420800"/>
                  <a:ext cx="6015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Ter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2264760" y="4420800"/>
                  <a:ext cx="7610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026520" y="4420800"/>
                <a:ext cx="1495800" cy="243720"/>
                <a:chOff x="3026520" y="4420800"/>
                <a:chExt cx="1495800" cy="2437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105720" y="4420800"/>
                  <a:ext cx="1336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Noninverting CMO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026520" y="4420800"/>
                  <a:ext cx="149580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4523040" y="4420800"/>
                <a:ext cx="1273680" cy="243720"/>
                <a:chOff x="4523040" y="4420800"/>
                <a:chExt cx="1273680" cy="24372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4602600" y="4420800"/>
                  <a:ext cx="11142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verting CMO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523040" y="4420800"/>
                  <a:ext cx="127368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5797080" y="4420800"/>
                <a:ext cx="1214640" cy="243720"/>
                <a:chOff x="5797080" y="4420800"/>
                <a:chExt cx="1214640" cy="24372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5876280" y="4420800"/>
                  <a:ext cx="1055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Footed Domino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797080" y="4420800"/>
                  <a:ext cx="12146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7012440" y="4420800"/>
                <a:ext cx="1288440" cy="243720"/>
                <a:chOff x="7012440" y="4420800"/>
                <a:chExt cx="1288440" cy="24372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7091640" y="4420800"/>
                  <a:ext cx="112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Footless Domino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7012440" y="4420800"/>
                  <a:ext cx="12884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146600" y="4664520"/>
                <a:ext cx="1117800" cy="487440"/>
                <a:chOff x="1146600" y="4664520"/>
                <a:chExt cx="1117800" cy="48744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226160" y="4664520"/>
                  <a:ext cx="95868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itwis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146600" y="4664520"/>
                  <a:ext cx="111780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264760" y="4664520"/>
                <a:ext cx="761040" cy="243720"/>
                <a:chOff x="2264760" y="4664520"/>
                <a:chExt cx="761040" cy="24372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344320" y="4664520"/>
                  <a:ext cx="6015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E</a:t>
                  </a:r>
                  <a:r>
                    <a:rPr b="0" lang="en-US" sz="1200" spc="-1" strike="noStrike" baseline="-30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i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264760" y="4664520"/>
                  <a:ext cx="7610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3026520" y="4664520"/>
                <a:ext cx="1495800" cy="243720"/>
                <a:chOff x="3026520" y="4664520"/>
                <a:chExt cx="1495800" cy="24372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3105720" y="4664520"/>
                  <a:ext cx="1336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9/3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3026520" y="4664520"/>
                  <a:ext cx="149580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4523040" y="4664520"/>
                <a:ext cx="1273680" cy="243720"/>
                <a:chOff x="4523040" y="4664520"/>
                <a:chExt cx="1273680" cy="24372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4602600" y="4664520"/>
                  <a:ext cx="11142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9/3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4523040" y="4664520"/>
                  <a:ext cx="127368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5797080" y="4664520"/>
                <a:ext cx="1214640" cy="243720"/>
                <a:chOff x="5797080" y="4664520"/>
                <a:chExt cx="1214640" cy="24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5876280" y="4664520"/>
                  <a:ext cx="1055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/3 * 5/6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5797080" y="4664520"/>
                  <a:ext cx="12146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7012440" y="4664520"/>
                <a:ext cx="1288440" cy="243720"/>
                <a:chOff x="7012440" y="4664520"/>
                <a:chExt cx="1288440" cy="24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7091640" y="4664520"/>
                  <a:ext cx="112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4/3 * 5/6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7012440" y="4664520"/>
                  <a:ext cx="12884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2264760" y="4908240"/>
                <a:ext cx="761040" cy="243720"/>
                <a:chOff x="2264760" y="4908240"/>
                <a:chExt cx="761040" cy="24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2344320" y="4908240"/>
                  <a:ext cx="6015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D</a:t>
                  </a:r>
                  <a:r>
                    <a:rPr b="0" lang="en-US" sz="1200" spc="-1" strike="noStrike" baseline="-30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it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2264760" y="4908240"/>
                  <a:ext cx="7610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3026520" y="4908240"/>
                <a:ext cx="1495800" cy="243720"/>
                <a:chOff x="3026520" y="4908240"/>
                <a:chExt cx="1495800" cy="24372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3105720" y="4908240"/>
                  <a:ext cx="1336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/3 + 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3026520" y="4908240"/>
                  <a:ext cx="149580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4523040" y="4908240"/>
                <a:ext cx="1273680" cy="243720"/>
                <a:chOff x="4523040" y="4908240"/>
                <a:chExt cx="1273680" cy="24372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4602600" y="4908240"/>
                  <a:ext cx="11142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6/3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4523040" y="4908240"/>
                  <a:ext cx="127368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5797080" y="4908240"/>
                <a:ext cx="1214640" cy="243720"/>
                <a:chOff x="5797080" y="4908240"/>
                <a:chExt cx="1214640" cy="24372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5876280" y="4908240"/>
                  <a:ext cx="1055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/3 + 5/6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5797080" y="4908240"/>
                  <a:ext cx="12146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7012440" y="4908240"/>
                <a:ext cx="1288440" cy="243720"/>
                <a:chOff x="7012440" y="4908240"/>
                <a:chExt cx="1288440" cy="24372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7091640" y="4908240"/>
                  <a:ext cx="112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/3 + 5/6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7012440" y="4908240"/>
                  <a:ext cx="12884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1146600" y="5151960"/>
                <a:ext cx="1117800" cy="487440"/>
                <a:chOff x="1146600" y="5151960"/>
                <a:chExt cx="1117800" cy="4874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1226160" y="5151960"/>
                  <a:ext cx="958680" cy="48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um X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146600" y="5151960"/>
                  <a:ext cx="1117800" cy="487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264760" y="5151960"/>
                <a:ext cx="761040" cy="243720"/>
                <a:chOff x="2264760" y="5151960"/>
                <a:chExt cx="761040" cy="24372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344320" y="5151960"/>
                  <a:ext cx="6015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E</a:t>
                  </a:r>
                  <a:r>
                    <a:rPr b="0" lang="en-US" sz="1200" spc="-1" strike="noStrike" baseline="-30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x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264760" y="5151960"/>
                  <a:ext cx="7610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026520" y="5151960"/>
                <a:ext cx="1495800" cy="243720"/>
                <a:chOff x="3026520" y="5151960"/>
                <a:chExt cx="1495800" cy="24372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105720" y="5151960"/>
                  <a:ext cx="1336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9/3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026520" y="5151960"/>
                  <a:ext cx="149580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4523040" y="5151960"/>
                <a:ext cx="1273680" cy="243720"/>
                <a:chOff x="4523040" y="5151960"/>
                <a:chExt cx="1273680" cy="24372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4602600" y="5151960"/>
                  <a:ext cx="11142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9/3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4523040" y="5151960"/>
                  <a:ext cx="127368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797080" y="5151960"/>
                <a:ext cx="1214640" cy="243720"/>
                <a:chOff x="5797080" y="5151960"/>
                <a:chExt cx="1214640" cy="24372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876280" y="5151960"/>
                  <a:ext cx="1055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3/3 * 5/6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797080" y="5151960"/>
                  <a:ext cx="12146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7012440" y="5151960"/>
                <a:ext cx="1288440" cy="243720"/>
                <a:chOff x="7012440" y="5151960"/>
                <a:chExt cx="1288440" cy="24372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7091640" y="5151960"/>
                  <a:ext cx="112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/3 * 5/6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012440" y="5151960"/>
                  <a:ext cx="12884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2264760" y="5395680"/>
                <a:ext cx="761040" cy="243720"/>
                <a:chOff x="2264760" y="5395680"/>
                <a:chExt cx="761040" cy="24372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2344320" y="5395680"/>
                  <a:ext cx="6015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PD</a:t>
                  </a:r>
                  <a:r>
                    <a:rPr b="0" lang="en-US" sz="1200" spc="-1" strike="noStrike" baseline="-30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xo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2264760" y="5395680"/>
                  <a:ext cx="7610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" name=""/>
              <p:cNvGrpSpPr/>
              <p:nvPr/>
            </p:nvGrpSpPr>
            <p:grpSpPr>
              <a:xfrm>
                <a:off x="3026520" y="5395680"/>
                <a:ext cx="1495800" cy="243720"/>
                <a:chOff x="3026520" y="5395680"/>
                <a:chExt cx="1495800" cy="2437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3105720" y="5395680"/>
                  <a:ext cx="1336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9/3 + 12/3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26520" y="5395680"/>
                  <a:ext cx="149580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4523040" y="5395680"/>
                <a:ext cx="1273680" cy="243720"/>
                <a:chOff x="4523040" y="5395680"/>
                <a:chExt cx="1273680" cy="24372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4602600" y="5395680"/>
                  <a:ext cx="11142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9/3 + 12/3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4523040" y="5395680"/>
                  <a:ext cx="127368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5797080" y="5395680"/>
                <a:ext cx="1214640" cy="243720"/>
                <a:chOff x="5797080" y="5395680"/>
                <a:chExt cx="1214640" cy="2437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5876280" y="5395680"/>
                  <a:ext cx="1055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7/3 + 5/6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797080" y="5395680"/>
                  <a:ext cx="12146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7012440" y="5395680"/>
                <a:ext cx="1288440" cy="243720"/>
                <a:chOff x="7012440" y="5395680"/>
                <a:chExt cx="1288440" cy="24372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7091640" y="5395680"/>
                  <a:ext cx="112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5/3 + 5/6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012440" y="5395680"/>
                  <a:ext cx="12884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1146600" y="5639760"/>
                <a:ext cx="1117800" cy="243720"/>
                <a:chOff x="1146600" y="5639760"/>
                <a:chExt cx="1117800" cy="24372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226160" y="5639760"/>
                  <a:ext cx="958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uff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146600" y="5639760"/>
                  <a:ext cx="111780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2264760" y="5639760"/>
                <a:ext cx="761040" cy="243720"/>
                <a:chOff x="2264760" y="5639760"/>
                <a:chExt cx="761040" cy="2437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2344320" y="5639760"/>
                  <a:ext cx="6015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E</a:t>
                  </a:r>
                  <a:r>
                    <a:rPr b="0" lang="en-US" sz="1200" spc="-1" strike="noStrike" baseline="-30000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u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264760" y="5639760"/>
                  <a:ext cx="7610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3026520" y="5639760"/>
                <a:ext cx="1495800" cy="243720"/>
                <a:chOff x="3026520" y="5639760"/>
                <a:chExt cx="1495800" cy="24372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3105720" y="5639760"/>
                  <a:ext cx="133668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 * 1/2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3026520" y="5639760"/>
                  <a:ext cx="149580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4523040" y="5639760"/>
                <a:ext cx="1273680" cy="243720"/>
                <a:chOff x="4523040" y="5639760"/>
                <a:chExt cx="1273680" cy="243720"/>
              </a:xfrm>
            </p:grpSpPr>
            <p:sp>
              <p:nvSpPr>
                <p:cNvPr id="156" name=""/>
                <p:cNvSpPr/>
                <p:nvPr/>
              </p:nvSpPr>
              <p:spPr>
                <a:xfrm>
                  <a:off x="4602600" y="5639760"/>
                  <a:ext cx="111420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 * 1/2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523040" y="5639760"/>
                  <a:ext cx="127368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5797080" y="5639760"/>
                <a:ext cx="1214640" cy="243720"/>
                <a:chOff x="5797080" y="5639760"/>
                <a:chExt cx="1214640" cy="24372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5876280" y="5639760"/>
                  <a:ext cx="10555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2/3 * 5/6 * 1/2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797080" y="5639760"/>
                  <a:ext cx="12146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" name=""/>
              <p:cNvGrpSpPr/>
              <p:nvPr/>
            </p:nvGrpSpPr>
            <p:grpSpPr>
              <a:xfrm>
                <a:off x="7012440" y="5639760"/>
                <a:ext cx="1288440" cy="243720"/>
                <a:chOff x="7012440" y="5639760"/>
                <a:chExt cx="1288440" cy="243720"/>
              </a:xfrm>
            </p:grpSpPr>
            <p:sp>
              <p:nvSpPr>
                <p:cNvPr id="162" name=""/>
                <p:cNvSpPr/>
                <p:nvPr/>
              </p:nvSpPr>
              <p:spPr>
                <a:xfrm>
                  <a:off x="7091640" y="5639760"/>
                  <a:ext cx="112932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1/3 * 5/6 * 1/2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012440" y="5639760"/>
                  <a:ext cx="1288440" cy="24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4" name=""/>
            <p:cNvSpPr/>
            <p:nvPr/>
          </p:nvSpPr>
          <p:spPr>
            <a:xfrm>
              <a:off x="1143000" y="4419720"/>
              <a:ext cx="7162560" cy="14652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5" name=""/>
          <p:cNvGraphicFramePr/>
          <p:nvPr/>
        </p:nvGraphicFramePr>
        <p:xfrm>
          <a:off x="1828800" y="1676520"/>
          <a:ext cx="5799240" cy="45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76520"/>
                    <a:ext cx="5799240" cy="45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E1425-E31C-4AE5-86F9-BEB3A62D533D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lency 2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1828800" y="1523880"/>
          <a:ext cx="5286240" cy="446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523880"/>
                    <a:ext cx="5286240" cy="446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8F2EC-ED66-4B34-A632-CF04B4AC2FE0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lency 3: B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85800" y="2698920"/>
          <a:ext cx="7772400" cy="22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698920"/>
                    <a:ext cx="7772400" cy="22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1177D-2448-4D5A-BC1E-DE12DE3AAF76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lency 3: LF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685800" y="2743200"/>
          <a:ext cx="777240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743200"/>
                    <a:ext cx="777240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FE6B4E-CB3E-4E72-BE0F-099FA09A7681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lency 3: Sklansk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685800" y="2984400"/>
          <a:ext cx="7772400" cy="16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984400"/>
                    <a:ext cx="777240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07717-2F40-4829-A5B9-49B614D4F915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lency 3: 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685800" y="2876400"/>
          <a:ext cx="7772400" cy="186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76400"/>
                    <a:ext cx="7772400" cy="18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Logical Effort of Higher Valency Adder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A86A3-749A-4C20-985A-401CDD8B9AE3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04-11-19T02:13:11Z</dcterms:modified>
  <cp:revision>436</cp:revision>
  <dc:subject/>
  <dc:title>PowerPoint Presentation</dc:title>
</cp:coreProperties>
</file>