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58960" y="631044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1B63-8A54-406C-B4E0-4C85F2A7F7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51440" y="6458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reading multiple words easier by using banks of memory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an get a lot more complicated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1720" y="1933560"/>
            <a:ext cx="551808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the block size tends to decrease miss rat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62120" y="1704960"/>
            <a:ext cx="3889440" cy="28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066680" y="5029200"/>
          <a:ext cx="7037640" cy="143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5029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cycles = # of instruction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ss rat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ss penal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-212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ared to direct mapped, give a series of references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sults in a lower miss ratio using a 2-way set associativ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sults in a higher miss ratio using a 2-way set associativ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suming we use the “least recently used” replacement strateg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92200" y="1171440"/>
            <a:ext cx="4386600" cy="34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5800" y="1389240"/>
            <a:ext cx="4919400" cy="41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39920" y="1471680"/>
            <a:ext cx="4691160" cy="39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2nd level cache with 20ns access time decreases miss rate to 2%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ion of having more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0200" y="2328840"/>
            <a:ext cx="309060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35280" y="3429000"/>
            <a:ext cx="370044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05160" y="1846440"/>
            <a:ext cx="4359240" cy="31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23760" y="4324320"/>
            <a:ext cx="305136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86280" y="4029120"/>
            <a:ext cx="319248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62160" y="1305000"/>
            <a:ext cx="4832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ddress Translation 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che for address translations:  translation lookaside bu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30480" y="2104920"/>
            <a:ext cx="4908600" cy="38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28880" y="1528920"/>
            <a:ext cx="531324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85040" y="202248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data requested is in the upper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data requested is not in the upper lev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71840" y="2409840"/>
            <a:ext cx="401796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IPS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kind of locality are we taking advantage of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9960" y="1482840"/>
            <a:ext cx="368928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advantage of spatial locality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39960" y="2195640"/>
            <a:ext cx="5489640" cy="35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s vs.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David Harris</cp:lastModifiedBy>
  <cp:lastPrinted>2000-11-10T03:07:15Z</cp:lastPrinted>
  <dcterms:modified xsi:type="dcterms:W3CDTF">2000-11-10T03:07:52Z</dcterms:modified>
  <cp:revision>2</cp:revision>
  <dc:subject/>
  <dc:title>Chapter Seven</dc:title>
</cp:coreProperties>
</file>