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076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3520" y="12931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3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3520" y="3285720"/>
            <a:ext cx="260208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36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9800" y="1293120"/>
            <a:ext cx="394380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360" y="3285720"/>
            <a:ext cx="8081640" cy="181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22280" y="838080"/>
            <a:ext cx="8302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58960" y="6310440"/>
            <a:ext cx="145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D592-9AB9-46C3-81DD-EB5434F15E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751440" y="645804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ev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5360" y="312840"/>
            <a:ext cx="2505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reading multiple words easier by using banks of memory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can get a lot more complicated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rdware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71720" y="1933560"/>
            <a:ext cx="5518080" cy="33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ing the block size tends to decrease miss rate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plit caches because there is more spatial locality in code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62120" y="1704960"/>
            <a:ext cx="3889440" cy="286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066680" y="5029200"/>
          <a:ext cx="7037640" cy="143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5029200"/>
                    <a:ext cx="70376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fied model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 time = (execution cycles + stall cycles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ycle time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cycles = # of instructions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ss rati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iss penal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ways of improving performanc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reasing the miss rat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reasing the miss penalty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happens if we increase block siz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5360" y="312840"/>
            <a:ext cx="2943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12400" indent="-212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pared to direct mapped, give a series of references th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sults in a lower miss ratio using a 2-way set associative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sults in a higher miss ratio using a 2-way set associative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ssuming we use the “least recently used” replacement strateg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reasing miss ratio with associativ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392200" y="1171440"/>
            <a:ext cx="4386600" cy="346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25800" y="1389240"/>
            <a:ext cx="4919400" cy="41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39920" y="1471680"/>
            <a:ext cx="4691160" cy="39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reasing miss penalty with multilevel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 second level cach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ten primary cache is on the same chip as the process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RAMs to add another cache above primary memory (DRAM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 penalty goes down if data is in 2nd level cach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I of 1.0 on a 500Mhz machine with a 5% miss rate, 200ns DRAM ac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ng 2nd level cache with 20ns access time decreases miss rate to 2%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multilevel cach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optimize the hit time on the 1st level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optimize the miss rate on the 2nd level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6000"/>
          </a:bodyPr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 memory can act as a cache for the secondary storage (disk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lusion of having more physical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reloc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40200" y="2328840"/>
            <a:ext cx="309060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s:  virtual memory block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s:  the data is not in memory, retrieve it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ge miss penalty, thus pages should be fairly large (e.g., 4KB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ing page faults is important (LRU is worth the pric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andle the faults in software instead of hard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write-through is too expensive so we use writeback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735280" y="3429000"/>
            <a:ext cx="3700440" cy="18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05160" y="1846440"/>
            <a:ext cx="4359240" cy="31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5360" y="312840"/>
            <a:ext cx="1790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is stored  on a pair of inverting ga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but takes up more space than DRAM (4 to 6 transistors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M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is stored as a charge on capacitor (must be refreshe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small but slower than SRAM (factor of 5 to 1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ies:  Revie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23760" y="4324320"/>
            <a:ext cx="3051360" cy="360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86280" y="4029120"/>
            <a:ext cx="3192480" cy="10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62160" y="1305000"/>
            <a:ext cx="483228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ing Address Translation Fa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ache for address translations:  translation lookaside buf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30480" y="2104920"/>
            <a:ext cx="4908600" cy="387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Bs and cac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928880" y="1528920"/>
            <a:ext cx="5313240" cy="38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49760" y="8359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complicated memory system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24080" y="3244680"/>
            <a:ext cx="2743200" cy="161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990720" y="1219320"/>
          <a:ext cx="7118280" cy="1987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219320"/>
                    <a:ext cx="7118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295280" y="4952880"/>
          <a:ext cx="6645240" cy="1401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4952880"/>
                    <a:ext cx="664524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5360" y="312840"/>
            <a:ext cx="1954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 speeds continue to increase very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 much faster than either DRAM or disk access tim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challenge:  dealing with this growing dispar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nd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 SRAMs (provide a burst of dat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esign DRAM chips to provide higher bandwidth or process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ucture code to increase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prefetching (make cache visible to ISA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Issu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5360" y="312840"/>
            <a:ext cx="428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s want large and fast memories!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RAM access times are 2 - 25ns at cost of $100 to $25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AM access times are 60-120ns at cost of $5 to $1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k access times are 10 to 20 million ns at cost of $.10 to $.20 per Mbyte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give it to them any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a memory hierarc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iting Memory Hie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85040" y="202248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600280" y="3848040"/>
            <a:ext cx="395460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inciple that makes having a memory hierarchy a good ide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n item is referenced,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oral locality:  it will tend to be referenced again so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tial locality:   nearby items will tend to be referenced soon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y does code have locality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initial focus:  two levels (upper, low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:   minimum unit of dat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t:  data requested is in the upper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:  data requested is not in the upper leve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5360" y="312840"/>
            <a:ext cx="102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wo issu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do we know if a data item is in the cach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it is, how do we find i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first 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 size is one word of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"direct mapped"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39960" y="3836880"/>
            <a:ext cx="7527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27000" bIns="27000" anchor="t">
            <a:noAutofit/>
          </a:bodyPr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 each item of data at the lower lev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 is exactly one location in the cache where it might b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098"/>
              </a:lnSpc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g., lots of items at the lower level share locations in the upp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1971720" y="3242880"/>
            <a:ext cx="37296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:  address is modulo the number of blocks in the cac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571840" y="2409840"/>
            <a:ext cx="4017960" cy="296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MIPS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kind of locality are we taking advantage of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39960" y="1482840"/>
            <a:ext cx="3689280" cy="39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25360" y="312840"/>
            <a:ext cx="31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ng advantage of spatial locality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Mapped Cac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839960" y="2195640"/>
            <a:ext cx="5489640" cy="35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5360" y="312840"/>
            <a:ext cx="227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78360" y="1293120"/>
            <a:ext cx="8081640" cy="38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h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at we want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the CPU, fetch block from memory, deliver to cache, rest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hit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replace data in cache and memory (write-throug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the data only into the cache (write-back the cache late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miss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the entire block into the cache, then write the wo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ts vs. Mi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48:44Z</dcterms:created>
  <dc:creator>Tod Amon</dc:creator>
  <dc:description/>
  <dc:language>en-US</dc:language>
  <cp:lastModifiedBy>David Harris</cp:lastModifiedBy>
  <cp:lastPrinted>2000-11-10T03:07:15Z</cp:lastPrinted>
  <dcterms:modified xsi:type="dcterms:W3CDTF">2000-11-10T03:07:52Z</dcterms:modified>
  <cp:revision>2</cp:revision>
  <dc:subject/>
  <dc:title>Chapter Seven</dc:title>
</cp:coreProperties>
</file>