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294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58960" y="6310440"/>
            <a:ext cx="145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6D61-6431-4426-A767-6CD16A46BB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68000" y="646416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control signals along just like the dat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54040" y="1800360"/>
          <a:ext cx="6248520" cy="164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800360"/>
                    <a:ext cx="6248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392200" y="4095720"/>
            <a:ext cx="437364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path with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05000" y="1209600"/>
            <a:ext cx="65325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5360" y="312840"/>
            <a:ext cx="215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with starting next instruction before first is fini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ies that “go backward in time” are data hazard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08280" y="2629080"/>
            <a:ext cx="5541840" cy="34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5360" y="312840"/>
            <a:ext cx="266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compiler guarantee no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we insert the “nops” ?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2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$2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($2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this really slows us dow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5360" y="312840"/>
            <a:ext cx="275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emporary results, don’t wait for them to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 forwarding to handle read/write to sam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forward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79080" y="6008400"/>
            <a:ext cx="1472400" cy="544680"/>
            <a:chOff x="1279080" y="6008400"/>
            <a:chExt cx="1472400" cy="544680"/>
          </a:xfrm>
        </p:grpSpPr>
        <p:sp>
          <p:nvSpPr>
            <p:cNvPr id="84" name=""/>
            <p:cNvSpPr/>
            <p:nvPr/>
          </p:nvSpPr>
          <p:spPr>
            <a:xfrm>
              <a:off x="1279080" y="6311880"/>
              <a:ext cx="1472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hat if this $2 was $13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300400" y="6008400"/>
              <a:ext cx="1252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95320" y="2467080"/>
            <a:ext cx="556596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62240" y="1790640"/>
            <a:ext cx="641952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word can still cause a haz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struction tries to read a register following a load instruction that writes to the same register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we need a hazard detection unit to “stall” the load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't always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84240" y="2438280"/>
            <a:ext cx="538956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stall the pipeline by keeping an instruction in the sam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54120" y="1973160"/>
            <a:ext cx="605016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ard De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by letting an instruction that won’t write anything go for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57200" y="2200320"/>
            <a:ext cx="644364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5360" y="312840"/>
            <a:ext cx="24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e decide to branch, other instructions are in the pipeline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predicting “branch not take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add hardware for flushing instructions if we are w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 Haz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5560" y="1992240"/>
            <a:ext cx="550548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perfomance by increasing instruction throughpu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deal speedup is number of stages in the pipeline.  Do we achieve thi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4320" y="3460680"/>
            <a:ext cx="663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9800" y="1795320"/>
            <a:ext cx="533700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5360" y="312840"/>
            <a:ext cx="2166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shing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05000" y="1362240"/>
            <a:ext cx="6532560" cy="41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avoid stalls!  E.g., reorder these instru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2, 4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2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0, 4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“branch delay slo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instruction after a branch is alway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“fill” the slot with something usefu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calar:  start more than one instruction in the sam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rdware performs the “scheduling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ries to find instructions to 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order execution i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ulative execution and dynamic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odern processors are very compli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 Alpha 21264:  9 stage pipeline, 6 instructio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C and Pentium:  branch history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echnology impor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lass has given you the background you need to learn m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:  An Overview of Intel’s Pentium Process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vailable from University Video Communic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are the same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a few instruction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operands appear only in loads and sto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har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hazards:   suppose we had only on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hazards:  need to worry about branc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hazards:  an instruction depends on a previous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uild a simple pipeline and look at these iss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talk about modern processors and what really makes it h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ing to improve performance with out-of-order execu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do we need to add to actually split the datapath into stag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3720" y="1863720"/>
            <a:ext cx="54291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an you find a problem even if there are no dependencies? 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instructions can we execute to manifest the proble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48040" y="2066760"/>
            <a:ext cx="505908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48040" y="2048040"/>
            <a:ext cx="5059080" cy="27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ly Representing Pip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elp with answering questions lik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cycles does it take to execute this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LU doing during cycle 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is representation to help understand data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8400" y="1390680"/>
            <a:ext cx="487980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80960" y="1305000"/>
            <a:ext cx="63802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5360" y="312840"/>
            <a:ext cx="135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5 stages.  What needs to be controlled in each st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etch and PC Inc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Decode / Register 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would control be handled in an automobile pl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ncy control center telling everyone what to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we use a finite state machin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David Harris</cp:lastModifiedBy>
  <cp:lastPrinted>2000-11-10T03:07:43Z</cp:lastPrinted>
  <dcterms:modified xsi:type="dcterms:W3CDTF">2000-11-10T03:07:50Z</dcterms:modified>
  <cp:revision>1</cp:revision>
  <dc:subject/>
  <dc:title>Chapter Six</dc:title>
</cp:coreProperties>
</file>