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92943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7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43160" y="129348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72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7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43160" y="3285720"/>
            <a:ext cx="26017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152280"/>
            <a:ext cx="76201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9800" y="328572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72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9800" y="1293480"/>
            <a:ext cx="394344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720" y="3285720"/>
            <a:ext cx="8080920" cy="181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2680" y="838080"/>
            <a:ext cx="8380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058960" y="6310440"/>
            <a:ext cx="145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D46-553B-41EF-B667-E87768AC0D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768000" y="6464160"/>
            <a:ext cx="186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98 Morgan Kaufmann Publish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pter Si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s control signals along just like the data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454040" y="1800360"/>
          <a:ext cx="6248520" cy="164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1800360"/>
                    <a:ext cx="624852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392200" y="4095720"/>
            <a:ext cx="4373640" cy="21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5360" y="312840"/>
            <a:ext cx="119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path with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305000" y="1209600"/>
            <a:ext cx="653256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5360" y="312840"/>
            <a:ext cx="2154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 with starting next instruction before first is finish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encies that “go backward in time” are data hazard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08280" y="2629080"/>
            <a:ext cx="5541840" cy="34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5360" y="312840"/>
            <a:ext cx="26686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ve compiler guarantee no haz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do we insert the “nops” ?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2, $1, $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2, $2, $5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3, $6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4, $2, $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15, 100($2)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:  this really slows us down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5360" y="312840"/>
            <a:ext cx="2755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emporary results, don’t wait for them to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file forwarding to handle read/write to same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 forwarding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79080" y="6008400"/>
            <a:ext cx="1472400" cy="544680"/>
            <a:chOff x="1279080" y="6008400"/>
            <a:chExt cx="1472400" cy="544680"/>
          </a:xfrm>
        </p:grpSpPr>
        <p:sp>
          <p:nvSpPr>
            <p:cNvPr id="84" name=""/>
            <p:cNvSpPr/>
            <p:nvPr/>
          </p:nvSpPr>
          <p:spPr>
            <a:xfrm>
              <a:off x="1279080" y="6311880"/>
              <a:ext cx="14724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what if this $2 was $13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300400" y="6008400"/>
              <a:ext cx="125280" cy="32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95320" y="2467080"/>
            <a:ext cx="556596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62240" y="1790640"/>
            <a:ext cx="641952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25360" y="312840"/>
            <a:ext cx="3119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1240" y="1296000"/>
            <a:ext cx="8075880" cy="388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word can still cause a haz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instruction tries to read a register following a load instruction that writes to the same register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we need a hazard detection unit to “stall” the load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't always forw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84240" y="2438280"/>
            <a:ext cx="538956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an stall the pipeline by keeping an instruction in the same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54120" y="1973160"/>
            <a:ext cx="605016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zard Detection Uni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ll by letting an instruction that won’t write anything go forw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57200" y="2200320"/>
            <a:ext cx="6443640" cy="34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5360" y="312840"/>
            <a:ext cx="24051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we decide to branch, other instructions are in the pipeline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predicting “branch not take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add hardware for flushing instructions if we are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nch Hazar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5560" y="1992240"/>
            <a:ext cx="550548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 perfomance by increasing instruction throughput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deal speedup is number of stages in the pipeline.  Do we achieve thi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4320" y="3460680"/>
            <a:ext cx="66387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909800" y="1795320"/>
            <a:ext cx="5337000" cy="32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5360" y="312840"/>
            <a:ext cx="2166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ushing Instruc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05000" y="1362240"/>
            <a:ext cx="6532560" cy="41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Perform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and avoid stalls!  E.g., reorder these instruction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0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w $t2, 4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2, 0($t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 $t0, 4($t1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 “branch delay slo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next instruction after a branch is always execu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y on compiler to “fill” the slot with something usefu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scalar:  start more than one instruction in the same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ardware performs the “scheduling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tries to find instructions to execu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 of order execution is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ulative execution and dynamic branch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rn processors are very complic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 Alpha 21264:  9 stage pipeline, 6 instruction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PC and Pentium:  branch history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r technology importa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class has given you the background you need to learn mor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deo:  An Overview of Intel’s Pentium Processo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ailable from University Video Communic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ea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are the same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st a few instruction forma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operands appear only in loads and sto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makes it har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uctural hazards:   suppose we had only one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hazards:  need to worry about branch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hazards:  an instruction depends on a previous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build a simple pipeline and look at these issu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’ll talk about modern processors and what really makes it har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ing to improve performance with out-of-order execu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Id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do we need to add to actually split the datapath into stage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3720" y="1863720"/>
            <a:ext cx="542916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5000"/>
          </a:bodyPr>
          <a:p>
            <a:pPr marL="25704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an you find a problem even if there are no dependencies? 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What instructions can we execute to manifest the proble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48040" y="2066760"/>
            <a:ext cx="5059080" cy="27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cted Datapa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48040" y="2048040"/>
            <a:ext cx="5059080" cy="27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ly Representing Pipeli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elp with answering questions lik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cycles does it take to execute this cod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the ALU doing during cycle 4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this representation to help understand data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38400" y="1390680"/>
            <a:ext cx="4879800" cy="17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0960" y="1305000"/>
            <a:ext cx="6380280" cy="42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5360" y="312840"/>
            <a:ext cx="1352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78720" y="1293480"/>
            <a:ext cx="8080920" cy="381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5 stages.  What needs to be controlled in each st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Fetch and PC Inc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Decode / Register Fet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Back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would control be handled in an automobile plan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ncy control center telling everyone what to do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we use a finite state machine?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peline 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8:11:18Z</dcterms:created>
  <dc:creator>Tod Amon</dc:creator>
  <dc:description/>
  <dc:language>en-US</dc:language>
  <cp:lastModifiedBy>David Harris</cp:lastModifiedBy>
  <cp:lastPrinted>2000-11-10T03:07:43Z</cp:lastPrinted>
  <dcterms:modified xsi:type="dcterms:W3CDTF">2000-11-10T03:07:50Z</dcterms:modified>
  <cp:revision>1</cp:revision>
  <dc:subject/>
  <dc:title>Chapter Six</dc:title>
</cp:coreProperties>
</file>