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8C3ED6-158E-479A-B5E4-C87C0B00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A7E55-D88B-41FD-95ED-9514F7C0AE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78282-748E-4269-BE5D-B96A1636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D042D1-7613-499C-8539-8553CC7DD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8FBD5-3285-4E0F-A7D4-5D27C83F22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C9AA57-0E5E-45BF-A13F-20BAD7573F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66334-6498-460E-9623-23699B488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3C8F8-B5D0-463B-8CCE-601650689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94BA2-B698-470B-A912-9E9A74637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01039-1F1A-4D1D-B4D1-FBD82FE210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6B3369-E26F-423B-B637-47A2A7A5A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F7D303-DE6A-4680-AF47-4C420A44DF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152BB-47C6-4C18-A923-C8A5CA7B6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C5A55E-E024-4CE4-A067-AE76C12F96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8DBE0-2014-4F06-8AE5-1C3FD88A9A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5CFE7-FE3D-4E25-B6F0-530B347F7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5F61F-E968-457C-8707-F6C20F362A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440546-BC5A-4392-B7BA-0880D2F91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D887F4-DC05-4A8F-B50B-0185E5141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C7507F-1A11-4AF9-A86A-4D9DE2E22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66B3E-B46C-4C0E-9624-32D7581EFE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E0AA7-F17E-4A65-B0CC-3A3CD823C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0C87D-2596-4F0D-AE89-F52E232698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43771-7C55-4FD9-B99D-9BDE19A5CE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60679-C69A-4DFD-A682-87003D8B13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4990E-CB41-4C18-BF04-3A8ADE4656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CF95-3F68-4E42-A248-FBB68C92A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9CD5-31B8-4E45-9A25-BDA84BE96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E1728-DA55-46AE-A607-2768D665D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8D362-45D3-44DA-8B59-1A4DB53AE6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DDD25-78B5-48F7-B713-DDD7019920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23FA-9DFA-48DF-88FA-D3398F3421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239B-56B0-4113-A931-1A90FBFD51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8EA2C-B7CD-4B66-915B-CA50AA7713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7CD5-C2C0-4409-A837-8FF092BD24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EC50-1580-4E98-8C58-2D06967738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0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B02A-EA94-47B9-9D41-84330BB150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1A8F-C4F2-4D9A-857A-7425666D64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5998-9B19-4DC9-AA8F-D37ADD75BD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CEAA-70D0-4001-A76D-AA961C2E21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6E705-281B-47A3-86AB-01FAE7C8D2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1F400-3CEF-45CF-897E-8EF9AACC05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048120"/>
          <a:ext cx="7543800" cy="28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048120"/>
                    <a:ext cx="7543800" cy="28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38E3-737E-487B-8D0C-2D62B6FC45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23AF-589F-4337-87E4-096F616BEB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CABFB-3544-4942-87E1-051E740C32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407F-9F1B-45EA-A55B-D1B6AD23BB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D8B9-B835-4A66-B85A-82FCBD85CFC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3BA4-F485-476F-9D3D-9BCB5260F3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975E1-E318-4CAD-9866-73551695443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419720" y="2286000"/>
          <a:ext cx="411300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286000"/>
                    <a:ext cx="411300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EDBE-5B29-45DB-A058-36FE45B1016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506D-29E9-4C7D-8A56-E1C0F9BCC0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9T22:13:10Z</dcterms:modified>
  <cp:revision>552</cp:revision>
  <dc:subject/>
  <dc:title>PowerPoint Presentation</dc:title>
</cp:coreProperties>
</file>