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png" ContentType="image/png"/>
  <Override PartName="/ppt/media/image16.wmf" ContentType="image/x-wmf"/>
  <Override PartName="/ppt/media/image8.png" ContentType="image/png"/>
  <Override PartName="/ppt/media/image4.png" ContentType="image/png"/>
  <Override PartName="/ppt/media/image12.wmf" ContentType="image/x-wmf"/>
  <Override PartName="/ppt/media/image9.wmf" ContentType="image/x-wmf"/>
  <Override PartName="/ppt/media/image14.png" ContentType="image/png"/>
  <Override PartName="/ppt/media/image6.wmf" ContentType="image/x-wmf"/>
  <Override PartName="/ppt/media/image11.png" ContentType="image/png"/>
  <Override PartName="/ppt/media/image28.png" ContentType="image/png"/>
  <Override PartName="/ppt/media/image5.png" ContentType="image/png"/>
  <Override PartName="/ppt/media/image13.wmf" ContentType="image/x-wmf"/>
  <Override PartName="/ppt/media/image30.png" ContentType="image/png"/>
  <Override PartName="/ppt/media/image31.jpeg" ContentType="image/jpeg"/>
  <Override PartName="/ppt/media/image7.png" ContentType="image/png"/>
  <Override PartName="/ppt/media/image15.wmf" ContentType="image/x-wmf"/>
  <Override PartName="/ppt/media/image10.png" ContentType="image/png"/>
  <Override PartName="/ppt/media/image29.jpeg" ContentType="image/jpeg"/>
  <Override PartName="/ppt/media/image3.wmf" ContentType="image/x-wmf"/>
  <Override PartName="/ppt/media/image25.wmf" ContentType="image/x-wmf"/>
  <Override PartName="/ppt/media/image1.png" ContentType="image/png"/>
  <Override PartName="/ppt/media/image17.wmf" ContentType="image/x-wmf"/>
  <Override PartName="/ppt/media/image19.png" ContentType="image/png"/>
  <Override PartName="/ppt/media/image21.png" ContentType="image/png"/>
  <Override PartName="/ppt/media/image2.jpeg" ContentType="image/jpeg"/>
  <Override PartName="/ppt/media/image18.wmf" ContentType="image/x-wmf"/>
  <Override PartName="/ppt/media/image20.png" ContentType="image/png"/>
  <Override PartName="/ppt/media/image22.png" ContentType="image/png"/>
  <Override PartName="/ppt/media/image23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4785-D406-46D8-8A32-40DEFB4C74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D2C9-0523-4F34-BE1C-011E3B9250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F70C-9219-46CA-9B2E-E60A96A8BB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F34F-BAB7-4E19-9B93-19517D61C4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BF438-3376-4236-86FD-DBF36358D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ABD64-134D-4042-9107-A09242D817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CAB3-6BB1-4103-8731-4FF2885FF6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BC7DA-97E5-4DBE-B2DB-279DF4364E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392B-C9DB-4597-8D05-B490658B8D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EE98-3F0E-4FEA-8913-D8442624CB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E753-CA7F-466C-A2B1-472A9CE081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E9F58-9131-4FA1-9F87-B14227FCD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449F-D728-4920-B29B-0E96665E07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99AAF-1AC0-4867-8721-FF0BF56707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E538-2766-4243-A04A-CD9F5F4126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612D-69DA-4BD7-9F00-434580B37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97E3-74C3-4E91-82BC-D5592B9C4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4484-BA06-4169-A252-C953903304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69B22-E911-49AA-A271-04E0A3DAE2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8E1D-6CD5-47F9-91E4-91E3CF0B09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3242-61BB-450D-B337-A9FA71A536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1671-9B50-48C8-B69E-CA850928DF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6A6B-F31D-4DB9-AE8F-276E14BDE6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D272-A152-470C-BFE1-9BC70B92B7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9B1B6-123E-4E11-9B8F-894AD93A34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10A1-4668-411A-B4C7-3EBD42DD02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836E-9894-4FBB-B42F-AA80326819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910C5-5926-407F-B970-4F2BF0E9A2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5BCE-7C1B-4A89-B26F-416CCE0D2C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DB0E-353E-463C-B093-364D926135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C7E50-7606-4A4B-88C4-0A3622C83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0867-090F-460E-B9B6-B6C32A4572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39E4-4365-45EB-ABA0-A99FAC1281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DBCBA-F50A-4A38-887F-2BBAEB1BEA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2E58F-D9A5-4292-8DCF-2F9BA0EC16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A91CE-7700-4F3A-8DD3-897596583A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88EF-C6B5-4E55-9F88-0DFE38043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F81F-754A-4908-A74D-3C15E30517E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26030-85B0-433F-9B3B-62FDDC67610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E510-E8B7-401B-A617-A46D545AB3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A6F04-A186-4D8A-B6B6-BEC1C7FE75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7180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79440" y="3474720"/>
            <a:ext cx="70423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FC66-FC10-4696-AF23-3CAA99D38A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B4BC2-309A-4A59-A5EE-DF0EE5A12F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EE5DC-8D6D-4858-B9A9-5210869B99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5E417B-311D-4541-A8FA-850005D9BB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EBD8D-5B75-4627-A4A9-660C390023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E3DD5-83DE-4291-A3EC-9DD67DA7D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ED397-233E-4268-8BB4-EF5A1D3C1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93D32-5B20-427A-A78C-F4F2FDA5BE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123F01-FC4A-458D-9C83-666E8653A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BE2AC-333B-42A6-98B6-3C37F4541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EC264-59A7-4D7D-9BEF-77CD30BC13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09AE3-BADC-4CDC-850A-86DDB7A076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2D72-55C3-4D60-BE0F-C8392F7487A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o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2A42-A558-43E0-8C15-36BA5F50747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instruction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four cycles to fetch on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203832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762120" y="2819520"/>
          <a:ext cx="7619760" cy="22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19520"/>
                    <a:ext cx="7619760" cy="22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976F-D04B-47D0-81A8-230CBB98EC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C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;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1, 1, 2, 3, 5, 8, 13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838080" y="2819520"/>
            <a:ext cx="7543800" cy="322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AB4E3-229B-46C6-B7AF-D1A3CB4F41F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Assembl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n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assemb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772400" cy="349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8B16-D331-4D2A-BA82-CBAEFF3BEC1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: addi $3, $0,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translate this to machine langua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nt: use instruction encodings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6"/>
          <p:cNvGraphicFramePr/>
          <p:nvPr/>
        </p:nvGraphicFramePr>
        <p:xfrm>
          <a:off x="1523880" y="4038480"/>
          <a:ext cx="55627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4038480"/>
                    <a:ext cx="55627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6E7A-A8E1-4376-ACAC-5590DFD418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bonacci (Binary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hine languag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7696080" cy="2541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A3152-B575-457A-B2CE-0B6ED86118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Micro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( [Paterson04], [Harris07]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828800" y="190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0153"/>
          <p:cNvPicPr/>
          <p:nvPr/>
        </p:nvPicPr>
        <p:blipFill>
          <a:blip r:embed="rId1"/>
          <a:stretch/>
        </p:blipFill>
        <p:spPr>
          <a:xfrm>
            <a:off x="685800" y="2133720"/>
            <a:ext cx="7848720" cy="382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8B7A-3B06-4DE4-862C-2F91AE53FFF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cycle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1833480" y="87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2057400" y="1523880"/>
          <a:ext cx="4800600" cy="448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00600" cy="44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F2A0-8821-4C00-8EE4-1EE9369A847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at top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erarchically decompose MIPS into un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-level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265572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Object 4"/>
          <p:cNvGraphicFramePr/>
          <p:nvPr/>
        </p:nvGraphicFramePr>
        <p:xfrm>
          <a:off x="685800" y="3124080"/>
          <a:ext cx="7543800" cy="21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543800" cy="21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B452-3079-4CF9-AC24-E9D3DE5B5D7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lock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230508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10" descr="0156"/>
          <p:cNvPicPr/>
          <p:nvPr/>
        </p:nvPicPr>
        <p:blipFill>
          <a:blip r:embed="rId1"/>
          <a:stretch/>
        </p:blipFill>
        <p:spPr>
          <a:xfrm>
            <a:off x="1219320" y="1600200"/>
            <a:ext cx="6324480" cy="444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9F1A-CE43-49AD-864D-DD60FCE557D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erarch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4" name="Object 3"/>
          <p:cNvGraphicFramePr/>
          <p:nvPr/>
        </p:nvGraphicFramePr>
        <p:xfrm>
          <a:off x="1562040" y="1523880"/>
          <a:ext cx="6018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523880"/>
                    <a:ext cx="6018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F1D7-453F-42FC-91E4-4CC75140DB1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Process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, Packaging,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36D19-CF11-4BBF-A060-7349FB9F212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D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 Descriptio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log and 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ardware using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 logic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logic before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code into gates and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B737-97B1-43E6-BBDB-D7710DD35BC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rilo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ulladde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s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1(a, b, c, 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arry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1(a, b, c, c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3230640" y="26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5943600" y="1676520"/>
          <a:ext cx="2682720" cy="15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676520"/>
                    <a:ext cx="268272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7F6D-1715-4680-9E6E-A3E7C0083F3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logic be implemen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nd NORs vs. ANDs and O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-in and fan-o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ransistors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hoices affect speed, area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ynthesis makes these choices for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enough for many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-crafted circuits are still bet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9E5C-00B6-4E77-8543-18431DAAF23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Carry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ssign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 = (a&amp;b) | (a&amp;c) | (b&amp;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6"/>
          <p:cNvGraphicFramePr/>
          <p:nvPr/>
        </p:nvGraphicFramePr>
        <p:xfrm>
          <a:off x="914400" y="2362320"/>
          <a:ext cx="3200400" cy="233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362320"/>
                    <a:ext cx="3200400" cy="23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Text Box 5"/>
          <p:cNvSpPr/>
          <p:nvPr/>
        </p:nvSpPr>
        <p:spPr>
          <a:xfrm>
            <a:off x="2209680" y="54864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?  Gate Delay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8"/>
          <p:cNvGraphicFramePr/>
          <p:nvPr/>
        </p:nvGraphicFramePr>
        <p:xfrm>
          <a:off x="4267080" y="2819520"/>
          <a:ext cx="434340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819520"/>
                    <a:ext cx="434340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6AA5F-A9E4-4041-AC21-96B47DBDAB8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685800" y="1600200"/>
            <a:ext cx="7772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x, y, z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1(x, a, 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2(y, a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g3(z, b, 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g4(cout, x, y, z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5791320" y="2362320"/>
          <a:ext cx="2743200" cy="20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1320" y="2362320"/>
                    <a:ext cx="2743200" cy="20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158E-4606-4561-B685-93071B591E3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-Level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Object 4"/>
          <p:cNvGraphicFramePr/>
          <p:nvPr/>
        </p:nvGraphicFramePr>
        <p:xfrm>
          <a:off x="4800600" y="3048120"/>
          <a:ext cx="3809880" cy="166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3048120"/>
                    <a:ext cx="3809880" cy="166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Rectangle 5"/>
          <p:cNvSpPr/>
          <p:nvPr/>
        </p:nvSpPr>
        <p:spPr>
          <a:xfrm>
            <a:off x="685800" y="1523880"/>
            <a:ext cx="57150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odu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arry(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a, b, c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ut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co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ir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i1, i2, i3, i4, c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1(i1, 0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2(i1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3(cn, i1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4(i2, 0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5(cn, i2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1(i3, 1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2(i3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3(cn, i3, 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4(i4, 1, b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5(cn, i4, 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1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6(cout, 0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ranif0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6(cout, 1, cn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ndmodu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653E2-C702-4A9E-8F54-CCF66C2F870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Netl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BCK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RRY A B C COUT VDD G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1 I1 A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2 I1 B GND GND NMOS W=1U L=0.18U AD=0.3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3 CN C I1 GND NMOS W=1U L=0.18U AD=0.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4 I2 B GND GND NMOS W=1U L=0.18U AD=0.15P AS=0.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5 CN A I2 GND NMOS W=1U L=0.18U AD=0.5P AS=0.15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1 I3 A VDD VDD PMOS W=2U L=0.18U AD=0.6P AS=1 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2 I3 B VDD VDD PMOS W=2U L=0.18U AD=0.6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3 CN C I3 VDD P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4 I4 B VDD VDD PMOS W=2U L=0.18U AD=0.3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5 CN A I4 VDD PMOS W=2U L=0.18U AD=1P AS=0.3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N6 COUT CN GND GND NMOS W=2U L=0.18U AD=1P AS=1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P6 COUT CN VDD VDD PMOS W=4U L=0.18U AD=2P AS=2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1 I1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3 I3 GND 3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 A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B B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 C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N CN GND 4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COUT COUT GND 2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100000"/>
              </a:lnSpc>
              <a:buNone/>
              <a:tabLst>
                <a:tab algn="l" pos="0"/>
                <a:tab algn="r" pos="457200"/>
                <a:tab algn="ctr" pos="2743200"/>
                <a:tab algn="r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NDS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8EE4-A406-4B8D-B1C8-02D0C01C354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CAE6-B00D-42E3-928F-093B31A2B9C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Floorpl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Picture 6" descr=""/>
          <p:cNvPicPr/>
          <p:nvPr/>
        </p:nvPicPr>
        <p:blipFill>
          <a:blip r:embed="rId1"/>
          <a:stretch/>
        </p:blipFill>
        <p:spPr>
          <a:xfrm>
            <a:off x="2311560" y="1546200"/>
            <a:ext cx="4519440" cy="4525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74A62-FBD1-4CA6-BF04-4305B1C8BE9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4646880" cy="464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30BA-24BA-4C4F-A2AD-A5606EAB843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stick diagram for a 4-input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29192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Object 5"/>
          <p:cNvGraphicFramePr/>
          <p:nvPr/>
        </p:nvGraphicFramePr>
        <p:xfrm>
          <a:off x="1676520" y="2057400"/>
          <a:ext cx="6248160" cy="394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057400"/>
                    <a:ext cx="6248160" cy="39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6"/>
          <p:cNvSpPr/>
          <p:nvPr/>
        </p:nvSpPr>
        <p:spPr>
          <a:xfrm>
            <a:off x="1752480" y="2057400"/>
            <a:ext cx="5257800" cy="3886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9BB9-1C8C-4B59-ADF2-3E44579DFC0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ndard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c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orm well h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2 Access to I/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 / substrate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6" descr="layouts.tif"/>
          <p:cNvPicPr/>
          <p:nvPr/>
        </p:nvPicPr>
        <p:blipFill>
          <a:blip r:embed="rId1"/>
          <a:stretch/>
        </p:blipFill>
        <p:spPr>
          <a:xfrm>
            <a:off x="4495680" y="1523880"/>
            <a:ext cx="3657600" cy="4475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06AF-8C3A-4416-BBFD-CF6FA5047E3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nthesized Controll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 HDL into gate-level net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&amp; Route using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762120" y="2590920"/>
            <a:ext cx="7772400" cy="1623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FBDE-94AD-4B06-8DAB-057E3B1BFE4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itch Matc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thesized controller area is mostl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is smaller if wires run through/over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= faster, lower power as wel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snap-together cells for datapaths and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wires into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by abu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its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lots of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375300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5105520" y="3352680"/>
          <a:ext cx="3047760" cy="26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3352680"/>
                    <a:ext cx="3047760" cy="26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5943-F956-40CF-B23C-3825A70098A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Data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datapath built from 8 bitslices (regular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pper at top drives control signals to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162560" cy="3610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ED5B-BF48-47CB-9692-27B4B8391D0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lice Pla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ce plan for bits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ordering, dimensions,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nge cells for wiring 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2053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238880" cy="31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2874-53A9-46DA-B4BC-28CECF0DA6D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rea estimates to make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another block you already de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from transistor 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dget room for large wiring tr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mileage may vary; derate by 2x for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371600" y="3699000"/>
            <a:ext cx="6248520" cy="239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BBF2-6753-464A-BE96-91EF26698A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is slow &amp;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IS 0.6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$1000, 3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5 nm: $3M, 1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ging chips is very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visibility into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e design is right before build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kt. simulation / formal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vs. schematic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&amp; electrical rule ch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is &gt; 50% of effort on most chip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6324480" y="1676520"/>
          <a:ext cx="2316240" cy="38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676520"/>
                    <a:ext cx="231624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9D63-A214-4C5D-835A-45DFFB7E3F9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4" descr="1"/>
          <p:cNvPicPr/>
          <p:nvPr/>
        </p:nvPicPr>
        <p:blipFill>
          <a:blip r:embed="rId1"/>
          <a:stretch/>
        </p:blipFill>
        <p:spPr>
          <a:xfrm>
            <a:off x="2057400" y="4495680"/>
            <a:ext cx="4495680" cy="1424160"/>
          </a:xfrm>
          <a:prstGeom prst="rect">
            <a:avLst/>
          </a:prstGeom>
          <a:ln w="0">
            <a:noFill/>
          </a:ln>
        </p:spPr>
      </p:pic>
      <p:sp>
        <p:nvSpPr>
          <p:cNvPr id="249" name="Line 6"/>
          <p:cNvSpPr/>
          <p:nvPr/>
        </p:nvSpPr>
        <p:spPr>
          <a:xfrm flipV="1">
            <a:off x="4114800" y="1600200"/>
            <a:ext cx="1066680" cy="327672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7"/>
          <p:cNvSpPr/>
          <p:nvPr/>
        </p:nvSpPr>
        <p:spPr>
          <a:xfrm flipV="1">
            <a:off x="4419720" y="3809520"/>
            <a:ext cx="3733560" cy="12956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&amp; Packag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eout final lay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, 8, 1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a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for throughpu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latency (10 weeks!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 into individual d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nd gold wires from die I/O pads to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5" descr="4E0172-50xchip"/>
          <p:cNvPicPr/>
          <p:nvPr/>
        </p:nvPicPr>
        <p:blipFill>
          <a:blip r:embed="rId2"/>
          <a:stretch/>
        </p:blipFill>
        <p:spPr>
          <a:xfrm>
            <a:off x="5257800" y="16002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D49F-90C4-48B7-87BF-28BE13F7759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hat chip 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dust particle or wafer defect kills a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s from 90% to &lt;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ie size, maturity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each part before shipping to cust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0690-3F58-4EB2-A841-A26BC5123E7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stom vs. Synthe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Imple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9" descr=""/>
          <p:cNvPicPr/>
          <p:nvPr/>
        </p:nvPicPr>
        <p:blipFill>
          <a:blip r:embed="rId1"/>
          <a:stretch/>
        </p:blipFill>
        <p:spPr>
          <a:xfrm>
            <a:off x="685800" y="2062080"/>
            <a:ext cx="4038480" cy="40338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1" descr=""/>
          <p:cNvPicPr/>
          <p:nvPr/>
        </p:nvPicPr>
        <p:blipFill>
          <a:blip r:embed="rId2"/>
          <a:stretch/>
        </p:blipFill>
        <p:spPr>
          <a:xfrm>
            <a:off x="4844880" y="2133720"/>
            <a:ext cx="3689640" cy="3697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1E9CA-A596-465B-A417-180612A041E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ping with Complex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esign System-on-Chi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millions (even billions!)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s to hundreds of engin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ctured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Part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0EA9-3BF0-4D61-9CBC-5986D70FF82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PS R3000 Proces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bit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eneration commercial processor (198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d by John Hennessy (Stanford, MIPS Found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-64 KB C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K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12-40 M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6 m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5 I/O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Wat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GI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mipsr3000dielarge"/>
          <p:cNvPicPr/>
          <p:nvPr/>
        </p:nvPicPr>
        <p:blipFill>
          <a:blip r:embed="rId1"/>
          <a:stretch/>
        </p:blipFill>
        <p:spPr>
          <a:xfrm>
            <a:off x="4114800" y="2514600"/>
            <a:ext cx="3733920" cy="32576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6"/>
          <p:cNvSpPr/>
          <p:nvPr/>
        </p:nvSpPr>
        <p:spPr>
          <a:xfrm>
            <a:off x="4258440" y="5791320"/>
            <a:ext cx="3405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ttp://gecko54000.free.fr/?documentations=1988_MIPS_R3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2050-01F1-4CE1-8A2A-6A7C6FC790E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uctured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ierarc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Divide and Con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ly system into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modules wher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tandard cell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well-formed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modules to be treated as black bo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c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nd temp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0D0E-EBF2-4837-A5EE-D642184F2E4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Part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erspective, what does it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 set,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, x86, Alpha, PIC, ARM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ycle, multcycle, pipelined, superscal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ow are functional blocks constru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pple carry, carry lookahead, carry selec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how are transistors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, pass transistors,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chip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s, memories, rando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FA51-BD61-4C5D-8FB1-4BD6BF809B2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jski Y-Cha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116160" y="204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2057400" y="1447920"/>
          <a:ext cx="487692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447920"/>
                    <a:ext cx="487692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51D53-2811-4BCB-9850-4D2D8F6E9CF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PS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ubset of MIPS processo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n from Patterson &amp; Hennes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PS is a 32-bit architecture with 32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8-bit subset using 8-bit data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lement 8 registers ($0 - $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0 hardwired to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-bit program cou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l build this processor in the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the key concepts in VLSI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: MIPS Processor Examp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662C-3829-4158-B521-533E173376F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struction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8" name="Picture 181" descr=""/>
          <p:cNvPicPr/>
          <p:nvPr/>
        </p:nvPicPr>
        <p:blipFill>
          <a:blip r:embed="rId1"/>
          <a:stretch/>
        </p:blipFill>
        <p:spPr>
          <a:xfrm>
            <a:off x="685800" y="181296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cp:lastPrinted>2016-01-26T14:49:04Z</cp:lastPrinted>
  <dcterms:modified xsi:type="dcterms:W3CDTF">2016-01-27T23:52:39Z</dcterms:modified>
  <cp:revision>480</cp:revision>
  <dc:subject/>
  <dc:title>PowerPoint Presentation</dc:title>
</cp:coreProperties>
</file>