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14.png" ContentType="image/png"/>
  <Override PartName="/ppt/media/image6.wmf" ContentType="image/x-wmf"/>
  <Override PartName="/ppt/media/image11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31.jpeg" ContentType="image/jpeg"/>
  <Override PartName="/ppt/media/image7.png" ContentType="image/png"/>
  <Override PartName="/ppt/media/image15.wmf" ContentType="image/x-wmf"/>
  <Override PartName="/ppt/media/image10.png" ContentType="image/png"/>
  <Override PartName="/ppt/media/image29.jpeg" ContentType="image/jpeg"/>
  <Override PartName="/ppt/media/image3.wmf" ContentType="image/x-wmf"/>
  <Override PartName="/ppt/media/image25.wmf" ContentType="image/x-wmf"/>
  <Override PartName="/ppt/media/image1.png" ContentType="image/png"/>
  <Override PartName="/ppt/media/image17.wmf" ContentType="image/x-wmf"/>
  <Override PartName="/ppt/media/image19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media/image23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27ED-4619-46B4-81E3-539D56CC3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44CF-95B7-4F03-B62F-E6405123F3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50AC-76F1-4240-8E9B-6390CF290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B95B-6D4C-4B7A-B37B-250BC2EDD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0299-7A76-4311-80F6-F0E3B9259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49C7-40D5-4F09-9F0E-31DC9DFF47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FF07-205C-4B5E-ABE8-B93D6222F0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F641-CCCF-4EA6-A8DE-CB7DD1A09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EEA0-8D15-41CE-8438-9083DCEC33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1C44-AD00-43F5-A2BB-79CF4F800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1598-4DBF-45D9-9200-D85FFD8BC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E8AD-F8B6-4560-A01F-1D6DDFB26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3593-EC0C-4E94-8441-B3F2014EB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AF10-AA75-4BFD-A1B3-5DF1827A4A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E0A5-3AA3-462B-A550-9C97187CDC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247C-499F-484C-BFD9-B81C7A204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9E15-F2A4-49DC-9F4B-3841359AE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96EC-C40E-488B-A495-273905531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6EF0-67B3-49A7-879D-8CA46DC50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D028-AC88-49B8-A088-3A7523092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701B-E8F2-46AB-A933-1616F57A0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B23C-F2BA-465A-9B3E-49284F8C04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1817-C9F9-4927-92A9-116ED6AB4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6DD6-9838-44B2-8639-FDD761464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B16E-45FF-4CD8-8179-1163DCEAC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E253-6DDC-47DF-83CE-3EBDBD195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CE01-09E7-43A2-A1E9-B442CD21C1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4B0E-9C26-45BF-8F57-058E61D5B3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A206-5247-4BC2-9404-CC4741C2A5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2F1D-DC19-4178-B848-164DB6FBBD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BE30-058D-4685-849A-300DC91764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E642-3B5A-4D06-BDAE-F91798784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DD3E-8718-4F66-B1AC-1C2D95C542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98C4-F7BB-4499-BED7-A505358562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D085-6C6C-4D33-A60C-78ED13EF4B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3463-ABA2-4364-A18D-34C6F28D2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3F49-747A-49F4-BBEE-EA5B2DF86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8FBC-55C2-462F-BF5A-8D01F09B0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873B-2443-47D6-8FED-3AB056821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09BA-2D63-495C-AD2D-732A8587E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4619-EDDE-47C1-8DC4-0136B14EA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B411D-52AC-4CE3-8D6E-D1EB3E738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7AF9C-6475-4957-97F5-01289A895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5593-B71C-4C1F-9DE0-C94B6FB6E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2067-2821-4E2D-AE11-EEC4937C54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EF6D-E825-4CAF-9E6A-42291D4051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AE4D5-4E2C-456E-B437-BAED08E3D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2636A-D329-438A-B6D1-6C451A20D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9B4B3-5235-465D-9784-F93A12C0B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2304-65F2-4CC7-A15A-A19F92F20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0D66-9EDA-484D-9B57-7BA185267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6519-9208-4AEB-A99A-B94A06847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7C277-5A3B-4C05-9550-8207B2225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FB4F-1FFD-4615-B4A8-A934A8C0A59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o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09E7-E317-4CA9-A97F-AB04975CAB8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instruction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four cycles to fetch on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383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762120" y="2819520"/>
          <a:ext cx="7619760" cy="22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7619760" cy="22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3ED6-12CC-4321-823F-FB28B1B6FF1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C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1, 1, 2, 3, 5, 8, 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543800" cy="322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A1BB-D92E-4064-BF01-C32C0482035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Assembl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n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assemb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772400" cy="34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0418-E2BA-4932-8A5A-3C108EFD136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addi $3, $0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machine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use instruction encoding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1523880" y="4038480"/>
          <a:ext cx="55627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38480"/>
                    <a:ext cx="55627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F164-A010-47AD-B942-38732C89015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anguag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54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794F-D15B-47BD-905D-1CC615B8EAC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Micro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( [Paterson04], [Harris07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82880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0153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382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BE27-A46D-4A0A-82E9-E842076799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cycle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833480" y="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057400" y="1523880"/>
          <a:ext cx="4800600" cy="448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0600" cy="44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452B-7ECA-46CC-B4D5-68FF7B04118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op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ly decompose MIPS into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lev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65572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685800" y="3124080"/>
          <a:ext cx="754380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54380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2136-134A-47F7-AE50-CFFB825E634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30508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0156"/>
          <p:cNvPicPr/>
          <p:nvPr/>
        </p:nvPicPr>
        <p:blipFill>
          <a:blip r:embed="rId1"/>
          <a:stretch/>
        </p:blipFill>
        <p:spPr>
          <a:xfrm>
            <a:off x="1219320" y="1600200"/>
            <a:ext cx="6324480" cy="444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5F24-5ADA-4151-82C5-CCA44F89A11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erarch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1562040" y="1523880"/>
          <a:ext cx="6018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523880"/>
                    <a:ext cx="6018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C5BD-BAB3-46D2-8CE5-78AF0181B14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Process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, Packaging,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1C06-0CDA-4077-B2F0-E3204BF5E6B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D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and 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ardware usin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logic befor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code into gates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8878-730F-408E-9C19-0DB19B986D0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rilo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ullad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1(a, b, c, 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1(a, b, c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23064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5943600" y="1676520"/>
          <a:ext cx="268272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76520"/>
                    <a:ext cx="268272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A82E-2B34-4300-B415-838455D45F6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logic be implem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nd NORs vs. ANDs and 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-in and fan-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ransistors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oices affect speed, area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 makes these choice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nough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-crafted circuits are still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18FB-13A2-443E-B0EF-C8B5311F585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Carry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6"/>
          <p:cNvGraphicFramePr/>
          <p:nvPr/>
        </p:nvGraphicFramePr>
        <p:xfrm>
          <a:off x="914400" y="2362320"/>
          <a:ext cx="3200400" cy="23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200400" cy="23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5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?  Gate Del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8"/>
          <p:cNvGraphicFramePr/>
          <p:nvPr/>
        </p:nvGraphicFramePr>
        <p:xfrm>
          <a:off x="4267080" y="2819520"/>
          <a:ext cx="434340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819520"/>
                    <a:ext cx="434340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A5D8-E898-4546-B08E-A103C8D3992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5800" y="16002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, y,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1(x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2(y, a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3(z, b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g4(cout, x, y, 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791320" y="2362320"/>
          <a:ext cx="2743200" cy="20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362320"/>
                    <a:ext cx="274320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8BB7-D1D9-410A-B50B-8668842BA39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4800600" y="3048120"/>
          <a:ext cx="3809880" cy="16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48120"/>
                    <a:ext cx="380988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5"/>
          <p:cNvSpPr/>
          <p:nvPr/>
        </p:nvSpPr>
        <p:spPr>
          <a:xfrm>
            <a:off x="685800" y="1523880"/>
            <a:ext cx="5715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1, i2, i3, i4, c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1(i1, 0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2(i1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3(cn, i1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4(i2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5(cn, i2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1(i3, 1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2(i3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3(cn, i3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4(i4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5(cn, i4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6(cout, 0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6(cout, 1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585A-F270-45B2-AC5D-2AC1FC52AE5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CK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RRY A B C COUT VDD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1 I1 A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2 I1 B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3 CN C I1 GND NMOS W=1U L=0.18U AD=0.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4 I2 B GND GND NMOS W=1U L=0.18U AD=0.1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5 CN A I2 GND NMOS W=1U L=0.18U AD=0.5P AS=0.1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1 I3 A VDD VDD PMOS W=2U L=0.18U AD=0.6P AS=1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2 I3 B VDD VDD PMOS W=2U L=0.18U AD=0.6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3 CN C I3 VDD P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4 I4 B VDD VDD PMOS W=2U L=0.18U AD=0.3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5 CN A I4 VDD PMOS W=2U L=0.18U AD=1P AS=0.3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6 COUT CN GND GND N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6 COUT CN VDD VDD PMOS W=4U L=0.18U AD=2P AS=2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1 I1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3 I3 GND 3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 A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 B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 C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N CN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OUT COUT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B58F-C1E1-48CA-B791-048D80F7958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916D-B9BE-4EF2-93E9-2063FD3BBCC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Floorpl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2311560" y="1546200"/>
            <a:ext cx="451944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A7E5-2D7C-4931-8AEB-68D0813CEF0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646880" cy="464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CB45-E048-49BD-8ABC-3EA1EE2936C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a 4-input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9192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5"/>
          <p:cNvGraphicFramePr/>
          <p:nvPr/>
        </p:nvGraphicFramePr>
        <p:xfrm>
          <a:off x="1676520" y="2057400"/>
          <a:ext cx="624816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624816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1752480" y="2057400"/>
            <a:ext cx="5257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8AF4-B3F2-442B-8399-E5E5F7CFF4D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c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w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 Access to I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/ substrate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layouts.tif"/>
          <p:cNvPicPr/>
          <p:nvPr/>
        </p:nvPicPr>
        <p:blipFill>
          <a:blip r:embed="rId1"/>
          <a:stretch/>
        </p:blipFill>
        <p:spPr>
          <a:xfrm>
            <a:off x="4495680" y="1523880"/>
            <a:ext cx="3657600" cy="447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DE59-7F16-4DB3-ACD8-A043D43232D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nthesized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HDL into gate-level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 using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6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8924-9422-4A47-95F4-AA569E539D1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itch Matc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controller area is mostl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is smaller if wires run through/ov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= faster, lower power as we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nap-together cells for datapaths and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wires into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by abu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lots of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753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5105520" y="3352680"/>
          <a:ext cx="304776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352680"/>
                    <a:ext cx="30477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BA05-7FA1-4376-9F80-B4356BC4C68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Data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datapath built from 8 bitslices (regula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per at top drives control signals to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610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287F-7C78-4DBD-8CDA-B1D998BA53B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lice Pla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 for bit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ordering, dimensions,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cells for wiring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053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238880" cy="31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2D85-BD1C-4E57-BE24-0109CEB0695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rea estimates to make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another block you already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from transistor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room for large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mileage may vary; derate by 2x for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371600" y="3699000"/>
            <a:ext cx="6248520" cy="239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719F-E58B-49FF-8672-2EB88080D66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is slow &amp;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IS 0.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$1000,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nm: $3M, 1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 chips is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visibility into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design is right before build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kt. simulation / formal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vs. schematic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&amp; electrical rul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is &gt; 50% of effort on most chi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6324480" y="1676520"/>
          <a:ext cx="23162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676520"/>
                    <a:ext cx="2316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B4C6-2EE0-4AE8-AA0D-56F33BB849C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4" descr="1"/>
          <p:cNvPicPr/>
          <p:nvPr/>
        </p:nvPicPr>
        <p:blipFill>
          <a:blip r:embed="rId1"/>
          <a:stretch/>
        </p:blipFill>
        <p:spPr>
          <a:xfrm>
            <a:off x="2057400" y="4495680"/>
            <a:ext cx="4495680" cy="1424160"/>
          </a:xfrm>
          <a:prstGeom prst="rect">
            <a:avLst/>
          </a:prstGeom>
          <a:ln w="0">
            <a:noFill/>
          </a:ln>
        </p:spPr>
      </p:pic>
      <p:sp>
        <p:nvSpPr>
          <p:cNvPr id="249" name="Line 6"/>
          <p:cNvSpPr/>
          <p:nvPr/>
        </p:nvSpPr>
        <p:spPr>
          <a:xfrm flipV="1">
            <a:off x="4114800" y="1600200"/>
            <a:ext cx="1066680" cy="327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7"/>
          <p:cNvSpPr/>
          <p:nvPr/>
        </p:nvSpPr>
        <p:spPr>
          <a:xfrm flipV="1">
            <a:off x="4419720" y="3809520"/>
            <a:ext cx="3733560" cy="1295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&amp; Packag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out final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 8, 1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for throughpu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latency (10 week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into individual 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d gold wires from die I/O pads to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4E0172-50xchip"/>
          <p:cNvPicPr/>
          <p:nvPr/>
        </p:nvPicPr>
        <p:blipFill>
          <a:blip r:embed="rId2"/>
          <a:stretch/>
        </p:blipFill>
        <p:spPr>
          <a:xfrm>
            <a:off x="5257800" y="16002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4424-7862-41F2-930C-9598F7692AB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at chip 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dust particle or wafer defect kills a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from 90% to &lt;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ie size, maturity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ach part before shipping to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12EA-04F8-48B4-9354-39D703D9E1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stom vs. Synthe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1"/>
          <a:stretch/>
        </p:blipFill>
        <p:spPr>
          <a:xfrm>
            <a:off x="685800" y="2062080"/>
            <a:ext cx="4038480" cy="403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"/>
          <p:cNvPicPr/>
          <p:nvPr/>
        </p:nvPicPr>
        <p:blipFill>
          <a:blip r:embed="rId2"/>
          <a:stretch/>
        </p:blipFill>
        <p:spPr>
          <a:xfrm>
            <a:off x="4844880" y="2133720"/>
            <a:ext cx="3689640" cy="369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E6DA-A720-4891-AA9B-188062EC781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ping with Complex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sign System-on-C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illions (even billions!)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 to hundreds of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5400-1CE1-4221-9ACF-8C9271B44C0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PS R3000 Proc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mercial processor (19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John Hennessy (Stanford, MIPS Fou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64 KB 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K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2-4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 I/O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a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I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mipsr3000dielarge"/>
          <p:cNvPicPr/>
          <p:nvPr/>
        </p:nvPicPr>
        <p:blipFill>
          <a:blip r:embed="rId1"/>
          <a:stretch/>
        </p:blipFill>
        <p:spPr>
          <a:xfrm>
            <a:off x="4114800" y="2514600"/>
            <a:ext cx="3733920" cy="32576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6"/>
          <p:cNvSpPr/>
          <p:nvPr/>
        </p:nvSpPr>
        <p:spPr>
          <a:xfrm>
            <a:off x="4258440" y="5791320"/>
            <a:ext cx="340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gecko54000.free.fr/?documentations=1988_MIPS_R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6445-C228-4F71-85DA-5CDA7FA4A84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uctured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vide and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ly system in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modules wher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ll-form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odules to be treated as black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nd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CACD-22E2-49D7-A78E-8D2400E65D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Part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erspective, what does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et,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, x86, Alpha, PIC, ARM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ycle, multcycle, pipelined, supersca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are functional block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 carry, carry lookahead, carry selec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how are transistor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, pass transistors,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ip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, memories, rando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1B71-EDB7-49EA-A8B1-5CDD1250890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jski Y-Cha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116160" y="20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2057400" y="1447920"/>
          <a:ext cx="487692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4876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A8D6-28F3-42BA-A2C8-B70B7A3EA72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ubset of MIPS processo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n from Patterson &amp; Henne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is a 32-bit architecture with 32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8-bit subset using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lement 8 registers ($0 - $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hardwired to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program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 build this processor in the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the key concepts in VLSI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F207-B6C1-4357-A6FF-25442E0E1CF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181" descr=""/>
          <p:cNvPicPr/>
          <p:nvPr/>
        </p:nvPicPr>
        <p:blipFill>
          <a:blip r:embed="rId1"/>
          <a:stretch/>
        </p:blipFill>
        <p:spPr>
          <a:xfrm>
            <a:off x="685800" y="181296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cp:lastPrinted>2016-01-26T14:49:04Z</cp:lastPrinted>
  <dcterms:modified xsi:type="dcterms:W3CDTF">2016-01-27T23:52:39Z</dcterms:modified>
  <cp:revision>480</cp:revision>
  <dc:subject/>
  <dc:title>PowerPoint Presentation</dc:title>
</cp:coreProperties>
</file>