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7DC006A-28FB-4F1E-B438-AB3AA9183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B1F34C-6664-4B70-8805-E719D357C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AA6F3B3-609B-49F5-9E0B-A0E40ECA1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34464FA-1BE4-4594-81C6-802C21EB6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EAA21D2-0B75-41F7-9776-749AC9A50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80FCC49-3F30-4B29-9F72-2771DB753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69DD236-3628-462F-AE9D-AEDF07140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465EBF1-C540-48DB-8570-573FE7EA0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4E26D06-C2BF-4D45-B504-0FFCA3541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520CD21-2281-4370-82CE-7FAD5A8BE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9D1A903-F7E4-4BE0-9889-5502FA4A3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A3AB9CE-5A18-40C6-B83B-A3B041C8B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3ED791A-5BE6-4C78-9D16-A5BE21DFD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0DE9E4A-9E0F-418C-BB52-EBF64146C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4F9FC7B-D424-4B22-82AF-2633D952E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E2053C6-56B2-464C-B9E1-60F14970F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E3A0C4F-CA57-452B-9F70-8ED5EFAFB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A44592D-35A0-4A69-837D-38A8170E4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E640DAC-1DC3-43D2-B592-52046A5D7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7E08A52-43F3-4018-839D-9BC8FBDC6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EAEC9E4-9E50-490F-8663-09A32163E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8E2015F-D07D-4C09-BB64-E94192FBF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6933A75-71F7-43F3-BD6F-BFA85BF6B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B256FAE-28E0-4FFA-8024-BCFE5431C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995E52C-BC7E-458F-BD2B-295DBD674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175994-4722-4348-8A31-56F74533B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DD45074-1114-4352-B698-9C0CF96E8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9F429F-2FFB-4B61-BAD0-A04566C44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55CD185-EEDE-4F50-8242-27CFE581F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76323DC-3130-4789-ACAA-BC3D85406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F40504B-6765-4213-8B57-4A824D690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E73ABB3-C962-42A7-9C38-55689A409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D6BDCE6-E334-4A5A-B5A2-4EC27332D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4A6DCB8-BBC1-450B-BEC4-C086AA295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2F07BE8-AD16-4101-AFDE-4204841F4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421C330-D9C7-44B1-A2E2-55B7DD1ED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1858465-79FD-4618-923C-325EEA3A4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AC6BEA-D4A5-4493-8013-E25951919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662A24F-AF9D-46E9-A805-4FFFF06EB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B6DF3E4-233F-4E4B-8432-1BE04B560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C6A29CB-3EE5-4479-A821-2AE6EDD0C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93E2C3E-7DCE-4F53-BC6B-FA36A1715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24596F7-6F24-4FC7-B185-5824EB57C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659E0D-4637-4780-B814-2469DBCA0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6BC3631-D9B4-4F6C-A994-B00A1C51B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5C2A85C-2AC2-490C-A8F1-337ECACF8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E950-F342-46F2-9D88-D0985FF1A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E572-57AA-4A34-B7AB-5D55D673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7800-533A-4C39-BA1B-74DC4370F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9C0C-E3F6-454F-BE44-B4B3E721D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B786-2E90-4246-BB97-73FBF00D4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B2FE-F61F-4287-921F-38F3D236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10DA-3EB6-453E-B019-23B5FF666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DD8F-599D-4095-B9CD-83E21DBAA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E1A2-EDD9-4A24-B51B-8E0E0FB4E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B1AD-7270-4839-BD20-120A27877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BEDA-D7C0-4924-A89E-01A95491F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F7C7-F02C-4A4E-A516-A4A2F7214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3C0A-5E04-4EF2-8DB0-29F4889497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420A-F99F-49D3-82F6-CA7D4E1346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BFA-DF30-469E-9042-48800202EF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F9F-B314-40DF-B395-F4D1A9A143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126F-2D36-4A50-B209-FE9C40EF99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2526-1133-4AA4-837E-D332FA2D73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425-4D23-497C-9060-5DB5A9F2D2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8BA-CAF5-49F2-B03A-5DC24BA5D3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DD5C-E115-405E-9AA8-023142CDC7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004-D54B-4B55-9782-D38E8AFCE2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C48-3A32-4338-90CF-ABF47BF6AD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84C-3E15-40E3-9165-FAC6263664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1F2-B6C0-4808-A274-BC2D8B64E5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DAE6-D85D-41B7-8F52-6350433624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986-6F79-4313-BC9C-F5353CB4DB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47D-B76D-449D-858D-310FF199FA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09F-FED2-4BAA-93EC-567463F64E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992-B06C-4AEE-942D-21A02E748D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1E1-D247-4498-8CFD-3EDEDE4DCA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52C-3554-4640-A9AB-C4D79CB245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D895-2FFD-4AEC-B759-5BC1AFAE31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DCC-E4E4-40A9-BD27-B6B3F97089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8FE-4286-405D-A21C-F98BCCE3FD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01A-982D-4E3A-A0C8-AE7E2EFD6E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90C0-B15D-48EA-B999-249DF34720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1A5A-E1B4-4090-BE73-D9857F3AF6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827-F5CB-43EA-9592-403AC0256D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8043-BC1F-4F7E-9934-0CB96E8DF0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FF0C-6525-4C16-8730-455123B193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E3B7-DFBD-4117-98B3-56B9F7ECB1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65E-FC34-4F55-86CD-EAF2D038F4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18B7-AB77-4C50-9764-3B4AD43AD4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F6F1-1BB5-4898-9A18-849068DEE7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8D2-3673-4463-8796-61708BBC43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0CCF-776E-49F0-9BCD-5B15AE85B5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A74-586C-47AE-8659-1B1685B87E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BB8-CBD0-43DE-AA61-B152F5E136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769-4158-4B16-AE64-BC4FD60022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B00-DEEF-4497-9A51-A8681C17A2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B56-15CC-4C8F-983F-9A801204C8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43040" y="18716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8716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36B-B7B4-42DB-88E1-4FEAEA30C7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A44-6ACC-4E5E-A984-B9916C7A30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AB66-A0F3-465A-8C64-963A07DE01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600-5742-44A9-81F3-D7EE9A1DAA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F1F-1A13-4A4A-813F-E7058856C5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7-01-14T00:58:49Z</dcterms:modified>
  <cp:revision>412</cp:revision>
  <dc:subject/>
  <dc:title>PowerPoint Presentation</dc:title>
</cp:coreProperties>
</file>