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3793F09-F463-4B5F-B87D-A7DF7D87B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25BC78F-93EB-4076-8769-6CB3651557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8DB562B-7D5C-41D5-AA1D-3EB91CE360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0F4577E-95E9-4557-8137-819E21B51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125179D-1079-48E2-97FD-4B4C4788C7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C630E77-7223-4F30-83C0-49D264C0BF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C25B347-3F67-4E5A-8BB6-166D9E6BB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568D5EE-6C05-4131-894B-4C28378DE3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DE41D27-E19B-4894-91DE-3B2305FB5E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EF27C62-904D-45DA-B923-130B56EEBD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35E6541-1F82-43DB-8E0A-1AABBBE177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4F19B13-D1A5-4E2B-BD9C-B6DAE0335E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4E84DA7-9879-484A-B1B8-E21319D073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4166BF8-101D-402A-ACBA-BC176C52ED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E4934A7-D2B3-4FA6-8FAE-3B1E877E88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7242889-D3F4-4E01-9ECB-ACEA643DBE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90B40DB-0801-4841-A594-516C1D470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BA71082-5BA5-4BA9-90B8-C76E842CEC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09993AB-EC8A-4386-98D2-3074C284E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252D120-5B45-4323-B86F-534C35B301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A5EEDF0-4AF4-4783-8768-DD3D35DD8A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B9401D2-B88D-4623-8780-FEA85F42F2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9E438A1-D4F0-4D0E-B9B2-49BBB578F1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E14DCCD-7886-4777-8F59-0BAC2160EB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E649D20-64BC-4EA5-9095-3B501D749A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A406F0B-F9AF-4A66-BBA2-C57E0A01D8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F485C07-9E76-4F5F-8802-4A2C8A5DE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073B438-FFD5-4F57-AF7E-F4974EED49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3C0A50E-7570-4122-9A3A-90C649BA9E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6A342B4-6F33-47B1-B1FF-458A7C09F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DBA706B-4573-47CD-92C5-B329108D66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D2C7C07-6788-4626-B91E-89C950F9FB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7D6D20E-06A1-40AC-AF24-1E66DB083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923E064-03C5-4C46-A165-0744FC4091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2F5D717-0B0C-424B-B4ED-48B4CAD146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4171A88-472B-4F93-B6D7-7B3098D524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CB406D5-0A61-4A50-B6FC-6B7AC3EC3A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BEF7866-6C0F-4F35-AC3E-FAEB07225E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9AE5338-9987-4BB8-A2E7-828029C0CF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D6ADFC3-2213-46B4-87E6-112E1F430B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91B658E-EC99-4FF7-B3AD-8EFF9C439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58EBD2D-4A91-4279-A9E6-81D1E4A2C0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8AC733E-3885-48BE-88F4-4E77921ADE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BCE58BC-0F6F-48A1-8D9B-B1823CE0F0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E0368D1-18E7-40EE-8247-6EE118F083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FD66B62-29A1-4716-BEE8-D6E789CB96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744BE-E116-40AA-B492-AE393245AA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6F5C-F155-485E-9DCE-000E30D4A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FF23A-08EF-42B4-9B26-D3D0C053B9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9C135-15D3-46CF-BD86-1D0E0E1B91B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39EE1-5D53-42A3-9B1D-77CBF892EF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DF014-4681-43E7-AE92-0B5DCCD856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1AE87-C66B-40C6-9797-878B2BD971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5869E-A2C1-49AC-9445-02D3FEF330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28B92-C7F0-4B6F-888F-8A4618F2CF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45B39-C8EC-4667-A7E3-68ECC7D5A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AD5A8-9E0C-49DD-8441-3FDBE449B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6AD46-1CCB-4EB2-B65B-855807BBCC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D46E-9CD4-4C8E-9317-6273A9910F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0A6A-CF50-4DA5-9AFC-755CE2E628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2794-D450-4EB8-8AEB-A56F58BD51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E5E2-2B26-4235-B9F5-49684F9DEB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958-5A40-412C-8F1C-086A9E3ED7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6792-3E4C-4E71-9CC1-A76A4D42C8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F6F4-B366-4655-98E8-AF482A08B9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F278-B01B-41BE-A509-646741C661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809F-3ABE-433E-BFD7-90EF72FC42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50DD0-3F21-4E31-99D6-B49699AE06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91C3-1BEE-433B-B81D-6B81751CA3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601B-297F-4B3C-B90D-D4A451958E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C933-543B-4D7B-B52A-BF66614EA3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ADFA-4159-4D8A-B842-5099F284C8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2BE8-DD97-416D-ABED-4538CDF1B7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06B0-A514-47D8-834A-1CB117584E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9E24-FBE4-4741-A8D3-2CA38B76DB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4C86-0984-4EF4-BCF6-7FE162A858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CE40-690D-47B2-B0D1-DEA44E7461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89FD9-9642-4347-B865-7A2F508013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8951-0780-44CE-A6CC-D2ECCB7E8D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829D-C0A1-43C3-80CC-91AAA3058A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39489-8FE6-4469-BD6A-7BA69AB7D2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CE07-1C8D-4070-8579-0D63A37F3B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772C-B081-49F1-8C5F-BB97662484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818D4-55EF-4981-9A39-B52451739B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7814-9C71-41DC-A92D-73038CECAD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D5B8-49F5-4DD8-A825-7DF82770B8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58D71-FB42-4246-AC3E-B457F4733B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F9BBD-3056-461B-9B9D-D8BB267177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4C90-FAE6-4135-8018-64FB54126F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46ED2-97B8-4F1E-B431-15EC5EF889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97EA-1E30-488E-9867-F64B1083AA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9C5A-70CF-487F-A706-D3416B893E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25A50-67DA-455F-AE5A-653B4D745C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09701-A080-4143-85D0-856163D059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9AC7-F22C-4090-865D-01E6AA578C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66F1-5AFE-40F1-B71E-F5FDF70544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55920-0383-4489-8D65-66FE11D4ACE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B4CFB-8CA8-48AF-9881-A43459DC06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43040" y="18716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43040" y="18716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61E65-9A33-4158-82EC-73D57D3BCC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EFA1-4A61-4D30-A366-59C0C17813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9C0-E8DE-4FDA-A5F5-C95BF1372E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299B-F3A5-4036-ADE9-D039C2CD51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4F5C-A214-492F-8067-7D43402BE7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7-01-14T00:58:49Z</dcterms:modified>
  <cp:revision>412</cp:revision>
  <dc:subject/>
  <dc:title>PowerPoint Presentation</dc:title>
</cp:coreProperties>
</file>