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EE4B6E8-6D13-4194-B76E-8A8EB75F5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98F8CA3-3942-4A94-9B24-F71FF23A05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81917E-D270-4A19-ABF1-49AAC60C3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8298637-B25A-4204-BBBC-1A7B0CB3D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67CB88-1148-41D6-BE4F-8313A2540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C11E852-25B9-4B93-849C-A587500A1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B45946-14F8-4FD5-B4F1-5BF9970B8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44B8B5E-E695-4297-939E-EA72C961BD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022AC14-C33B-4599-B0BC-F093F738AE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CED1ED0-83B7-4830-972E-E20D02DF4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4D8FB62-028B-419D-ADD1-948B615F5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C68FF50-0ADD-4061-AFC8-E6DDDB0EF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60322F0-236C-4347-8B55-485B9FCEB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12B478-9405-4EE5-828D-64A3238D1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0709582-6540-4EF5-8325-1ABBDE5AC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823EA7-764B-4B80-BB6D-EF1C6DFCE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78ECF74-092C-43BD-BE80-902FB73630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7C2D922-E67B-4D3A-A079-17EF48F0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AF1AFDA-6135-4CF6-BEBA-6A4BC48989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B5EF88-7403-4062-B18C-D73040690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04F286-2FAD-412C-8058-2FB7C30E03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062CFA0-D731-4B24-BFF6-E1560CD1C0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EFF2BA0-42B8-4FF1-BF2A-7FCB8A9A8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D4EA17-C9D8-4422-BFA6-3698C05E1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EA3235C-B997-4607-B789-DA2C915FD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83D6F9A-8D09-4820-B5DF-46B9A7BE4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527725-7782-4E4F-8581-8EC563FBEA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983A19B-38FF-483D-99C2-D94FCFA42F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1E61834-93E0-463E-BF99-61566B95A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9D96669-C67D-4F57-B8A9-9FE24D734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0BB9BC8-5A47-452B-BD3C-39E71FC3A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8408B42-593D-45A5-B680-ABF8EE47F7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7C960AF-6C10-432D-B0F4-A329A7F955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F2A4385-674C-443C-B169-474729D74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5A44D0-1BDB-4A28-8C6E-9039B63D1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A8973C9-1534-42B1-9B20-7379E38E8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BF643E6-CCB8-499A-B1F8-84C0E17417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E84BDE4-556D-42C1-8B4F-3996F648EF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F4404B-E7DD-41BB-9831-4C4EBF123B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31932CD-DE1F-4ACF-91A2-787C50FFB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A46ADFC-A6FA-4342-9611-AE69C4DAF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77EEE2B-5152-4127-BA6F-68ED04ADA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63061E-E683-4ADB-BD32-3787A471E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EF274F-36AD-4C1F-924F-126BC7D25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C0A07-C34D-4268-A32A-62C1CAACDE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8E405-7634-46DA-928C-B031DBEA2E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D8F17-3968-4148-BD49-567D470B7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C0BAB-1369-4D99-B876-725DA73CDC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9C44E-093F-472F-876B-4317F43722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89A08-53F7-49DF-95B8-91E7AF1B0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21BBF-9EF8-4F7F-9942-FE02F844BA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8CC19-D906-4E1B-BFC2-760E33706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D8DB7-70EC-4AC0-8997-300D4A50C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7C735-54A9-441B-88BB-3D430F904E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AC08D-D7B2-4C3C-8FC2-222F77C4B8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173E-415D-4AE8-9C4E-9FD574D4EF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B243-3A4D-4B06-9FA9-359C9095C3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D50C5-63CF-43BB-8730-60FD9E2790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509C-E68C-43C7-97B9-F7A6D6395F0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684A-DFBF-4001-BC79-E1F896D88B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8FE6-A835-4094-8BC4-F919692E21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5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6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7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7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A4DAA-83B7-4F11-8AE9-94D436F1E5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B861-86CA-4F72-8CB3-F844B35C1F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F8EE-F4BE-427A-BFD7-701BD597EA6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758B-3B56-4A55-AB38-F5E546597E0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Object 4"/>
          <p:cNvGraphicFramePr/>
          <p:nvPr/>
        </p:nvGraphicFramePr>
        <p:xfrm>
          <a:off x="609480" y="259092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59092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DE76-6D9E-4527-9CEE-2A15437A00C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AEF4-5ACF-4794-8335-53580DE44E7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6642-571F-4A0F-9D7E-9231B72662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22DC-6125-4FFB-912A-62B3857943F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8C769-70AD-495D-BD68-5A38A32721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5" descr="0301"/>
          <p:cNvPicPr/>
          <p:nvPr/>
        </p:nvPicPr>
        <p:blipFill>
          <a:blip r:embed="rId1"/>
          <a:stretch/>
        </p:blipFill>
        <p:spPr>
          <a:xfrm>
            <a:off x="1295280" y="2514600"/>
            <a:ext cx="4572000" cy="339264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A692C-B2BB-4AF3-BB7E-7FFB1DE060A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E1A3-07CA-42D4-9DE9-750FA62F60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A5F1-EC6C-45B9-B3A0-821795A729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95627-4737-4E1B-BA91-570681EA97B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3311-5E46-4D2A-B249-F088F99D03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7BDC8-AB83-4A6B-ACF2-756F4F612C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FBEA9-BD73-4C52-A771-38B5BAAD11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1247-409B-4D14-88CF-EAF62736E5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91DEE-5373-40FC-A0D3-8D25EAEF333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E5DC-A6DC-4D57-8C26-1D2F9C07CF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CF68-D91F-4837-B265-C0FC529F54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62F9E-0F1C-420C-A23F-B4AB4841DD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324E5-AAAC-4AEA-B582-5038D597DC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242D-14FA-490B-8CB7-AFE5D73BAF7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661E-69E8-42C3-B8D9-4E0C5919857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76CE-708E-4176-81F5-D6642364486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A931-CB92-403C-AABE-5EDAFAB230F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3EDE-2904-4270-B0EB-98ABD01F16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6781-29A5-4583-8835-BDCD475F31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λ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D3693-EBB4-475E-A07C-F184B92A90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89B9-61A3-4318-8694-AA69A9C740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8F74-3D9C-406F-9D20-8E270ACEE6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1298-CAA8-469E-9676-F3765C3CF2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DCEF-5BE3-403F-B88B-424D196199B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11 David Money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1947-299E-44A2-9E0D-6019E30624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814E-9EB4-428A-A25D-6AEA3C00A8E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 very good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ough gate 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made of metal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* Metal gates are returning toda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5"/>
          <p:cNvGraphicFramePr/>
          <p:nvPr/>
        </p:nvGraphicFramePr>
        <p:xfrm>
          <a:off x="4267080" y="3800520"/>
          <a:ext cx="4289400" cy="21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800520"/>
                    <a:ext cx="4289400" cy="21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AA45-4E78-4EA0-8937-0F9026E199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8F0A6-40CA-464A-9377-FDF9FC29B1A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A2AAB-4AF4-4701-B07C-35042916E0E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6-01-25T14:10:00Z</dcterms:modified>
  <cp:revision>328</cp:revision>
  <dc:subject/>
  <dc:title>PowerPoint Presentation</dc:title>
</cp:coreProperties>
</file>