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81D12F-4367-45DB-B71A-865199E66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FF46B5-024A-4AF1-8D8C-2AAE841C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0908724-21E2-4807-9C52-865911E0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C1C6E5D-9C12-4EFE-B0C5-D3760F444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3B6CAA-F116-47D0-968E-D6A4E60D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2A97ADF-B912-4948-88EA-9CB9A9DFC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6F39994-1677-4724-BF96-43A52DDC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34D507-929A-498A-B236-B48E5A024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0133763-259A-4198-99FD-19E74BAA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307B0D-2325-4339-8054-F77C44BDC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1FC2C0A-07B4-4303-9160-813A1E00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088A3D4-83C9-4956-918D-DDA60263F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E1623A-3779-4E33-B605-315BF1C49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EE95E2C-0BF0-4F44-925B-0A2C48D5E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54E164-4A6D-4DB5-96F1-24A019173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AC3C10-B8DD-40A2-AFC8-7A71EA8A4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76C72B0-F015-4526-8310-959A352C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13381F5-BD62-4FB3-B17B-FF96F8577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89C4D0B-5050-4447-BD01-C692DE946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BE3895-5E3D-49F2-94BD-789FDBD7A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1AAE63E-482C-4A2A-A466-98B9750ED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15FCCD-FD44-4B80-B98B-DFFE40A13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C50CC48-AC94-4654-B6AF-32849AC82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B17385-3C64-492A-9AC6-A41E2634E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CB6CD7A-32F8-46C4-B998-793E4D217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7008F47-F574-443E-821F-BE7CB0C57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1C4A87-F49E-4C4F-ABFE-9E5B4DCD6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A4EB62-68B3-49D5-B2A4-88F73CCCC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76C7A2-644A-4ECA-BB25-684EEF786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EC6C42-E2AF-4E43-AE61-28DBB3AEF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583490-6530-46F7-B1BD-2BFB8635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36B08C3-8A55-4F36-BB08-9D8CF8B1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0CB08AC-9867-4846-85A8-2775EC7E2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12EE0E-BC83-4F01-9306-FC29B625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D9E0AF0-0124-49BA-8437-C6EA90484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0B460E-DF03-42D4-96BA-C2D2B3AF4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5F3756A-CF1F-4AAB-8880-C8EA5225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0BE2A9F-2E08-431B-95AB-4F9384F33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F8AF9E-69FC-4C9C-980A-D9704F7A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2ECE53-65E7-431E-A8D7-9A5D3CF23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3AB3675-73AA-4E93-BD7A-2C70A4DB0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B7EA2A7-5566-48A1-9336-5261E5391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D029AA-3605-494B-99A7-4B25D709D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75BADD-057E-4792-BA1B-44C3200F1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6E8D-8272-4D6E-B3BD-D7D4274A3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813A-2C89-43D9-9C4F-F8713D959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6BCE-A411-4AEC-8BFD-790E62985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AFB8-1161-4931-A7EA-DD9C8F71B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B105-2BBE-4596-B0F4-3A6E030A3D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23A0-FDE8-4AC7-97D3-E97F80190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9DAE-0AED-46F2-83CC-24A251CE7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206A-257B-4A00-9BD1-F5BF180D4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4E8A-16B2-493A-83FB-3B64ADFED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1954-FDF9-43F0-BD45-DA15471CB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47CA-5977-430A-A951-A9A7AF75F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8D27-0578-4FD3-990D-59DE79607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8A68-129E-4D51-A336-67938C46B3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9BF9-8B13-45FA-9B98-E13B928FF1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BAAD-9A70-4EDD-8D68-753E1EDFA4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76E-13A9-4CE4-A2F0-0211BD4DFF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679F-8D48-41DD-B3B7-5B200B17E7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6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7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7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07A-6E5D-4BE1-8F17-331F3AA0C27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9498-7C34-4EAA-A2A5-C470F4E2963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C2B1-A110-4B5A-97BF-3BC596BF3D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7039-7A94-4C39-B768-B212A686C76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25A-7D78-4BE5-B60E-92A3DDBD371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1817-4EF0-416A-8142-78C262DD34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8AE3-2BE9-42C1-97A6-155E26ACD6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96C8-B011-43E2-BA04-80C232A390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5965-ACEA-46C6-96F6-98636052BB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0301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8AC0-CFFF-42C3-B4E6-593705D33C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D06B-D683-4BE1-B9E1-882506BD7D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A89B-D6FB-4E6A-B524-7184BB5F096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E2A-10F3-4EB4-B856-68F8EE1A52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723A-EE3A-4A7B-AB86-C869CBAFAA3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24AE-6510-4F5B-97FD-F31CF95900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BA1-5307-423D-A683-C2D2948DA7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8CB6-AB88-43F4-84D8-4458144336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3241-782C-4F1E-9722-F69BD0CC04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B22D-9FB1-4D51-92C2-58D9E8965A8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F345-283F-48B2-8D0D-7F864797F7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88AB-CAE3-4468-8B7B-FDF2417AAD8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D045-896E-4F5F-B378-241DDF76DD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9D90-E46F-4CFF-92C1-799AA0375F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1FE6-1D9A-46CE-8D66-C20AC297AD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6E2F-FD50-4821-ADAE-8819531E0A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C8C9-AFC5-40EF-8CB3-6D44475C479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F959-F0B4-4EF4-93C7-ADFA46E348B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6220-D726-4A89-92BD-AAC9727BC34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λ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0FDF-7CC5-4B6D-AF12-7AC9F8B285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9B4E-8C62-4FED-836F-267DBEEF6B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AC66-7149-4C7B-907F-1C8DF2708E0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0FDD-E243-4203-B55F-677388073F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2E30-EB2A-4490-93BC-4562159AC4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1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E0DE-032D-45CD-B1BC-286BD7FFCF5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1E0-ACA0-40BD-84C5-7C918EB36B8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Metal gates are returning tod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D932-F521-42FF-B961-9E1816972B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2256-48BA-4EB1-821D-9F471AD0CB4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11B-D8B6-4AA7-AD7E-5E95C4CC61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6-01-25T14:10:00Z</dcterms:modified>
  <cp:revision>328</cp:revision>
  <dc:subject/>
  <dc:title>PowerPoint Presentation</dc:title>
</cp:coreProperties>
</file>