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83D2CC3-CDAC-4D0D-A536-DADEEA262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4CDF0A5-F8EE-44CC-8E32-A0F9DF01C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CB6180D-8290-4EAC-A9F5-4C83D69E83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92DBAA7-EF93-4B4A-8984-9F1356D40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8286888-47E0-4C95-9A13-FDED64774C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D3F2649-76EF-4076-9D6C-D3A63A0AAC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AC041BE-B329-41F7-9DCE-260789A8D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CE042DD-9AC9-44BC-9C39-E7FBBC2A0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93655D0-F5CF-495F-9F8C-26866EC41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072450D-D516-40A9-BA3D-BA8017BD40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8ED594C-78EE-4303-A054-CAA3CA615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3A13CE5-ADA7-4D6F-89DD-1588D2E70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DA3768-47A6-4CEC-A2D1-7BEB587DD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2B63775-AF9A-4951-9DF1-A59FBEB83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E95BED9-A5C0-4FD7-A2EC-671804F00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B63621D-92E2-4914-9450-6A69E657A8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D676D3E-FA86-4080-B56D-5C732E289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5D2F97A-3768-472B-BBEE-C234140DD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5D786935-4FAC-4AE2-8CA5-03367EF83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A3D92E-C5F4-4035-A6DA-53EB3CDA6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6A7BF70-1F5C-4717-A476-6E99101B5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F7E4F-7E18-48FE-9019-B1B68EECA7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07569-5394-4070-BC2E-71FE8BDFC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35B00-FB69-4267-B697-929889C160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7EDDF-A937-417D-BD8A-410FCE6CC9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2ABC8-6099-4565-A843-0B9E91E4A6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56541-4555-4ED8-8904-A98CD3CC7A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37553-08DF-47A8-8157-407D78686D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11047-585D-4BB7-9351-674153120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DD7E8-0DC6-45F9-9D92-E2D076AB23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AE52-0A10-46BC-A568-2E633E7F7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3A4EF-8B7A-4107-99A6-3F0EA0938B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65FB7-5EDA-44E1-B02B-2B4435FDD2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79AB-BE1F-40B8-9AC5-C9A959E510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9: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binational Circuit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DA2F4-760C-4C85-9885-44819B5ADD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Or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arasitic delay model was too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parasitic delay for Y fa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arrives latest? 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B arrives latest?  2.33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1905120" y="3733920"/>
          <a:ext cx="3962160" cy="203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3962160" cy="203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7"/>
          <p:cNvSpPr/>
          <p:nvPr/>
        </p:nvSpPr>
        <p:spPr>
          <a:xfrm>
            <a:off x="4495680" y="251460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495680" y="28954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BA15-746C-47D0-B511-768000A7CA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ner &amp; Outer Inpu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n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output 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 is closest to rail (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put arrival time is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nect latest input to inner term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5"/>
          <p:cNvGraphicFramePr/>
          <p:nvPr/>
        </p:nvGraphicFramePr>
        <p:xfrm>
          <a:off x="6095880" y="1676520"/>
          <a:ext cx="3657600" cy="187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76520"/>
                    <a:ext cx="3657600" cy="187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E7AB-071E-4B60-9D9F-5A5A242EC4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 favor one input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input A of a NAND gate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er transistor on A (less capacit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st size of non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total resistance is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 approaches g = 1 on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otal logical effort goes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5715000" y="2819520"/>
          <a:ext cx="3276720" cy="23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819520"/>
                    <a:ext cx="3276720" cy="23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Rectangle 5"/>
          <p:cNvSpPr/>
          <p:nvPr/>
        </p:nvSpPr>
        <p:spPr>
          <a:xfrm>
            <a:off x="1905120" y="38098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1828800" y="4267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429000" y="4648320"/>
            <a:ext cx="9144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E142B-4A89-4B6E-AED6-DEF52DAC114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ymmetric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can be made perfectly symme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Object 4"/>
          <p:cNvGraphicFramePr/>
          <p:nvPr/>
        </p:nvGraphicFramePr>
        <p:xfrm>
          <a:off x="1905120" y="2438280"/>
          <a:ext cx="419076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438280"/>
                    <a:ext cx="419076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2F2CE-61F5-4984-92E6-1AE8837C10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favor one edge over an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suppose rising output of inverter is most 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nMOS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e logical effort by comparing to unskewed inverter with same effective resistance on that ed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3 = 5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5 / 1.5 = 5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1600200" y="2895480"/>
          <a:ext cx="533412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895480"/>
                    <a:ext cx="533412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Rectangle 5"/>
          <p:cNvSpPr/>
          <p:nvPr/>
        </p:nvSpPr>
        <p:spPr>
          <a:xfrm>
            <a:off x="2209680" y="52578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2209680" y="5715000"/>
            <a:ext cx="19814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B5594-3404-4FAE-90E2-110FA1F4B1C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- and LO-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Logical effort of a skewed gate for a particular transition is the ratio of the input capacitance of that gate to the input capacitance of an unskewed inverter delivering the same output current for the same transi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 reduce size of noncritical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 gates favor rising output (small n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-skew gates favor falling output (small pM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smaller for favored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arger for the other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92D5-D98D-4A8A-9E17-63170256D93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10"/>
          <p:cNvGraphicFramePr/>
          <p:nvPr/>
        </p:nvGraphicFramePr>
        <p:xfrm>
          <a:off x="685800" y="1544760"/>
          <a:ext cx="7769160" cy="439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544760"/>
                    <a:ext cx="7769160" cy="43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4"/>
          <p:cNvGraphicFramePr/>
          <p:nvPr/>
        </p:nvGraphicFramePr>
        <p:xfrm>
          <a:off x="685800" y="1542960"/>
          <a:ext cx="7772400" cy="440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1542960"/>
                    <a:ext cx="7772400" cy="44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Skewe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transition>
    <p:zoom dir="out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60622-9DEE-4DDB-A9DD-1286A3638D4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symmetric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asymmetric and 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size noncritical transistor on unimportan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parasitic delay for critical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5"/>
          <p:cNvGraphicFramePr/>
          <p:nvPr/>
        </p:nvGraphicFramePr>
        <p:xfrm>
          <a:off x="3048120" y="3657600"/>
          <a:ext cx="3276360" cy="23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276360" cy="23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E884-8052-4152-9CEB-EE6D4B7DEFA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P/N Rati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lected P/N ratio for unit rise and fall resistance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-3 for an inverte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choose ratio for least averag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driving identical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P+1)(1+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 = (P + 1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P = (1-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/2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st delay for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Object 5"/>
          <p:cNvGraphicFramePr/>
          <p:nvPr/>
        </p:nvGraphicFramePr>
        <p:xfrm>
          <a:off x="4243320" y="5373720"/>
          <a:ext cx="504720" cy="48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3320" y="5373720"/>
                    <a:ext cx="504720" cy="48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Rectangle 6"/>
          <p:cNvSpPr/>
          <p:nvPr/>
        </p:nvSpPr>
        <p:spPr>
          <a:xfrm>
            <a:off x="2286000" y="37339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2362320" y="4191120"/>
            <a:ext cx="3886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8"/>
          <p:cNvSpPr/>
          <p:nvPr/>
        </p:nvSpPr>
        <p:spPr>
          <a:xfrm>
            <a:off x="2286000" y="4572000"/>
            <a:ext cx="48769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"/>
          <p:cNvSpPr/>
          <p:nvPr/>
        </p:nvSpPr>
        <p:spPr>
          <a:xfrm>
            <a:off x="3048120" y="5029200"/>
            <a:ext cx="487656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10"/>
          <p:cNvSpPr/>
          <p:nvPr/>
        </p:nvSpPr>
        <p:spPr>
          <a:xfrm>
            <a:off x="4267080" y="5410080"/>
            <a:ext cx="1219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6172200" y="2971800"/>
          <a:ext cx="1924200" cy="14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72200" y="2971800"/>
                    <a:ext cx="1924200" cy="14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4FC7-99D1-4A5C-8A2C-A81F3C3B311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4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5"/>
          <p:cNvGraphicFramePr/>
          <p:nvPr/>
        </p:nvGraphicFramePr>
        <p:xfrm>
          <a:off x="685800" y="3505320"/>
          <a:ext cx="7848720" cy="1933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3505320"/>
                    <a:ext cx="7848720" cy="19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/N Rati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general, best P/N ratio is sqrt of equal delay rat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improves average delay slightly for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significantly decreases area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F7F8-1EE1-44B4-91F5-8FD906612B6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Pus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ymmetr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we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P/N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BF1B1-FE65-4497-9230-A2C6EA5685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pe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 vs. N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st-arriving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rea and po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mple stages vs. fewer high fan-i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C325-5232-4DFE-AC09-180A52B6720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dule mux(input  s, d0, d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utput 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sign y = s ? d1 : d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nd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2671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Sketch a design using AND, OR, and NOT g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981080" y="4038480"/>
          <a:ext cx="3353040" cy="19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4038480"/>
                    <a:ext cx="3353040" cy="19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2CD6-0AA8-42B1-8E4D-306C7279ED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Sketch a design using NAND, NOR, and NOT gates. 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1828800" y="2666880"/>
          <a:ext cx="4343400" cy="23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666880"/>
                    <a:ext cx="4343400" cy="23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20DC-0D0E-440E-99D0-C8D401AC4C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bble Push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network of AND / 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to NAND / NOR +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 bubbles around to simplify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ember DeMorg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4"/>
          <p:cNvGraphicFramePr/>
          <p:nvPr/>
        </p:nvGraphicFramePr>
        <p:xfrm>
          <a:off x="6477120" y="2133720"/>
          <a:ext cx="1981080" cy="11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2133720"/>
                    <a:ext cx="1981080" cy="11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" name="Object 5"/>
          <p:cNvGraphicFramePr/>
          <p:nvPr/>
        </p:nvGraphicFramePr>
        <p:xfrm>
          <a:off x="1143000" y="3352680"/>
          <a:ext cx="6781680" cy="264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352680"/>
                    <a:ext cx="6781680" cy="26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3AA0-010A-4683-8340-CBC3DBDF84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Sketch a design using one compound gate and one NOT gate. Assume ~S is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1371600" y="3048120"/>
          <a:ext cx="6095880" cy="24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048120"/>
                    <a:ext cx="6095880" cy="24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01404-66AC-4B1D-AE0D-68CBD9023D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pou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4"/>
          <p:cNvGraphicFramePr/>
          <p:nvPr/>
        </p:nvGraphicFramePr>
        <p:xfrm>
          <a:off x="990720" y="2057400"/>
          <a:ext cx="6705360" cy="4044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057400"/>
                    <a:ext cx="6705360" cy="40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Rectangle 5"/>
          <p:cNvSpPr/>
          <p:nvPr/>
        </p:nvSpPr>
        <p:spPr>
          <a:xfrm>
            <a:off x="472428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72428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7"/>
          <p:cNvSpPr/>
          <p:nvPr/>
        </p:nvSpPr>
        <p:spPr>
          <a:xfrm>
            <a:off x="4724280" y="51055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8"/>
          <p:cNvSpPr/>
          <p:nvPr/>
        </p:nvSpPr>
        <p:spPr>
          <a:xfrm>
            <a:off x="47242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9"/>
          <p:cNvSpPr/>
          <p:nvPr/>
        </p:nvSpPr>
        <p:spPr>
          <a:xfrm>
            <a:off x="4648320" y="56386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20"/>
          <p:cNvSpPr/>
          <p:nvPr/>
        </p:nvSpPr>
        <p:spPr>
          <a:xfrm>
            <a:off x="6477120" y="47242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21"/>
          <p:cNvSpPr/>
          <p:nvPr/>
        </p:nvSpPr>
        <p:spPr>
          <a:xfrm>
            <a:off x="6477120" y="49528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22"/>
          <p:cNvSpPr/>
          <p:nvPr/>
        </p:nvSpPr>
        <p:spPr>
          <a:xfrm>
            <a:off x="6477120" y="5181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6477120" y="5410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4"/>
          <p:cNvSpPr/>
          <p:nvPr/>
        </p:nvSpPr>
        <p:spPr>
          <a:xfrm>
            <a:off x="6477120" y="55627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5"/>
          <p:cNvSpPr/>
          <p:nvPr/>
        </p:nvSpPr>
        <p:spPr>
          <a:xfrm>
            <a:off x="6400800" y="5791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31261-EA3E-4EE8-BBC5-FB39B8F75C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ltiplexer has a maximum input capacitance of 16 units on each input.  It must drive a load of 160 units.  Estimate the delay of the two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7"/>
          <p:cNvGraphicFramePr/>
          <p:nvPr/>
        </p:nvGraphicFramePr>
        <p:xfrm>
          <a:off x="1219320" y="4683240"/>
          <a:ext cx="1752480" cy="131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683240"/>
                    <a:ext cx="1752480" cy="13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Object 4"/>
          <p:cNvGraphicFramePr/>
          <p:nvPr/>
        </p:nvGraphicFramePr>
        <p:xfrm>
          <a:off x="1066680" y="3124080"/>
          <a:ext cx="2971800" cy="1614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124080"/>
                    <a:ext cx="2971800" cy="16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5"/>
          <p:cNvGraphicFramePr/>
          <p:nvPr/>
        </p:nvGraphicFramePr>
        <p:xfrm>
          <a:off x="4419720" y="3124080"/>
          <a:ext cx="3962160" cy="157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124080"/>
                    <a:ext cx="3962160" cy="15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Text Box 6"/>
          <p:cNvSpPr/>
          <p:nvPr/>
        </p:nvSpPr>
        <p:spPr>
          <a:xfrm>
            <a:off x="1143000" y="27432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60 / 16 = 10   B = 1   N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9"/>
          <p:cNvGraphicFramePr/>
          <p:nvPr/>
        </p:nvGraphicFramePr>
        <p:xfrm>
          <a:off x="4495680" y="4579920"/>
          <a:ext cx="1386000" cy="14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95680" y="4579920"/>
                    <a:ext cx="13860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11"/>
          <p:cNvSpPr/>
          <p:nvPr/>
        </p:nvSpPr>
        <p:spPr>
          <a:xfrm>
            <a:off x="1828800" y="2819520"/>
            <a:ext cx="1828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434340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5334120" y="28195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523880" y="4648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15"/>
          <p:cNvSpPr/>
          <p:nvPr/>
        </p:nvSpPr>
        <p:spPr>
          <a:xfrm>
            <a:off x="1523880" y="4876920"/>
            <a:ext cx="1600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523880" y="51814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7"/>
          <p:cNvSpPr/>
          <p:nvPr/>
        </p:nvSpPr>
        <p:spPr>
          <a:xfrm>
            <a:off x="152388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8"/>
          <p:cNvSpPr/>
          <p:nvPr/>
        </p:nvSpPr>
        <p:spPr>
          <a:xfrm>
            <a:off x="1523880" y="57913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9"/>
          <p:cNvSpPr/>
          <p:nvPr/>
        </p:nvSpPr>
        <p:spPr>
          <a:xfrm>
            <a:off x="4800600" y="4572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20"/>
          <p:cNvSpPr/>
          <p:nvPr/>
        </p:nvSpPr>
        <p:spPr>
          <a:xfrm>
            <a:off x="4800600" y="48769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21"/>
          <p:cNvSpPr/>
          <p:nvPr/>
        </p:nvSpPr>
        <p:spPr>
          <a:xfrm>
            <a:off x="48006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2"/>
          <p:cNvSpPr/>
          <p:nvPr/>
        </p:nvSpPr>
        <p:spPr>
          <a:xfrm>
            <a:off x="4800600" y="541008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23"/>
          <p:cNvSpPr/>
          <p:nvPr/>
        </p:nvSpPr>
        <p:spPr>
          <a:xfrm>
            <a:off x="4800600" y="5715000"/>
            <a:ext cx="1600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ombination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EF69-6547-4E2E-995F-0FA2B3A9FB7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5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tate your designs with transistor sizes that achieve this del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9"/>
          <p:cNvGraphicFramePr/>
          <p:nvPr/>
        </p:nvGraphicFramePr>
        <p:xfrm>
          <a:off x="838080" y="2514600"/>
          <a:ext cx="754380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514600"/>
                    <a:ext cx="754380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4"/>
          <p:cNvGraphicFramePr/>
          <p:nvPr/>
        </p:nvGraphicFramePr>
        <p:xfrm>
          <a:off x="838080" y="2514600"/>
          <a:ext cx="7543800" cy="301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514600"/>
                    <a:ext cx="754380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2-24T18:08:20Z</cp:lastPrinted>
  <dcterms:modified xsi:type="dcterms:W3CDTF">2020-02-24T19:05:32Z</dcterms:modified>
  <cp:revision>1064</cp:revision>
  <dc:subject/>
  <dc:title>PowerPoint Presentation</dc:title>
</cp:coreProperties>
</file>