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7E4916-6751-4A54-880D-66701FB04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3FBDAB-A95E-4DE2-A7C4-10ACFC733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49C518D-4FD5-4A01-82DB-A45AFB8F6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27B318B-3DBF-419A-9058-FE7AEC83C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63C433-EAA2-4DA7-9275-C540D97C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DB9C30-76BF-4A23-B7B0-9813E1A50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BD31CE8-D6AD-41AC-97B8-9AA884326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92DFDC-EB6A-4EA8-B53B-3E816B0EF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74A053-9813-4A50-8342-CB2406BF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5E91F9-0755-4292-86A5-FADC36593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FC5FED-D1CA-434B-853D-4F3873A42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5F9FD42-25FC-4871-A6D4-3ED8AB16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0C6EB64-5744-4EC1-8714-F9DD81DBC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8C20E84-7DF7-4075-9A2C-FECBBA5B0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ECDC065-72A0-4E07-AC38-92DB776F7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BABD97-10FA-4D2F-8E77-D262778F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8BCB0D-55CF-4CEE-86BC-71FAE3A7A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3A20A72-285E-4C43-9BF8-F65F9097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F1F0BC4-0AF9-405B-8FC7-F6B87BA76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15F281A-0C9F-43FF-902A-7893CDE6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822E93-4F36-4893-AF21-D1667BB77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6FFB-890B-4897-BEC0-88C61586B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516F-405A-462D-AA38-09C366679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3319-82F9-4348-8940-5F9D2195A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CDC5-AF91-4374-B13B-EA589E4792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BCBF-6A7C-4853-8E33-E21896D0D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2019-6191-4937-BC7E-6AA2A614E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5CEF-6D71-4D6E-982B-E890F96F9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CE0F-D65A-469D-B5D3-90F495DED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9FF6-E86D-4F0C-989E-5C104E4B4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4EAA-0E34-4382-BBA3-E4B3815D6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648B9-547A-4667-9F35-B80B940E7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D01C-D1A9-4934-A149-0EAC88520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AF0F-4D01-4958-922F-B4CB5CD086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EED8-E1EA-4A05-8A0B-DAF3457B558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7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2CB9-814F-4E95-842D-8A6FAB1320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78AD-8095-49E7-B942-15909418D0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5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828800" y="4267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A824-1802-497A-A8AA-BEA96D66E7A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5825-AE3E-491E-9C1A-012A22FC28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5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8959-51C3-49CE-9CA6-5148C829FE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29B0-D7AF-4FD8-AEA7-D02C3FF92F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0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BA52-759B-414F-8665-8AA8492461A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E123-126B-4A02-A2A0-3D3FAEC797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5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6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4B82-5200-4EEB-A301-12E6833B25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8705-7A39-4B25-9379-FFEE31F409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D5B4-70E4-472E-8068-E5E5AF8682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A3EB-86D5-4DD2-AB79-38B1E9C6D2C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A128-BF62-4421-BB59-B78F61B61B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A812-7C37-47FC-A2C9-DD2AD086A2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41C7-5AA0-49F3-9489-AF06156150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2BF6-006D-4DAF-BF4B-3AB3E51CD5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5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7D23-29F8-4654-A8CC-6B1A860283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7"/>
          <p:cNvGraphicFramePr/>
          <p:nvPr/>
        </p:nvGraphicFramePr>
        <p:xfrm>
          <a:off x="1219320" y="4683240"/>
          <a:ext cx="17524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83240"/>
                    <a:ext cx="17524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4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5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495680" y="4579920"/>
          <a:ext cx="1386000" cy="14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9920"/>
                    <a:ext cx="13860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11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D2FC-98D2-417B-8C16-9908DDD8F3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9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4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2-24T18:08:20Z</cp:lastPrinted>
  <dcterms:modified xsi:type="dcterms:W3CDTF">2020-02-24T19:05:32Z</dcterms:modified>
  <cp:revision>1064</cp:revision>
  <dc:subject/>
  <dc:title>PowerPoint Presentation</dc:title>
</cp:coreProperties>
</file>