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504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E25468A-4DE1-4F5D-9704-9C1D4E131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FABB608-9DB2-4D38-8B28-3263A46D0E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D9E60E8-18E7-424F-97BD-9EA6DC017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AC04486-DB33-4385-B9B4-AC3FDA5F8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DA6975D-DA98-4239-914B-F2206DA31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613E3ED-893F-4690-8AE6-6BD714581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CAAB0A6-1C89-4E88-9C9C-312E8CD7CF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BEBFBE3-6C26-4E55-853C-497EFAD4B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10FDBB5-FFD9-4982-B3F4-AF27C660A8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04F89EC-B021-40CA-9415-E9A778420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C6DBEC2-539C-44FB-9B53-32DEC1036A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0727687-0B1C-4300-9CD5-116C7A0FB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1B13949-49B7-40A0-A577-1AEA0656E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65BF35E-6118-452A-9C7C-A8F808830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2B99A98-92ED-40DE-B48C-79B13575D2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FB41565-576F-4C37-A19C-BC82073AD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9A1ECD1-4301-43D9-8B6C-9BB44539D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36496A6-FE43-44FC-9542-ADFB9B330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803DB32-FC26-409E-AFE1-4691C48B19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C03BAEF-88CF-47F7-9235-8DB01A0E9D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915178C-3F19-468E-A90A-204FDBCD78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11DA4C8-E42D-4523-9C1C-41DFC3184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9C17E4F-CE2C-427F-A077-0A3C3BA64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90C56642-0485-4EFB-B305-45F3B450E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EA3DF2F-F1F5-4A45-B7F8-502773B0D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90557A1-1981-4C88-B2D5-7D91B9E5C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C8B3EE3-C316-4BFD-85C4-793C3AB33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423BA4-F449-4F3C-BE4F-368D4094D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B3688-9034-4BA6-A3BA-B005E42604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86FE2-E672-4896-9541-3F690036CE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AB99-AC5D-4C85-95D1-FEE319E53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42922-004B-4D21-9C4C-2F23A8CC7C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33CD1-0048-48F4-8FBE-246DF72256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75E11-E0B3-4DB4-89EE-DDD0CE8CBA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D01E0-86C6-4FC9-A8EA-1B6AF2AEA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4E6C9-1BCF-4C95-980B-D85E1DE029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68094-33A2-4F0E-9B4C-888293465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51817-E4EF-483B-B6EC-C9213590E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C1BD4-4F3D-4DF6-8E9D-505C73945F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521F0-0740-4C23-B2C6-F60D926EBB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EC55-DF97-48F3-BCB7-C5BE474E83A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Simul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DDB9-3B9E-493A-B2C8-904BEBC37F2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C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osi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nm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g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100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50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dc Vds 0 1.0 0.05 SWEEP Vgs 0 1.0 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6019920" y="1981080"/>
          <a:ext cx="2743200" cy="18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981080"/>
                    <a:ext cx="2743200" cy="18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D9C5A-AA25-41E6-8575-E2F58B04686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7" descr=""/>
          <p:cNvPicPr/>
          <p:nvPr/>
        </p:nvPicPr>
        <p:blipFill>
          <a:blip r:embed="rId1"/>
          <a:stretch/>
        </p:blipFill>
        <p:spPr>
          <a:xfrm>
            <a:off x="3809880" y="2362320"/>
            <a:ext cx="4496040" cy="338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B3ACC-3699-4C3B-9E24-74A441875A8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FET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element for MOSF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name drain gate source body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W=&lt;width&gt; L=&lt;lengt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AS=&lt;area source&gt; AD = &lt;area drain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 PS=&lt;perimeter source&gt; PD=&lt;perimeter drai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B9D6-2CB8-482B-854A-F4A27664719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685800" y="1447920"/>
            <a:ext cx="8229600" cy="49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inv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50ps 0ps 0ps 100ps 20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20 PS=18 AD=20 PD=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MOS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=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=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AS=40 PS=26 AD=40 PD=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6248520" y="1752480"/>
          <a:ext cx="2286000" cy="206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1752480"/>
                    <a:ext cx="2286000" cy="20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A65B4-2378-4226-B351-5BF504E6D7C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ent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loaded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sh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3152880" y="2257560"/>
            <a:ext cx="5457600" cy="3717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80F5-73D8-4506-9004-CC8F58BA200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common elements as 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anout-of-4 Inverter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i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990720" y="199404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ubckt inv a y N=4 P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1 y a gnd gnd NMOS W='N' L=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N*5' PS='2*N+10' AD='N*5' PD='2*N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2 y a vdd vdd PMOS W='P' L=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+ AS='P*5' PS='2*P+10' AD='P*5' PD='2*P+10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4495680" y="4114800"/>
          <a:ext cx="3810240" cy="180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4114800"/>
                    <a:ext cx="3810240" cy="180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22C9-FB26-498A-860B-BBF5522AB88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0" y="708516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end</a:t>
            </a: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685800" y="1447920"/>
            <a:ext cx="8229600" cy="472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H=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'    * re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30EA-5543-4ED0-82E9-D7A39A9DD3E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Inverter Delay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Text Box 5"/>
          <p:cNvSpPr/>
          <p:nvPr/>
        </p:nvSpPr>
        <p:spPr>
          <a:xfrm>
            <a:off x="685800" y="1447920"/>
            <a:ext cx="8229600" cy="44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2' 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3' 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'H**4' 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ri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fal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8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ARG v(d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0.2*SUPPLY' FALL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C24B-48EF-4DD0-8A5A-F9C5193CFFB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O4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41" name="Picture 5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238880" cy="4413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3446-5E65-4841-8AF8-36A6C26521C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automatically adjust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k value that optimizes some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 assumed 2:1 gives equal rise/fal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we see rise is actually slower than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P/N ratio gives equal del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run a bunch of sims with different P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let HSPICE optimizer do it for 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8AA89-A2B0-46D6-9056-6FC7C073175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 to 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C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Measu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haracte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ED4F-22E8-45B4-A112-B1BACDAF6C3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685800" y="1447920"/>
            <a:ext cx="84582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o4opt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SUPPLY=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scale=25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models/ibm065/models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emp 7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ub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global vdd g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include '../lib/inv.sp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d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SUPPLY'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LS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 'SUPPLY' 0ps 20ps 20ps 120ps 280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hape input wave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eshape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3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1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evice under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4034B-F770-4F00-9C38-91BDC5354B1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Optim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685800" y="1447920"/>
            <a:ext cx="822960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6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v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='P1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=256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load on lo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Optimization set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param P1=optrange(8,4,16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earch from 4 to 16, guess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odel optmod opt itropt=30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maximum of 30 it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bestratio param='P1/4'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compute best P/N rat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-----------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0.1ps 280ps SWEEP OPTIMIZE=optrange RESULTS=diff MODEL=optmo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r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ris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f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falling propagation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RIG v(c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RISE=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+       TARG v(d)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='SUPPLY/2' FALL=1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tpd param='(tpdr+tpdf)/2' goal=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verage prop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measure diff param='tpdr-tpdf' goal = 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diff between delay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e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EC81-EC5F-4AFB-B8B7-A9F6767C66D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esul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for equal delay is 2.9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9 ps (slower than 2:1 rat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pMOS transistors waste power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dom design for exactly equal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atio gives lowest average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tran 1ps 1000ps SWEEP OPTIMIZE=optrange RESULTS=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tp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ODEL=optm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 of 1.8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.8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.2 ps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7.0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/N ratios of 1.5:1 – 2.2:1 gives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7.2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8F9A-8A65-4F14-8C0D-F8CEB107B8C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Measur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can measur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ntaneous P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average P over some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print P(vd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asure pwr AVG P(vdd) FROM=0ns TO=10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in single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to separat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areful about input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B7779-E585-4341-BFC6-D2D7A8C44E5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can be measured from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FO4 inverter, shape input, loa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4"/>
          <p:cNvGraphicFramePr/>
          <p:nvPr/>
        </p:nvGraphicFramePr>
        <p:xfrm>
          <a:off x="1219320" y="2666880"/>
          <a:ext cx="6553080" cy="29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666880"/>
                    <a:ext cx="655308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9E28-14F6-4B86-ACB9-9BF23F1B06E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b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intercept is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pe is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its straigh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well in any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input slop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6" descr=""/>
          <p:cNvPicPr/>
          <p:nvPr/>
        </p:nvPicPr>
        <p:blipFill>
          <a:blip r:embed="rId1"/>
          <a:stretch/>
        </p:blipFill>
        <p:spPr>
          <a:xfrm>
            <a:off x="4724280" y="2984400"/>
            <a:ext cx="3810240" cy="301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FCB2-D8E2-4E5F-92B5-84F86AD294E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 Dat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AND gates in IBM 65 nm pro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is greater for oute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logical effort is better than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5" descr=""/>
          <p:cNvPicPr/>
          <p:nvPr/>
        </p:nvPicPr>
        <p:blipFill>
          <a:blip r:embed="rId1"/>
          <a:stretch/>
        </p:blipFill>
        <p:spPr>
          <a:xfrm>
            <a:off x="838080" y="1981080"/>
            <a:ext cx="5867640" cy="2694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D0CE7-3787-411C-B901-F2009DDE4E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81" name="Picture 5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532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B8C3D-3582-4458-BCB0-18D7CB95E41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 to SP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ulation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gram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tegrated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cuit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ph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ed in 197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at Berkel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mmercial version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SPICE is a robust industry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many enhancements that we will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ten in FORTRAN for punch-card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elements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description is called a SP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A873-05B1-4203-81DF-01417AD8C2B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riting Spice De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 a SPICE deck is like writing a good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: sketch schematic on paper or in ed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 existing decks whenever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: strive for c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ame, email, date, pur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ously com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 what results should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with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arbage In, Garbage Ou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4364-E8D0-4C7E-BC38-839EE8FBE3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C Circui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685800" y="1523880"/>
            <a:ext cx="8229600" cy="45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c.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avid_Harris@hmc.edu 2/2/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Find the response of RC circuit to rising inp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arameters and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option po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imulation netli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wl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0ps 0 100ps 0 150ps 1.0 1ns 1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2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u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nd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Stimul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tran 20ps 1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plot v(in) v(o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6019920" y="1828800"/>
          <a:ext cx="2743200" cy="14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828800"/>
                    <a:ext cx="2743200" cy="14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9C13-963B-4E98-8D8E-581017DEE0B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ult (Graphical)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1"/>
          <a:stretch/>
        </p:blipFill>
        <p:spPr>
          <a:xfrm>
            <a:off x="1523880" y="1501920"/>
            <a:ext cx="5639040" cy="430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B536-A044-4FCD-B30F-00321EDDA1F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dd vdd gnd 2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iecewise Line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Vin in gnd pwl 0ps 0 100ps 0 150ps 1.0 1ns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ck clk gnd PULSE 0 1.0 0ps 100ps 100ps 300ps 800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685800" y="4179960"/>
          <a:ext cx="7848720" cy="179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79960"/>
                    <a:ext cx="7848720" cy="17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8620C-0730-4ACC-B8DF-86CE49CBFA0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PICE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92" name="Group 102"/>
          <p:cNvGrpSpPr/>
          <p:nvPr/>
        </p:nvGrpSpPr>
        <p:grpSpPr>
          <a:xfrm>
            <a:off x="685800" y="1600200"/>
            <a:ext cx="5257440" cy="4419720"/>
            <a:chOff x="685800" y="1600200"/>
            <a:chExt cx="5257440" cy="4419720"/>
          </a:xfrm>
        </p:grpSpPr>
        <p:grpSp>
          <p:nvGrpSpPr>
            <p:cNvPr id="93" name="Group 100"/>
            <p:cNvGrpSpPr/>
            <p:nvPr/>
          </p:nvGrpSpPr>
          <p:grpSpPr>
            <a:xfrm>
              <a:off x="691560" y="1601280"/>
              <a:ext cx="5244480" cy="4416840"/>
              <a:chOff x="691560" y="1601280"/>
              <a:chExt cx="5244480" cy="4416840"/>
            </a:xfrm>
          </p:grpSpPr>
          <p:grpSp>
            <p:nvGrpSpPr>
              <p:cNvPr id="94" name="Group 37"/>
              <p:cNvGrpSpPr/>
              <p:nvPr/>
            </p:nvGrpSpPr>
            <p:grpSpPr>
              <a:xfrm>
                <a:off x="691560" y="1601280"/>
                <a:ext cx="1248840" cy="275760"/>
                <a:chOff x="691560" y="1601280"/>
                <a:chExt cx="1248840" cy="275760"/>
              </a:xfrm>
            </p:grpSpPr>
            <p:sp>
              <p:nvSpPr>
                <p:cNvPr id="95" name="Rectangle 4"/>
                <p:cNvSpPr/>
                <p:nvPr/>
              </p:nvSpPr>
              <p:spPr>
                <a:xfrm>
                  <a:off x="814680" y="16012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ette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Rectangle 36"/>
                <p:cNvSpPr/>
                <p:nvPr/>
              </p:nvSpPr>
              <p:spPr>
                <a:xfrm>
                  <a:off x="691560" y="16012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7" name="Group 39"/>
              <p:cNvGrpSpPr/>
              <p:nvPr/>
            </p:nvGrpSpPr>
            <p:grpSpPr>
              <a:xfrm>
                <a:off x="1940760" y="1601280"/>
                <a:ext cx="3995280" cy="275760"/>
                <a:chOff x="1940760" y="1601280"/>
                <a:chExt cx="3995280" cy="275760"/>
              </a:xfrm>
            </p:grpSpPr>
            <p:sp>
              <p:nvSpPr>
                <p:cNvPr id="98" name="Rectangle 5"/>
                <p:cNvSpPr/>
                <p:nvPr/>
              </p:nvSpPr>
              <p:spPr>
                <a:xfrm>
                  <a:off x="2063520" y="16012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Elemen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Rectangle 38"/>
                <p:cNvSpPr/>
                <p:nvPr/>
              </p:nvSpPr>
              <p:spPr>
                <a:xfrm>
                  <a:off x="1940760" y="16012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0" name="Group 41"/>
              <p:cNvGrpSpPr/>
              <p:nvPr/>
            </p:nvGrpSpPr>
            <p:grpSpPr>
              <a:xfrm>
                <a:off x="691560" y="1877040"/>
                <a:ext cx="1248840" cy="276120"/>
                <a:chOff x="691560" y="1877040"/>
                <a:chExt cx="1248840" cy="276120"/>
              </a:xfrm>
            </p:grpSpPr>
            <p:sp>
              <p:nvSpPr>
                <p:cNvPr id="101" name="Rectangle 6"/>
                <p:cNvSpPr/>
                <p:nvPr/>
              </p:nvSpPr>
              <p:spPr>
                <a:xfrm>
                  <a:off x="814680" y="187704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Rectangle 40"/>
                <p:cNvSpPr/>
                <p:nvPr/>
              </p:nvSpPr>
              <p:spPr>
                <a:xfrm>
                  <a:off x="691560" y="187704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3" name="Group 43"/>
              <p:cNvGrpSpPr/>
              <p:nvPr/>
            </p:nvGrpSpPr>
            <p:grpSpPr>
              <a:xfrm>
                <a:off x="1940760" y="1877040"/>
                <a:ext cx="3995280" cy="276120"/>
                <a:chOff x="1940760" y="1877040"/>
                <a:chExt cx="3995280" cy="276120"/>
              </a:xfrm>
            </p:grpSpPr>
            <p:sp>
              <p:nvSpPr>
                <p:cNvPr id="104" name="Rectangle 7"/>
                <p:cNvSpPr/>
                <p:nvPr/>
              </p:nvSpPr>
              <p:spPr>
                <a:xfrm>
                  <a:off x="2063520" y="187704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Re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Rectangle 42"/>
                <p:cNvSpPr/>
                <p:nvPr/>
              </p:nvSpPr>
              <p:spPr>
                <a:xfrm>
                  <a:off x="1940760" y="187704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6" name="Group 45"/>
              <p:cNvGrpSpPr/>
              <p:nvPr/>
            </p:nvGrpSpPr>
            <p:grpSpPr>
              <a:xfrm>
                <a:off x="691560" y="2153160"/>
                <a:ext cx="1248840" cy="275760"/>
                <a:chOff x="691560" y="2153160"/>
                <a:chExt cx="1248840" cy="275760"/>
              </a:xfrm>
            </p:grpSpPr>
            <p:sp>
              <p:nvSpPr>
                <p:cNvPr id="107" name="Rectangle 8"/>
                <p:cNvSpPr/>
                <p:nvPr/>
              </p:nvSpPr>
              <p:spPr>
                <a:xfrm>
                  <a:off x="814680" y="215316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C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Rectangle 44"/>
                <p:cNvSpPr/>
                <p:nvPr/>
              </p:nvSpPr>
              <p:spPr>
                <a:xfrm>
                  <a:off x="691560" y="215316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9" name="Group 47"/>
              <p:cNvGrpSpPr/>
              <p:nvPr/>
            </p:nvGrpSpPr>
            <p:grpSpPr>
              <a:xfrm>
                <a:off x="1940760" y="2153160"/>
                <a:ext cx="3995280" cy="275760"/>
                <a:chOff x="1940760" y="2153160"/>
                <a:chExt cx="3995280" cy="275760"/>
              </a:xfrm>
            </p:grpSpPr>
            <p:sp>
              <p:nvSpPr>
                <p:cNvPr id="110" name="Rectangle 9"/>
                <p:cNvSpPr/>
                <p:nvPr/>
              </p:nvSpPr>
              <p:spPr>
                <a:xfrm>
                  <a:off x="2063520" y="215316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apaci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Rectangle 46"/>
                <p:cNvSpPr/>
                <p:nvPr/>
              </p:nvSpPr>
              <p:spPr>
                <a:xfrm>
                  <a:off x="1940760" y="215316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" name="Group 49"/>
              <p:cNvGrpSpPr/>
              <p:nvPr/>
            </p:nvGrpSpPr>
            <p:grpSpPr>
              <a:xfrm>
                <a:off x="691560" y="2429280"/>
                <a:ext cx="1248840" cy="276120"/>
                <a:chOff x="691560" y="2429280"/>
                <a:chExt cx="1248840" cy="276120"/>
              </a:xfrm>
            </p:grpSpPr>
            <p:sp>
              <p:nvSpPr>
                <p:cNvPr id="113" name="Rectangle 10"/>
                <p:cNvSpPr/>
                <p:nvPr/>
              </p:nvSpPr>
              <p:spPr>
                <a:xfrm>
                  <a:off x="814680" y="242928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Rectangle 48"/>
                <p:cNvSpPr/>
                <p:nvPr/>
              </p:nvSpPr>
              <p:spPr>
                <a:xfrm>
                  <a:off x="691560" y="242928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5" name="Group 51"/>
              <p:cNvGrpSpPr/>
              <p:nvPr/>
            </p:nvGrpSpPr>
            <p:grpSpPr>
              <a:xfrm>
                <a:off x="1940760" y="2429280"/>
                <a:ext cx="3995280" cy="276120"/>
                <a:chOff x="1940760" y="2429280"/>
                <a:chExt cx="3995280" cy="276120"/>
              </a:xfrm>
            </p:grpSpPr>
            <p:sp>
              <p:nvSpPr>
                <p:cNvPr id="116" name="Rectangle 11"/>
                <p:cNvSpPr/>
                <p:nvPr/>
              </p:nvSpPr>
              <p:spPr>
                <a:xfrm>
                  <a:off x="2063520" y="242928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Rectangle 50"/>
                <p:cNvSpPr/>
                <p:nvPr/>
              </p:nvSpPr>
              <p:spPr>
                <a:xfrm>
                  <a:off x="1940760" y="242928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8" name="Group 53"/>
              <p:cNvGrpSpPr/>
              <p:nvPr/>
            </p:nvGrpSpPr>
            <p:grpSpPr>
              <a:xfrm>
                <a:off x="691560" y="2705400"/>
                <a:ext cx="1248840" cy="275760"/>
                <a:chOff x="691560" y="2705400"/>
                <a:chExt cx="1248840" cy="275760"/>
              </a:xfrm>
            </p:grpSpPr>
            <p:sp>
              <p:nvSpPr>
                <p:cNvPr id="119" name="Rectangle 12"/>
                <p:cNvSpPr/>
                <p:nvPr/>
              </p:nvSpPr>
              <p:spPr>
                <a:xfrm>
                  <a:off x="814680" y="2705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K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Rectangle 52"/>
                <p:cNvSpPr/>
                <p:nvPr/>
              </p:nvSpPr>
              <p:spPr>
                <a:xfrm>
                  <a:off x="691560" y="2705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Group 55"/>
              <p:cNvGrpSpPr/>
              <p:nvPr/>
            </p:nvGrpSpPr>
            <p:grpSpPr>
              <a:xfrm>
                <a:off x="1940760" y="2705400"/>
                <a:ext cx="3995280" cy="275760"/>
                <a:chOff x="1940760" y="2705400"/>
                <a:chExt cx="3995280" cy="275760"/>
              </a:xfrm>
            </p:grpSpPr>
            <p:sp>
              <p:nvSpPr>
                <p:cNvPr id="122" name="Rectangle 13"/>
                <p:cNvSpPr/>
                <p:nvPr/>
              </p:nvSpPr>
              <p:spPr>
                <a:xfrm>
                  <a:off x="2063520" y="2705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utual Induc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Rectangle 54"/>
                <p:cNvSpPr/>
                <p:nvPr/>
              </p:nvSpPr>
              <p:spPr>
                <a:xfrm>
                  <a:off x="1940760" y="2705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" name="Group 57"/>
              <p:cNvGrpSpPr/>
              <p:nvPr/>
            </p:nvGrpSpPr>
            <p:grpSpPr>
              <a:xfrm>
                <a:off x="691560" y="2981520"/>
                <a:ext cx="1248840" cy="276120"/>
                <a:chOff x="691560" y="2981520"/>
                <a:chExt cx="1248840" cy="276120"/>
              </a:xfrm>
            </p:grpSpPr>
            <p:sp>
              <p:nvSpPr>
                <p:cNvPr id="125" name="Rectangle 14"/>
                <p:cNvSpPr/>
                <p:nvPr/>
              </p:nvSpPr>
              <p:spPr>
                <a:xfrm>
                  <a:off x="814680" y="2981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V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Rectangle 56"/>
                <p:cNvSpPr/>
                <p:nvPr/>
              </p:nvSpPr>
              <p:spPr>
                <a:xfrm>
                  <a:off x="691560" y="2981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" name="Group 59"/>
              <p:cNvGrpSpPr/>
              <p:nvPr/>
            </p:nvGrpSpPr>
            <p:grpSpPr>
              <a:xfrm>
                <a:off x="1940760" y="2981520"/>
                <a:ext cx="3995280" cy="276120"/>
                <a:chOff x="1940760" y="2981520"/>
                <a:chExt cx="3995280" cy="276120"/>
              </a:xfrm>
            </p:grpSpPr>
            <p:sp>
              <p:nvSpPr>
                <p:cNvPr id="128" name="Rectangle 15"/>
                <p:cNvSpPr/>
                <p:nvPr/>
              </p:nvSpPr>
              <p:spPr>
                <a:xfrm>
                  <a:off x="2063520" y="2981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Rectangle 58"/>
                <p:cNvSpPr/>
                <p:nvPr/>
              </p:nvSpPr>
              <p:spPr>
                <a:xfrm>
                  <a:off x="1940760" y="2981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Group 61"/>
              <p:cNvGrpSpPr/>
              <p:nvPr/>
            </p:nvGrpSpPr>
            <p:grpSpPr>
              <a:xfrm>
                <a:off x="691560" y="3257640"/>
                <a:ext cx="1248840" cy="275760"/>
                <a:chOff x="691560" y="3257640"/>
                <a:chExt cx="1248840" cy="275760"/>
              </a:xfrm>
            </p:grpSpPr>
            <p:sp>
              <p:nvSpPr>
                <p:cNvPr id="131" name="Rectangle 16"/>
                <p:cNvSpPr/>
                <p:nvPr/>
              </p:nvSpPr>
              <p:spPr>
                <a:xfrm>
                  <a:off x="814680" y="3257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I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Rectangle 60"/>
                <p:cNvSpPr/>
                <p:nvPr/>
              </p:nvSpPr>
              <p:spPr>
                <a:xfrm>
                  <a:off x="691560" y="3257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Group 63"/>
              <p:cNvGrpSpPr/>
              <p:nvPr/>
            </p:nvGrpSpPr>
            <p:grpSpPr>
              <a:xfrm>
                <a:off x="1940760" y="3257640"/>
                <a:ext cx="3995280" cy="275760"/>
                <a:chOff x="1940760" y="3257640"/>
                <a:chExt cx="3995280" cy="275760"/>
              </a:xfrm>
            </p:grpSpPr>
            <p:sp>
              <p:nvSpPr>
                <p:cNvPr id="134" name="Rectangle 17"/>
                <p:cNvSpPr/>
                <p:nvPr/>
              </p:nvSpPr>
              <p:spPr>
                <a:xfrm>
                  <a:off x="2063520" y="3257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Independent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Rectangle 62"/>
                <p:cNvSpPr/>
                <p:nvPr/>
              </p:nvSpPr>
              <p:spPr>
                <a:xfrm>
                  <a:off x="1940760" y="3257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Group 65"/>
              <p:cNvGrpSpPr/>
              <p:nvPr/>
            </p:nvGrpSpPr>
            <p:grpSpPr>
              <a:xfrm>
                <a:off x="691560" y="3533400"/>
                <a:ext cx="1248840" cy="275760"/>
                <a:chOff x="691560" y="3533400"/>
                <a:chExt cx="1248840" cy="275760"/>
              </a:xfrm>
            </p:grpSpPr>
            <p:sp>
              <p:nvSpPr>
                <p:cNvPr id="137" name="Rectangle 18"/>
                <p:cNvSpPr/>
                <p:nvPr/>
              </p:nvSpPr>
              <p:spPr>
                <a:xfrm>
                  <a:off x="814680" y="353340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M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Rectangle 64"/>
                <p:cNvSpPr/>
                <p:nvPr/>
              </p:nvSpPr>
              <p:spPr>
                <a:xfrm>
                  <a:off x="691560" y="353340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Group 67"/>
              <p:cNvGrpSpPr/>
              <p:nvPr/>
            </p:nvGrpSpPr>
            <p:grpSpPr>
              <a:xfrm>
                <a:off x="1940760" y="3533400"/>
                <a:ext cx="3995280" cy="275760"/>
                <a:chOff x="1940760" y="3533400"/>
                <a:chExt cx="3995280" cy="275760"/>
              </a:xfrm>
            </p:grpSpPr>
            <p:sp>
              <p:nvSpPr>
                <p:cNvPr id="140" name="Rectangle 19"/>
                <p:cNvSpPr/>
                <p:nvPr/>
              </p:nvSpPr>
              <p:spPr>
                <a:xfrm>
                  <a:off x="2063520" y="353340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MOSFE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Rectangle 66"/>
                <p:cNvSpPr/>
                <p:nvPr/>
              </p:nvSpPr>
              <p:spPr>
                <a:xfrm>
                  <a:off x="1940760" y="353340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" name="Group 69"/>
              <p:cNvGrpSpPr/>
              <p:nvPr/>
            </p:nvGrpSpPr>
            <p:grpSpPr>
              <a:xfrm>
                <a:off x="691560" y="3809520"/>
                <a:ext cx="1248840" cy="276120"/>
                <a:chOff x="691560" y="3809520"/>
                <a:chExt cx="1248840" cy="276120"/>
              </a:xfrm>
            </p:grpSpPr>
            <p:sp>
              <p:nvSpPr>
                <p:cNvPr id="143" name="Rectangle 20"/>
                <p:cNvSpPr/>
                <p:nvPr/>
              </p:nvSpPr>
              <p:spPr>
                <a:xfrm>
                  <a:off x="814680" y="380952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D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Rectangle 68"/>
                <p:cNvSpPr/>
                <p:nvPr/>
              </p:nvSpPr>
              <p:spPr>
                <a:xfrm>
                  <a:off x="691560" y="380952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Group 71"/>
              <p:cNvGrpSpPr/>
              <p:nvPr/>
            </p:nvGrpSpPr>
            <p:grpSpPr>
              <a:xfrm>
                <a:off x="1940760" y="3809520"/>
                <a:ext cx="3995280" cy="276120"/>
                <a:chOff x="1940760" y="3809520"/>
                <a:chExt cx="3995280" cy="276120"/>
              </a:xfrm>
            </p:grpSpPr>
            <p:sp>
              <p:nvSpPr>
                <p:cNvPr id="146" name="Rectangle 21"/>
                <p:cNvSpPr/>
                <p:nvPr/>
              </p:nvSpPr>
              <p:spPr>
                <a:xfrm>
                  <a:off x="2063520" y="380952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Diod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Rectangle 70"/>
                <p:cNvSpPr/>
                <p:nvPr/>
              </p:nvSpPr>
              <p:spPr>
                <a:xfrm>
                  <a:off x="1940760" y="380952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Group 73"/>
              <p:cNvGrpSpPr/>
              <p:nvPr/>
            </p:nvGrpSpPr>
            <p:grpSpPr>
              <a:xfrm>
                <a:off x="691560" y="4085640"/>
                <a:ext cx="1248840" cy="275760"/>
                <a:chOff x="691560" y="4085640"/>
                <a:chExt cx="1248840" cy="275760"/>
              </a:xfrm>
            </p:grpSpPr>
            <p:sp>
              <p:nvSpPr>
                <p:cNvPr id="149" name="Rectangle 22"/>
                <p:cNvSpPr/>
                <p:nvPr/>
              </p:nvSpPr>
              <p:spPr>
                <a:xfrm>
                  <a:off x="814680" y="408564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Q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Rectangle 72"/>
                <p:cNvSpPr/>
                <p:nvPr/>
              </p:nvSpPr>
              <p:spPr>
                <a:xfrm>
                  <a:off x="691560" y="408564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Group 75"/>
              <p:cNvGrpSpPr/>
              <p:nvPr/>
            </p:nvGrpSpPr>
            <p:grpSpPr>
              <a:xfrm>
                <a:off x="1940760" y="4085640"/>
                <a:ext cx="3995280" cy="275760"/>
                <a:chOff x="1940760" y="4085640"/>
                <a:chExt cx="3995280" cy="275760"/>
              </a:xfrm>
            </p:grpSpPr>
            <p:sp>
              <p:nvSpPr>
                <p:cNvPr id="152" name="Rectangle 23"/>
                <p:cNvSpPr/>
                <p:nvPr/>
              </p:nvSpPr>
              <p:spPr>
                <a:xfrm>
                  <a:off x="2063520" y="408564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Bipolar transistor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Rectangle 74"/>
                <p:cNvSpPr/>
                <p:nvPr/>
              </p:nvSpPr>
              <p:spPr>
                <a:xfrm>
                  <a:off x="1940760" y="408564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Group 77"/>
              <p:cNvGrpSpPr/>
              <p:nvPr/>
            </p:nvGrpSpPr>
            <p:grpSpPr>
              <a:xfrm>
                <a:off x="691560" y="4361760"/>
                <a:ext cx="1248840" cy="276120"/>
                <a:chOff x="691560" y="4361760"/>
                <a:chExt cx="1248840" cy="276120"/>
              </a:xfrm>
            </p:grpSpPr>
            <p:sp>
              <p:nvSpPr>
                <p:cNvPr id="155" name="Rectangle 24"/>
                <p:cNvSpPr/>
                <p:nvPr/>
              </p:nvSpPr>
              <p:spPr>
                <a:xfrm>
                  <a:off x="814680" y="436176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W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Rectangle 76"/>
                <p:cNvSpPr/>
                <p:nvPr/>
              </p:nvSpPr>
              <p:spPr>
                <a:xfrm>
                  <a:off x="691560" y="436176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7" name="Group 79"/>
              <p:cNvGrpSpPr/>
              <p:nvPr/>
            </p:nvGrpSpPr>
            <p:grpSpPr>
              <a:xfrm>
                <a:off x="1940760" y="4361760"/>
                <a:ext cx="3995280" cy="276120"/>
                <a:chOff x="1940760" y="4361760"/>
                <a:chExt cx="3995280" cy="276120"/>
              </a:xfrm>
            </p:grpSpPr>
            <p:sp>
              <p:nvSpPr>
                <p:cNvPr id="158" name="Rectangle 25"/>
                <p:cNvSpPr/>
                <p:nvPr/>
              </p:nvSpPr>
              <p:spPr>
                <a:xfrm>
                  <a:off x="2063520" y="436176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Lossy transmission lin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Rectangle 78"/>
                <p:cNvSpPr/>
                <p:nvPr/>
              </p:nvSpPr>
              <p:spPr>
                <a:xfrm>
                  <a:off x="1940760" y="436176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" name="Group 81"/>
              <p:cNvGrpSpPr/>
              <p:nvPr/>
            </p:nvGrpSpPr>
            <p:grpSpPr>
              <a:xfrm>
                <a:off x="691560" y="4637880"/>
                <a:ext cx="1248840" cy="275760"/>
                <a:chOff x="691560" y="4637880"/>
                <a:chExt cx="1248840" cy="275760"/>
              </a:xfrm>
            </p:grpSpPr>
            <p:sp>
              <p:nvSpPr>
                <p:cNvPr id="161" name="Rectangle 26"/>
                <p:cNvSpPr/>
                <p:nvPr/>
              </p:nvSpPr>
              <p:spPr>
                <a:xfrm>
                  <a:off x="814680" y="4637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X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Rectangle 80"/>
                <p:cNvSpPr/>
                <p:nvPr/>
              </p:nvSpPr>
              <p:spPr>
                <a:xfrm>
                  <a:off x="691560" y="4637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Group 83"/>
              <p:cNvGrpSpPr/>
              <p:nvPr/>
            </p:nvGrpSpPr>
            <p:grpSpPr>
              <a:xfrm>
                <a:off x="1940760" y="4637880"/>
                <a:ext cx="3995280" cy="275760"/>
                <a:chOff x="1940760" y="4637880"/>
                <a:chExt cx="3995280" cy="275760"/>
              </a:xfrm>
            </p:grpSpPr>
            <p:sp>
              <p:nvSpPr>
                <p:cNvPr id="164" name="Rectangle 27"/>
                <p:cNvSpPr/>
                <p:nvPr/>
              </p:nvSpPr>
              <p:spPr>
                <a:xfrm>
                  <a:off x="2063520" y="4637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Subcircuit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Rectangle 82"/>
                <p:cNvSpPr/>
                <p:nvPr/>
              </p:nvSpPr>
              <p:spPr>
                <a:xfrm>
                  <a:off x="1940760" y="4637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6" name="Group 85"/>
              <p:cNvGrpSpPr/>
              <p:nvPr/>
            </p:nvGrpSpPr>
            <p:grpSpPr>
              <a:xfrm>
                <a:off x="691560" y="4914000"/>
                <a:ext cx="1248840" cy="276120"/>
                <a:chOff x="691560" y="4914000"/>
                <a:chExt cx="1248840" cy="276120"/>
              </a:xfrm>
            </p:grpSpPr>
            <p:sp>
              <p:nvSpPr>
                <p:cNvPr id="167" name="Rectangle 28"/>
                <p:cNvSpPr/>
                <p:nvPr/>
              </p:nvSpPr>
              <p:spPr>
                <a:xfrm>
                  <a:off x="814680" y="4914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Rectangle 84"/>
                <p:cNvSpPr/>
                <p:nvPr/>
              </p:nvSpPr>
              <p:spPr>
                <a:xfrm>
                  <a:off x="691560" y="4914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" name="Group 87"/>
              <p:cNvGrpSpPr/>
              <p:nvPr/>
            </p:nvGrpSpPr>
            <p:grpSpPr>
              <a:xfrm>
                <a:off x="1940760" y="4914000"/>
                <a:ext cx="3995280" cy="276120"/>
                <a:chOff x="1940760" y="4914000"/>
                <a:chExt cx="3995280" cy="276120"/>
              </a:xfrm>
            </p:grpSpPr>
            <p:sp>
              <p:nvSpPr>
                <p:cNvPr id="170" name="Rectangle 29"/>
                <p:cNvSpPr/>
                <p:nvPr/>
              </p:nvSpPr>
              <p:spPr>
                <a:xfrm>
                  <a:off x="2063520" y="4914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Rectangle 86"/>
                <p:cNvSpPr/>
                <p:nvPr/>
              </p:nvSpPr>
              <p:spPr>
                <a:xfrm>
                  <a:off x="1940760" y="4914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Group 89"/>
              <p:cNvGrpSpPr/>
              <p:nvPr/>
            </p:nvGrpSpPr>
            <p:grpSpPr>
              <a:xfrm>
                <a:off x="691560" y="5190120"/>
                <a:ext cx="1248840" cy="275760"/>
                <a:chOff x="691560" y="5190120"/>
                <a:chExt cx="1248840" cy="275760"/>
              </a:xfrm>
            </p:grpSpPr>
            <p:sp>
              <p:nvSpPr>
                <p:cNvPr id="173" name="Rectangle 30"/>
                <p:cNvSpPr/>
                <p:nvPr/>
              </p:nvSpPr>
              <p:spPr>
                <a:xfrm>
                  <a:off x="814680" y="519012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G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Rectangle 88"/>
                <p:cNvSpPr/>
                <p:nvPr/>
              </p:nvSpPr>
              <p:spPr>
                <a:xfrm>
                  <a:off x="691560" y="519012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Group 91"/>
              <p:cNvGrpSpPr/>
              <p:nvPr/>
            </p:nvGrpSpPr>
            <p:grpSpPr>
              <a:xfrm>
                <a:off x="1940760" y="5190120"/>
                <a:ext cx="3995280" cy="275760"/>
                <a:chOff x="1940760" y="5190120"/>
                <a:chExt cx="3995280" cy="275760"/>
              </a:xfrm>
            </p:grpSpPr>
            <p:sp>
              <p:nvSpPr>
                <p:cNvPr id="176" name="Rectangle 31"/>
                <p:cNvSpPr/>
                <p:nvPr/>
              </p:nvSpPr>
              <p:spPr>
                <a:xfrm>
                  <a:off x="2063520" y="519012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Voltage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Rectangle 90"/>
                <p:cNvSpPr/>
                <p:nvPr/>
              </p:nvSpPr>
              <p:spPr>
                <a:xfrm>
                  <a:off x="1940760" y="519012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Group 93"/>
              <p:cNvGrpSpPr/>
              <p:nvPr/>
            </p:nvGrpSpPr>
            <p:grpSpPr>
              <a:xfrm>
                <a:off x="691560" y="5465880"/>
                <a:ext cx="1248840" cy="275760"/>
                <a:chOff x="691560" y="5465880"/>
                <a:chExt cx="1248840" cy="275760"/>
              </a:xfrm>
            </p:grpSpPr>
            <p:sp>
              <p:nvSpPr>
                <p:cNvPr id="179" name="Rectangle 32"/>
                <p:cNvSpPr/>
                <p:nvPr/>
              </p:nvSpPr>
              <p:spPr>
                <a:xfrm>
                  <a:off x="814680" y="5465880"/>
                  <a:ext cx="100188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H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Rectangle 92"/>
                <p:cNvSpPr/>
                <p:nvPr/>
              </p:nvSpPr>
              <p:spPr>
                <a:xfrm>
                  <a:off x="691560" y="5465880"/>
                  <a:ext cx="124884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" name="Group 95"/>
              <p:cNvGrpSpPr/>
              <p:nvPr/>
            </p:nvGrpSpPr>
            <p:grpSpPr>
              <a:xfrm>
                <a:off x="1940760" y="5465880"/>
                <a:ext cx="3995280" cy="275760"/>
                <a:chOff x="1940760" y="5465880"/>
                <a:chExt cx="3995280" cy="275760"/>
              </a:xfrm>
            </p:grpSpPr>
            <p:sp>
              <p:nvSpPr>
                <p:cNvPr id="182" name="Rectangle 33"/>
                <p:cNvSpPr/>
                <p:nvPr/>
              </p:nvSpPr>
              <p:spPr>
                <a:xfrm>
                  <a:off x="2063520" y="5465880"/>
                  <a:ext cx="3749760" cy="275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voltage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94"/>
                <p:cNvSpPr/>
                <p:nvPr/>
              </p:nvSpPr>
              <p:spPr>
                <a:xfrm>
                  <a:off x="1940760" y="5465880"/>
                  <a:ext cx="3995280" cy="275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Group 97"/>
              <p:cNvGrpSpPr/>
              <p:nvPr/>
            </p:nvGrpSpPr>
            <p:grpSpPr>
              <a:xfrm>
                <a:off x="691560" y="5742000"/>
                <a:ext cx="1248840" cy="276120"/>
                <a:chOff x="691560" y="5742000"/>
                <a:chExt cx="1248840" cy="276120"/>
              </a:xfrm>
            </p:grpSpPr>
            <p:sp>
              <p:nvSpPr>
                <p:cNvPr id="185" name="Rectangle 34"/>
                <p:cNvSpPr/>
                <p:nvPr/>
              </p:nvSpPr>
              <p:spPr>
                <a:xfrm>
                  <a:off x="814680" y="5742000"/>
                  <a:ext cx="100188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Courier New"/>
                    </a:rPr>
                    <a:t>F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96"/>
                <p:cNvSpPr/>
                <p:nvPr/>
              </p:nvSpPr>
              <p:spPr>
                <a:xfrm>
                  <a:off x="691560" y="5742000"/>
                  <a:ext cx="124884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Group 99"/>
              <p:cNvGrpSpPr/>
              <p:nvPr/>
            </p:nvGrpSpPr>
            <p:grpSpPr>
              <a:xfrm>
                <a:off x="1940760" y="5742000"/>
                <a:ext cx="3995280" cy="276120"/>
                <a:chOff x="1940760" y="5742000"/>
                <a:chExt cx="3995280" cy="276120"/>
              </a:xfrm>
            </p:grpSpPr>
            <p:sp>
              <p:nvSpPr>
                <p:cNvPr id="188" name="Rectangle 35"/>
                <p:cNvSpPr/>
                <p:nvPr/>
              </p:nvSpPr>
              <p:spPr>
                <a:xfrm>
                  <a:off x="2063520" y="5742000"/>
                  <a:ext cx="3749760" cy="276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Current-controlled current source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98"/>
                <p:cNvSpPr/>
                <p:nvPr/>
              </p:nvSpPr>
              <p:spPr>
                <a:xfrm>
                  <a:off x="1940760" y="5742000"/>
                  <a:ext cx="3995280" cy="276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0" name="Rectangle 101"/>
            <p:cNvSpPr/>
            <p:nvPr/>
          </p:nvSpPr>
          <p:spPr>
            <a:xfrm>
              <a:off x="685800" y="1600200"/>
              <a:ext cx="5257440" cy="44197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8: SPICE Sim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E61B7-C744-4354-804A-1D31B688F63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762120" y="1523880"/>
          <a:ext cx="4876560" cy="3962520"/>
        </p:xfrm>
        <a:graphic>
          <a:graphicData uri="http://schemas.openxmlformats.org/drawingml/2006/table">
            <a:tbl>
              <a:tblPr/>
              <a:tblGrid>
                <a:gridCol w="1625400"/>
                <a:gridCol w="1625760"/>
                <a:gridCol w="1625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nitu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mp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l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Text Box 89"/>
          <p:cNvSpPr/>
          <p:nvPr/>
        </p:nvSpPr>
        <p:spPr>
          <a:xfrm>
            <a:off x="762120" y="55627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100 femptofarad capacitor = 100fF, 100f, 100e-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2-17T22:08:58Z</dcterms:modified>
  <cp:revision>990</cp:revision>
  <dc:subject/>
  <dc:title>PowerPoint Presentation</dc:title>
</cp:coreProperties>
</file>