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504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353B7B8-6017-48AF-81FE-BEE9DFDF1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1313649-F988-43B6-AFBA-6DA29B8CB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0B1C336-F79C-4161-9832-90CAB410F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F809E6B-1BDE-4352-B823-59C966E7F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3ACA178-452D-493C-8440-6BD2FB1C6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DF423DF-4506-4229-A9B1-96493B7C9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219760F-E1A3-4396-AB34-B3DD8CC7E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78C2BCB-CF63-4D44-890C-AEE98413B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07775FC-2C0B-4948-9757-CB13E36BA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5BC414F-E979-48F0-92F4-6A91A1E74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97E280A-5BC5-4A7E-8E2B-034622098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21B38A7-07E7-4A7B-8EAE-509588B44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479A5B9-A253-42F3-9FF3-1C234C345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F3EA021-6ECE-4CD6-AA67-8656C3E44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B05E84B-79EE-4F4F-88E4-730C37DBB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454BD7A-1D38-4D94-9AEC-FBF78B494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38B2DAB-F318-494A-AD1C-E48473CE7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7A0599B-1D1B-4181-A51D-96CA13AA7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8224B10-7C04-4C2B-8796-97AC616DE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0A282E4-EA72-43AA-8323-8C46732EB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A7C0B82-7F94-42D8-B66E-0B1ABB01D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4FCAA45-1283-41FD-B49A-7A6AA85AE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A7C3C2C-D4E7-43BA-BDF8-21513DEEB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B19E95B-DD1D-4AB5-B14C-B24AD7B85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FEB0FAA-98C6-41BF-8A4D-3AB1AEF9B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A5A41FD-8063-4A66-80F9-E186FB86D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49329DC-A983-4B9F-AC29-CB16334D4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9BD95E0-BCD0-42C9-A6DB-A7D3252A8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7477-66C3-46FB-A915-A7AE16100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EBD2-2766-490D-B28D-CFCD9EC6D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E0A1-CFFE-4587-A3F9-B4466F3B6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5E507-F593-4302-B80B-5F58D658B9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F070-32D5-4DF3-8679-6602201B08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EAB9-D31F-430C-9E08-F09E1A24F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3438A-C0C4-498C-9BCE-55412A3FD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2ED2-1BDD-4361-BF62-D11D160E6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4E52-5BD6-46D1-9508-BB1B87403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4DF8-66C0-4590-9D8B-419735AD2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33F09-22B9-4361-90F8-CD555DBB3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6278-037C-40DB-840F-D50BA8710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BAAA-0E97-497F-BA3C-0BE18BDB1A6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Simu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CEAA-2EAE-45F8-8D93-0997A0ED8DB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osi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n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g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100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5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c Vds 0 1.0 0.05 SWEEP Vgs 0 1.0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6019920" y="1981080"/>
          <a:ext cx="27432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981080"/>
                    <a:ext cx="27432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E80F-23D1-4C0B-82BC-1D3ACCA0FF8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4496040" cy="338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2E50-E49C-4069-861E-A686AC12F49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FET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element for MOS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name drain gate source bod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W=&lt;width&gt; L=&lt;leng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AS=&lt;area source&gt; AD = &lt;area drain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PS=&lt;perimeter source&gt; PD=&lt;perimeter drai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B525-25FC-4761-8DE3-DEAE833D3B8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85800" y="1447920"/>
            <a:ext cx="822960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in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50ps 0ps 0ps 100ps 2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20 PS=18 AD=20 PD=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40 PS=26 AD=40 PD=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6248520" y="1752480"/>
          <a:ext cx="22860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752480"/>
                    <a:ext cx="22860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B941-5538-4939-8426-3B20C09DC7F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aded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3152880" y="2257560"/>
            <a:ext cx="5457600" cy="371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8A35-7F10-4959-A8F1-1361489D44F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common elements as 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anout-of-4 Inverter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990720" y="199404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ubckt inv a y N=4 P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1 y a gnd gnd NMOS W='N' L=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N*5' PS='2*N+10' AD='N*5' PD='2*N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2 y a vdd vdd PMOS W='P' L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P*5' PS='2*P+10' AD='P*5' PD='2*P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4495680" y="4114800"/>
          <a:ext cx="3810240" cy="18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114800"/>
                    <a:ext cx="381024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9214-A82C-4B12-BB83-7155765488E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70851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n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685800" y="1447920"/>
            <a:ext cx="822960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H=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'    * re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AD01-F27D-49FA-8914-78BF062EF46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" y="1447920"/>
            <a:ext cx="82296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2' 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3' 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4' 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ri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fa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2DBD-664F-422A-930F-B7833421D3D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41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C97D-0F7A-4A5D-BAF2-228FE95D869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automatically adjust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value that optimizes som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 assumed 2:1 gives equal rise/fal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see rise is actually slower than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/N ratio gives equal de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run a bunch of sims with different 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let HSPICE optimizer do it for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5848-DFA3-45C7-AFB1-BF19DECB46F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8595-D391-4DC0-9BEC-3D7C7E7365E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685800" y="1447920"/>
            <a:ext cx="84582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opt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eshape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1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37A4-C6CE-43DE-81D4-EB470C1EDF0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685800" y="1447920"/>
            <a:ext cx="82296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6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25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Optimization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P1=optrange(8,4,16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earch from 4 to 16, guess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odel optmod opt itropt=30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aximum of 30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bestratio param='P1/4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compute best P/N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 SWEEP OPTIMIZE=optrange RESULTS=diff MODEL=opt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 goal=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diff param='tpdr-tpdf' goal = 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iff between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C89B-2A25-417B-86C2-4D5959DC75D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for equal delay is 2.9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9 ps (slower than 2:1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pMOS transistors waste power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dom design for exactly equa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atio gives lowest average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1000ps SWEEP OPTIMIZE=optrange RESULTS=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p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=opt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of 1.8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.8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.2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0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s of 1.5:1 – 2.2:1 give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7.2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BBC7-F0C5-485B-8B4B-DF859DBEAFB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Measur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measur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verage P over som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print P(v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asure pwr AVG P(vdd) FROM=0ns TO=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n single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o separat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about inpu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1431-A8B2-4014-9770-E3F25EF1FF0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an be measured from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FO4 inverter, shape input, loa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4"/>
          <p:cNvGraphicFramePr/>
          <p:nvPr/>
        </p:nvGraphicFramePr>
        <p:xfrm>
          <a:off x="1219320" y="2666880"/>
          <a:ext cx="655308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66880"/>
                    <a:ext cx="655308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35CA-CBFD-4718-A7D6-76AC16F069F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intercept is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is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its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well in an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input slop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4724280" y="2984400"/>
            <a:ext cx="3810240" cy="301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63E2-ED36-4568-B691-535997A4287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AND gates in IBM 65 nm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is greater for out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logical effort is better than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5867640" cy="269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2A8E-8D5E-4A22-A46E-BC23942EDEB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532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EF61-D240-4BDA-B478-E3067353D94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 to SP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latio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ram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grat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cui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h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197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at Berke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mmercial version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is a robust industr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any enhancements that w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FORTRAN for punch-card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element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escription is called a SP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78DD-053D-4DC9-A4ED-5B18C68E5DA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riting Spice De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SPICE deck is like writing a goo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: sketch schematic on paper or i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existing decks when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: strive for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ame, email, date,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ously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what results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with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rbage In, Garbage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8511-847B-40B2-A315-BADB7D4ECE5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C Circui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c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avid_Harris@hmc.edu 2/2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Find the response of RC circuit to rising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w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ps 0 100ps 0 150ps 1.0 1ns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tran 20ps 1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lot v(in) v(o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6019920" y="1828800"/>
          <a:ext cx="274320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7432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DB49-EE86-47EE-87B8-D20ADACA110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ult (Graphical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523880" y="1501920"/>
            <a:ext cx="5639040" cy="430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3AB6-D761-43FD-8DD5-80F000B2C05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dd vdd gnd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ecewise 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in in gnd pwl 0ps 0 100ps 0 150ps 1.0 1ns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k clk gnd PULSE 0 1.0 0ps 100ps 100ps 300ps 8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685800" y="4179960"/>
          <a:ext cx="784872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79960"/>
                    <a:ext cx="784872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716D-6F7D-4147-9F5E-9517C4124D9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2" name="Group 102"/>
          <p:cNvGrpSpPr/>
          <p:nvPr/>
        </p:nvGrpSpPr>
        <p:grpSpPr>
          <a:xfrm>
            <a:off x="685800" y="1600200"/>
            <a:ext cx="5257440" cy="4419720"/>
            <a:chOff x="685800" y="1600200"/>
            <a:chExt cx="5257440" cy="4419720"/>
          </a:xfrm>
        </p:grpSpPr>
        <p:grpSp>
          <p:nvGrpSpPr>
            <p:cNvPr id="93" name="Group 100"/>
            <p:cNvGrpSpPr/>
            <p:nvPr/>
          </p:nvGrpSpPr>
          <p:grpSpPr>
            <a:xfrm>
              <a:off x="691560" y="1601280"/>
              <a:ext cx="5244480" cy="4416840"/>
              <a:chOff x="691560" y="1601280"/>
              <a:chExt cx="5244480" cy="4416840"/>
            </a:xfrm>
          </p:grpSpPr>
          <p:grpSp>
            <p:nvGrpSpPr>
              <p:cNvPr id="94" name="Group 37"/>
              <p:cNvGrpSpPr/>
              <p:nvPr/>
            </p:nvGrpSpPr>
            <p:grpSpPr>
              <a:xfrm>
                <a:off x="691560" y="1601280"/>
                <a:ext cx="1248840" cy="275760"/>
                <a:chOff x="691560" y="1601280"/>
                <a:chExt cx="1248840" cy="275760"/>
              </a:xfrm>
            </p:grpSpPr>
            <p:sp>
              <p:nvSpPr>
                <p:cNvPr id="95" name="Rectangle 4"/>
                <p:cNvSpPr/>
                <p:nvPr/>
              </p:nvSpPr>
              <p:spPr>
                <a:xfrm>
                  <a:off x="814680" y="16012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t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36"/>
                <p:cNvSpPr/>
                <p:nvPr/>
              </p:nvSpPr>
              <p:spPr>
                <a:xfrm>
                  <a:off x="691560" y="16012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Group 39"/>
              <p:cNvGrpSpPr/>
              <p:nvPr/>
            </p:nvGrpSpPr>
            <p:grpSpPr>
              <a:xfrm>
                <a:off x="1940760" y="1601280"/>
                <a:ext cx="3995280" cy="275760"/>
                <a:chOff x="1940760" y="1601280"/>
                <a:chExt cx="3995280" cy="275760"/>
              </a:xfrm>
            </p:grpSpPr>
            <p:sp>
              <p:nvSpPr>
                <p:cNvPr id="98" name="Rectangle 5"/>
                <p:cNvSpPr/>
                <p:nvPr/>
              </p:nvSpPr>
              <p:spPr>
                <a:xfrm>
                  <a:off x="2063520" y="16012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Rectangle 38"/>
                <p:cNvSpPr/>
                <p:nvPr/>
              </p:nvSpPr>
              <p:spPr>
                <a:xfrm>
                  <a:off x="1940760" y="16012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Group 41"/>
              <p:cNvGrpSpPr/>
              <p:nvPr/>
            </p:nvGrpSpPr>
            <p:grpSpPr>
              <a:xfrm>
                <a:off x="691560" y="1877040"/>
                <a:ext cx="1248840" cy="276120"/>
                <a:chOff x="691560" y="1877040"/>
                <a:chExt cx="1248840" cy="276120"/>
              </a:xfrm>
            </p:grpSpPr>
            <p:sp>
              <p:nvSpPr>
                <p:cNvPr id="101" name="Rectangle 6"/>
                <p:cNvSpPr/>
                <p:nvPr/>
              </p:nvSpPr>
              <p:spPr>
                <a:xfrm>
                  <a:off x="814680" y="187704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Rectangle 40"/>
                <p:cNvSpPr/>
                <p:nvPr/>
              </p:nvSpPr>
              <p:spPr>
                <a:xfrm>
                  <a:off x="691560" y="187704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Group 43"/>
              <p:cNvGrpSpPr/>
              <p:nvPr/>
            </p:nvGrpSpPr>
            <p:grpSpPr>
              <a:xfrm>
                <a:off x="1940760" y="1877040"/>
                <a:ext cx="3995280" cy="276120"/>
                <a:chOff x="1940760" y="1877040"/>
                <a:chExt cx="3995280" cy="276120"/>
              </a:xfrm>
            </p:grpSpPr>
            <p:sp>
              <p:nvSpPr>
                <p:cNvPr id="104" name="Rectangle 7"/>
                <p:cNvSpPr/>
                <p:nvPr/>
              </p:nvSpPr>
              <p:spPr>
                <a:xfrm>
                  <a:off x="2063520" y="187704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Rectangle 42"/>
                <p:cNvSpPr/>
                <p:nvPr/>
              </p:nvSpPr>
              <p:spPr>
                <a:xfrm>
                  <a:off x="1940760" y="187704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Group 45"/>
              <p:cNvGrpSpPr/>
              <p:nvPr/>
            </p:nvGrpSpPr>
            <p:grpSpPr>
              <a:xfrm>
                <a:off x="691560" y="2153160"/>
                <a:ext cx="1248840" cy="275760"/>
                <a:chOff x="691560" y="2153160"/>
                <a:chExt cx="1248840" cy="275760"/>
              </a:xfrm>
            </p:grpSpPr>
            <p:sp>
              <p:nvSpPr>
                <p:cNvPr id="107" name="Rectangle 8"/>
                <p:cNvSpPr/>
                <p:nvPr/>
              </p:nvSpPr>
              <p:spPr>
                <a:xfrm>
                  <a:off x="814680" y="215316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Rectangle 44"/>
                <p:cNvSpPr/>
                <p:nvPr/>
              </p:nvSpPr>
              <p:spPr>
                <a:xfrm>
                  <a:off x="691560" y="215316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Group 47"/>
              <p:cNvGrpSpPr/>
              <p:nvPr/>
            </p:nvGrpSpPr>
            <p:grpSpPr>
              <a:xfrm>
                <a:off x="1940760" y="2153160"/>
                <a:ext cx="3995280" cy="275760"/>
                <a:chOff x="1940760" y="2153160"/>
                <a:chExt cx="3995280" cy="275760"/>
              </a:xfrm>
            </p:grpSpPr>
            <p:sp>
              <p:nvSpPr>
                <p:cNvPr id="110" name="Rectangle 9"/>
                <p:cNvSpPr/>
                <p:nvPr/>
              </p:nvSpPr>
              <p:spPr>
                <a:xfrm>
                  <a:off x="2063520" y="215316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paci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Rectangle 46"/>
                <p:cNvSpPr/>
                <p:nvPr/>
              </p:nvSpPr>
              <p:spPr>
                <a:xfrm>
                  <a:off x="1940760" y="215316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Group 49"/>
              <p:cNvGrpSpPr/>
              <p:nvPr/>
            </p:nvGrpSpPr>
            <p:grpSpPr>
              <a:xfrm>
                <a:off x="691560" y="2429280"/>
                <a:ext cx="1248840" cy="276120"/>
                <a:chOff x="691560" y="2429280"/>
                <a:chExt cx="1248840" cy="276120"/>
              </a:xfrm>
            </p:grpSpPr>
            <p:sp>
              <p:nvSpPr>
                <p:cNvPr id="113" name="Rectangle 10"/>
                <p:cNvSpPr/>
                <p:nvPr/>
              </p:nvSpPr>
              <p:spPr>
                <a:xfrm>
                  <a:off x="814680" y="242928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Rectangle 48"/>
                <p:cNvSpPr/>
                <p:nvPr/>
              </p:nvSpPr>
              <p:spPr>
                <a:xfrm>
                  <a:off x="691560" y="242928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Group 51"/>
              <p:cNvGrpSpPr/>
              <p:nvPr/>
            </p:nvGrpSpPr>
            <p:grpSpPr>
              <a:xfrm>
                <a:off x="1940760" y="2429280"/>
                <a:ext cx="3995280" cy="276120"/>
                <a:chOff x="1940760" y="2429280"/>
                <a:chExt cx="3995280" cy="276120"/>
              </a:xfrm>
            </p:grpSpPr>
            <p:sp>
              <p:nvSpPr>
                <p:cNvPr id="116" name="Rectangle 11"/>
                <p:cNvSpPr/>
                <p:nvPr/>
              </p:nvSpPr>
              <p:spPr>
                <a:xfrm>
                  <a:off x="2063520" y="242928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Rectangle 50"/>
                <p:cNvSpPr/>
                <p:nvPr/>
              </p:nvSpPr>
              <p:spPr>
                <a:xfrm>
                  <a:off x="1940760" y="242928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Group 53"/>
              <p:cNvGrpSpPr/>
              <p:nvPr/>
            </p:nvGrpSpPr>
            <p:grpSpPr>
              <a:xfrm>
                <a:off x="691560" y="2705400"/>
                <a:ext cx="1248840" cy="275760"/>
                <a:chOff x="691560" y="2705400"/>
                <a:chExt cx="1248840" cy="275760"/>
              </a:xfrm>
            </p:grpSpPr>
            <p:sp>
              <p:nvSpPr>
                <p:cNvPr id="119" name="Rectangle 12"/>
                <p:cNvSpPr/>
                <p:nvPr/>
              </p:nvSpPr>
              <p:spPr>
                <a:xfrm>
                  <a:off x="814680" y="2705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Rectangle 52"/>
                <p:cNvSpPr/>
                <p:nvPr/>
              </p:nvSpPr>
              <p:spPr>
                <a:xfrm>
                  <a:off x="691560" y="2705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Group 55"/>
              <p:cNvGrpSpPr/>
              <p:nvPr/>
            </p:nvGrpSpPr>
            <p:grpSpPr>
              <a:xfrm>
                <a:off x="1940760" y="2705400"/>
                <a:ext cx="3995280" cy="275760"/>
                <a:chOff x="1940760" y="2705400"/>
                <a:chExt cx="3995280" cy="275760"/>
              </a:xfrm>
            </p:grpSpPr>
            <p:sp>
              <p:nvSpPr>
                <p:cNvPr id="122" name="Rectangle 13"/>
                <p:cNvSpPr/>
                <p:nvPr/>
              </p:nvSpPr>
              <p:spPr>
                <a:xfrm>
                  <a:off x="2063520" y="2705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tual 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Rectangle 54"/>
                <p:cNvSpPr/>
                <p:nvPr/>
              </p:nvSpPr>
              <p:spPr>
                <a:xfrm>
                  <a:off x="1940760" y="2705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Group 57"/>
              <p:cNvGrpSpPr/>
              <p:nvPr/>
            </p:nvGrpSpPr>
            <p:grpSpPr>
              <a:xfrm>
                <a:off x="691560" y="2981520"/>
                <a:ext cx="1248840" cy="276120"/>
                <a:chOff x="691560" y="2981520"/>
                <a:chExt cx="1248840" cy="276120"/>
              </a:xfrm>
            </p:grpSpPr>
            <p:sp>
              <p:nvSpPr>
                <p:cNvPr id="125" name="Rectangle 14"/>
                <p:cNvSpPr/>
                <p:nvPr/>
              </p:nvSpPr>
              <p:spPr>
                <a:xfrm>
                  <a:off x="814680" y="2981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Rectangle 56"/>
                <p:cNvSpPr/>
                <p:nvPr/>
              </p:nvSpPr>
              <p:spPr>
                <a:xfrm>
                  <a:off x="691560" y="2981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Group 59"/>
              <p:cNvGrpSpPr/>
              <p:nvPr/>
            </p:nvGrpSpPr>
            <p:grpSpPr>
              <a:xfrm>
                <a:off x="1940760" y="2981520"/>
                <a:ext cx="3995280" cy="276120"/>
                <a:chOff x="1940760" y="2981520"/>
                <a:chExt cx="3995280" cy="276120"/>
              </a:xfrm>
            </p:grpSpPr>
            <p:sp>
              <p:nvSpPr>
                <p:cNvPr id="128" name="Rectangle 15"/>
                <p:cNvSpPr/>
                <p:nvPr/>
              </p:nvSpPr>
              <p:spPr>
                <a:xfrm>
                  <a:off x="2063520" y="2981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58"/>
                <p:cNvSpPr/>
                <p:nvPr/>
              </p:nvSpPr>
              <p:spPr>
                <a:xfrm>
                  <a:off x="1940760" y="2981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Group 61"/>
              <p:cNvGrpSpPr/>
              <p:nvPr/>
            </p:nvGrpSpPr>
            <p:grpSpPr>
              <a:xfrm>
                <a:off x="691560" y="3257640"/>
                <a:ext cx="1248840" cy="275760"/>
                <a:chOff x="691560" y="3257640"/>
                <a:chExt cx="1248840" cy="275760"/>
              </a:xfrm>
            </p:grpSpPr>
            <p:sp>
              <p:nvSpPr>
                <p:cNvPr id="131" name="Rectangle 16"/>
                <p:cNvSpPr/>
                <p:nvPr/>
              </p:nvSpPr>
              <p:spPr>
                <a:xfrm>
                  <a:off x="814680" y="3257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60"/>
                <p:cNvSpPr/>
                <p:nvPr/>
              </p:nvSpPr>
              <p:spPr>
                <a:xfrm>
                  <a:off x="691560" y="3257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63"/>
              <p:cNvGrpSpPr/>
              <p:nvPr/>
            </p:nvGrpSpPr>
            <p:grpSpPr>
              <a:xfrm>
                <a:off x="1940760" y="3257640"/>
                <a:ext cx="3995280" cy="275760"/>
                <a:chOff x="1940760" y="3257640"/>
                <a:chExt cx="3995280" cy="275760"/>
              </a:xfrm>
            </p:grpSpPr>
            <p:sp>
              <p:nvSpPr>
                <p:cNvPr id="134" name="Rectangle 17"/>
                <p:cNvSpPr/>
                <p:nvPr/>
              </p:nvSpPr>
              <p:spPr>
                <a:xfrm>
                  <a:off x="2063520" y="3257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Rectangle 62"/>
                <p:cNvSpPr/>
                <p:nvPr/>
              </p:nvSpPr>
              <p:spPr>
                <a:xfrm>
                  <a:off x="1940760" y="3257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Group 65"/>
              <p:cNvGrpSpPr/>
              <p:nvPr/>
            </p:nvGrpSpPr>
            <p:grpSpPr>
              <a:xfrm>
                <a:off x="691560" y="3533400"/>
                <a:ext cx="1248840" cy="275760"/>
                <a:chOff x="691560" y="3533400"/>
                <a:chExt cx="1248840" cy="275760"/>
              </a:xfrm>
            </p:grpSpPr>
            <p:sp>
              <p:nvSpPr>
                <p:cNvPr id="137" name="Rectangle 18"/>
                <p:cNvSpPr/>
                <p:nvPr/>
              </p:nvSpPr>
              <p:spPr>
                <a:xfrm>
                  <a:off x="814680" y="3533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64"/>
                <p:cNvSpPr/>
                <p:nvPr/>
              </p:nvSpPr>
              <p:spPr>
                <a:xfrm>
                  <a:off x="691560" y="3533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67"/>
              <p:cNvGrpSpPr/>
              <p:nvPr/>
            </p:nvGrpSpPr>
            <p:grpSpPr>
              <a:xfrm>
                <a:off x="1940760" y="3533400"/>
                <a:ext cx="3995280" cy="275760"/>
                <a:chOff x="1940760" y="3533400"/>
                <a:chExt cx="3995280" cy="275760"/>
              </a:xfrm>
            </p:grpSpPr>
            <p:sp>
              <p:nvSpPr>
                <p:cNvPr id="140" name="Rectangle 19"/>
                <p:cNvSpPr/>
                <p:nvPr/>
              </p:nvSpPr>
              <p:spPr>
                <a:xfrm>
                  <a:off x="2063520" y="3533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OSF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66"/>
                <p:cNvSpPr/>
                <p:nvPr/>
              </p:nvSpPr>
              <p:spPr>
                <a:xfrm>
                  <a:off x="1940760" y="3533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69"/>
              <p:cNvGrpSpPr/>
              <p:nvPr/>
            </p:nvGrpSpPr>
            <p:grpSpPr>
              <a:xfrm>
                <a:off x="691560" y="3809520"/>
                <a:ext cx="1248840" cy="276120"/>
                <a:chOff x="691560" y="3809520"/>
                <a:chExt cx="1248840" cy="276120"/>
              </a:xfrm>
            </p:grpSpPr>
            <p:sp>
              <p:nvSpPr>
                <p:cNvPr id="143" name="Rectangle 20"/>
                <p:cNvSpPr/>
                <p:nvPr/>
              </p:nvSpPr>
              <p:spPr>
                <a:xfrm>
                  <a:off x="814680" y="3809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68"/>
                <p:cNvSpPr/>
                <p:nvPr/>
              </p:nvSpPr>
              <p:spPr>
                <a:xfrm>
                  <a:off x="691560" y="3809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71"/>
              <p:cNvGrpSpPr/>
              <p:nvPr/>
            </p:nvGrpSpPr>
            <p:grpSpPr>
              <a:xfrm>
                <a:off x="1940760" y="3809520"/>
                <a:ext cx="3995280" cy="276120"/>
                <a:chOff x="1940760" y="3809520"/>
                <a:chExt cx="3995280" cy="276120"/>
              </a:xfrm>
            </p:grpSpPr>
            <p:sp>
              <p:nvSpPr>
                <p:cNvPr id="146" name="Rectangle 21"/>
                <p:cNvSpPr/>
                <p:nvPr/>
              </p:nvSpPr>
              <p:spPr>
                <a:xfrm>
                  <a:off x="2063520" y="3809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o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70"/>
                <p:cNvSpPr/>
                <p:nvPr/>
              </p:nvSpPr>
              <p:spPr>
                <a:xfrm>
                  <a:off x="1940760" y="3809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73"/>
              <p:cNvGrpSpPr/>
              <p:nvPr/>
            </p:nvGrpSpPr>
            <p:grpSpPr>
              <a:xfrm>
                <a:off x="691560" y="4085640"/>
                <a:ext cx="1248840" cy="275760"/>
                <a:chOff x="691560" y="4085640"/>
                <a:chExt cx="1248840" cy="275760"/>
              </a:xfrm>
            </p:grpSpPr>
            <p:sp>
              <p:nvSpPr>
                <p:cNvPr id="149" name="Rectangle 22"/>
                <p:cNvSpPr/>
                <p:nvPr/>
              </p:nvSpPr>
              <p:spPr>
                <a:xfrm>
                  <a:off x="814680" y="4085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72"/>
                <p:cNvSpPr/>
                <p:nvPr/>
              </p:nvSpPr>
              <p:spPr>
                <a:xfrm>
                  <a:off x="691560" y="4085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75"/>
              <p:cNvGrpSpPr/>
              <p:nvPr/>
            </p:nvGrpSpPr>
            <p:grpSpPr>
              <a:xfrm>
                <a:off x="1940760" y="4085640"/>
                <a:ext cx="3995280" cy="275760"/>
                <a:chOff x="1940760" y="4085640"/>
                <a:chExt cx="3995280" cy="275760"/>
              </a:xfrm>
            </p:grpSpPr>
            <p:sp>
              <p:nvSpPr>
                <p:cNvPr id="152" name="Rectangle 23"/>
                <p:cNvSpPr/>
                <p:nvPr/>
              </p:nvSpPr>
              <p:spPr>
                <a:xfrm>
                  <a:off x="2063520" y="4085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polar tran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74"/>
                <p:cNvSpPr/>
                <p:nvPr/>
              </p:nvSpPr>
              <p:spPr>
                <a:xfrm>
                  <a:off x="1940760" y="4085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77"/>
              <p:cNvGrpSpPr/>
              <p:nvPr/>
            </p:nvGrpSpPr>
            <p:grpSpPr>
              <a:xfrm>
                <a:off x="691560" y="4361760"/>
                <a:ext cx="1248840" cy="276120"/>
                <a:chOff x="691560" y="4361760"/>
                <a:chExt cx="1248840" cy="276120"/>
              </a:xfrm>
            </p:grpSpPr>
            <p:sp>
              <p:nvSpPr>
                <p:cNvPr id="155" name="Rectangle 24"/>
                <p:cNvSpPr/>
                <p:nvPr/>
              </p:nvSpPr>
              <p:spPr>
                <a:xfrm>
                  <a:off x="814680" y="436176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76"/>
                <p:cNvSpPr/>
                <p:nvPr/>
              </p:nvSpPr>
              <p:spPr>
                <a:xfrm>
                  <a:off x="691560" y="436176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79"/>
              <p:cNvGrpSpPr/>
              <p:nvPr/>
            </p:nvGrpSpPr>
            <p:grpSpPr>
              <a:xfrm>
                <a:off x="1940760" y="4361760"/>
                <a:ext cx="3995280" cy="276120"/>
                <a:chOff x="1940760" y="4361760"/>
                <a:chExt cx="3995280" cy="276120"/>
              </a:xfrm>
            </p:grpSpPr>
            <p:sp>
              <p:nvSpPr>
                <p:cNvPr id="158" name="Rectangle 25"/>
                <p:cNvSpPr/>
                <p:nvPr/>
              </p:nvSpPr>
              <p:spPr>
                <a:xfrm>
                  <a:off x="2063520" y="436176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ossy transmission li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78"/>
                <p:cNvSpPr/>
                <p:nvPr/>
              </p:nvSpPr>
              <p:spPr>
                <a:xfrm>
                  <a:off x="1940760" y="436176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81"/>
              <p:cNvGrpSpPr/>
              <p:nvPr/>
            </p:nvGrpSpPr>
            <p:grpSpPr>
              <a:xfrm>
                <a:off x="691560" y="4637880"/>
                <a:ext cx="1248840" cy="275760"/>
                <a:chOff x="691560" y="4637880"/>
                <a:chExt cx="1248840" cy="275760"/>
              </a:xfrm>
            </p:grpSpPr>
            <p:sp>
              <p:nvSpPr>
                <p:cNvPr id="161" name="Rectangle 26"/>
                <p:cNvSpPr/>
                <p:nvPr/>
              </p:nvSpPr>
              <p:spPr>
                <a:xfrm>
                  <a:off x="814680" y="4637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80"/>
                <p:cNvSpPr/>
                <p:nvPr/>
              </p:nvSpPr>
              <p:spPr>
                <a:xfrm>
                  <a:off x="691560" y="4637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83"/>
              <p:cNvGrpSpPr/>
              <p:nvPr/>
            </p:nvGrpSpPr>
            <p:grpSpPr>
              <a:xfrm>
                <a:off x="1940760" y="4637880"/>
                <a:ext cx="3995280" cy="275760"/>
                <a:chOff x="1940760" y="4637880"/>
                <a:chExt cx="3995280" cy="275760"/>
              </a:xfrm>
            </p:grpSpPr>
            <p:sp>
              <p:nvSpPr>
                <p:cNvPr id="164" name="Rectangle 27"/>
                <p:cNvSpPr/>
                <p:nvPr/>
              </p:nvSpPr>
              <p:spPr>
                <a:xfrm>
                  <a:off x="2063520" y="4637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bcircu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82"/>
                <p:cNvSpPr/>
                <p:nvPr/>
              </p:nvSpPr>
              <p:spPr>
                <a:xfrm>
                  <a:off x="1940760" y="4637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85"/>
              <p:cNvGrpSpPr/>
              <p:nvPr/>
            </p:nvGrpSpPr>
            <p:grpSpPr>
              <a:xfrm>
                <a:off x="691560" y="4914000"/>
                <a:ext cx="1248840" cy="276120"/>
                <a:chOff x="691560" y="4914000"/>
                <a:chExt cx="1248840" cy="276120"/>
              </a:xfrm>
            </p:grpSpPr>
            <p:sp>
              <p:nvSpPr>
                <p:cNvPr id="167" name="Rectangle 28"/>
                <p:cNvSpPr/>
                <p:nvPr/>
              </p:nvSpPr>
              <p:spPr>
                <a:xfrm>
                  <a:off x="814680" y="4914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84"/>
                <p:cNvSpPr/>
                <p:nvPr/>
              </p:nvSpPr>
              <p:spPr>
                <a:xfrm>
                  <a:off x="691560" y="4914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87"/>
              <p:cNvGrpSpPr/>
              <p:nvPr/>
            </p:nvGrpSpPr>
            <p:grpSpPr>
              <a:xfrm>
                <a:off x="1940760" y="4914000"/>
                <a:ext cx="3995280" cy="276120"/>
                <a:chOff x="1940760" y="4914000"/>
                <a:chExt cx="3995280" cy="276120"/>
              </a:xfrm>
            </p:grpSpPr>
            <p:sp>
              <p:nvSpPr>
                <p:cNvPr id="170" name="Rectangle 29"/>
                <p:cNvSpPr/>
                <p:nvPr/>
              </p:nvSpPr>
              <p:spPr>
                <a:xfrm>
                  <a:off x="2063520" y="4914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86"/>
                <p:cNvSpPr/>
                <p:nvPr/>
              </p:nvSpPr>
              <p:spPr>
                <a:xfrm>
                  <a:off x="1940760" y="4914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89"/>
              <p:cNvGrpSpPr/>
              <p:nvPr/>
            </p:nvGrpSpPr>
            <p:grpSpPr>
              <a:xfrm>
                <a:off x="691560" y="5190120"/>
                <a:ext cx="1248840" cy="275760"/>
                <a:chOff x="691560" y="5190120"/>
                <a:chExt cx="1248840" cy="275760"/>
              </a:xfrm>
            </p:grpSpPr>
            <p:sp>
              <p:nvSpPr>
                <p:cNvPr id="173" name="Rectangle 30"/>
                <p:cNvSpPr/>
                <p:nvPr/>
              </p:nvSpPr>
              <p:spPr>
                <a:xfrm>
                  <a:off x="814680" y="519012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Rectangle 88"/>
                <p:cNvSpPr/>
                <p:nvPr/>
              </p:nvSpPr>
              <p:spPr>
                <a:xfrm>
                  <a:off x="691560" y="519012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Group 91"/>
              <p:cNvGrpSpPr/>
              <p:nvPr/>
            </p:nvGrpSpPr>
            <p:grpSpPr>
              <a:xfrm>
                <a:off x="1940760" y="5190120"/>
                <a:ext cx="3995280" cy="275760"/>
                <a:chOff x="1940760" y="5190120"/>
                <a:chExt cx="3995280" cy="275760"/>
              </a:xfrm>
            </p:grpSpPr>
            <p:sp>
              <p:nvSpPr>
                <p:cNvPr id="176" name="Rectangle 31"/>
                <p:cNvSpPr/>
                <p:nvPr/>
              </p:nvSpPr>
              <p:spPr>
                <a:xfrm>
                  <a:off x="2063520" y="519012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Rectangle 90"/>
                <p:cNvSpPr/>
                <p:nvPr/>
              </p:nvSpPr>
              <p:spPr>
                <a:xfrm>
                  <a:off x="1940760" y="519012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Group 93"/>
              <p:cNvGrpSpPr/>
              <p:nvPr/>
            </p:nvGrpSpPr>
            <p:grpSpPr>
              <a:xfrm>
                <a:off x="691560" y="5465880"/>
                <a:ext cx="1248840" cy="275760"/>
                <a:chOff x="691560" y="5465880"/>
                <a:chExt cx="1248840" cy="2757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814680" y="5465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92"/>
                <p:cNvSpPr/>
                <p:nvPr/>
              </p:nvSpPr>
              <p:spPr>
                <a:xfrm>
                  <a:off x="691560" y="5465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Group 95"/>
              <p:cNvGrpSpPr/>
              <p:nvPr/>
            </p:nvGrpSpPr>
            <p:grpSpPr>
              <a:xfrm>
                <a:off x="1940760" y="5465880"/>
                <a:ext cx="3995280" cy="275760"/>
                <a:chOff x="1940760" y="5465880"/>
                <a:chExt cx="3995280" cy="275760"/>
              </a:xfrm>
            </p:grpSpPr>
            <p:sp>
              <p:nvSpPr>
                <p:cNvPr id="182" name="Rectangle 33"/>
                <p:cNvSpPr/>
                <p:nvPr/>
              </p:nvSpPr>
              <p:spPr>
                <a:xfrm>
                  <a:off x="2063520" y="5465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94"/>
                <p:cNvSpPr/>
                <p:nvPr/>
              </p:nvSpPr>
              <p:spPr>
                <a:xfrm>
                  <a:off x="1940760" y="5465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Group 97"/>
              <p:cNvGrpSpPr/>
              <p:nvPr/>
            </p:nvGrpSpPr>
            <p:grpSpPr>
              <a:xfrm>
                <a:off x="691560" y="5742000"/>
                <a:ext cx="1248840" cy="276120"/>
                <a:chOff x="691560" y="5742000"/>
                <a:chExt cx="1248840" cy="276120"/>
              </a:xfrm>
            </p:grpSpPr>
            <p:sp>
              <p:nvSpPr>
                <p:cNvPr id="185" name="Rectangle 34"/>
                <p:cNvSpPr/>
                <p:nvPr/>
              </p:nvSpPr>
              <p:spPr>
                <a:xfrm>
                  <a:off x="814680" y="5742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96"/>
                <p:cNvSpPr/>
                <p:nvPr/>
              </p:nvSpPr>
              <p:spPr>
                <a:xfrm>
                  <a:off x="691560" y="5742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Group 99"/>
              <p:cNvGrpSpPr/>
              <p:nvPr/>
            </p:nvGrpSpPr>
            <p:grpSpPr>
              <a:xfrm>
                <a:off x="1940760" y="5742000"/>
                <a:ext cx="3995280" cy="276120"/>
                <a:chOff x="1940760" y="5742000"/>
                <a:chExt cx="3995280" cy="276120"/>
              </a:xfrm>
            </p:grpSpPr>
            <p:sp>
              <p:nvSpPr>
                <p:cNvPr id="188" name="Rectangle 35"/>
                <p:cNvSpPr/>
                <p:nvPr/>
              </p:nvSpPr>
              <p:spPr>
                <a:xfrm>
                  <a:off x="2063520" y="5742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98"/>
                <p:cNvSpPr/>
                <p:nvPr/>
              </p:nvSpPr>
              <p:spPr>
                <a:xfrm>
                  <a:off x="1940760" y="5742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" name="Rectangle 101"/>
            <p:cNvSpPr/>
            <p:nvPr/>
          </p:nvSpPr>
          <p:spPr>
            <a:xfrm>
              <a:off x="685800" y="1600200"/>
              <a:ext cx="5257440" cy="4419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A46A-346A-4FF1-958D-60ADF9A1DBD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62120" y="1523880"/>
          <a:ext cx="4876560" cy="396252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tu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p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Text Box 89"/>
          <p:cNvSpPr/>
          <p:nvPr/>
        </p:nvSpPr>
        <p:spPr>
          <a:xfrm>
            <a:off x="762120" y="5562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100 femptofarad capacitor = 100fF, 100f, 100e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2-17T22:08:58Z</dcterms:modified>
  <cp:revision>990</cp:revision>
  <dc:subject/>
  <dc:title>PowerPoint Presentation</dc:title>
</cp:coreProperties>
</file>