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9400" cy="34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51320" y="0"/>
            <a:ext cx="4019760" cy="34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890440" y="520200"/>
            <a:ext cx="3497400" cy="26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637320"/>
            <a:ext cx="4019400" cy="34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C766BC4-0BD9-4243-8959-E7C5BAFA0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1DDDC7-4F2D-4DD9-A4A0-B153FDEED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1B997C-08A0-4AA4-832B-B55F98FE9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EDDFE6-F5B4-425F-81AC-E1E404963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068FBC-FB4E-40AE-A77F-868994E0A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AD5735-294A-4BBF-9C5B-9293C671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90EE65-5493-444F-AFF6-11BEB4944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967FCF-FE81-40D7-9B01-1F47FE10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53ECBF-27A8-4C59-A605-58946091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B01E84-050E-47FE-B47C-77CACE405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429DAD-A7A8-464B-93BB-F3D0ADBD1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361DE1-F128-40B7-AB2E-3260270B5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C71216-7660-44EA-AEB0-00A5162D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C26215-6D6F-466A-AB82-AD566A33B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FB3ACC-14A8-4854-8911-59C0F86A2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EEC5E7-2C40-489E-963F-5BEF820B6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95F411-A1D1-48A4-B9C4-F38153D00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E968BB-0115-4607-9709-AB6F5C35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F9C38F-503C-437C-95C4-9DECD202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654F92-33B3-4CC6-9894-7065BFA3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EE586C-242F-4D3F-86EA-5AA9527ED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E9C8736-9C7E-4C2A-BAA4-59884899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2BFCF8-E257-475D-AC63-98C3F6F8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17EA9F-BC07-441E-8BF7-A6831DCA7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F747A2-A8EA-4676-8108-559578FFB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2DC0F2-96DC-4266-A087-490F62105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59A64E-780C-4AE0-8FFE-622E1D455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DF97997-8B4B-4E50-B1FF-744BEE778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F6C4D1-2640-4FA4-8FD7-976F3DC44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334D7A-4CCA-4386-906C-D9168AB0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02CF-C17F-4365-B979-B651BB19D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2231-B546-4C5E-93E3-E997DB694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71EB-1918-4BB3-8A84-9930185D1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3D62-37DC-480F-939C-3996215D3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986F-7FFB-4F55-8AAF-06C502A22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C2A7-BABB-480B-A99B-EB6A3F3D0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8B82-68EA-4022-B2AF-33DF1CCFB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513C-EB89-4EA6-BF03-EDA45DC14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73E7-DCA2-458F-975F-DFD84ED19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BD2B-686F-43CC-A823-2E0A660EB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9860-1A7C-4677-8421-BA83E3F1F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E7FE-33BB-4D23-9258-B22255239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8E5-8B11-468F-93F2-EE9B899C98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C40B-A8D6-4642-A31C-C70A5013A3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2BD-E3A8-4351-A356-33CC0D1AE6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BB73-7788-473D-8A73-D1395D8482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BB94-53D1-44AC-9DB2-F0AB04D6FF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8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B7A-AF37-48D1-8D02-D623195F5D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185-3AD6-4671-A503-9530EF3068D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F9F0-A374-4FDE-87FB-EAF36B9CF7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03F6-0D0B-4F2E-BC34-B177F6E78F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D3DB-84CD-4F98-9029-636F85B4B8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E731-6B4E-4812-A177-2CEC0E6A16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8837-0874-4AD8-A797-E9EAE4BA90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3301-2FE1-4914-93A4-4BD1FD42A71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9D71-F5D8-4068-973F-A050739E90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7453-5561-4A11-9722-33C8FF1CAE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82D-B542-41F7-A796-12202E90DE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5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7"/>
          <p:cNvSpPr/>
          <p:nvPr/>
        </p:nvSpPr>
        <p:spPr>
          <a:xfrm>
            <a:off x="5223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2F1B-16D7-4EDA-A71C-26954A8F8A2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1415880" y="2590920"/>
          <a:ext cx="4024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2590920"/>
                    <a:ext cx="4024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Object 7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9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98E5-606B-432E-AA4C-2C5B2877E3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0730-EC2C-41B8-8602-2EACD6A7FD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113D-1A2C-4385-B211-BFFA966F32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626C-25BC-45C6-B16E-B7E5EE19A3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FC60-E05F-4B49-A1BA-94B027C81E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5BAB-6CC1-4C5F-A931-57699D7D90C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7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6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8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12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6CC-117E-46C8-A132-5C732B20B5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7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1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6E0-B3EF-48C4-B9A0-2D790F39C1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Object 7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4A6-B447-4B14-A9EB-A20DADF7EE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CD37-DA91-4B0A-AB52-5190102BD0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Object 1028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29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A920-392F-4433-811F-B96083C3CA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8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70A0-4166-44B5-94E0-47169A2C3A8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ircui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cp:lastPrinted>2015-02-12T22:22:59Z</cp:lastPrinted>
  <dcterms:modified xsi:type="dcterms:W3CDTF">2015-02-13T00:42:28Z</dcterms:modified>
  <cp:revision>2050</cp:revision>
  <dc:subject/>
  <dc:title>PowerPoint Presentation</dc:title>
</cp:coreProperties>
</file>