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28.wmf" ContentType="image/x-wmf"/>
  <Override PartName="/ppt/media/image10.png" ContentType="image/png"/>
  <Override PartName="/ppt/media/image5.wmf" ContentType="image/x-wmf"/>
  <Override PartName="/ppt/media/image3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png" ContentType="image/png"/>
  <Override PartName="/ppt/media/image21.png" ContentType="image/png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9400" cy="34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51320" y="0"/>
            <a:ext cx="4019760" cy="34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890440" y="520200"/>
            <a:ext cx="3497400" cy="262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637320"/>
            <a:ext cx="4019400" cy="34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55475F6-F7C9-4EE3-8571-74EFB636C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D265B7F-0307-49EF-9029-CA2F8A403F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938148E3-D6F5-4AE2-B9E4-BD70E0B7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77E0727-02B1-4CEE-B9A5-F4DC906040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D7F504A-4B52-411A-BF82-B681CF3B6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BC77F98-2448-4867-B17A-0167F9717A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BEB4719-9060-4296-AC80-64111AB0E4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4BA53204-E598-4092-BE8A-119ADC113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D58C1FA1-2E03-4387-B8EE-CB64A9FAF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783123D-6958-485B-BD5F-0E4D66681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80615E-B9F2-4753-9C49-7797E1943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9A17D4E-0F63-4747-A7DE-54E4FDD9C1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E267DCB-A36F-4A72-B08C-25439DE1F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7C5B6A04-B380-4C8D-B426-88C0D0696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CE8178C-6957-4063-A4BF-0FF59BD41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AF4E50-2FE6-4366-9B01-7C4B4066C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241A4CB-19A4-465D-8BCD-428FDCF0B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ADB68A8-3433-4A82-87FD-ADF409C41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1C45705B-FE62-4200-AD0D-9FE70C804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B6794DF2-32A5-4C72-A99C-F9C1384F33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38DC9FAC-08FE-44CB-B742-0E2963570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C561FA49-48BA-4B76-BA27-0D819B5BB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04F83559-7472-47C8-AD20-5270269E12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A06DDFD-985C-43DE-A49D-7321FDEA4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81A10E5-4022-4721-B925-5B8BDCF05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E1D4EE60-1DB4-4D07-8674-46343A502C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50BD0E51-DA31-4155-B3AF-B6CE35543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881E1B51-1DB7-4A5F-B4B9-2488C64FC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F0F6B042-2A28-43F0-8155-59B0AA610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251320" y="6637320"/>
            <a:ext cx="40197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b">
            <a:noAutofit/>
          </a:bodyPr>
          <a:p>
            <a:pPr algn="r">
              <a:tabLst>
                <a:tab algn="l" pos="0"/>
                <a:tab algn="l" pos="939960"/>
                <a:tab algn="l" pos="1879560"/>
                <a:tab algn="l" pos="2819520"/>
                <a:tab algn="l" pos="3759120"/>
                <a:tab algn="l" pos="4699080"/>
                <a:tab algn="l" pos="5638680"/>
                <a:tab algn="l" pos="6578640"/>
                <a:tab algn="l" pos="7518240"/>
                <a:tab algn="l" pos="8458200"/>
                <a:tab algn="l" pos="9398160"/>
                <a:tab algn="l" pos="10337760"/>
              </a:tabLst>
            </a:pPr>
            <a:fld id="{A272E9C5-7DA6-4F35-8CB4-CEB684231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890800" y="520560"/>
            <a:ext cx="3497400" cy="26226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61EEB-5E23-4E76-8C09-2168D64AD2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1C0BC-4FEC-44E4-A69B-027E7B4C0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4C751-9F03-496F-AA7F-1A5C553324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FF598-4116-44E8-911F-FC03113BF3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C065B-ABE7-4F74-AD2D-4860BBEE1C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06FD4-E098-4BF7-AC43-953F50157E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BABA8-DC67-42C0-989D-3C5BC11D25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4A51C-9720-4603-8A89-DCBBBEAAD1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48BBF-E36F-45C1-9A42-2FDC0825DE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633B4B-10FE-45AE-8D3F-9319AF9D2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38977-38FF-4B50-9AC3-AC6249ABD2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43A7C-4D01-4AB6-98EE-5E41C67D4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275B-7006-43B4-A955-3EF850D95D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77AB-49CE-4C79-90A9-FCE0843E2D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Dissipation Sourc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itc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hort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load capaci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-circuit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: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u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un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o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2EC7-7825-48C8-AFC8-12EEE01D2F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M logic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50M memo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width: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 = 0.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V 6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gate) + 0.8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(diffu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dynamic power consumption @ 1 GHz.  Neglect wire capacitance and short-circuit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C30EB-C85D-4859-9C08-311EFBB2B42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8" name="Object 4"/>
          <p:cNvGraphicFramePr/>
          <p:nvPr/>
        </p:nvGraphicFramePr>
        <p:xfrm>
          <a:off x="690480" y="1600200"/>
          <a:ext cx="731052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0480" y="1600200"/>
                    <a:ext cx="731052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A8E2-FFC3-4A77-82D9-26C2F69A4D7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Power Re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minimiz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Object 8"/>
          <p:cNvGraphicFramePr/>
          <p:nvPr/>
        </p:nvGraphicFramePr>
        <p:xfrm>
          <a:off x="1143000" y="1838160"/>
          <a:ext cx="2514600" cy="52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838160"/>
                    <a:ext cx="2514600" cy="52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C109-90CC-4214-B9B8-ACFE0D9C8F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vity Factor Estim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rob(node i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-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ly random data has P = 0.5 a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s often not completely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upper bits of 64-bit words representing bank account balances are usually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ropagating through ANDs and ORs has lower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design, but typicall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1828800" y="25146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5"/>
          <p:cNvSpPr/>
          <p:nvPr/>
        </p:nvSpPr>
        <p:spPr>
          <a:xfrm>
            <a:off x="1676520" y="20574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AB0C-4918-406A-955E-A7FC71B1919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Probabil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1371600" y="1981080"/>
            <a:ext cx="6400800" cy="3452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0BD3-ABEB-44C6-9215-F813E6D6BEC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4-input AND is built out of two levels of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activity factor at each node if the inputs have P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2057400" y="3200400"/>
            <a:ext cx="4187880" cy="2000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6"/>
          <p:cNvSpPr/>
          <p:nvPr/>
        </p:nvSpPr>
        <p:spPr>
          <a:xfrm>
            <a:off x="3733920" y="32004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09880" y="4572000"/>
            <a:ext cx="68580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5410080" y="3505320"/>
            <a:ext cx="83844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092E-A633-4DE0-8809-EBF3FAF579A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est way to reduce the activity is to turn off the clock to registers in unused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clock activity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s all switching activity in the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determining if block will b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2438280" y="3657600"/>
            <a:ext cx="4243680" cy="2428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72846-8029-4372-AA65-1C763267F84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stages of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loorplanning to keep communicating blocks close to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ong wires with inverters or buffers rather than complex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3B2F-A0C6-4144-BB85-CB8A500539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 /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 each block at the lowest possible voltage and frequency that meets performanc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eparate supplies to different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ters required when cross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low to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m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oltage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f according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5791320" y="4343400"/>
            <a:ext cx="2422440" cy="16416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"/>
          <p:cNvPicPr/>
          <p:nvPr/>
        </p:nvPicPr>
        <p:blipFill>
          <a:blip r:embed="rId2"/>
          <a:stretch/>
        </p:blipFill>
        <p:spPr>
          <a:xfrm>
            <a:off x="7162920" y="3124080"/>
            <a:ext cx="1295280" cy="1046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E1FAF-9487-4189-B177-D28C0E699A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and Ener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9BF56-5DD5-4ACC-B979-90CBCE4417B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power is consumed even when chip is quiesc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draws power from nominally OFF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ed circuits burn power in fight between 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380988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349740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21BB-2BD0-44FB-925F-1002E43005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isit power estimation for 1 billion transistor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static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t used in all memories and in 95% of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n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9534-0695-495C-978F-353719E75B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685800" y="1779480"/>
          <a:ext cx="7848720" cy="22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79480"/>
                    <a:ext cx="784872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176C-5396-4F6A-9B62-7BBC952833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&gt; 50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leakage a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5"/>
          <p:cNvGraphicFramePr/>
          <p:nvPr/>
        </p:nvGraphicFramePr>
        <p:xfrm>
          <a:off x="1219320" y="1981080"/>
          <a:ext cx="3124080" cy="73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3124080" cy="73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7"/>
          <p:cNvSpPr/>
          <p:nvPr/>
        </p:nvSpPr>
        <p:spPr>
          <a:xfrm>
            <a:off x="5223960" y="1600200"/>
            <a:ext cx="3431160" cy="23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values in 65 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3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4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 nA/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   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.5 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η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 = 100 mV/de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70C7-AD07-4FC5-B451-E0B9A5CB2C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ack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50640" indent="-350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OFF transistors have less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, so N2 has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2-stack reduces ~10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8800" indent="-219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through 3-stack reduces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1415880" y="2590920"/>
          <a:ext cx="40244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5880" y="2590920"/>
                    <a:ext cx="40244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8" name="Picture 4" descr=""/>
          <p:cNvPicPr/>
          <p:nvPr/>
        </p:nvPicPr>
        <p:blipFill>
          <a:blip r:embed="rId3"/>
          <a:stretch/>
        </p:blipFill>
        <p:spPr>
          <a:xfrm>
            <a:off x="7086600" y="1600200"/>
            <a:ext cx="104292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9" name="Object 7"/>
          <p:cNvGraphicFramePr/>
          <p:nvPr/>
        </p:nvGraphicFramePr>
        <p:xfrm>
          <a:off x="1295280" y="3498840"/>
          <a:ext cx="1524240" cy="692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3498840"/>
                    <a:ext cx="1524240" cy="6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1" name="Object 9"/>
          <p:cNvGraphicFramePr/>
          <p:nvPr/>
        </p:nvGraphicFramePr>
        <p:xfrm>
          <a:off x="1295280" y="4191120"/>
          <a:ext cx="2895840" cy="695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2" name="Object 9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295280" y="4191120"/>
                    <a:ext cx="28958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F00B-6684-4568-9354-D39F73ECAF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akage Contro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 and delay trad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 for low leakage in sleep and low delay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duce lea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le 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ow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in critical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put vector contr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verse body bi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rward body bias in active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94FC-4242-4E12-B902-399BC2DAA7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strong function of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es subthreshold leakage at 65 nm and below in some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rder of magnitude less for pMOS than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the process using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10.5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gate dielectrics hel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provide multipl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hicker oxide for 3.3 V I/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leakage in circuits by limit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3479F-6916-408B-AD3C-F928592BB7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3 Leakage 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3 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.63 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9.3 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6934320" y="1676520"/>
            <a:ext cx="1346040" cy="1193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"/>
          <p:cNvPicPr/>
          <p:nvPr/>
        </p:nvPicPr>
        <p:blipFill>
          <a:blip r:embed="rId2"/>
          <a:stretch/>
        </p:blipFill>
        <p:spPr>
          <a:xfrm>
            <a:off x="762120" y="2855880"/>
            <a:ext cx="6705360" cy="324000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6"/>
          <p:cNvSpPr/>
          <p:nvPr/>
        </p:nvSpPr>
        <p:spPr>
          <a:xfrm>
            <a:off x="7390800" y="5791320"/>
            <a:ext cx="109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from [Lee03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D138-8BA3-4F73-B28E-D844BDD7AE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reverse-bias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diffusion and substrate or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 is negli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 can be signific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n high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where other leakage is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 exacerb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f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more nega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32B5-C6AB-4F76-B42E-A06E750757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2819520" cy="214956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Ga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ower to blocks when they are idle to sav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irtual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outputs to prev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alid logic levels to next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rop across sleep transistor degrades performance during 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the transistor wide enough to minimize 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wide sleep transistor costs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justified when circuit sleeps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D0005-2199-485F-ADD9-4CAA0AE119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and Energ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s drawn from a voltage source attached to th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n(s) of a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4421160" y="2844720"/>
          <a:ext cx="1901880" cy="41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1160" y="2844720"/>
                    <a:ext cx="1901880" cy="4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Rectangle 7"/>
          <p:cNvSpPr/>
          <p:nvPr/>
        </p:nvSpPr>
        <p:spPr>
          <a:xfrm>
            <a:off x="403056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Object 6"/>
          <p:cNvGraphicFramePr/>
          <p:nvPr/>
        </p:nvGraphicFramePr>
        <p:xfrm>
          <a:off x="4419720" y="3487680"/>
          <a:ext cx="160956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3487680"/>
                    <a:ext cx="160956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Rectangle 9"/>
          <p:cNvSpPr/>
          <p:nvPr/>
        </p:nvSpPr>
        <p:spPr>
          <a:xfrm>
            <a:off x="37609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Object 8"/>
          <p:cNvGraphicFramePr/>
          <p:nvPr/>
        </p:nvGraphicFramePr>
        <p:xfrm>
          <a:off x="4419720" y="4419720"/>
          <a:ext cx="2786040" cy="98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4419720"/>
                    <a:ext cx="278604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Rectangle 12"/>
          <p:cNvSpPr/>
          <p:nvPr/>
        </p:nvSpPr>
        <p:spPr>
          <a:xfrm>
            <a:off x="5257800" y="2819520"/>
            <a:ext cx="10666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3"/>
          <p:cNvSpPr/>
          <p:nvPr/>
        </p:nvSpPr>
        <p:spPr>
          <a:xfrm>
            <a:off x="4952880" y="3505320"/>
            <a:ext cx="17528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15"/>
          <p:cNvSpPr/>
          <p:nvPr/>
        </p:nvSpPr>
        <p:spPr>
          <a:xfrm>
            <a:off x="5257800" y="4495680"/>
            <a:ext cx="198108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6A9F-8D6E-493F-96FE-FC4179538E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 in Circuit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762120" y="1676520"/>
          <a:ext cx="2666880" cy="53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76520"/>
                    <a:ext cx="26668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7"/>
          <p:cNvGraphicFramePr/>
          <p:nvPr/>
        </p:nvGraphicFramePr>
        <p:xfrm>
          <a:off x="685800" y="3084480"/>
          <a:ext cx="3048120" cy="87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084480"/>
                    <a:ext cx="3048120" cy="87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4" descr=""/>
          <p:cNvPicPr/>
          <p:nvPr/>
        </p:nvPicPr>
        <p:blipFill>
          <a:blip r:embed="rId5"/>
          <a:stretch/>
        </p:blipFill>
        <p:spPr>
          <a:xfrm>
            <a:off x="5486400" y="1828800"/>
            <a:ext cx="1828800" cy="92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6"/>
          <a:stretch/>
        </p:blipFill>
        <p:spPr>
          <a:xfrm>
            <a:off x="5638680" y="3124080"/>
            <a:ext cx="1371600" cy="9763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7"/>
          <a:stretch/>
        </p:blipFill>
        <p:spPr>
          <a:xfrm>
            <a:off x="5715000" y="4648320"/>
            <a:ext cx="2590920" cy="88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1"/>
          <p:cNvGraphicFramePr/>
          <p:nvPr/>
        </p:nvGraphicFramePr>
        <p:xfrm>
          <a:off x="685800" y="4343400"/>
          <a:ext cx="3886200" cy="1736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85800" y="4343400"/>
                    <a:ext cx="388620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0F9B-3450-4D46-9F48-3BC8939B6F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ing a Capaci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stored in capacitor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energy drawn from the supply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f the energy from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dissipated in the pMOS transistor as heat, other half stored in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he gate output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in capacitor is dumped to G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sipated as heat in the nMOS tran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1600200" y="2282760"/>
          <a:ext cx="1600200" cy="4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2760"/>
                    <a:ext cx="1600200" cy="4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5943600" y="1523880"/>
            <a:ext cx="2666880" cy="1855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Object 7"/>
          <p:cNvGraphicFramePr/>
          <p:nvPr/>
        </p:nvGraphicFramePr>
        <p:xfrm>
          <a:off x="1600200" y="3043080"/>
          <a:ext cx="2514600" cy="113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00200" y="3043080"/>
                    <a:ext cx="2514600" cy="11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6FE2F-8425-4B51-B574-D61C3713FD0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witching Wavefor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0 fF, f = 1 G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219320" y="1962000"/>
            <a:ext cx="6553080" cy="405792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1219320" y="5562720"/>
            <a:ext cx="20574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6400800" y="2017800"/>
            <a:ext cx="2286000" cy="1590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64E3-EB4A-48C5-BCB2-B2E3CB451ED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witching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1" name="Object 1028"/>
          <p:cNvGraphicFramePr/>
          <p:nvPr/>
        </p:nvGraphicFramePr>
        <p:xfrm>
          <a:off x="720720" y="1676520"/>
          <a:ext cx="346536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1676520"/>
                    <a:ext cx="346536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1029"/>
          <p:cNvGraphicFramePr/>
          <p:nvPr/>
        </p:nvGraphicFramePr>
        <p:xfrm>
          <a:off x="4648320" y="4114800"/>
          <a:ext cx="3809880" cy="196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4114800"/>
                    <a:ext cx="3809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FCC0-A9E5-4CFA-9053-1C2595EAF66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ctivity Fac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the system clock frequency =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, wher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activity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is a clock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ignal switches once per cycle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3336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3459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Object 8"/>
          <p:cNvGraphicFramePr/>
          <p:nvPr/>
        </p:nvGraphicFramePr>
        <p:xfrm>
          <a:off x="1163520" y="4191120"/>
          <a:ext cx="270504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3520" y="4191120"/>
                    <a:ext cx="270504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7: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08BA8-5C35-4302-A622-B7A116DADD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ort Circuit Curr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ransistors switch, both nMOS and pMOS networks may be momentarily ON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a blip of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ircui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0% of dynamic power if rise/fall times are comparable for input an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generally ignore this com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cp:lastPrinted>2015-02-12T22:22:59Z</cp:lastPrinted>
  <dcterms:modified xsi:type="dcterms:W3CDTF">2015-02-13T00:42:28Z</dcterms:modified>
  <cp:revision>2050</cp:revision>
  <dc:subject/>
  <dc:title>PowerPoint Presentation</dc:title>
</cp:coreProperties>
</file>