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6.wmf" ContentType="image/x-wmf"/>
  <Override PartName="/ppt/media/image3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9601200" cy="7315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601200" cy="731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3"/>
          </p:nvPr>
        </p:nvSpPr>
        <p:spPr>
          <a:xfrm>
            <a:off x="5440320" y="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2971800" y="547200"/>
            <a:ext cx="3659040" cy="27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4"/>
          </p:nvPr>
        </p:nvSpPr>
        <p:spPr>
          <a:xfrm>
            <a:off x="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5"/>
          </p:nvPr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0D081E-6F10-418A-BAD7-36B8ACC63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B8600-4B62-4AC3-871E-7C052A89AB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9C96F4-A416-432C-9BD8-1CF3D1215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BC29D-6086-4526-A7FD-9ECE5BC26F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50194B-251C-49B9-9EAA-CFCB37D1F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6606E-CE4E-499C-B576-A325A4B652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03800-2F00-43AA-B76E-77FE285DD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D661F-AB69-44AA-A223-116737CE8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E6B96-0C74-4234-97B8-1C12E1DD0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52545-D79C-466D-BF15-599A7E99F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F498D7-7B0D-4752-8698-6DB60B208D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5933D-DA85-45F0-B5BA-B0EB43E87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C628E-4DFB-47B9-99B2-175F4666F7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FB411-F738-4084-913E-66B5D959B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D8381-5DB3-4C09-901B-C08189824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AD138-702D-43A6-B275-A55F44F57B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8E8A9D-E83A-4A6D-A1B2-0F6223D247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95F959-2801-44B1-BF88-C9B30370AE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89A896-F7CB-48A7-9996-23BB2DC65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CC898-60C5-417F-A0BA-706B75B39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D76A27-A7DC-42AC-B959-93BF16FB6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0D352D-3E17-4FCF-B865-210145D5D6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B4464-9DFF-4543-B007-B9E3B1D2E1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E62EE-AAB1-4D0A-B33C-EEF5BD2541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35749E-9173-4557-8321-78E6B682C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AD00A-4458-47F6-9FB3-F4E7B71C0C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4FBD63-7646-42E3-8C62-AABB7F60A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74E1A1-B3D8-408C-A9E5-BBE0C98F7F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6272F-ED39-4744-B4E0-52CFB6A66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BA6D7-07EC-4D23-80E4-06EE5978E2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F15290-9DC1-4AF4-BA81-0440A1996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FD9DB5-7142-4383-850A-4CA6CDC7F2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92377B-49CC-4FB4-AD25-781AC0FE7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5440320" y="6950160"/>
            <a:ext cx="416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77647-61E7-40E1-B63B-4C8DCA0F4C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2971800" y="547560"/>
            <a:ext cx="3659040" cy="2745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81240" y="3475080"/>
            <a:ext cx="7038720" cy="32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2BDAF-6D65-4318-BF9C-210E970288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79AAB-86B7-496D-83FB-75DBEA1E1A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0B75-C708-40E8-A5DB-6CD3D23422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899F-11B5-4279-8CCA-9A12A9BB10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B7C85-A486-4B63-95B0-0DF5121A09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2CD3-3C5C-46CD-9315-B23D6D844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B8446-B646-442B-846A-7B52FE9CFC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710B5-1B0B-4BD0-960A-199D167B8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49085-21E5-48F2-B56C-7F3AE87C70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D4C79-3B3A-4A6A-B0BE-52C8C7092A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89F52-F4C7-4E4A-A438-0A2D3BD2E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939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B8C84-AE41-47EB-9753-F901895428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9844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3CB2-D189-40D3-9B19-60ADEA9E4ED9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Line 9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10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685800" y="6095880"/>
            <a:ext cx="7772400" cy="152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685800" y="1295280"/>
            <a:ext cx="7772400" cy="152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Text Box 13"/>
          <p:cNvSpPr/>
          <p:nvPr/>
        </p:nvSpPr>
        <p:spPr>
          <a:xfrm>
            <a:off x="3733920" y="624852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Text Box 14"/>
          <p:cNvSpPr/>
          <p:nvPr/>
        </p:nvSpPr>
        <p:spPr>
          <a:xfrm>
            <a:off x="3733920" y="62485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CMOS VLSI Design </a:t>
            </a:r>
            <a:r>
              <a:rPr b="1" lang="en-US" sz="1400" spc="-1" strike="noStrike" baseline="30000">
                <a:solidFill>
                  <a:srgbClr val="0000ff"/>
                </a:solidFill>
                <a:latin typeface="Arial"/>
              </a:rPr>
              <a:t>4th 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4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1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53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54.wmf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9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Line 4"/>
          <p:cNvSpPr/>
          <p:nvPr/>
        </p:nvSpPr>
        <p:spPr>
          <a:xfrm>
            <a:off x="45720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5"/>
          <p:cNvSpPr/>
          <p:nvPr/>
        </p:nvSpPr>
        <p:spPr>
          <a:xfrm>
            <a:off x="457200" y="4572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763120" y="457200"/>
            <a:ext cx="0" cy="6172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7"/>
          <p:cNvSpPr/>
          <p:nvPr/>
        </p:nvSpPr>
        <p:spPr>
          <a:xfrm>
            <a:off x="457200" y="6629400"/>
            <a:ext cx="83059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2880" y="41907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ecture 6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0" name="Picture 15" descr="cover"/>
          <p:cNvPicPr/>
          <p:nvPr/>
        </p:nvPicPr>
        <p:blipFill>
          <a:blip r:embed="rId1"/>
          <a:stretch/>
        </p:blipFill>
        <p:spPr>
          <a:xfrm>
            <a:off x="533520" y="762120"/>
            <a:ext cx="4381560" cy="5486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D94CB-98CA-44BE-9E7C-B3052B06221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Ring Oscillato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frequency of an N-stage ring oscil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uenc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s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/(2*N*d) = 1/4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752480" y="2209680"/>
          <a:ext cx="5257800" cy="81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209680"/>
                    <a:ext cx="5257800" cy="8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Text Box 5"/>
          <p:cNvSpPr/>
          <p:nvPr/>
        </p:nvSpPr>
        <p:spPr>
          <a:xfrm>
            <a:off x="5638680" y="3733920"/>
            <a:ext cx="281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 stage ring oscillator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 has frequency of ~ 200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3962520" y="3657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4191120" y="5486400"/>
            <a:ext cx="25146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5638680" y="3733920"/>
            <a:ext cx="2667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3962520" y="41911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3962520" y="4572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962520" y="50292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6682F-41B4-4644-BF42-2717BF163952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FO4 Inverter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the delay of a fanout-of-4 (FO4)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Object 4"/>
          <p:cNvGraphicFramePr/>
          <p:nvPr/>
        </p:nvGraphicFramePr>
        <p:xfrm>
          <a:off x="2590920" y="1905120"/>
          <a:ext cx="3429000" cy="18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905120"/>
                    <a:ext cx="3429000" cy="18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5"/>
          <p:cNvSpPr/>
          <p:nvPr/>
        </p:nvSpPr>
        <p:spPr>
          <a:xfrm>
            <a:off x="4952880" y="4191120"/>
            <a:ext cx="3048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O4 delay is 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0 ps in 0.6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ps in a 65 nm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3962520" y="36576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4952880" y="4038480"/>
            <a:ext cx="3048120" cy="175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8"/>
          <p:cNvSpPr/>
          <p:nvPr/>
        </p:nvSpPr>
        <p:spPr>
          <a:xfrm>
            <a:off x="3962520" y="41148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3962520" y="45720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3962520" y="5029200"/>
            <a:ext cx="761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7A20-7DB6-4640-8F0E-2CBF85F1CAE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Object 5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6"/>
          <p:cNvGraphicFramePr/>
          <p:nvPr/>
        </p:nvGraphicFramePr>
        <p:xfrm>
          <a:off x="4324320" y="2666880"/>
          <a:ext cx="182880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24320" y="2666880"/>
                    <a:ext cx="182880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8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9"/>
          <p:cNvGraphicFramePr/>
          <p:nvPr/>
        </p:nvGraphicFramePr>
        <p:xfrm>
          <a:off x="1371600" y="4572000"/>
          <a:ext cx="6400800" cy="1332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5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71600" y="4572000"/>
                    <a:ext cx="640080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D3797-914F-4E20-9F23-0CF61BF0C70E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Logic Network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generalizes to multistage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lectr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we write F = G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267080" y="1981080"/>
          <a:ext cx="15368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1981080"/>
                    <a:ext cx="15368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5"/>
          <p:cNvGraphicFramePr/>
          <p:nvPr/>
        </p:nvGraphicFramePr>
        <p:xfrm>
          <a:off x="4267080" y="2666880"/>
          <a:ext cx="1943280" cy="1079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7080" y="2666880"/>
                    <a:ext cx="194328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6"/>
          <p:cNvGraphicFramePr/>
          <p:nvPr/>
        </p:nvGraphicFramePr>
        <p:xfrm>
          <a:off x="4267080" y="3809880"/>
          <a:ext cx="298476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3809880"/>
                    <a:ext cx="29847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A2B7A-FD44-4C0A-8699-EFE2B7C2865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Paths that Branc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!  Consider paths that branch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5 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15 +15) / 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90 / 15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1085760"/>
                <a:tab algn="l" pos="1257480"/>
                <a:tab algn="l" pos="2514600"/>
                <a:tab algn="l" pos="3772080"/>
                <a:tab algn="l" pos="5029200"/>
                <a:tab algn="l" pos="6286680"/>
                <a:tab algn="l" pos="7543800"/>
                <a:tab algn="l" pos="880128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6 = 2G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057400" y="23623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057400" y="28195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2057400" y="32767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2057400" y="373392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2057400" y="41148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2057400" y="4572000"/>
            <a:ext cx="28954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Object 4"/>
          <p:cNvGraphicFramePr/>
          <p:nvPr/>
        </p:nvGraphicFramePr>
        <p:xfrm>
          <a:off x="4724280" y="1981080"/>
          <a:ext cx="365760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981080"/>
                    <a:ext cx="365760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4032-DDF2-47CA-A164-89E3CA097B5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ranching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branching between stages in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we compute th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562040" y="2514600"/>
          <a:ext cx="2933640" cy="10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2514600"/>
                    <a:ext cx="293364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Object 5"/>
          <p:cNvGraphicFramePr/>
          <p:nvPr/>
        </p:nvGraphicFramePr>
        <p:xfrm>
          <a:off x="1523880" y="3733920"/>
          <a:ext cx="144792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733920"/>
                    <a:ext cx="144792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6"/>
          <p:cNvGraphicFramePr/>
          <p:nvPr/>
        </p:nvGraphicFramePr>
        <p:xfrm>
          <a:off x="6324480" y="3962520"/>
          <a:ext cx="17780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24480" y="3962520"/>
                    <a:ext cx="17780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Text Box 7"/>
          <p:cNvSpPr/>
          <p:nvPr/>
        </p:nvSpPr>
        <p:spPr>
          <a:xfrm>
            <a:off x="625032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ACD68-1098-4C26-95CB-869D61501BF6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ultistage Delay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Parasitic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4419720" y="1523880"/>
          <a:ext cx="163836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1523880"/>
                    <a:ext cx="1638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5"/>
          <p:cNvGraphicFramePr/>
          <p:nvPr/>
        </p:nvGraphicFramePr>
        <p:xfrm>
          <a:off x="4419720" y="2362320"/>
          <a:ext cx="1447560" cy="546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2362320"/>
                    <a:ext cx="14475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6"/>
          <p:cNvGraphicFramePr/>
          <p:nvPr/>
        </p:nvGraphicFramePr>
        <p:xfrm>
          <a:off x="4419720" y="3200400"/>
          <a:ext cx="2933640" cy="5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19720" y="32004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862F-B779-4131-8169-D8B627F41AC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signing Fast Circui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s smallest when each stage bears sam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us minimum delay of N stage path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fastest possible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require calculating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Object 4"/>
          <p:cNvGraphicFramePr/>
          <p:nvPr/>
        </p:nvGraphicFramePr>
        <p:xfrm>
          <a:off x="1219320" y="1600200"/>
          <a:ext cx="2933640" cy="5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600200"/>
                    <a:ext cx="293364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Object 5"/>
          <p:cNvGraphicFramePr/>
          <p:nvPr/>
        </p:nvGraphicFramePr>
        <p:xfrm>
          <a:off x="1295280" y="2895480"/>
          <a:ext cx="2121120" cy="55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2895480"/>
                    <a:ext cx="212112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Object 6"/>
          <p:cNvGraphicFramePr/>
          <p:nvPr/>
        </p:nvGraphicFramePr>
        <p:xfrm>
          <a:off x="1219320" y="4038480"/>
          <a:ext cx="2082600" cy="470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98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038480"/>
                    <a:ext cx="2082600" cy="4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Rectangle 7"/>
          <p:cNvSpPr/>
          <p:nvPr/>
        </p:nvSpPr>
        <p:spPr>
          <a:xfrm>
            <a:off x="1143000" y="3962520"/>
            <a:ext cx="2286000" cy="68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219320" y="4038480"/>
            <a:ext cx="213336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5F0A6-6757-4164-A55F-F1EBE4DFF0E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ide should the gates be for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backward, apply capacitance transformation to find input capacitance of each gate given load it dri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ork by verifying input cap spec is m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Object 4"/>
          <p:cNvGraphicFramePr/>
          <p:nvPr/>
        </p:nvGraphicFramePr>
        <p:xfrm>
          <a:off x="1143000" y="2209680"/>
          <a:ext cx="2641680" cy="179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26416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B8CC0-6B3A-4F74-90D3-EEED9F503D6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gate sizes x and y for least delay from A 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838080" y="2057400"/>
          <a:ext cx="7391520" cy="36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057400"/>
                    <a:ext cx="7391520" cy="36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BA21-7321-48A9-9524-94130125B86C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in a Logic 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stage Logic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ing th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E529-AF90-4BC9-B651-F7169387F9D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(4/3)*(5/3)*(5/3) = 100/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45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3 *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2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st Stage Effo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 = 2 + 3 + 2 =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spcBef>
                <a:spcPts val="601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3*5 + 7 = 22 = 4.4 FO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Object 4"/>
          <p:cNvGraphicFramePr/>
          <p:nvPr/>
        </p:nvGraphicFramePr>
        <p:xfrm>
          <a:off x="914400" y="1371600"/>
          <a:ext cx="3429000" cy="169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3429000" cy="169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5"/>
          <p:cNvGraphicFramePr/>
          <p:nvPr/>
        </p:nvGraphicFramePr>
        <p:xfrm>
          <a:off x="4114800" y="4572000"/>
          <a:ext cx="180324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4572000"/>
                    <a:ext cx="18032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Rectangle 6"/>
          <p:cNvSpPr/>
          <p:nvPr/>
        </p:nvSpPr>
        <p:spPr>
          <a:xfrm>
            <a:off x="4800600" y="28195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4724280" y="327672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4"/>
          <p:cNvSpPr/>
          <p:nvPr/>
        </p:nvSpPr>
        <p:spPr>
          <a:xfrm>
            <a:off x="4724280" y="36576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4724280" y="41148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6"/>
          <p:cNvSpPr/>
          <p:nvPr/>
        </p:nvSpPr>
        <p:spPr>
          <a:xfrm>
            <a:off x="4724280" y="45720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17"/>
          <p:cNvSpPr/>
          <p:nvPr/>
        </p:nvSpPr>
        <p:spPr>
          <a:xfrm>
            <a:off x="4724280" y="50292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8"/>
          <p:cNvSpPr/>
          <p:nvPr/>
        </p:nvSpPr>
        <p:spPr>
          <a:xfrm>
            <a:off x="4724280" y="5486400"/>
            <a:ext cx="35816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9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0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C64B-AFA5-42D7-BF35-DCB87C232C3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: 3-stage path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 backward for siz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= 45 * (5/3) / 5 =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1143000"/>
                <a:tab algn="l" pos="2286000"/>
                <a:tab algn="l" pos="3429000"/>
                <a:tab algn="l" pos="4572000"/>
                <a:tab algn="l" pos="5715000"/>
                <a:tab algn="l" pos="6858000"/>
                <a:tab algn="l" pos="8001000"/>
                <a:tab algn="l" pos="91440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= (15*2) * (5/3) / 5 =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19320" y="3124080"/>
          <a:ext cx="609588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124080"/>
                    <a:ext cx="609588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Rectangle 5"/>
          <p:cNvSpPr/>
          <p:nvPr/>
        </p:nvSpPr>
        <p:spPr>
          <a:xfrm>
            <a:off x="1600200" y="190512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1600200" y="2286000"/>
            <a:ext cx="35812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Object 11"/>
          <p:cNvGraphicFramePr/>
          <p:nvPr/>
        </p:nvGraphicFramePr>
        <p:xfrm>
          <a:off x="1219320" y="2971800"/>
          <a:ext cx="6172200" cy="304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7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9320" y="2971800"/>
                    <a:ext cx="617220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E920-28A8-40E2-849A-83477225FE4B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stages should a path u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izing number of stages is not always fas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drive 64-bit datapath with unit inve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N(64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Object 4"/>
          <p:cNvGraphicFramePr/>
          <p:nvPr/>
        </p:nvGraphicFramePr>
        <p:xfrm>
          <a:off x="4572000" y="2895480"/>
          <a:ext cx="3886200" cy="32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895480"/>
                    <a:ext cx="3886200" cy="32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4" name="Rectangle 7"/>
          <p:cNvSpPr/>
          <p:nvPr/>
        </p:nvSpPr>
        <p:spPr>
          <a:xfrm>
            <a:off x="1905120" y="365760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1600200" y="41148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9"/>
          <p:cNvSpPr/>
          <p:nvPr/>
        </p:nvSpPr>
        <p:spPr>
          <a:xfrm>
            <a:off x="55627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11"/>
          <p:cNvSpPr/>
          <p:nvPr/>
        </p:nvSpPr>
        <p:spPr>
          <a:xfrm>
            <a:off x="617220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Rectangle 12"/>
          <p:cNvSpPr/>
          <p:nvPr/>
        </p:nvSpPr>
        <p:spPr>
          <a:xfrm>
            <a:off x="6705720" y="5410080"/>
            <a:ext cx="685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Rectangle 13"/>
          <p:cNvSpPr/>
          <p:nvPr/>
        </p:nvSpPr>
        <p:spPr>
          <a:xfrm>
            <a:off x="7391520" y="5410080"/>
            <a:ext cx="457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5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6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518B6-56E2-4CAE-B341-A630B005269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riva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adding inverters to end of p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give least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best stag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Object 4"/>
          <p:cNvGraphicFramePr/>
          <p:nvPr/>
        </p:nvGraphicFramePr>
        <p:xfrm>
          <a:off x="5334120" y="2057400"/>
          <a:ext cx="3276360" cy="10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057400"/>
                    <a:ext cx="3276360" cy="10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Object 5"/>
          <p:cNvGraphicFramePr/>
          <p:nvPr/>
        </p:nvGraphicFramePr>
        <p:xfrm>
          <a:off x="685800" y="2438280"/>
          <a:ext cx="48132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2438280"/>
                    <a:ext cx="48132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6"/>
          <p:cNvGraphicFramePr/>
          <p:nvPr/>
        </p:nvGraphicFramePr>
        <p:xfrm>
          <a:off x="685800" y="3429000"/>
          <a:ext cx="4889520" cy="888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5800" y="3429000"/>
                    <a:ext cx="4889520" cy="8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7"/>
          <p:cNvGraphicFramePr/>
          <p:nvPr/>
        </p:nvGraphicFramePr>
        <p:xfrm>
          <a:off x="1676520" y="5334120"/>
          <a:ext cx="3149640" cy="520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76520" y="5334120"/>
                    <a:ext cx="314964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4572000" y="4495680"/>
          <a:ext cx="1143000" cy="546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0" y="4495680"/>
                    <a:ext cx="114300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5BCA2-30C3-4786-A8B3-5D4836B75B73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Best Stage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no closed-for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ing parasitics 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0), we find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2.718 (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, solve numerically for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3.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8" name="Object 5"/>
          <p:cNvGraphicFramePr/>
          <p:nvPr/>
        </p:nvGraphicFramePr>
        <p:xfrm>
          <a:off x="1219320" y="1523880"/>
          <a:ext cx="3149640" cy="52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523880"/>
                    <a:ext cx="3149640" cy="5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B7E4-0AFC-4F4C-ACA6-1E47E9C018F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ensitivity Analysi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ensitive is delay to using exactly the best number of stag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4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lt; 6 gives delay within 15% of opt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be slopp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lik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4038480" y="1981080"/>
          <a:ext cx="4038840" cy="277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1981080"/>
                    <a:ext cx="4038840" cy="27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131DC-FFDE-47DD-BD45-E40BEB1CB4B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, Revisited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Ben Bitdiddle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4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25FE-9754-4A40-84DC-42B342BD381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Number of Stag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oder effort is mainly electrical and bran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= (32*3) / 10 = 9.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nching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=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neglect logical effort (assume G =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76.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=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3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a 3-stage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"/>
          <p:cNvSpPr/>
          <p:nvPr/>
        </p:nvSpPr>
        <p:spPr>
          <a:xfrm>
            <a:off x="495288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49528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Rectangle 7"/>
          <p:cNvSpPr/>
          <p:nvPr/>
        </p:nvSpPr>
        <p:spPr>
          <a:xfrm>
            <a:off x="4952880" y="37339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ectangle 8"/>
          <p:cNvSpPr/>
          <p:nvPr/>
        </p:nvSpPr>
        <p:spPr>
          <a:xfrm>
            <a:off x="4952880" y="457200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9"/>
          <p:cNvSpPr/>
          <p:nvPr/>
        </p:nvSpPr>
        <p:spPr>
          <a:xfrm>
            <a:off x="1981080" y="5486400"/>
            <a:ext cx="228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8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9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2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3DEF-7814-45C2-992A-29D55377D9F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Gate Sizes &amp; Dela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 = 1 * 6/3 * 1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= GBH = 1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ge Effor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 siz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6*1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8    y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*2/5.3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6.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5" name="Object 4"/>
          <p:cNvGraphicFramePr/>
          <p:nvPr/>
        </p:nvGraphicFramePr>
        <p:xfrm>
          <a:off x="1219320" y="3719520"/>
          <a:ext cx="586728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719520"/>
                    <a:ext cx="586728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5"/>
          <p:cNvGraphicFramePr/>
          <p:nvPr/>
        </p:nvGraphicFramePr>
        <p:xfrm>
          <a:off x="3505320" y="2362320"/>
          <a:ext cx="2336760" cy="520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05320" y="2362320"/>
                    <a:ext cx="233676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6"/>
          <p:cNvGraphicFramePr/>
          <p:nvPr/>
        </p:nvGraphicFramePr>
        <p:xfrm>
          <a:off x="3505320" y="2819520"/>
          <a:ext cx="3670200" cy="52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05320" y="2819520"/>
                    <a:ext cx="367020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1" name="Rectangle 8"/>
          <p:cNvSpPr/>
          <p:nvPr/>
        </p:nvSpPr>
        <p:spPr>
          <a:xfrm>
            <a:off x="4038480" y="15238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Rectangle 9"/>
          <p:cNvSpPr/>
          <p:nvPr/>
        </p:nvSpPr>
        <p:spPr>
          <a:xfrm>
            <a:off x="4038480" y="198108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4114800" y="2362320"/>
            <a:ext cx="2286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1"/>
          <p:cNvSpPr/>
          <p:nvPr/>
        </p:nvSpPr>
        <p:spPr>
          <a:xfrm>
            <a:off x="4114800" y="2819520"/>
            <a:ext cx="304812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12"/>
          <p:cNvSpPr/>
          <p:nvPr/>
        </p:nvSpPr>
        <p:spPr>
          <a:xfrm>
            <a:off x="3962520" y="3352680"/>
            <a:ext cx="18288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13"/>
          <p:cNvSpPr/>
          <p:nvPr/>
        </p:nvSpPr>
        <p:spPr>
          <a:xfrm>
            <a:off x="6477120" y="3276720"/>
            <a:ext cx="1981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4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C76F-C337-4263-BF06-CA105914E1C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aris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 many alternatives with a spread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 = N(76.8 G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/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219320" y="2514600"/>
          <a:ext cx="6476760" cy="3462480"/>
        </p:xfrm>
        <a:graphic>
          <a:graphicData uri="http://schemas.openxmlformats.org/drawingml/2006/table">
            <a:tbl>
              <a:tblPr/>
              <a:tblGrid>
                <a:gridCol w="4038480"/>
                <a:gridCol w="457200"/>
                <a:gridCol w="762120"/>
                <a:gridCol w="457200"/>
                <a:gridCol w="761760"/>
              </a:tblGrid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INV-NAND4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4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NOR2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-NAND2-INV-NAND2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960"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2-INV-NAND2-INV-INV-IN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/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18360" bIns="18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B639-C484-4049-BDF5-7A398E667A1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p designers face a bewildering array of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best circuit topology for a func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of logic give least del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wide should the transistors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 effort is a method to make these dec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s a simple model of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s back-of-the-envelope calc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s make rapid comparisons between alterna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hasizes remarkable symme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Object 6"/>
          <p:cNvGraphicFramePr/>
          <p:nvPr/>
        </p:nvGraphicFramePr>
        <p:xfrm>
          <a:off x="7086600" y="1752480"/>
          <a:ext cx="1368360" cy="221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86600" y="1752480"/>
                    <a:ext cx="1368360" cy="221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BBDFE-FCEB-4863-ADD6-1A5A2A16102D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view of Definition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676520"/>
          <a:ext cx="7696080" cy="4010040"/>
        </p:xfrm>
        <a:graphic>
          <a:graphicData uri="http://schemas.openxmlformats.org/drawingml/2006/table">
            <a:tbl>
              <a:tblPr/>
              <a:tblGrid>
                <a:gridCol w="2678040"/>
                <a:gridCol w="2509920"/>
                <a:gridCol w="25081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stag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ctrical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anching 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ort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sitic 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6" name="Object 52"/>
          <p:cNvGraphicFramePr/>
          <p:nvPr/>
        </p:nvGraphicFramePr>
        <p:xfrm>
          <a:off x="5943600" y="2590920"/>
          <a:ext cx="952560" cy="3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5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590920"/>
                    <a:ext cx="95256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54"/>
          <p:cNvGraphicFramePr/>
          <p:nvPr/>
        </p:nvGraphicFramePr>
        <p:xfrm>
          <a:off x="5950080" y="3009960"/>
          <a:ext cx="939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5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0080" y="3009960"/>
                    <a:ext cx="939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Object 55"/>
          <p:cNvGraphicFramePr/>
          <p:nvPr/>
        </p:nvGraphicFramePr>
        <p:xfrm>
          <a:off x="5943600" y="2209680"/>
          <a:ext cx="228600" cy="2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1" name="Object 5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943600" y="2209680"/>
                    <a:ext cx="22860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Object 56"/>
          <p:cNvGraphicFramePr/>
          <p:nvPr/>
        </p:nvGraphicFramePr>
        <p:xfrm>
          <a:off x="5969160" y="3505320"/>
          <a:ext cx="901440" cy="342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3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69160" y="3505320"/>
                    <a:ext cx="90144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Object 57"/>
          <p:cNvGraphicFramePr/>
          <p:nvPr/>
        </p:nvGraphicFramePr>
        <p:xfrm>
          <a:off x="5950080" y="3943440"/>
          <a:ext cx="939600" cy="2286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25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50080" y="3943440"/>
                    <a:ext cx="939600" cy="22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Object 59"/>
          <p:cNvGraphicFramePr/>
          <p:nvPr/>
        </p:nvGraphicFramePr>
        <p:xfrm>
          <a:off x="5911920" y="4343400"/>
          <a:ext cx="1015920" cy="343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27" name="Object 5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911920" y="4343400"/>
                    <a:ext cx="101592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Object 62"/>
          <p:cNvGraphicFramePr/>
          <p:nvPr/>
        </p:nvGraphicFramePr>
        <p:xfrm>
          <a:off x="5943600" y="4876920"/>
          <a:ext cx="901800" cy="342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29" name="Object 6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943600" y="4876920"/>
                    <a:ext cx="901800" cy="3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Object 63"/>
          <p:cNvGraphicFramePr/>
          <p:nvPr/>
        </p:nvGraphicFramePr>
        <p:xfrm>
          <a:off x="5943600" y="5257800"/>
          <a:ext cx="1866960" cy="343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331" name="Object 6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257800"/>
                    <a:ext cx="186696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Object 64"/>
          <p:cNvGraphicFramePr/>
          <p:nvPr/>
        </p:nvGraphicFramePr>
        <p:xfrm>
          <a:off x="3429000" y="3048120"/>
          <a:ext cx="660240" cy="3682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33" name="Object 6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29000" y="3048120"/>
                    <a:ext cx="6602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Object 65"/>
          <p:cNvGraphicFramePr/>
          <p:nvPr/>
        </p:nvGraphicFramePr>
        <p:xfrm>
          <a:off x="3429000" y="3429000"/>
          <a:ext cx="1308240" cy="419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35" name="Object 65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3429000" y="3429000"/>
                    <a:ext cx="130824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Object 66"/>
          <p:cNvGraphicFramePr/>
          <p:nvPr/>
        </p:nvGraphicFramePr>
        <p:xfrm>
          <a:off x="3429000" y="3962520"/>
          <a:ext cx="685800" cy="2667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37" name="Object 66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3429000" y="3962520"/>
                    <a:ext cx="6858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Object 67"/>
          <p:cNvGraphicFramePr/>
          <p:nvPr/>
        </p:nvGraphicFramePr>
        <p:xfrm>
          <a:off x="3429000" y="4419720"/>
          <a:ext cx="203040" cy="2667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39" name="Object 67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3429000" y="4419720"/>
                    <a:ext cx="20304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68"/>
          <p:cNvGraphicFramePr/>
          <p:nvPr/>
        </p:nvGraphicFramePr>
        <p:xfrm>
          <a:off x="3429000" y="4952880"/>
          <a:ext cx="190440" cy="2160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41" name="Object 68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3429000" y="4952880"/>
                    <a:ext cx="1904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Object 69"/>
          <p:cNvGraphicFramePr/>
          <p:nvPr/>
        </p:nvGraphicFramePr>
        <p:xfrm>
          <a:off x="3429000" y="5334120"/>
          <a:ext cx="927000" cy="26676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343" name="Object 69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3429000" y="5334120"/>
                    <a:ext cx="9270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4" name="Object 70"/>
          <p:cNvGraphicFramePr/>
          <p:nvPr/>
        </p:nvGraphicFramePr>
        <p:xfrm>
          <a:off x="3429000" y="2666880"/>
          <a:ext cx="177840" cy="21600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345" name="Object 70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3429000" y="2666880"/>
                    <a:ext cx="17784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6" name="Object 71"/>
          <p:cNvGraphicFramePr/>
          <p:nvPr/>
        </p:nvGraphicFramePr>
        <p:xfrm>
          <a:off x="3429000" y="2209680"/>
          <a:ext cx="114480" cy="2160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347" name="Object 71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3429000" y="220968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3C4-128E-4619-B1DF-F10D9AAA90A0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Method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path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best number of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etch path with N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imate least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 best stage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 gate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Object 4"/>
          <p:cNvGraphicFramePr/>
          <p:nvPr/>
        </p:nvGraphicFramePr>
        <p:xfrm>
          <a:off x="6400800" y="1600200"/>
          <a:ext cx="1231920" cy="27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00800" y="1600200"/>
                    <a:ext cx="1231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" name="Object 5"/>
          <p:cNvGraphicFramePr/>
          <p:nvPr/>
        </p:nvGraphicFramePr>
        <p:xfrm>
          <a:off x="6400800" y="2057400"/>
          <a:ext cx="1371600" cy="38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00800" y="2057400"/>
                    <a:ext cx="137160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Object 6"/>
          <p:cNvGraphicFramePr/>
          <p:nvPr/>
        </p:nvGraphicFramePr>
        <p:xfrm>
          <a:off x="6400800" y="2819520"/>
          <a:ext cx="1676520" cy="39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00800" y="2819520"/>
                    <a:ext cx="167652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8" name="Object 7"/>
          <p:cNvGraphicFramePr/>
          <p:nvPr/>
        </p:nvGraphicFramePr>
        <p:xfrm>
          <a:off x="6400800" y="3352680"/>
          <a:ext cx="93996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3352680"/>
                    <a:ext cx="93996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0" name="Object 9"/>
          <p:cNvGraphicFramePr/>
          <p:nvPr/>
        </p:nvGraphicFramePr>
        <p:xfrm>
          <a:off x="6400800" y="4038480"/>
          <a:ext cx="154944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6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4038480"/>
                    <a:ext cx="154944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1802-2298-47AF-AFA9-A435FC888104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Limits of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cken and eg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path to compute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 know number of stages without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stic dela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lects input rise time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conn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eration required in designs with 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speed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minimum area/power for constrained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2806-C7F3-4A3F-8AFE-D13D6181FD28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is useful for thinking of delay in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logical effort characterizes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NDs are faster than NORs in C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s are fastest when effort delays are ~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h delay is weakly sensitive to stages, s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using fewer stages doesn’t mean faster p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 of path is abou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FO4 inverter del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ters and NAND2 best for driving large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language for discussing fast circu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requires practice to ma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A782-FAC0-401B-8348-84DE93BF679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 Ben Bitdiddle design the decoder for a register fil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2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oder specifica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word register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word is 32 bits 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bit presents load of 3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ue and complementary address inputs A[3: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input may drive 10 unit-sized transi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2080" indent="-442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n needs to deci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stages to u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large should each gate b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80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fast can decoder oper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Object 4"/>
          <p:cNvGraphicFramePr/>
          <p:nvPr/>
        </p:nvGraphicFramePr>
        <p:xfrm>
          <a:off x="5486400" y="2057400"/>
          <a:ext cx="3124080" cy="17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057400"/>
                    <a:ext cx="3124080" cy="17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0974-F1CE-49BF-B8EB-C634B9559195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in a Logic Gate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 delays in process-independent 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ay has two components: d =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ffort delay =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.k.a. stage effor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ain has two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cc0099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logical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sures relative ability of gate to deliver cu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1 for inver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ff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ectrical eff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/ C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io of output to input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called fan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arasitic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resents delay of gate driving no lo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 by internal parasitic capaci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Object 1028"/>
          <p:cNvGraphicFramePr/>
          <p:nvPr/>
        </p:nvGraphicFramePr>
        <p:xfrm>
          <a:off x="6477120" y="1447920"/>
          <a:ext cx="914400" cy="63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Object 102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1447920"/>
                    <a:ext cx="91440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Text Box 1030"/>
          <p:cNvSpPr/>
          <p:nvPr/>
        </p:nvSpPr>
        <p:spPr>
          <a:xfrm>
            <a:off x="6172200" y="2057400"/>
            <a:ext cx="26668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Symbol"/>
                <a:ea typeface="Symbol"/>
              </a:rPr>
              <a:t>τ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3RC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 ps in 65 n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 ps in 0.6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 pro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ooter Placeholder 5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Slide Number Placeholder 6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D8C2B-3717-423E-8592-4606BAD8B58F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Object 4"/>
          <p:cNvGraphicFramePr/>
          <p:nvPr/>
        </p:nvGraphicFramePr>
        <p:xfrm>
          <a:off x="3276720" y="1600200"/>
          <a:ext cx="50292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60020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Object 9"/>
          <p:cNvGraphicFramePr/>
          <p:nvPr/>
        </p:nvGraphicFramePr>
        <p:xfrm>
          <a:off x="3276720" y="1606680"/>
          <a:ext cx="5029200" cy="441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606680"/>
                    <a:ext cx="50292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ay Plot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b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5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2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2"/>
          <p:cNvSpPr/>
          <p:nvPr/>
        </p:nvSpPr>
        <p:spPr>
          <a:xfrm>
            <a:off x="685800" y="26668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5A41-E130-4E03-A0BD-731B6F9A90D1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omputing Logical Effor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: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ogical effort is the ratio of the input capacitance of a gate to the input capacitance of an inverter delivering the same output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 from delay vs. fanout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estimate by counting transistor wid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4"/>
          <p:cNvGraphicFramePr/>
          <p:nvPr/>
        </p:nvGraphicFramePr>
        <p:xfrm>
          <a:off x="1219320" y="3657600"/>
          <a:ext cx="6172200" cy="23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657600"/>
                    <a:ext cx="6172200" cy="23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818C4-7869-4491-89F4-C242BF5ABCD7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+2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n+1)/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 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 12, 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 16, 16, 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al effort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6: Logical Effo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1903-C294-45C8-B9A7-898D8939A53A}" type="slidenum">
              <a:rPr b="1" lang="en-US" sz="14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atalog of Gate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2438280"/>
          <a:ext cx="7391520" cy="3378240"/>
        </p:xfrm>
        <a:graphic>
          <a:graphicData uri="http://schemas.openxmlformats.org/drawingml/2006/table">
            <a:tbl>
              <a:tblPr/>
              <a:tblGrid>
                <a:gridCol w="1922760"/>
                <a:gridCol w="663480"/>
                <a:gridCol w="812880"/>
                <a:gridCol w="1109520"/>
                <a:gridCol w="1479600"/>
                <a:gridCol w="1403280"/>
              </a:tblGrid>
              <a:tr h="427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 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e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state / mu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OR, XN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5760" indent="-455760"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sitic delay of common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57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ultiples of 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≈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03:13:39Z</dcterms:created>
  <dc:creator>David Harris</dc:creator>
  <dc:description/>
  <dc:language>en-US</dc:language>
  <cp:lastModifiedBy>Microsoft Office User</cp:lastModifiedBy>
  <cp:lastPrinted>2015-02-10T22:10:38Z</cp:lastPrinted>
  <dcterms:modified xsi:type="dcterms:W3CDTF">2020-01-21T11:42:45Z</dcterms:modified>
  <cp:revision>840</cp:revision>
  <dc:subject/>
  <dc:title>PowerPoint Presentation</dc:title>
</cp:coreProperties>
</file>