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2CC9A-E339-41AD-AFCA-1B2431BBC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CF792-F43A-4BDF-9E8C-E359EE66D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FCA99-37BB-4793-B918-C7B1A57D7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63CB1-7DAA-44E2-BECD-666B32B0E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95DA7-050A-4666-84A2-98445FD9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250E7-092A-49C7-A3D6-E7A689ACA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3E6C7-B325-438A-B996-241C49A6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0BCF6-C31E-42EC-AF88-DB24D6A67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D4810-900B-495B-AE05-E0397BCD4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E9588-F884-449C-AD97-6FAF5E2AF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6A11B-CDBE-49EA-973B-646AE01F4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4873E-7DA2-46DF-A832-445285D11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A9F7D-A984-442B-87F0-5F773FBA8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48A46-6500-40FF-A481-D0890A044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2090F-D1E7-4B55-B999-4978A2DA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8FD65-9C9B-4FF3-942B-C041CC6B4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296BD-F4B6-4330-9994-0622FB3E3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57D9F-1978-487B-8960-E5A1016C0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048D1-A9A2-4F02-A1B1-D18AB9FB0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A0D01-CF9C-4604-A1DB-0F06AB912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AAF16-B1BE-46C3-BB69-8D660C285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04483-5F71-41B9-8242-289639C14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AACE0-9C18-408A-B1BA-AC4FCC5D6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383FB-8B13-4E39-8F0B-30EA26E3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CBD5-8564-49AE-B2DF-5D56AAE07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15447-81F5-476E-B99D-B916D61D1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4876E-26B2-4C3A-B397-1442A9566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E5A08-7BE9-41EC-9709-2F6C50638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2B6EE-E9C4-4271-8E02-0BB7320E1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B886C-6808-424B-9A56-F38D229D1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3B3BB-41C1-43A3-8A89-DA189CCC1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B0B0D-EB8B-4C23-B151-4C6AA89F6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AB933-B534-4E63-BB53-796A91FE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8EAEA-747C-481F-AA82-185D359AC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8E06-92AA-43FB-A29D-48771805D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FC88-5BEF-43D0-879F-FB7271F93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344A-131E-4C04-BAF4-9EABB780C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B2AB-A6AA-4DBA-BD22-C9E8886DD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4583-80D2-4649-8F35-B9164C674C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A534-F60E-48B3-A06A-B02AE6FBE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C035-A949-40FF-B49F-A67A1D28D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232C-8CBE-427B-8FC6-E9AEB04B4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12EA-DFBC-4CDC-920C-EF64DCD27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F8CB-4221-45E0-9D26-B28BC1054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9D4A-5526-48DF-A126-B7DD4CD8B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CE91-F2F3-472F-B896-9AC8AAB4C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A4A8-8E36-4930-9833-81BF7BB7983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5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7A54-133C-4522-8CB3-01C30C8B09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24B1-C266-4B1C-AC87-E39042C4982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5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5DA3-3313-4933-87F0-D0676A8332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8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1137-6C9F-4C42-BF82-B748A7DDA2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5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6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45C0-4BDA-431D-AE42-DA7C903C9F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9AA0-FC78-4818-B3D6-7AFEF0174A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5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6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7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2A48-1DEC-430D-A2E1-7109F4F3C4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5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65AB-042E-4D83-8B66-499601C06F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7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9A8B-12B9-40C4-8A38-BADC982798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E8D8-E3CE-47D8-BFEA-BA1574D89D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8AA5-A8B5-46FE-81C2-69802357774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1A06-05BB-4397-8D2A-360676C64F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5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6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E26F-07A1-459C-BD41-E948554B77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5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11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50FC-27BF-4835-9F72-E818B7C7E3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7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296F-A2F1-484B-871E-5E9B42DD2E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5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7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95C3-8E1B-45E0-ADE7-E81DDB846F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5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5000-D813-4537-9F09-4E239CFAE1B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FB0E-C2C0-43E7-86FC-41270B1E0D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Ben Bitdiddle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FE8B-6063-4B1A-85B1-4D016CF563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D555-059D-4637-B442-BEFC945797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5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6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8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62DF-386B-4690-8E4E-8BA7A7E961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E7FB-727F-4D1C-8C23-EC98D4F2EB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6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3ECB-14D5-4520-9CF1-D970D27790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676520"/>
          <a:ext cx="7696080" cy="40100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Object 52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4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5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6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57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59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7" name="Object 5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62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9" name="Object 6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63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1" name="Object 6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64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3" name="Object 6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65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5" name="Object 6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66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7" name="Object 6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67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9" name="Object 6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68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41" name="Object 6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9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3" name="Object 6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0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45" name="Object 7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71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47" name="Object 7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6586-E880-42CA-A2FC-AC74F80E60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5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6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7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9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90E9-B021-4F0F-A460-8DEBBAB59D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0532-481A-49DD-904C-C2E047A38E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183-450F-4E1F-8C25-8EABE5C7C8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Ben Bitdiddle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21BC-CC00-48E6-B64B-4D32CDC6EB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28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030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τ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8629-D912-43C2-825E-2FF27C34AD2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9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CCB7-A4A3-4B31-956D-2D0054B30F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C5A-2DAD-4CC8-BE08-75599FEDAF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B9D8-FFCA-4260-B402-A793CCEE99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≈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2-10T22:10:38Z</cp:lastPrinted>
  <dcterms:modified xsi:type="dcterms:W3CDTF">2020-01-21T11:42:45Z</dcterms:modified>
  <cp:revision>840</cp:revision>
  <dc:subject/>
  <dc:title>PowerPoint Presentation</dc:title>
</cp:coreProperties>
</file>