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3.jpeg" ContentType="image/jpeg"/>
  <Override PartName="/ppt/media/image28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5.wmf" ContentType="image/x-wmf"/>
  <Override PartName="/ppt/media/image2.png" ContentType="image/png"/>
  <Override PartName="/ppt/media/image40.wmf" ContentType="image/x-wmf"/>
  <Override PartName="/ppt/media/image41.wmf" ContentType="image/x-wmf"/>
  <Override PartName="/ppt/media/image42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3.wmf" ContentType="image/x-wmf"/>
  <Override PartName="/ppt/media/image38.wmf" ContentType="image/x-wmf"/>
  <Override PartName="/ppt/media/image8.wmf" ContentType="image/x-wmf"/>
  <Override PartName="/ppt/media/image45.wmf" ContentType="image/x-wmf"/>
  <Override PartName="/ppt/media/image35.png" ContentType="image/png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7.wmf" ContentType="image/x-wmf"/>
  <Override PartName="/ppt/media/image37.wmf" ContentType="image/x-wmf"/>
  <Override PartName="/ppt/media/image6.wmf" ContentType="image/x-wmf"/>
  <Override PartName="/ppt/media/image3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3"/>
          </p:nvPr>
        </p:nvSpPr>
        <p:spPr>
          <a:xfrm>
            <a:off x="544032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760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4"/>
          </p:nvPr>
        </p:nvSpPr>
        <p:spPr>
          <a:xfrm>
            <a:off x="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5"/>
          </p:nvPr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83E018-5424-433F-9FB4-6FBF1ECBDE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27A375-F695-4E66-8976-E41DF4D1CE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9BF368-89C0-424B-A930-B121E1B15B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435097-AF58-49B5-8582-B65FA6F3E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86D451-618D-44AD-BBE9-D6983C398A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A447AB-49EF-420A-A97F-FA60F138F2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C2265C-1E8B-4A8F-8A0C-07BFCC361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F543E3-9D7A-427C-A95C-FBA435EA60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18C500-20E8-4A83-9B9A-0D3851B8E1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C91D55-3360-4557-9565-8AF1D8F5F8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FE72B8-EDE0-4893-922A-85D9691C6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045F91-DDFE-46F5-8203-7BE5657242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83549C-62F8-4941-8F71-FA3549472C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39E64B-319D-45CA-A241-0A111C348F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AB7685-129D-49AA-92CA-3D56EC1BAF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A17913-36F6-44B1-8BC4-BE488AB10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30565E-3293-476A-A4C8-99733B8DF6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A31A8F-F95F-43A3-B9F0-0DFE1E6C4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9623D4-5EB7-4C6D-9B80-F400CC463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297504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07FEFC-BDB5-4ED7-A959-0493F382CE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297504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D8B89B-A3D0-47EC-94A0-5F4E03F6C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297504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811290-37A9-49B1-B2C5-29E81FE84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5CB3E7-507D-45A6-B0FA-82DDC4034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297504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78EBC8-4D5D-4BC2-BFE9-BA6E9C38B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9E3416-2795-418C-8FB2-2BDEEA0ED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297504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4B3561-18CF-4F1B-9F34-C782DFA5AE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297504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74357A-26A5-40DA-BD4C-AF8D695D2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297504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DB800B-8579-4A77-8A7B-0F376E65EB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297504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B55992-A83D-4102-B257-FCB17314D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297504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5D2FA2-B754-467C-A5C2-DE8AC50D5F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297504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02C74E-2D85-406E-ADDF-FD8AD28FF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297504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49D26D-D3B1-4726-82A1-5AE4BA56E8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817A26-6831-4359-B5A5-02BF9BA7D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82028A-933C-47C2-B59B-EBEA97DB04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95AF39-1570-4C3B-A84D-56984E21B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AFDA79-9EA8-40F4-AB74-14F690DFA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F7B7AF-F269-4AA8-9B66-C9C2ADB31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1281240" y="3474720"/>
            <a:ext cx="703872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CF3CD-FEC6-4D08-8ECA-2F357595F4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EC272-A82D-442C-943B-607E9841B3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0825A-BB88-4CE6-AC88-0D9B9C5D45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DB5CC-867F-4B2E-B82D-2DDD07AB72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80C82-6B88-4A17-B69A-4D9A84CE0E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2B0F1-7F6F-4960-A94B-89F9A3C3C8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687B0-F0AE-4059-8B25-7971A74FFF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363A5-728B-4B98-8E7D-63A16F5599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C6F7D-5E3F-4E9A-BFEB-834BFB1599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0E581-10C3-491E-B93C-07FAA31415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8BFE8-0502-4C78-AB14-D9E61F3A4A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13437-3686-4D97-B7E4-489BFAB8AE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5: DC and Transient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E30B7-74A8-420D-995F-C8E530778DE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7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9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0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ext Box 13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Text Box 14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9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0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5.wmf"/><Relationship Id="rId8" Type="http://schemas.openxmlformats.org/officeDocument/2006/relationships/image" Target="../media/image46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47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image" Target="../media/image49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4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5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6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7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5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C &amp; Transient Respons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0" name="Picture 15" descr=""/>
          <p:cNvPicPr/>
          <p:nvPr/>
        </p:nvPicPr>
        <p:blipFill>
          <a:blip r:embed="rId1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6" descr="cover"/>
          <p:cNvPicPr/>
          <p:nvPr/>
        </p:nvPicPr>
        <p:blipFill>
          <a:blip r:embed="rId2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5: DC and Transient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03EDA-3325-4AE9-BCDA-892DBE670B5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urrent vs. V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 Black"/>
              </a:rPr>
              <a:t>out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, V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 Black"/>
              </a:rPr>
              <a:t>i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6" name="Object 4"/>
          <p:cNvGraphicFramePr/>
          <p:nvPr/>
        </p:nvGraphicFramePr>
        <p:xfrm>
          <a:off x="685800" y="2209680"/>
          <a:ext cx="7772400" cy="384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772400" cy="384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5: DC and Transient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D57D9-E16B-4AEC-A43D-1FD4A4EB905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ad Line Analysi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1" name="Object 3"/>
          <p:cNvGraphicFramePr/>
          <p:nvPr/>
        </p:nvGraphicFramePr>
        <p:xfrm>
          <a:off x="609480" y="2743200"/>
          <a:ext cx="6858000" cy="338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743200"/>
                    <a:ext cx="6858000" cy="33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give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s.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ust be where |currents| are equal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Object 5"/>
          <p:cNvGraphicFramePr/>
          <p:nvPr/>
        </p:nvGraphicFramePr>
        <p:xfrm>
          <a:off x="6705720" y="4267080"/>
          <a:ext cx="2057400" cy="137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05720" y="4267080"/>
                    <a:ext cx="2057400" cy="13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4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5: DC and Transient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3E09D-EEC6-4872-8E46-A5F45C87449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ad Line Analysi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3"/>
          <p:cNvGraphicFramePr/>
          <p:nvPr/>
        </p:nvGraphicFramePr>
        <p:xfrm>
          <a:off x="762120" y="2133720"/>
          <a:ext cx="7619760" cy="376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133720"/>
                    <a:ext cx="7619760" cy="37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20"/>
          <p:cNvGraphicFramePr/>
          <p:nvPr/>
        </p:nvGraphicFramePr>
        <p:xfrm>
          <a:off x="762120" y="2133720"/>
          <a:ext cx="7619760" cy="3765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133720"/>
                    <a:ext cx="7619760" cy="37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Object 21"/>
          <p:cNvGraphicFramePr/>
          <p:nvPr/>
        </p:nvGraphicFramePr>
        <p:xfrm>
          <a:off x="762120" y="2133720"/>
          <a:ext cx="7619760" cy="3765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5" name="Object 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2133720"/>
                    <a:ext cx="7619760" cy="37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Object 19"/>
          <p:cNvGraphicFramePr/>
          <p:nvPr/>
        </p:nvGraphicFramePr>
        <p:xfrm>
          <a:off x="762120" y="2133720"/>
          <a:ext cx="7619760" cy="3765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7" name="Object 1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2133720"/>
                    <a:ext cx="7619760" cy="37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22"/>
          <p:cNvGraphicFramePr/>
          <p:nvPr/>
        </p:nvGraphicFramePr>
        <p:xfrm>
          <a:off x="762120" y="2133720"/>
          <a:ext cx="7619760" cy="3765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9" name="Object 2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62120" y="2133720"/>
                    <a:ext cx="7619760" cy="37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23"/>
          <p:cNvGraphicFramePr/>
          <p:nvPr/>
        </p:nvGraphicFramePr>
        <p:xfrm>
          <a:off x="762120" y="2133720"/>
          <a:ext cx="7619760" cy="3765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1" name="Object 2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62120" y="2133720"/>
                    <a:ext cx="7619760" cy="376560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2" name="Object 26"/>
          <p:cNvGraphicFramePr/>
          <p:nvPr/>
        </p:nvGraphicFramePr>
        <p:xfrm>
          <a:off x="762120" y="2133720"/>
          <a:ext cx="7619760" cy="3763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3" name="Object 2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62120" y="2133720"/>
                    <a:ext cx="7619760" cy="37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Rectangle 29"/>
          <p:cNvSpPr/>
          <p:nvPr/>
        </p:nvSpPr>
        <p:spPr>
          <a:xfrm>
            <a:off x="68580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1"/>
          <p:cNvSpPr/>
          <p:nvPr/>
        </p:nvSpPr>
        <p:spPr>
          <a:xfrm>
            <a:off x="1736280" y="1523880"/>
            <a:ext cx="91692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2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32"/>
          <p:cNvSpPr/>
          <p:nvPr/>
        </p:nvSpPr>
        <p:spPr>
          <a:xfrm>
            <a:off x="1766160" y="1523880"/>
            <a:ext cx="91692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4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33"/>
          <p:cNvSpPr/>
          <p:nvPr/>
        </p:nvSpPr>
        <p:spPr>
          <a:xfrm>
            <a:off x="1766160" y="1523880"/>
            <a:ext cx="91692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6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34"/>
          <p:cNvSpPr/>
          <p:nvPr/>
        </p:nvSpPr>
        <p:spPr>
          <a:xfrm>
            <a:off x="1766160" y="1523880"/>
            <a:ext cx="91692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8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5"/>
          <p:cNvSpPr/>
          <p:nvPr/>
        </p:nvSpPr>
        <p:spPr>
          <a:xfrm>
            <a:off x="1752480" y="1523880"/>
            <a:ext cx="914400" cy="4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36"/>
          <p:cNvSpPr/>
          <p:nvPr/>
        </p:nvSpPr>
        <p:spPr>
          <a:xfrm>
            <a:off x="685800" y="1614600"/>
            <a:ext cx="1752480" cy="2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5: DC and Transient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AE438-354E-40B4-BA90-0A7FDE671B1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C Transfer Curv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cribe points onto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s.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Object 6"/>
          <p:cNvGraphicFramePr/>
          <p:nvPr/>
        </p:nvGraphicFramePr>
        <p:xfrm>
          <a:off x="-457200" y="2819520"/>
          <a:ext cx="5257800" cy="25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57200" y="2819520"/>
                    <a:ext cx="5257800" cy="25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7"/>
          <p:cNvGraphicFramePr/>
          <p:nvPr/>
        </p:nvGraphicFramePr>
        <p:xfrm>
          <a:off x="5105520" y="2666880"/>
          <a:ext cx="3733560" cy="282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2666880"/>
                    <a:ext cx="373356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4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5: DC and Transient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5ADE5-60A2-490D-B541-1F1FCED9AC9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perating Reg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5257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visit transistor operating reg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Object 4"/>
          <p:cNvGraphicFramePr/>
          <p:nvPr/>
        </p:nvGraphicFramePr>
        <p:xfrm>
          <a:off x="5029200" y="3276720"/>
          <a:ext cx="3733920" cy="28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276720"/>
                    <a:ext cx="373392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685800" y="2743200"/>
          <a:ext cx="4267080" cy="2378160"/>
        </p:xfrm>
        <a:graphic>
          <a:graphicData uri="http://schemas.openxmlformats.org/drawingml/2006/table">
            <a:tbl>
              <a:tblPr/>
              <a:tblGrid>
                <a:gridCol w="1422360"/>
                <a:gridCol w="1422360"/>
                <a:gridCol w="142236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M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o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o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Rectangle 35"/>
          <p:cNvSpPr/>
          <p:nvPr/>
        </p:nvSpPr>
        <p:spPr>
          <a:xfrm>
            <a:off x="2209680" y="3200400"/>
            <a:ext cx="1219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37"/>
          <p:cNvSpPr/>
          <p:nvPr/>
        </p:nvSpPr>
        <p:spPr>
          <a:xfrm>
            <a:off x="3581280" y="3200400"/>
            <a:ext cx="1219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38"/>
          <p:cNvSpPr/>
          <p:nvPr/>
        </p:nvSpPr>
        <p:spPr>
          <a:xfrm>
            <a:off x="2133720" y="35812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39"/>
          <p:cNvSpPr/>
          <p:nvPr/>
        </p:nvSpPr>
        <p:spPr>
          <a:xfrm>
            <a:off x="3581280" y="3581280"/>
            <a:ext cx="1219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40"/>
          <p:cNvSpPr/>
          <p:nvPr/>
        </p:nvSpPr>
        <p:spPr>
          <a:xfrm>
            <a:off x="2133720" y="3962520"/>
            <a:ext cx="121896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41"/>
          <p:cNvSpPr/>
          <p:nvPr/>
        </p:nvSpPr>
        <p:spPr>
          <a:xfrm>
            <a:off x="3581280" y="3962520"/>
            <a:ext cx="12193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42"/>
          <p:cNvSpPr/>
          <p:nvPr/>
        </p:nvSpPr>
        <p:spPr>
          <a:xfrm>
            <a:off x="2133720" y="434340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43"/>
          <p:cNvSpPr/>
          <p:nvPr/>
        </p:nvSpPr>
        <p:spPr>
          <a:xfrm>
            <a:off x="3581280" y="4343400"/>
            <a:ext cx="1219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44"/>
          <p:cNvSpPr/>
          <p:nvPr/>
        </p:nvSpPr>
        <p:spPr>
          <a:xfrm>
            <a:off x="2133720" y="4724280"/>
            <a:ext cx="1218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45"/>
          <p:cNvSpPr/>
          <p:nvPr/>
        </p:nvSpPr>
        <p:spPr>
          <a:xfrm>
            <a:off x="3581280" y="4724280"/>
            <a:ext cx="12193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Object 46"/>
          <p:cNvGraphicFramePr/>
          <p:nvPr/>
        </p:nvGraphicFramePr>
        <p:xfrm>
          <a:off x="5867280" y="1600200"/>
          <a:ext cx="2057400" cy="137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" name="Object 4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1600200"/>
                    <a:ext cx="2057400" cy="13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5: DC and Transient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F3F9F-628F-4CB1-B6A8-B671ACED612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ta Ratio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≈ 1, switching point will move from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kew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gates: collapse into equivalent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Object 4"/>
          <p:cNvGraphicFramePr/>
          <p:nvPr/>
        </p:nvGraphicFramePr>
        <p:xfrm>
          <a:off x="2438280" y="2819520"/>
          <a:ext cx="4343400" cy="320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819520"/>
                    <a:ext cx="4343400" cy="32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5: DC and Transient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9567F-45F3-4F6A-BD4B-FF6E22B979E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oise Margi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noise can a gate input see before it does not recognize the inp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Object 4"/>
          <p:cNvGraphicFramePr/>
          <p:nvPr/>
        </p:nvGraphicFramePr>
        <p:xfrm>
          <a:off x="914400" y="2438280"/>
          <a:ext cx="7467480" cy="35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438280"/>
                    <a:ext cx="7467480" cy="35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5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5: DC and Transient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5AAC8-77CF-41BB-A4DA-72A895C3426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Object 9"/>
          <p:cNvGraphicFramePr/>
          <p:nvPr/>
        </p:nvGraphicFramePr>
        <p:xfrm>
          <a:off x="2209680" y="2514600"/>
          <a:ext cx="4267440" cy="359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514600"/>
                    <a:ext cx="4267440" cy="35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ic Level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aximize noise margins, select logic levels 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y gain point of DC transfer characteri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Object 4"/>
          <p:cNvGraphicFramePr/>
          <p:nvPr/>
        </p:nvGraphicFramePr>
        <p:xfrm>
          <a:off x="2209680" y="2514600"/>
          <a:ext cx="4267440" cy="359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2514600"/>
                    <a:ext cx="4267440" cy="35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5: DC and Transient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E3BF6-8D0F-45A5-94D5-03B036EAB7E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ient Respons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C analy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lls us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ansient analy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lls us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 i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solving differential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is usually considered to be a step or ra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0 to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vice ver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5: DC and Transient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8EE97-772F-46CE-90CB-039BA4E43F9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ter Step Respons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find step response of inverter driving load c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Object 4"/>
          <p:cNvGraphicFramePr/>
          <p:nvPr/>
        </p:nvGraphicFramePr>
        <p:xfrm>
          <a:off x="838080" y="1981080"/>
          <a:ext cx="3090960" cy="231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981080"/>
                    <a:ext cx="3090960" cy="231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Object 5"/>
          <p:cNvGraphicFramePr/>
          <p:nvPr/>
        </p:nvGraphicFramePr>
        <p:xfrm>
          <a:off x="609480" y="4343400"/>
          <a:ext cx="5195880" cy="165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4343400"/>
                    <a:ext cx="5195880" cy="16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Object 6"/>
          <p:cNvGraphicFramePr/>
          <p:nvPr/>
        </p:nvGraphicFramePr>
        <p:xfrm>
          <a:off x="6019920" y="4114800"/>
          <a:ext cx="2743200" cy="17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1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19920" y="4114800"/>
                    <a:ext cx="2743200" cy="17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Object 7"/>
          <p:cNvGraphicFramePr/>
          <p:nvPr/>
        </p:nvGraphicFramePr>
        <p:xfrm>
          <a:off x="5486400" y="1981080"/>
          <a:ext cx="2936880" cy="1938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3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86400" y="1981080"/>
                    <a:ext cx="2936880" cy="19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Rectangle 9"/>
          <p:cNvSpPr/>
          <p:nvPr/>
        </p:nvSpPr>
        <p:spPr>
          <a:xfrm>
            <a:off x="6019920" y="4038480"/>
            <a:ext cx="2514600" cy="17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1523880" y="4267080"/>
            <a:ext cx="2743200" cy="17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12"/>
          <p:cNvSpPr/>
          <p:nvPr/>
        </p:nvSpPr>
        <p:spPr>
          <a:xfrm>
            <a:off x="2514600" y="3124080"/>
            <a:ext cx="129528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3"/>
          <p:cNvSpPr/>
          <p:nvPr/>
        </p:nvSpPr>
        <p:spPr>
          <a:xfrm>
            <a:off x="2743200" y="2590920"/>
            <a:ext cx="129528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2057400" y="1981080"/>
            <a:ext cx="175248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5: DC and Transient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795DA-60B4-4B13-89FC-EC1283DB90D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C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Levels and Noise Marg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ent Respo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C Delay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5: DC and Transient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C4150-5ED6-4F40-A397-50DCB5D2B0F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lay Defini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114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19040" indent="-41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pd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ising propagation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696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input to rising output crossing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pd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lling propagation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696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input to falling output crossing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verage propagation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696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(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d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pd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is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696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output crossing 0.2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0.8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all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696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output crossing 0.8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0.2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1"/>
          <a:stretch/>
        </p:blipFill>
        <p:spPr>
          <a:xfrm>
            <a:off x="4726080" y="1600200"/>
            <a:ext cx="3884400" cy="3463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5: DC and Transient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B8BCF-D179-4CD7-9B4A-AEA853E54CB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lay Defini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cd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ising contamination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input to rising output crossing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cd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lling contamination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input to falling output crossing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c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verage contamination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d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d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5: DC and Transient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EFED5-97D8-46DF-9CBC-23C6ABB9726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mulated Inverter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ing differential equations by hand is too h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CE simulator solves the equations numer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more accurate I-V models to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simulations take time to write, may hide ins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Object 6"/>
          <p:cNvGraphicFramePr/>
          <p:nvPr/>
        </p:nvGraphicFramePr>
        <p:xfrm>
          <a:off x="2133720" y="3276720"/>
          <a:ext cx="3657600" cy="292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276720"/>
                    <a:ext cx="3657600" cy="29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5: DC and Transient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2D9E5-5E36-42EA-8171-B961AB54E1F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lay Estim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ould like to be able to easily estimate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s accurate as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easier to ask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f?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ep response usually looks like a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der RC response with a decaying exponent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C delay models to estimate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total capacitance on output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ffective resist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that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ize transistors by finding their effective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average current as gate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5: DC and Transient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60E02-ECEF-4DC4-81F0-1D4C8E6D1E3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ffective Resis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ckley models have limited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ccurate enough for modern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 complicated for much hand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cation: treat transistor as re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lace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with effective resistance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averaged across switching of digital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 inaccurate to predict current at any given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good enough to predict RC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5: DC and Transient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1FA62-C8D2-4CF7-A9E0-5C58B27CC6A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C Delay Mode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equivalent circuits for MO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l switch + capacitance and ON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nMOS has resistance R, capacitance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pMOS has resistance 2R, capacitance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ance proportional to 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stance inversely proportional to 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Object 4"/>
          <p:cNvGraphicFramePr/>
          <p:nvPr/>
        </p:nvGraphicFramePr>
        <p:xfrm>
          <a:off x="762120" y="4038480"/>
          <a:ext cx="7543800" cy="220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038480"/>
                    <a:ext cx="7543800" cy="22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5: DC and Transient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E7573-8731-46A5-82AC-1BC716ABBB7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C Valu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of gate width in 0.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ually decline to 1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in nanometer tec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≈ 6 kΩ*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in 0.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with shorter channel leng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refer to minimum contacted device (4/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maybe 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wide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matter as long as you are consis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5: DC and Transient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549A9-C7DA-4AC9-AFD4-59775EF5750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ter Delay Estim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delay of a fanout-of-1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Object 4"/>
          <p:cNvGraphicFramePr/>
          <p:nvPr/>
        </p:nvGraphicFramePr>
        <p:xfrm>
          <a:off x="762120" y="2057400"/>
          <a:ext cx="7696080" cy="337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696080" cy="33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Text Box 5"/>
          <p:cNvSpPr/>
          <p:nvPr/>
        </p:nvSpPr>
        <p:spPr>
          <a:xfrm>
            <a:off x="838080" y="54100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= 6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5410080" y="2666880"/>
            <a:ext cx="3048120" cy="2057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2438280" y="2057400"/>
            <a:ext cx="3048120" cy="3581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5: DC and Transient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5C166-E64E-457B-B23D-BD9A25E0F48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lay Model Comparis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4" name="Picture 6" descr="0404-invdelay"/>
          <p:cNvPicPr/>
          <p:nvPr/>
        </p:nvPicPr>
        <p:blipFill>
          <a:blip r:embed="rId1"/>
          <a:stretch/>
        </p:blipFill>
        <p:spPr>
          <a:xfrm>
            <a:off x="3276720" y="1676520"/>
            <a:ext cx="4419360" cy="4127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4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5: DC and Transient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FDFE8-F2E5-4322-AEBA-814A869D7FB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3-input NAN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etch a 3-input NAND with transistor widths chosen to achieve effective rise and fall resistances equal to a unit inverter (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Object 4"/>
          <p:cNvGraphicFramePr/>
          <p:nvPr/>
        </p:nvGraphicFramePr>
        <p:xfrm>
          <a:off x="2971800" y="2819520"/>
          <a:ext cx="3352680" cy="297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2819520"/>
                    <a:ext cx="3352680" cy="29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1" name="Text Box 5"/>
          <p:cNvSpPr/>
          <p:nvPr/>
        </p:nvSpPr>
        <p:spPr>
          <a:xfrm>
            <a:off x="5486400" y="3733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6"/>
          <p:cNvSpPr/>
          <p:nvPr/>
        </p:nvSpPr>
        <p:spPr>
          <a:xfrm>
            <a:off x="548640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7"/>
          <p:cNvSpPr/>
          <p:nvPr/>
        </p:nvSpPr>
        <p:spPr>
          <a:xfrm>
            <a:off x="5486400" y="4876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8"/>
          <p:cNvSpPr/>
          <p:nvPr/>
        </p:nvSpPr>
        <p:spPr>
          <a:xfrm>
            <a:off x="3581280" y="3048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9"/>
          <p:cNvSpPr/>
          <p:nvPr/>
        </p:nvSpPr>
        <p:spPr>
          <a:xfrm>
            <a:off x="45720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10"/>
          <p:cNvSpPr/>
          <p:nvPr/>
        </p:nvSpPr>
        <p:spPr>
          <a:xfrm>
            <a:off x="54864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5: DC and Transient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CB1F4-E087-4F2C-A510-D4454E2DDEF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ss Transisto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2720" indent="-43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assumed source is groun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2720" indent="-43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f source &gt; 0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pass transistor passing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2720" indent="-43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ce transistor would turn itself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2720" indent="-43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pass transistors pull no higher tha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a degraded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ach degraded value slowly (low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2720" indent="-43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pass transistors pull no lower tha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2720" indent="-4327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ssion gates are needed to pass both 0 and 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4"/>
          <p:cNvGraphicFramePr/>
          <p:nvPr/>
        </p:nvGraphicFramePr>
        <p:xfrm>
          <a:off x="6400800" y="1828800"/>
          <a:ext cx="1828800" cy="175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1828800"/>
                    <a:ext cx="1828800" cy="17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Footer Placeholder 5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5: DC and Transient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E54B8-B6B5-4524-8A1B-74442F84C3F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9" name="Object 4"/>
          <p:cNvGraphicFramePr/>
          <p:nvPr/>
        </p:nvGraphicFramePr>
        <p:xfrm>
          <a:off x="2286000" y="2286000"/>
          <a:ext cx="4572000" cy="36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286000"/>
                    <a:ext cx="457200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" name="Object 25"/>
          <p:cNvGraphicFramePr/>
          <p:nvPr/>
        </p:nvGraphicFramePr>
        <p:xfrm>
          <a:off x="2286000" y="2286000"/>
          <a:ext cx="4572000" cy="362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2" name="Object 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0" y="2286000"/>
                    <a:ext cx="457200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Object 21"/>
          <p:cNvGraphicFramePr/>
          <p:nvPr/>
        </p:nvGraphicFramePr>
        <p:xfrm>
          <a:off x="2286000" y="2286000"/>
          <a:ext cx="4572000" cy="362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4" name="Object 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0" y="2286000"/>
                    <a:ext cx="457200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-input NAND Cap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otate the 3-input NAND gate with gate and diffusion capacit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5: DC and Transient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29A74-0E74-45DB-914A-01EA9B3B1E0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lmore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ransistors look like re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up or pulldown network modeled 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C l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more delay of RC l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1" name="Object 4"/>
          <p:cNvGraphicFramePr/>
          <p:nvPr/>
        </p:nvGraphicFramePr>
        <p:xfrm>
          <a:off x="1752480" y="3984480"/>
          <a:ext cx="6019920" cy="211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984480"/>
                    <a:ext cx="6019920" cy="21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Rectangle 5"/>
          <p:cNvSpPr/>
          <p:nvPr/>
        </p:nvSpPr>
        <p:spPr>
          <a:xfrm>
            <a:off x="4164120" y="325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4" name="Object 6"/>
          <p:cNvGraphicFramePr/>
          <p:nvPr/>
        </p:nvGraphicFramePr>
        <p:xfrm>
          <a:off x="685800" y="2743200"/>
          <a:ext cx="7794720" cy="147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2743200"/>
                    <a:ext cx="7794720" cy="14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Footer Placeholder 5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5: DC and Transient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7936C-F46E-4125-85E5-6750CEAF5A3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Picture 10" descr=""/>
          <p:cNvPicPr/>
          <p:nvPr/>
        </p:nvPicPr>
        <p:blipFill>
          <a:blip r:embed="rId1"/>
          <a:stretch/>
        </p:blipFill>
        <p:spPr>
          <a:xfrm>
            <a:off x="685800" y="4038480"/>
            <a:ext cx="1409760" cy="190512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3-input NAN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worst-case rising and falling delay of 3-input NAND driving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dentical ga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1" name="Object 6"/>
          <p:cNvGraphicFramePr/>
          <p:nvPr/>
        </p:nvGraphicFramePr>
        <p:xfrm>
          <a:off x="4648320" y="2057400"/>
          <a:ext cx="3733560" cy="1998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2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48320" y="2057400"/>
                    <a:ext cx="3733560" cy="19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3" name="Object 4"/>
          <p:cNvGraphicFramePr/>
          <p:nvPr/>
        </p:nvGraphicFramePr>
        <p:xfrm>
          <a:off x="914400" y="2286000"/>
          <a:ext cx="3048120" cy="1424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4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14400" y="2286000"/>
                    <a:ext cx="3048120" cy="14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5" name="Object 8"/>
          <p:cNvGraphicFramePr/>
          <p:nvPr/>
        </p:nvGraphicFramePr>
        <p:xfrm>
          <a:off x="1905120" y="5105520"/>
          <a:ext cx="1218960" cy="284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26" name="Object 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905120" y="5105520"/>
                    <a:ext cx="1218960" cy="28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7" name="Picture 9" descr=""/>
          <p:cNvPicPr/>
          <p:nvPr/>
        </p:nvPicPr>
        <p:blipFill>
          <a:blip r:embed="rId8"/>
          <a:stretch/>
        </p:blipFill>
        <p:spPr>
          <a:xfrm>
            <a:off x="3505320" y="3886200"/>
            <a:ext cx="1660320" cy="2057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8" name="Object 11"/>
          <p:cNvGraphicFramePr/>
          <p:nvPr/>
        </p:nvGraphicFramePr>
        <p:xfrm>
          <a:off x="4876920" y="4876920"/>
          <a:ext cx="3809880" cy="606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29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76920" y="4876920"/>
                    <a:ext cx="380988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5: DC and Transient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9169C-9713-4FDD-8519-0F6376267C1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lay Componen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has two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asitic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 or 11 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of lo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ffort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h 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rtional to load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Footer Placeholder 4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5: DC and Transient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5AF6E-EA7E-42ED-9DB5-BB6A4C306E7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ntamination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t-case (contamination) delay can be substantially less than propagation del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: If all three inputs fall simultaneous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8" name="Object 6"/>
          <p:cNvGraphicFramePr/>
          <p:nvPr/>
        </p:nvGraphicFramePr>
        <p:xfrm>
          <a:off x="3505320" y="4572000"/>
          <a:ext cx="5121000" cy="95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4572000"/>
                    <a:ext cx="5121000" cy="95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Object 7"/>
          <p:cNvGraphicFramePr/>
          <p:nvPr/>
        </p:nvGraphicFramePr>
        <p:xfrm>
          <a:off x="1143000" y="2666880"/>
          <a:ext cx="3276720" cy="175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2666880"/>
                    <a:ext cx="3276720" cy="17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42" name="Picture 9" descr=""/>
          <p:cNvPicPr/>
          <p:nvPr/>
        </p:nvPicPr>
        <p:blipFill>
          <a:blip r:embed="rId5"/>
          <a:stretch/>
        </p:blipFill>
        <p:spPr>
          <a:xfrm>
            <a:off x="762120" y="4495680"/>
            <a:ext cx="2743200" cy="1287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5: DC and Transient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1ACEE-8E12-4982-ACBC-CFC27DAD6D7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5" name="Object 2"/>
          <p:cNvGraphicFramePr/>
          <p:nvPr/>
        </p:nvGraphicFramePr>
        <p:xfrm>
          <a:off x="1600200" y="3621240"/>
          <a:ext cx="5867280" cy="28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621240"/>
                    <a:ext cx="586728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iffusion Capaci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assumed contacted diffusion on every s / 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layout minimizes diffusion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NAND3 layout shares one diffusion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output capacitance by 2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ged uncontacted diffusion might help t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5: DC and Transient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6E13C-65BA-4A62-8F2A-36E1DCD32C1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yout Comparis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layout is better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ft has less diffusion capacitance on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3" name="Object 4"/>
          <p:cNvGraphicFramePr/>
          <p:nvPr/>
        </p:nvGraphicFramePr>
        <p:xfrm>
          <a:off x="838080" y="2387520"/>
          <a:ext cx="7315200" cy="363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387520"/>
                    <a:ext cx="7315200" cy="36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5" name="TextBox 1"/>
          <p:cNvSpPr/>
          <p:nvPr/>
        </p:nvSpPr>
        <p:spPr>
          <a:xfrm>
            <a:off x="1752480" y="350532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5: DC and Transient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36119-7E7B-4344-BCF4-183E91B3839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ss Transistor Ck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75" name="Object 3"/>
          <p:cNvGraphicFramePr/>
          <p:nvPr/>
        </p:nvGraphicFramePr>
        <p:xfrm>
          <a:off x="685800" y="2090880"/>
          <a:ext cx="7772400" cy="343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90880"/>
                    <a:ext cx="7772400" cy="34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Rectangle 4"/>
          <p:cNvSpPr/>
          <p:nvPr/>
        </p:nvSpPr>
        <p:spPr>
          <a:xfrm>
            <a:off x="1905120" y="289548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4800600" y="3124080"/>
            <a:ext cx="18288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7010280" y="289548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905120" y="419112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5181480" y="403848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9"/>
          <p:cNvSpPr/>
          <p:nvPr/>
        </p:nvSpPr>
        <p:spPr>
          <a:xfrm>
            <a:off x="5638680" y="4648320"/>
            <a:ext cx="1371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5: DC and Transient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5C1EF-7A2C-4951-8996-303CAE219B8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C Respons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C Response: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s.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a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between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pend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 size and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KCL, must settle such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|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ould solve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graphical solution gives more ins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4"/>
          <p:cNvGraphicFramePr/>
          <p:nvPr/>
        </p:nvGraphicFramePr>
        <p:xfrm>
          <a:off x="5638680" y="2971800"/>
          <a:ext cx="3124440" cy="20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2971800"/>
                    <a:ext cx="3124440" cy="20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5: DC and Transient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9107C-6E24-4714-8950-5F3C56D578F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istor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depends on region of transistor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what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nMOS and pMOS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toff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ur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5: DC and Transient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5E2B7-E528-43CA-A11E-A21827F2401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685800" y="1600200"/>
          <a:ext cx="7772400" cy="223056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o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out</a:t>
                      </a: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- 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n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out</a:t>
                      </a: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 - V</a:t>
                      </a:r>
                      <a:r>
                        <a:rPr b="0" lang="en-US" sz="2400" spc="-1" strike="noStrike" baseline="-25000">
                          <a:solidFill>
                            <a:srgbClr val="00ff00"/>
                          </a:solidFill>
                          <a:latin typeface="Arial"/>
                        </a:rPr>
                        <a:t>t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97" name="Object 17"/>
          <p:cNvGraphicFramePr/>
          <p:nvPr/>
        </p:nvGraphicFramePr>
        <p:xfrm>
          <a:off x="5334120" y="3962520"/>
          <a:ext cx="3124080" cy="20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3962520"/>
                    <a:ext cx="3124080" cy="20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Text Box 18"/>
          <p:cNvSpPr/>
          <p:nvPr/>
        </p:nvSpPr>
        <p:spPr>
          <a:xfrm>
            <a:off x="685800" y="4572000"/>
            <a:ext cx="26668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s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9"/>
          <p:cNvSpPr/>
          <p:nvPr/>
        </p:nvSpPr>
        <p:spPr>
          <a:xfrm>
            <a:off x="1600200" y="213372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20"/>
          <p:cNvSpPr/>
          <p:nvPr/>
        </p:nvSpPr>
        <p:spPr>
          <a:xfrm>
            <a:off x="1447920" y="259092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21"/>
          <p:cNvSpPr/>
          <p:nvPr/>
        </p:nvSpPr>
        <p:spPr>
          <a:xfrm>
            <a:off x="4191120" y="213372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22"/>
          <p:cNvSpPr/>
          <p:nvPr/>
        </p:nvSpPr>
        <p:spPr>
          <a:xfrm>
            <a:off x="4038480" y="259092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23"/>
          <p:cNvSpPr/>
          <p:nvPr/>
        </p:nvSpPr>
        <p:spPr>
          <a:xfrm>
            <a:off x="4191120" y="304812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24"/>
          <p:cNvSpPr/>
          <p:nvPr/>
        </p:nvSpPr>
        <p:spPr>
          <a:xfrm>
            <a:off x="4191120" y="342900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25"/>
          <p:cNvSpPr/>
          <p:nvPr/>
        </p:nvSpPr>
        <p:spPr>
          <a:xfrm>
            <a:off x="6781680" y="213372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26"/>
          <p:cNvSpPr/>
          <p:nvPr/>
        </p:nvSpPr>
        <p:spPr>
          <a:xfrm>
            <a:off x="6629400" y="259092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27"/>
          <p:cNvSpPr/>
          <p:nvPr/>
        </p:nvSpPr>
        <p:spPr>
          <a:xfrm>
            <a:off x="6781680" y="304812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28"/>
          <p:cNvSpPr/>
          <p:nvPr/>
        </p:nvSpPr>
        <p:spPr>
          <a:xfrm>
            <a:off x="6705720" y="342900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29"/>
          <p:cNvSpPr/>
          <p:nvPr/>
        </p:nvSpPr>
        <p:spPr>
          <a:xfrm>
            <a:off x="1600200" y="464832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30"/>
          <p:cNvSpPr/>
          <p:nvPr/>
        </p:nvSpPr>
        <p:spPr>
          <a:xfrm>
            <a:off x="1523880" y="5181480"/>
            <a:ext cx="13716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31"/>
          <p:cNvSpPr/>
          <p:nvPr/>
        </p:nvSpPr>
        <p:spPr>
          <a:xfrm>
            <a:off x="762120" y="251460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33"/>
          <p:cNvSpPr/>
          <p:nvPr/>
        </p:nvSpPr>
        <p:spPr>
          <a:xfrm>
            <a:off x="3352680" y="251460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34"/>
          <p:cNvSpPr/>
          <p:nvPr/>
        </p:nvSpPr>
        <p:spPr>
          <a:xfrm>
            <a:off x="3352680" y="342900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35"/>
          <p:cNvSpPr/>
          <p:nvPr/>
        </p:nvSpPr>
        <p:spPr>
          <a:xfrm>
            <a:off x="5943600" y="251460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36"/>
          <p:cNvSpPr/>
          <p:nvPr/>
        </p:nvSpPr>
        <p:spPr>
          <a:xfrm>
            <a:off x="5943600" y="342900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37"/>
          <p:cNvSpPr/>
          <p:nvPr/>
        </p:nvSpPr>
        <p:spPr>
          <a:xfrm>
            <a:off x="685800" y="457200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38"/>
          <p:cNvSpPr/>
          <p:nvPr/>
        </p:nvSpPr>
        <p:spPr>
          <a:xfrm>
            <a:off x="685800" y="510552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5: DC and Transient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39B4F-2582-4054-91AD-555A991AF61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MOS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85800" y="1600200"/>
          <a:ext cx="7772400" cy="223056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tof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urat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8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DD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+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DD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+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out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&gt;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-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DD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+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sp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V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out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&lt;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in</a:t>
                      </a: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- V</a:t>
                      </a:r>
                      <a:r>
                        <a:rPr b="0" lang="en-US" sz="24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t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3" name="Object 17"/>
          <p:cNvGraphicFramePr/>
          <p:nvPr/>
        </p:nvGraphicFramePr>
        <p:xfrm>
          <a:off x="5334120" y="3962520"/>
          <a:ext cx="3124080" cy="20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1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3962520"/>
                    <a:ext cx="3124080" cy="20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18"/>
          <p:cNvSpPr/>
          <p:nvPr/>
        </p:nvSpPr>
        <p:spPr>
          <a:xfrm>
            <a:off x="685800" y="4572000"/>
            <a:ext cx="26668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s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9"/>
          <p:cNvSpPr/>
          <p:nvPr/>
        </p:nvSpPr>
        <p:spPr>
          <a:xfrm>
            <a:off x="3352680" y="4572000"/>
            <a:ext cx="266724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5: DC and Transient Respon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27A7-7AFE-4DD9-B295-5EDE758B08C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-V Characteristic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pMOS is wider than nMOS such tha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Object 4"/>
          <p:cNvGraphicFramePr/>
          <p:nvPr/>
        </p:nvGraphicFramePr>
        <p:xfrm>
          <a:off x="914400" y="1905120"/>
          <a:ext cx="7162920" cy="414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7162920" cy="41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Microsoft Office User</cp:lastModifiedBy>
  <cp:lastPrinted>2015-02-05T22:36:12Z</cp:lastPrinted>
  <dcterms:modified xsi:type="dcterms:W3CDTF">2020-01-21T11:27:59Z</dcterms:modified>
  <cp:revision>710</cp:revision>
  <dc:subject/>
  <dc:title>PowerPoint Presentation</dc:title>
</cp:coreProperties>
</file>