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3.jpeg" ContentType="image/jpeg"/>
  <Override PartName="/ppt/media/image28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5.wmf" ContentType="image/x-wmf"/>
  <Override PartName="/ppt/media/image2.png" ContentType="image/png"/>
  <Override PartName="/ppt/media/image40.wmf" ContentType="image/x-wmf"/>
  <Override PartName="/ppt/media/image41.wmf" ContentType="image/x-wmf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3.wmf" ContentType="image/x-wmf"/>
  <Override PartName="/ppt/media/image38.wmf" ContentType="image/x-wmf"/>
  <Override PartName="/ppt/media/image8.wmf" ContentType="image/x-wmf"/>
  <Override PartName="/ppt/media/image45.wmf" ContentType="image/x-wmf"/>
  <Override PartName="/ppt/media/image35.png" ContentType="image/png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7.wmf" ContentType="image/x-wmf"/>
  <Override PartName="/ppt/media/image37.wmf" ContentType="image/x-wmf"/>
  <Override PartName="/ppt/media/image6.wmf" ContentType="image/x-wmf"/>
  <Override PartName="/ppt/media/image3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3"/>
          </p:nvPr>
        </p:nvSpPr>
        <p:spPr>
          <a:xfrm>
            <a:off x="544032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760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4"/>
          </p:nvPr>
        </p:nvSpPr>
        <p:spPr>
          <a:xfrm>
            <a:off x="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5"/>
          </p:nvPr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96D681-05C6-4433-B321-E8BDC7FF7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CCCAEE-FCC8-4C59-9EE5-028D24A1D2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A24E0D-F3AC-4AB1-9A88-28C8D804A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282AF4-DD23-4106-AF9F-0D0E2E8E69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0E247A-0ECB-4239-8B56-F7DA00633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A2EE97-EF5E-4C8E-AB31-E0788A19D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8416EE-E9E5-4728-95B2-8381F031F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B974F9-8EA5-4815-9280-17FD1E93C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5FFFC7-5AD2-4D32-8514-B0994B142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563E08-2269-4AF2-95B3-9B0E859B1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20CB3A-1A5C-48FC-BA95-6E2A95E69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361B90-3BB7-4C97-A5AE-51ED864A3B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88A9D3-AC9F-464C-8C24-CCEDAED64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725AD0-380E-4793-89AA-02BDD44B2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008B44-D9A7-4DBB-B6FB-1630CA2193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43C24A-FCF6-4D1D-B0C7-52F8FE75C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7C3003-9AA2-4DCE-AEF6-C40269BC1A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DB7507-9FBB-414E-93E2-B63B65E35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3EB1F2-562E-41AC-B245-6BFB761ECD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297504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9A8E8F-38AB-44FC-B1F6-08C511421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297504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2F86E8-78F1-406C-9147-82A6574725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297504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C90CAE-BFF6-4DBE-957E-D12B455EF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9F550B-0F34-4B8B-B57E-A2FC805578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297504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D43A9F-783E-42EB-B7B0-40E9B2A3B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BA851F-A126-484B-9E7D-2DA00695D8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297504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6FDC1F-720C-44D1-AA10-A1B66AA102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297504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50265D-91A9-4D61-BED6-C5302A991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297504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EF43E2-7ACE-4216-988A-1B3E72A0D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297504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D50BE6-E2BF-4CAB-96C5-311B79B3DA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297504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3BD9C5-72B1-4211-9FB6-A9CDB8F73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297504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93E0F8-C0B3-49C7-8DDD-DD81AF974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297504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662579-E5D8-4AB2-A87C-6B48C6615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63051A-BC80-4132-B35A-D6ED3D88C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466DBA-AD12-488C-8743-DD97F38300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FB6E19-50EC-45A4-BFF5-6C4C232BE3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6BFB29-0F76-4330-8960-2E017DA36C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516CE5-0828-45AF-B37D-B64C0FC63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027FE-06D9-46CA-A462-7469413A9C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4AE37-2491-4B28-BAD0-EB41F8DD3E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79E77-E19C-4700-9568-7D7900C843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4C082-8625-49FC-AF07-2A7D32047A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AC36D-FEFC-4771-B9E7-1076393BCD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92129-AACB-4E25-A7A3-73BDDDA41E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C1C2B-E0E3-4572-AE48-42EDE1E7A8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DD016-3220-4591-A505-4D974CADD0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EC14F-BE16-4942-841D-93E6D2E5B9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39C18-3B04-43D2-AE6F-2CE9B44669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D5D22-1F22-4B3D-859E-9C48DAFB49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A75A8-4552-4113-A106-F5BED82D7A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5: DC and Transient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817F0-D6BF-4C07-ABBB-89D692600F5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7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9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0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ext Box 13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Text Box 14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5.wmf"/><Relationship Id="rId8" Type="http://schemas.openxmlformats.org/officeDocument/2006/relationships/image" Target="../media/image46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47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image" Target="../media/image49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4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5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6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7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5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C &amp; Transient Respons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0" name="Picture 15" descr=""/>
          <p:cNvPicPr/>
          <p:nvPr/>
        </p:nvPicPr>
        <p:blipFill>
          <a:blip r:embed="rId1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6" descr="cover"/>
          <p:cNvPicPr/>
          <p:nvPr/>
        </p:nvPicPr>
        <p:blipFill>
          <a:blip r:embed="rId2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5: DC and Transient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77F71-93DF-4D07-AAEB-C9B9DFFC5CA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urrent vs. V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 Black"/>
              </a:rPr>
              <a:t>out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, V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 Black"/>
              </a:rPr>
              <a:t>i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6" name="Object 4"/>
          <p:cNvGraphicFramePr/>
          <p:nvPr/>
        </p:nvGraphicFramePr>
        <p:xfrm>
          <a:off x="685800" y="2209680"/>
          <a:ext cx="7772400" cy="384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772400" cy="38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5: DC and Transient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A74AD-5B9C-40CC-AF32-C95CEE02434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ad Line Analysi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1" name="Object 3"/>
          <p:cNvGraphicFramePr/>
          <p:nvPr/>
        </p:nvGraphicFramePr>
        <p:xfrm>
          <a:off x="609480" y="2743200"/>
          <a:ext cx="6858000" cy="338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743200"/>
                    <a:ext cx="6858000" cy="33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give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s.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ust be where |currents| are equal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Object 5"/>
          <p:cNvGraphicFramePr/>
          <p:nvPr/>
        </p:nvGraphicFramePr>
        <p:xfrm>
          <a:off x="6705720" y="4267080"/>
          <a:ext cx="2057400" cy="137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05720" y="4267080"/>
                    <a:ext cx="2057400" cy="13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4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5: DC and Transient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D6F54-0469-4245-A644-48A8F30FAA5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ad Line Analysi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3"/>
          <p:cNvGraphicFramePr/>
          <p:nvPr/>
        </p:nvGraphicFramePr>
        <p:xfrm>
          <a:off x="762120" y="2133720"/>
          <a:ext cx="7619760" cy="376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133720"/>
                    <a:ext cx="7619760" cy="37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20"/>
          <p:cNvGraphicFramePr/>
          <p:nvPr/>
        </p:nvGraphicFramePr>
        <p:xfrm>
          <a:off x="762120" y="2133720"/>
          <a:ext cx="7619760" cy="3765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133720"/>
                    <a:ext cx="7619760" cy="37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Object 21"/>
          <p:cNvGraphicFramePr/>
          <p:nvPr/>
        </p:nvGraphicFramePr>
        <p:xfrm>
          <a:off x="762120" y="2133720"/>
          <a:ext cx="7619760" cy="3765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5" name="Object 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2133720"/>
                    <a:ext cx="7619760" cy="37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Object 19"/>
          <p:cNvGraphicFramePr/>
          <p:nvPr/>
        </p:nvGraphicFramePr>
        <p:xfrm>
          <a:off x="762120" y="2133720"/>
          <a:ext cx="7619760" cy="3765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7" name="Object 1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2133720"/>
                    <a:ext cx="7619760" cy="37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22"/>
          <p:cNvGraphicFramePr/>
          <p:nvPr/>
        </p:nvGraphicFramePr>
        <p:xfrm>
          <a:off x="762120" y="2133720"/>
          <a:ext cx="7619760" cy="3765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9" name="Object 2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2120" y="2133720"/>
                    <a:ext cx="7619760" cy="37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23"/>
          <p:cNvGraphicFramePr/>
          <p:nvPr/>
        </p:nvGraphicFramePr>
        <p:xfrm>
          <a:off x="762120" y="2133720"/>
          <a:ext cx="7619760" cy="3765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1" name="Object 2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62120" y="2133720"/>
                    <a:ext cx="7619760" cy="376560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2" name="Object 26"/>
          <p:cNvGraphicFramePr/>
          <p:nvPr/>
        </p:nvGraphicFramePr>
        <p:xfrm>
          <a:off x="762120" y="2133720"/>
          <a:ext cx="7619760" cy="3763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3" name="Object 2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62120" y="2133720"/>
                    <a:ext cx="7619760" cy="37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Rectangle 29"/>
          <p:cNvSpPr/>
          <p:nvPr/>
        </p:nvSpPr>
        <p:spPr>
          <a:xfrm>
            <a:off x="68580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1"/>
          <p:cNvSpPr/>
          <p:nvPr/>
        </p:nvSpPr>
        <p:spPr>
          <a:xfrm>
            <a:off x="1736280" y="1523880"/>
            <a:ext cx="91692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2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32"/>
          <p:cNvSpPr/>
          <p:nvPr/>
        </p:nvSpPr>
        <p:spPr>
          <a:xfrm>
            <a:off x="1766160" y="1523880"/>
            <a:ext cx="91692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4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33"/>
          <p:cNvSpPr/>
          <p:nvPr/>
        </p:nvSpPr>
        <p:spPr>
          <a:xfrm>
            <a:off x="1766160" y="1523880"/>
            <a:ext cx="91692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6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34"/>
          <p:cNvSpPr/>
          <p:nvPr/>
        </p:nvSpPr>
        <p:spPr>
          <a:xfrm>
            <a:off x="1766160" y="1523880"/>
            <a:ext cx="91692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8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5"/>
          <p:cNvSpPr/>
          <p:nvPr/>
        </p:nvSpPr>
        <p:spPr>
          <a:xfrm>
            <a:off x="1752480" y="1523880"/>
            <a:ext cx="91440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36"/>
          <p:cNvSpPr/>
          <p:nvPr/>
        </p:nvSpPr>
        <p:spPr>
          <a:xfrm>
            <a:off x="685800" y="1614600"/>
            <a:ext cx="1752480" cy="2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5: DC and Transient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AA6E7-458A-473B-942F-C9FBB40D7D1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C Transfer Curv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cribe points onto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s.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Object 6"/>
          <p:cNvGraphicFramePr/>
          <p:nvPr/>
        </p:nvGraphicFramePr>
        <p:xfrm>
          <a:off x="-457200" y="2819520"/>
          <a:ext cx="5257800" cy="25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57200" y="2819520"/>
                    <a:ext cx="5257800" cy="25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7"/>
          <p:cNvGraphicFramePr/>
          <p:nvPr/>
        </p:nvGraphicFramePr>
        <p:xfrm>
          <a:off x="5105520" y="2666880"/>
          <a:ext cx="3733560" cy="282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2666880"/>
                    <a:ext cx="373356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4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5: DC and Transient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8EF27-6B91-48D5-95EA-3B07CE4AF3B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perating Reg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5257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sit transistor operating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Object 4"/>
          <p:cNvGraphicFramePr/>
          <p:nvPr/>
        </p:nvGraphicFramePr>
        <p:xfrm>
          <a:off x="5029200" y="3276720"/>
          <a:ext cx="3733920" cy="28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276720"/>
                    <a:ext cx="373392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685800" y="2743200"/>
          <a:ext cx="4267080" cy="2378160"/>
        </p:xfrm>
        <a:graphic>
          <a:graphicData uri="http://schemas.openxmlformats.org/drawingml/2006/table">
            <a:tbl>
              <a:tblPr/>
              <a:tblGrid>
                <a:gridCol w="1422360"/>
                <a:gridCol w="1422360"/>
                <a:gridCol w="142236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M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o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o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Rectangle 35"/>
          <p:cNvSpPr/>
          <p:nvPr/>
        </p:nvSpPr>
        <p:spPr>
          <a:xfrm>
            <a:off x="2209680" y="3200400"/>
            <a:ext cx="1219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37"/>
          <p:cNvSpPr/>
          <p:nvPr/>
        </p:nvSpPr>
        <p:spPr>
          <a:xfrm>
            <a:off x="3581280" y="3200400"/>
            <a:ext cx="1219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38"/>
          <p:cNvSpPr/>
          <p:nvPr/>
        </p:nvSpPr>
        <p:spPr>
          <a:xfrm>
            <a:off x="2133720" y="35812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39"/>
          <p:cNvSpPr/>
          <p:nvPr/>
        </p:nvSpPr>
        <p:spPr>
          <a:xfrm>
            <a:off x="3581280" y="3581280"/>
            <a:ext cx="1219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40"/>
          <p:cNvSpPr/>
          <p:nvPr/>
        </p:nvSpPr>
        <p:spPr>
          <a:xfrm>
            <a:off x="2133720" y="3962520"/>
            <a:ext cx="12189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41"/>
          <p:cNvSpPr/>
          <p:nvPr/>
        </p:nvSpPr>
        <p:spPr>
          <a:xfrm>
            <a:off x="3581280" y="3962520"/>
            <a:ext cx="12193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42"/>
          <p:cNvSpPr/>
          <p:nvPr/>
        </p:nvSpPr>
        <p:spPr>
          <a:xfrm>
            <a:off x="2133720" y="434340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43"/>
          <p:cNvSpPr/>
          <p:nvPr/>
        </p:nvSpPr>
        <p:spPr>
          <a:xfrm>
            <a:off x="3581280" y="4343400"/>
            <a:ext cx="1219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44"/>
          <p:cNvSpPr/>
          <p:nvPr/>
        </p:nvSpPr>
        <p:spPr>
          <a:xfrm>
            <a:off x="2133720" y="47242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45"/>
          <p:cNvSpPr/>
          <p:nvPr/>
        </p:nvSpPr>
        <p:spPr>
          <a:xfrm>
            <a:off x="3581280" y="4724280"/>
            <a:ext cx="1219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Object 46"/>
          <p:cNvGraphicFramePr/>
          <p:nvPr/>
        </p:nvGraphicFramePr>
        <p:xfrm>
          <a:off x="5867280" y="1600200"/>
          <a:ext cx="2057400" cy="137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" name="Object 4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1600200"/>
                    <a:ext cx="2057400" cy="13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5: DC and Transient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4A627-4A62-4E2B-952B-9F4AA518D8C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ta Ratio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≈ 1, switching point will move from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kew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gates: collapse into equivalent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Object 4"/>
          <p:cNvGraphicFramePr/>
          <p:nvPr/>
        </p:nvGraphicFramePr>
        <p:xfrm>
          <a:off x="2438280" y="2819520"/>
          <a:ext cx="4343400" cy="320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819520"/>
                    <a:ext cx="4343400" cy="32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5: DC and Transient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97865-F117-4644-AEA1-5CC66AA3EE3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oise Margi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noise can a gate input see before it does not recognize the inp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Object 4"/>
          <p:cNvGraphicFramePr/>
          <p:nvPr/>
        </p:nvGraphicFramePr>
        <p:xfrm>
          <a:off x="914400" y="2438280"/>
          <a:ext cx="7467480" cy="35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438280"/>
                    <a:ext cx="7467480" cy="35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5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5: DC and Transient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40E70-A238-4D55-986F-4E77AC73BA7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Object 9"/>
          <p:cNvGraphicFramePr/>
          <p:nvPr/>
        </p:nvGraphicFramePr>
        <p:xfrm>
          <a:off x="2209680" y="2514600"/>
          <a:ext cx="4267440" cy="359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514600"/>
                    <a:ext cx="4267440" cy="35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ic Level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aximize noise margins, select logic levels 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y gain point of DC transfer characteri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Object 4"/>
          <p:cNvGraphicFramePr/>
          <p:nvPr/>
        </p:nvGraphicFramePr>
        <p:xfrm>
          <a:off x="2209680" y="2514600"/>
          <a:ext cx="4267440" cy="359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2514600"/>
                    <a:ext cx="4267440" cy="35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5: DC and Transient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8562-F3C5-4749-8D2F-F7E5BA88FA2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ient Respons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C analy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lls us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ansient analy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lls us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 i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solving differential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is usually considered to be a step or r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0 to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vice ver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5: DC and Transient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8864B-9E9F-46B7-9438-BFD651F3BFA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ter Step Respons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find step response of inverter driving load c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Object 4"/>
          <p:cNvGraphicFramePr/>
          <p:nvPr/>
        </p:nvGraphicFramePr>
        <p:xfrm>
          <a:off x="838080" y="1981080"/>
          <a:ext cx="3090960" cy="231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81080"/>
                    <a:ext cx="3090960" cy="23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Object 5"/>
          <p:cNvGraphicFramePr/>
          <p:nvPr/>
        </p:nvGraphicFramePr>
        <p:xfrm>
          <a:off x="609480" y="4343400"/>
          <a:ext cx="5195880" cy="165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4343400"/>
                    <a:ext cx="5195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Object 6"/>
          <p:cNvGraphicFramePr/>
          <p:nvPr/>
        </p:nvGraphicFramePr>
        <p:xfrm>
          <a:off x="6019920" y="4114800"/>
          <a:ext cx="2743200" cy="17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1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19920" y="4114800"/>
                    <a:ext cx="2743200" cy="17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Object 7"/>
          <p:cNvGraphicFramePr/>
          <p:nvPr/>
        </p:nvGraphicFramePr>
        <p:xfrm>
          <a:off x="5486400" y="1981080"/>
          <a:ext cx="2936880" cy="1938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3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86400" y="1981080"/>
                    <a:ext cx="2936880" cy="19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Rectangle 9"/>
          <p:cNvSpPr/>
          <p:nvPr/>
        </p:nvSpPr>
        <p:spPr>
          <a:xfrm>
            <a:off x="6019920" y="4038480"/>
            <a:ext cx="2514600" cy="17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1523880" y="4267080"/>
            <a:ext cx="2743200" cy="17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12"/>
          <p:cNvSpPr/>
          <p:nvPr/>
        </p:nvSpPr>
        <p:spPr>
          <a:xfrm>
            <a:off x="2514600" y="3124080"/>
            <a:ext cx="129528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3"/>
          <p:cNvSpPr/>
          <p:nvPr/>
        </p:nvSpPr>
        <p:spPr>
          <a:xfrm>
            <a:off x="2743200" y="2590920"/>
            <a:ext cx="129528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2057400" y="1981080"/>
            <a:ext cx="17524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5: DC and Transient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519C7-E224-43CF-8919-E62649E284D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C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Levels and Noise Marg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ent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C Delay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5: DC and Transient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3FDF2-E147-4B22-A378-3D98E483CC8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lay Defini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19040" indent="-41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pd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ising propagation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696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input to rising output crossing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pd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lling propagation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696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input to falling output crossing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verage propagation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696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d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d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is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696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output crossing 0.2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0.8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ll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696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output crossing 0.8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0.2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1"/>
          <a:stretch/>
        </p:blipFill>
        <p:spPr>
          <a:xfrm>
            <a:off x="4726080" y="1600200"/>
            <a:ext cx="3884400" cy="3463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5: DC and Transient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BDEC5-E9FB-424C-A279-6BF3385B1CE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lay Defini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cd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ising contamination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input to rising output crossing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cd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lling contamination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input to falling output crossing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c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verage contamination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d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d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5: DC and Transient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ED51E-DA33-44C0-B4A1-2FFFCAABB30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mulated Inverter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ing differential equations by hand is too h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CE simulator solves the equations numer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more accurate I-V models to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simulations take time to write, may hide ins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Object 6"/>
          <p:cNvGraphicFramePr/>
          <p:nvPr/>
        </p:nvGraphicFramePr>
        <p:xfrm>
          <a:off x="2133720" y="3276720"/>
          <a:ext cx="3657600" cy="292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276720"/>
                    <a:ext cx="3657600" cy="29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5: DC and Transient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DD465-FE27-4FE9-AFDE-CCF3C73A221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lay Estim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ould like to be able to easily estimate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s accurate as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easier to ask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f?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ep response usually looks like a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der RC response with a decaying exponent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C delay models to estimate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total capacitance on output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ffective resist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that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ize transistors by finding their effective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average current as gate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5: DC and Transient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703B5-1959-4331-AF00-8742CAA70D2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ffective Resis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ckley models have limited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ccurate enough for modern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 complicated for much hand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cation: treat transistor as re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ace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with effective resistance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averaged across switching of digital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 inaccurate to predict current at any given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good enough to predict RC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5: DC and Transient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D161C-6AB1-4864-BA80-816BEF43515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C Delay Mode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equivalent circuits for MO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l switch + capacitance and ON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nMOS has resistance R, capacitance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pMOS has resistance 2R, capacitance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ance proportional to 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stance inversely proportional to 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Object 4"/>
          <p:cNvGraphicFramePr/>
          <p:nvPr/>
        </p:nvGraphicFramePr>
        <p:xfrm>
          <a:off x="762120" y="4038480"/>
          <a:ext cx="7543800" cy="220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038480"/>
                    <a:ext cx="7543800" cy="22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5: DC and Transient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D88C1-D48C-4E46-91FE-8764609CFB1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C Valu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of gate width in 0.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ually decline to 1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in nanometer tec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≈ 6 kΩ*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in 0.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with shorter channel leng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refer to minimum contacted device (4/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maybe 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wide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matter as long as you are consis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5: DC and Transient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42F29-93ED-478A-9EAD-01947019A86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ter Delay Estim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delay of a fanout-of-1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Object 4"/>
          <p:cNvGraphicFramePr/>
          <p:nvPr/>
        </p:nvGraphicFramePr>
        <p:xfrm>
          <a:off x="762120" y="2057400"/>
          <a:ext cx="7696080" cy="337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696080" cy="33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Text Box 5"/>
          <p:cNvSpPr/>
          <p:nvPr/>
        </p:nvSpPr>
        <p:spPr>
          <a:xfrm>
            <a:off x="838080" y="54100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= 6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5410080" y="2666880"/>
            <a:ext cx="304812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2438280" y="2057400"/>
            <a:ext cx="3048120" cy="3581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5: DC and Transient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59CE-902D-4A20-BAF0-E2E3690DFED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lay Model Comparis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4" name="Picture 6" descr="0404-invdelay"/>
          <p:cNvPicPr/>
          <p:nvPr/>
        </p:nvPicPr>
        <p:blipFill>
          <a:blip r:embed="rId1"/>
          <a:stretch/>
        </p:blipFill>
        <p:spPr>
          <a:xfrm>
            <a:off x="3276720" y="1676520"/>
            <a:ext cx="4419360" cy="4127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4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5: DC and Transient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8B812-7E54-41F9-80C6-8CDBEDAC16B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3-input NAN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etch a 3-input NAND with transistor widths chosen to achieve effective rise and fall resistances equal to a unit inverter (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Object 4"/>
          <p:cNvGraphicFramePr/>
          <p:nvPr/>
        </p:nvGraphicFramePr>
        <p:xfrm>
          <a:off x="2971800" y="2819520"/>
          <a:ext cx="3352680" cy="297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2819520"/>
                    <a:ext cx="3352680" cy="29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Text Box 5"/>
          <p:cNvSpPr/>
          <p:nvPr/>
        </p:nvSpPr>
        <p:spPr>
          <a:xfrm>
            <a:off x="5486400" y="3733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548640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5486400" y="4876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3581280" y="3048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45720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0"/>
          <p:cNvSpPr/>
          <p:nvPr/>
        </p:nvSpPr>
        <p:spPr>
          <a:xfrm>
            <a:off x="54864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5: DC and Transient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EBD5C-4CAC-43DF-89A2-85FA16BE445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ss Transisto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2720" indent="-43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assumed source is grou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2720" indent="-43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f source &gt; 0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pass transistor passing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2720" indent="-43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ce transistor would turn itself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2720" indent="-43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pass transistors pull no higher tha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a degraded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ach degraded value slowly (low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2720" indent="-43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pass transistors pull no lower tha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2720" indent="-43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ssion gates are needed to pass both 0 and 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4"/>
          <p:cNvGraphicFramePr/>
          <p:nvPr/>
        </p:nvGraphicFramePr>
        <p:xfrm>
          <a:off x="6400800" y="1828800"/>
          <a:ext cx="1828800" cy="175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1828800"/>
                    <a:ext cx="1828800" cy="17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Footer Placeholder 5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5: DC and Transient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DA825-5F00-4638-9D27-332EFE30E55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9" name="Object 4"/>
          <p:cNvGraphicFramePr/>
          <p:nvPr/>
        </p:nvGraphicFramePr>
        <p:xfrm>
          <a:off x="2286000" y="2286000"/>
          <a:ext cx="4572000" cy="36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286000"/>
                    <a:ext cx="457200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" name="Object 25"/>
          <p:cNvGraphicFramePr/>
          <p:nvPr/>
        </p:nvGraphicFramePr>
        <p:xfrm>
          <a:off x="2286000" y="2286000"/>
          <a:ext cx="4572000" cy="362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2" name="Object 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2286000"/>
                    <a:ext cx="457200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Object 21"/>
          <p:cNvGraphicFramePr/>
          <p:nvPr/>
        </p:nvGraphicFramePr>
        <p:xfrm>
          <a:off x="2286000" y="2286000"/>
          <a:ext cx="4572000" cy="362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4" name="Object 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0" y="2286000"/>
                    <a:ext cx="457200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-input NAND Cap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otate the 3-input NAND gate with gate and diffusion capacit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5: DC and Transient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C7801-1B75-4A56-8B6C-E33DBC41F84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lmore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ransistors look like re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up or pulldown network modeled 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C l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more delay of RC l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1" name="Object 4"/>
          <p:cNvGraphicFramePr/>
          <p:nvPr/>
        </p:nvGraphicFramePr>
        <p:xfrm>
          <a:off x="1752480" y="3984480"/>
          <a:ext cx="6019920" cy="211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984480"/>
                    <a:ext cx="6019920" cy="21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Rectangle 5"/>
          <p:cNvSpPr/>
          <p:nvPr/>
        </p:nvSpPr>
        <p:spPr>
          <a:xfrm>
            <a:off x="416412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4" name="Object 6"/>
          <p:cNvGraphicFramePr/>
          <p:nvPr/>
        </p:nvGraphicFramePr>
        <p:xfrm>
          <a:off x="685800" y="2743200"/>
          <a:ext cx="7794720" cy="147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2743200"/>
                    <a:ext cx="7794720" cy="14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Footer Placeholder 5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5: DC and Transient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23367-2947-437B-B25E-F23BF1A069E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Picture 10" descr=""/>
          <p:cNvPicPr/>
          <p:nvPr/>
        </p:nvPicPr>
        <p:blipFill>
          <a:blip r:embed="rId1"/>
          <a:stretch/>
        </p:blipFill>
        <p:spPr>
          <a:xfrm>
            <a:off x="685800" y="4038480"/>
            <a:ext cx="1409760" cy="190512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3-input NAN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worst-case rising and falling delay of 3-input NAND driv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dentical g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Object 6"/>
          <p:cNvGraphicFramePr/>
          <p:nvPr/>
        </p:nvGraphicFramePr>
        <p:xfrm>
          <a:off x="4648320" y="2057400"/>
          <a:ext cx="3733560" cy="199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2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8320" y="2057400"/>
                    <a:ext cx="3733560" cy="19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3" name="Object 4"/>
          <p:cNvGraphicFramePr/>
          <p:nvPr/>
        </p:nvGraphicFramePr>
        <p:xfrm>
          <a:off x="914400" y="2286000"/>
          <a:ext cx="3048120" cy="1424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4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14400" y="2286000"/>
                    <a:ext cx="3048120" cy="14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5" name="Object 8"/>
          <p:cNvGraphicFramePr/>
          <p:nvPr/>
        </p:nvGraphicFramePr>
        <p:xfrm>
          <a:off x="1905120" y="5105520"/>
          <a:ext cx="1218960" cy="284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26" name="Object 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05120" y="5105520"/>
                    <a:ext cx="1218960" cy="28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7" name="Picture 9" descr=""/>
          <p:cNvPicPr/>
          <p:nvPr/>
        </p:nvPicPr>
        <p:blipFill>
          <a:blip r:embed="rId8"/>
          <a:stretch/>
        </p:blipFill>
        <p:spPr>
          <a:xfrm>
            <a:off x="3505320" y="3886200"/>
            <a:ext cx="1660320" cy="2057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8" name="Object 11"/>
          <p:cNvGraphicFramePr/>
          <p:nvPr/>
        </p:nvGraphicFramePr>
        <p:xfrm>
          <a:off x="4876920" y="4876920"/>
          <a:ext cx="3809880" cy="606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29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76920" y="4876920"/>
                    <a:ext cx="380988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5: DC and Transient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F564E-89FA-4768-9F56-9CE6DD07D63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lay Componen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has two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asitic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 or 11 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of lo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ffort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h 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rtional to load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Footer Placeholder 4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5: DC and Transient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16969-AA95-4839-BA7D-DDA8AAB9120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ntamination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t-case (contamination) delay can be substantially less than propagation del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: If all three inputs fall simultaneous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8" name="Object 6"/>
          <p:cNvGraphicFramePr/>
          <p:nvPr/>
        </p:nvGraphicFramePr>
        <p:xfrm>
          <a:off x="3505320" y="4572000"/>
          <a:ext cx="5121000" cy="9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4572000"/>
                    <a:ext cx="5121000" cy="9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Object 7"/>
          <p:cNvGraphicFramePr/>
          <p:nvPr/>
        </p:nvGraphicFramePr>
        <p:xfrm>
          <a:off x="1143000" y="2666880"/>
          <a:ext cx="3276720" cy="175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2666880"/>
                    <a:ext cx="3276720" cy="17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42" name="Picture 9" descr=""/>
          <p:cNvPicPr/>
          <p:nvPr/>
        </p:nvPicPr>
        <p:blipFill>
          <a:blip r:embed="rId5"/>
          <a:stretch/>
        </p:blipFill>
        <p:spPr>
          <a:xfrm>
            <a:off x="762120" y="4495680"/>
            <a:ext cx="2743200" cy="1287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5: DC and Transient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7BC22-24FD-45EE-828E-8BB553463B2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5" name="Object 2"/>
          <p:cNvGraphicFramePr/>
          <p:nvPr/>
        </p:nvGraphicFramePr>
        <p:xfrm>
          <a:off x="1600200" y="3621240"/>
          <a:ext cx="5867280" cy="28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621240"/>
                    <a:ext cx="586728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iffusion Capaci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ssumed contacted diffusion on every s / 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layout minimizes diffusion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NAND3 layout shares one diffusion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output capacitance by 2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ged uncontacted diffusion might help t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5: DC and Transient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C5158-F8E8-4C6E-8352-1BD3D2E6910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yout Comparis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layout is bette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ft has less diffusion capacitance on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Object 4"/>
          <p:cNvGraphicFramePr/>
          <p:nvPr/>
        </p:nvGraphicFramePr>
        <p:xfrm>
          <a:off x="838080" y="2387520"/>
          <a:ext cx="7315200" cy="363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387520"/>
                    <a:ext cx="7315200" cy="36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5" name="TextBox 1"/>
          <p:cNvSpPr/>
          <p:nvPr/>
        </p:nvSpPr>
        <p:spPr>
          <a:xfrm>
            <a:off x="1752480" y="350532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5: DC and Transient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8838D-5CFC-45D4-A5D7-B48220B8B0A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ss Transistor Ck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75" name="Object 3"/>
          <p:cNvGraphicFramePr/>
          <p:nvPr/>
        </p:nvGraphicFramePr>
        <p:xfrm>
          <a:off x="685800" y="2090880"/>
          <a:ext cx="7772400" cy="343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90880"/>
                    <a:ext cx="7772400" cy="34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Rectangle 4"/>
          <p:cNvSpPr/>
          <p:nvPr/>
        </p:nvSpPr>
        <p:spPr>
          <a:xfrm>
            <a:off x="1905120" y="289548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4800600" y="3124080"/>
            <a:ext cx="18288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7010280" y="289548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905120" y="419112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5181480" y="403848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5638680" y="464832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5: DC and Transient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8AD58-8345-4329-9794-EC64421F9F3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C Respons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C Response: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s.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a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between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pend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 size and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KCL, must settle such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|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ould solve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graphical solution gives more ins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4"/>
          <p:cNvGraphicFramePr/>
          <p:nvPr/>
        </p:nvGraphicFramePr>
        <p:xfrm>
          <a:off x="5638680" y="2971800"/>
          <a:ext cx="3124440" cy="20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2971800"/>
                    <a:ext cx="3124440" cy="20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5: DC and Transient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63D08-4C53-441B-B329-CDF7389920C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istor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depends on region of transistor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what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nMOS and pMOS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toff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ur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5: DC and Transient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B24BD-DD08-4316-B710-C68FFDB7C5B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685800" y="1600200"/>
          <a:ext cx="7772400" cy="223056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o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out</a:t>
                      </a: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- 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out</a:t>
                      </a: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- 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7" name="Object 17"/>
          <p:cNvGraphicFramePr/>
          <p:nvPr/>
        </p:nvGraphicFramePr>
        <p:xfrm>
          <a:off x="5334120" y="3962520"/>
          <a:ext cx="3124080" cy="20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3962520"/>
                    <a:ext cx="3124080" cy="20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Text Box 18"/>
          <p:cNvSpPr/>
          <p:nvPr/>
        </p:nvSpPr>
        <p:spPr>
          <a:xfrm>
            <a:off x="685800" y="4572000"/>
            <a:ext cx="26668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s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9"/>
          <p:cNvSpPr/>
          <p:nvPr/>
        </p:nvSpPr>
        <p:spPr>
          <a:xfrm>
            <a:off x="1600200" y="213372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20"/>
          <p:cNvSpPr/>
          <p:nvPr/>
        </p:nvSpPr>
        <p:spPr>
          <a:xfrm>
            <a:off x="1447920" y="259092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21"/>
          <p:cNvSpPr/>
          <p:nvPr/>
        </p:nvSpPr>
        <p:spPr>
          <a:xfrm>
            <a:off x="4191120" y="213372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22"/>
          <p:cNvSpPr/>
          <p:nvPr/>
        </p:nvSpPr>
        <p:spPr>
          <a:xfrm>
            <a:off x="4038480" y="259092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23"/>
          <p:cNvSpPr/>
          <p:nvPr/>
        </p:nvSpPr>
        <p:spPr>
          <a:xfrm>
            <a:off x="4191120" y="304812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24"/>
          <p:cNvSpPr/>
          <p:nvPr/>
        </p:nvSpPr>
        <p:spPr>
          <a:xfrm>
            <a:off x="4191120" y="342900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25"/>
          <p:cNvSpPr/>
          <p:nvPr/>
        </p:nvSpPr>
        <p:spPr>
          <a:xfrm>
            <a:off x="6781680" y="213372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26"/>
          <p:cNvSpPr/>
          <p:nvPr/>
        </p:nvSpPr>
        <p:spPr>
          <a:xfrm>
            <a:off x="6629400" y="259092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27"/>
          <p:cNvSpPr/>
          <p:nvPr/>
        </p:nvSpPr>
        <p:spPr>
          <a:xfrm>
            <a:off x="6781680" y="304812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28"/>
          <p:cNvSpPr/>
          <p:nvPr/>
        </p:nvSpPr>
        <p:spPr>
          <a:xfrm>
            <a:off x="6705720" y="342900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29"/>
          <p:cNvSpPr/>
          <p:nvPr/>
        </p:nvSpPr>
        <p:spPr>
          <a:xfrm>
            <a:off x="1600200" y="464832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30"/>
          <p:cNvSpPr/>
          <p:nvPr/>
        </p:nvSpPr>
        <p:spPr>
          <a:xfrm>
            <a:off x="1523880" y="5181480"/>
            <a:ext cx="13716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31"/>
          <p:cNvSpPr/>
          <p:nvPr/>
        </p:nvSpPr>
        <p:spPr>
          <a:xfrm>
            <a:off x="762120" y="251460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33"/>
          <p:cNvSpPr/>
          <p:nvPr/>
        </p:nvSpPr>
        <p:spPr>
          <a:xfrm>
            <a:off x="3352680" y="251460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34"/>
          <p:cNvSpPr/>
          <p:nvPr/>
        </p:nvSpPr>
        <p:spPr>
          <a:xfrm>
            <a:off x="3352680" y="342900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35"/>
          <p:cNvSpPr/>
          <p:nvPr/>
        </p:nvSpPr>
        <p:spPr>
          <a:xfrm>
            <a:off x="5943600" y="251460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36"/>
          <p:cNvSpPr/>
          <p:nvPr/>
        </p:nvSpPr>
        <p:spPr>
          <a:xfrm>
            <a:off x="5943600" y="342900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37"/>
          <p:cNvSpPr/>
          <p:nvPr/>
        </p:nvSpPr>
        <p:spPr>
          <a:xfrm>
            <a:off x="685800" y="457200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38"/>
          <p:cNvSpPr/>
          <p:nvPr/>
        </p:nvSpPr>
        <p:spPr>
          <a:xfrm>
            <a:off x="685800" y="510552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5: DC and Transient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EEA34-0001-4BA8-959B-48C30E2547D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MOS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85800" y="1600200"/>
          <a:ext cx="7772400" cy="223056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o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DD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+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DD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+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out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-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DD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+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out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-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Object 17"/>
          <p:cNvGraphicFramePr/>
          <p:nvPr/>
        </p:nvGraphicFramePr>
        <p:xfrm>
          <a:off x="5334120" y="3962520"/>
          <a:ext cx="3124080" cy="20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3962520"/>
                    <a:ext cx="3124080" cy="20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18"/>
          <p:cNvSpPr/>
          <p:nvPr/>
        </p:nvSpPr>
        <p:spPr>
          <a:xfrm>
            <a:off x="685800" y="4572000"/>
            <a:ext cx="26668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s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9"/>
          <p:cNvSpPr/>
          <p:nvPr/>
        </p:nvSpPr>
        <p:spPr>
          <a:xfrm>
            <a:off x="3352680" y="4572000"/>
            <a:ext cx="266724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5: DC and Transient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B93AF-57EB-4B79-940D-D5D182AB64D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-V Characteristic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pMOS is wider than nMOS such tha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Object 4"/>
          <p:cNvGraphicFramePr/>
          <p:nvPr/>
        </p:nvGraphicFramePr>
        <p:xfrm>
          <a:off x="914400" y="1905120"/>
          <a:ext cx="7162920" cy="414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7162920" cy="41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Microsoft Office User</cp:lastModifiedBy>
  <cp:lastPrinted>2015-02-05T22:36:12Z</cp:lastPrinted>
  <dcterms:modified xsi:type="dcterms:W3CDTF">2020-01-21T11:27:59Z</dcterms:modified>
  <cp:revision>710</cp:revision>
  <dc:subject/>
  <dc:title>PowerPoint Presentation</dc:title>
</cp:coreProperties>
</file>