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media/image29.wmf" ContentType="image/x-wmf"/>
  <Override PartName="/ppt/media/image1.png" ContentType="image/png"/>
  <Override PartName="/ppt/media/image25.png" ContentType="image/png"/>
  <Override PartName="/ppt/media/image24.wmf" ContentType="image/x-wmf"/>
  <Override PartName="/ppt/media/image23.wmf" ContentType="image/x-wmf"/>
  <Override PartName="/ppt/media/image22.png" ContentType="image/png"/>
  <Override PartName="/ppt/media/image21.wmf" ContentType="image/x-wmf"/>
  <Override PartName="/ppt/media/image6.png" ContentType="image/png"/>
  <Override PartName="/ppt/media/image14.wmf" ContentType="image/x-wmf"/>
  <Override PartName="/ppt/media/image16.wmf" ContentType="image/x-wmf"/>
  <Override PartName="/ppt/media/image8.png" ContentType="image/png"/>
  <Override PartName="/ppt/media/image9.wmf" ContentType="image/x-wmf"/>
  <Override PartName="/ppt/media/image11.wmf" ContentType="image/x-wmf"/>
  <Override PartName="/ppt/media/image26.png" ContentType="image/png"/>
  <Override PartName="/ppt/media/image12.png" ContentType="image/png"/>
  <Override PartName="/ppt/media/image32.wmf" ContentType="image/x-wmf"/>
  <Override PartName="/ppt/media/image7.wmf" ContentType="image/x-wmf"/>
  <Override PartName="/ppt/media/image13.wmf" ContentType="image/x-wmf"/>
  <Override PartName="/ppt/media/image30.wmf" ContentType="image/x-wmf"/>
  <Override PartName="/ppt/media/image10.png" ContentType="image/png"/>
  <Override PartName="/ppt/media/image28.wmf" ContentType="image/x-wmf"/>
  <Override PartName="/ppt/media/image31.wmf" ContentType="image/x-wmf"/>
  <Override PartName="/ppt/media/image36.wmf" ContentType="image/x-wmf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15.wmf" ContentType="image/x-wmf"/>
  <Override PartName="/ppt/media/image17.wmf" ContentType="image/x-wmf"/>
  <Override PartName="/ppt/media/image2.jpeg" ContentType="image/jpeg"/>
  <Override PartName="/ppt/media/image18.wmf" ContentType="image/x-wmf"/>
  <Override PartName="/ppt/media/image20.wmf" ContentType="image/x-wmf"/>
  <Override PartName="/ppt/media/image1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9601200" cy="7315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601200" cy="731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4159080" cy="365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3"/>
          </p:nvPr>
        </p:nvSpPr>
        <p:spPr>
          <a:xfrm>
            <a:off x="5441760" y="0"/>
            <a:ext cx="4159080" cy="365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sldImg"/>
          </p:nvPr>
        </p:nvSpPr>
        <p:spPr>
          <a:xfrm>
            <a:off x="2971800" y="545760"/>
            <a:ext cx="3664080" cy="27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400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ftr" idx="4"/>
          </p:nvPr>
        </p:nvSpPr>
        <p:spPr>
          <a:xfrm>
            <a:off x="-360" y="6950160"/>
            <a:ext cx="4159080" cy="365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 type="sldNum" idx="5"/>
          </p:nvPr>
        </p:nvSpPr>
        <p:spPr>
          <a:xfrm>
            <a:off x="5441760" y="6950160"/>
            <a:ext cx="4159080" cy="365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038754-B1D5-4FAC-BDB9-94E0CC2B0E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5442120" y="6950160"/>
            <a:ext cx="4159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202AD4-A4D0-4CF0-8A0A-5FDFCFE461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2973240" y="546120"/>
            <a:ext cx="3660840" cy="2746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5442120" y="6950160"/>
            <a:ext cx="4159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3875D0-462C-4567-9E59-36E5C2083F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2973240" y="546120"/>
            <a:ext cx="3660840" cy="2746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5442120" y="6950160"/>
            <a:ext cx="4159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782250-253E-4D0B-B624-783FAF33D8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2973240" y="546120"/>
            <a:ext cx="3660840" cy="274644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5442120" y="6950160"/>
            <a:ext cx="4159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A0F1DD-4D0F-4089-AFC0-1F49E600A6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2973240" y="546120"/>
            <a:ext cx="3660840" cy="274644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5442120" y="6950160"/>
            <a:ext cx="4159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09A6CA-CB02-4699-A332-B0607C157A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2973240" y="546120"/>
            <a:ext cx="3660840" cy="274644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5442120" y="6950160"/>
            <a:ext cx="4159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E7AFB9-5A80-45B2-BC3F-65F9C31590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2973240" y="546120"/>
            <a:ext cx="3660840" cy="274644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5442120" y="6950160"/>
            <a:ext cx="4159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63E2D5-E2DB-4FC3-B5A3-9581B560D8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2973240" y="546120"/>
            <a:ext cx="3660840" cy="274644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5442120" y="6950160"/>
            <a:ext cx="4159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258010-4475-4602-91D0-AB0DD1FD25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2973240" y="546120"/>
            <a:ext cx="3660840" cy="274644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5442120" y="6950160"/>
            <a:ext cx="4159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142551-761D-4A6D-86EF-FD88543C51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2973240" y="546120"/>
            <a:ext cx="3660840" cy="274644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5442120" y="6950160"/>
            <a:ext cx="4159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FD5AA9-3F40-4E96-93A9-4BF5FB8F6A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2973240" y="546120"/>
            <a:ext cx="3660840" cy="274644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5442120" y="6950160"/>
            <a:ext cx="4159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9CAB9C-800E-4B9B-8501-9B0BA9143D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2973240" y="546120"/>
            <a:ext cx="3660840" cy="274644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5442120" y="6950160"/>
            <a:ext cx="4159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99A113-8859-4801-9EC7-4B377CC544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2973240" y="546120"/>
            <a:ext cx="3660840" cy="2746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5442120" y="6950160"/>
            <a:ext cx="4159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1CA034-6DF9-44B5-99C6-24AC42795F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2973240" y="546120"/>
            <a:ext cx="3660840" cy="274644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5442120" y="6950160"/>
            <a:ext cx="4159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160ECF-AC4F-4C25-A5A3-CE9843D78C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2973240" y="546120"/>
            <a:ext cx="3660840" cy="274644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5442120" y="6950160"/>
            <a:ext cx="4159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EEB8F2-10E1-4EEC-ACD3-2F939AB68A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2973240" y="546120"/>
            <a:ext cx="3660840" cy="274644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5442120" y="6950160"/>
            <a:ext cx="4159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7497ED-7C44-4C02-AE91-56C0CB28E1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2973240" y="546120"/>
            <a:ext cx="3660840" cy="274644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5442120" y="6950160"/>
            <a:ext cx="4159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F4329A-4AA5-4F08-9273-99884A31CD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2973240" y="546120"/>
            <a:ext cx="3660840" cy="274644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5442120" y="6950160"/>
            <a:ext cx="4159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368C0A-5A41-4DF5-9A87-08F7DF417C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2973240" y="546120"/>
            <a:ext cx="3660840" cy="274644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5442120" y="6950160"/>
            <a:ext cx="4159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D44B3D-CA8B-4E84-838A-EA3C18B8E4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2973240" y="546120"/>
            <a:ext cx="3660840" cy="274644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7"/>
          <p:cNvSpPr/>
          <p:nvPr/>
        </p:nvSpPr>
        <p:spPr>
          <a:xfrm>
            <a:off x="5442120" y="6950160"/>
            <a:ext cx="4159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E08685-7AD5-416A-B907-ACDA8ED876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2973240" y="546120"/>
            <a:ext cx="3660840" cy="274644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7"/>
          <p:cNvSpPr/>
          <p:nvPr/>
        </p:nvSpPr>
        <p:spPr>
          <a:xfrm>
            <a:off x="5442120" y="6950160"/>
            <a:ext cx="4159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E1B42E-3AB3-44F2-8B15-CECAE710CE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2973240" y="546120"/>
            <a:ext cx="3660840" cy="274644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7"/>
          <p:cNvSpPr/>
          <p:nvPr/>
        </p:nvSpPr>
        <p:spPr>
          <a:xfrm>
            <a:off x="5442120" y="6950160"/>
            <a:ext cx="4159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D3B41D-9FA4-4005-B87F-132F445486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2973240" y="546120"/>
            <a:ext cx="3660840" cy="274644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5442120" y="6950160"/>
            <a:ext cx="4159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08C4A5-F3CE-4382-AF8B-9AA3310B9E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2973240" y="546120"/>
            <a:ext cx="3660840" cy="2746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7"/>
          <p:cNvSpPr/>
          <p:nvPr/>
        </p:nvSpPr>
        <p:spPr>
          <a:xfrm>
            <a:off x="5442120" y="6950160"/>
            <a:ext cx="4159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948D6B-9CFD-41F1-A0B7-B8B9EA3B7B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2973240" y="546120"/>
            <a:ext cx="3660840" cy="274644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7"/>
          <p:cNvSpPr/>
          <p:nvPr/>
        </p:nvSpPr>
        <p:spPr>
          <a:xfrm>
            <a:off x="5442120" y="6950160"/>
            <a:ext cx="4159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87561C-F5A2-4A90-8E9B-E8820371CE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2973240" y="546120"/>
            <a:ext cx="3660840" cy="274644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7"/>
          <p:cNvSpPr/>
          <p:nvPr/>
        </p:nvSpPr>
        <p:spPr>
          <a:xfrm>
            <a:off x="5442120" y="6950160"/>
            <a:ext cx="4159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3FEC6C-2917-4739-8A7C-2AD6C9E9CB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2973240" y="546120"/>
            <a:ext cx="3662640" cy="274644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5442120" y="6950160"/>
            <a:ext cx="4159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E2E1D1-73B1-4AA1-B72C-A6E24477D8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2973240" y="546120"/>
            <a:ext cx="3660840" cy="2746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5442120" y="6950160"/>
            <a:ext cx="4159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2020DD-ACC4-4385-9B1A-A0E4E93911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2973240" y="546120"/>
            <a:ext cx="3660840" cy="2746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5442120" y="6950160"/>
            <a:ext cx="4159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9E529C-9C11-4F7D-8FC1-BBDE15DBAE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2973240" y="546120"/>
            <a:ext cx="3660840" cy="2746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5442120" y="6950160"/>
            <a:ext cx="4159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9DE7F3-7ADF-423F-BFB4-CAFF62FAF9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2973240" y="546120"/>
            <a:ext cx="3660840" cy="2746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5442120" y="6950160"/>
            <a:ext cx="4159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0EB6F0-A6F0-4360-BD41-B5C6C3E283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2973240" y="546120"/>
            <a:ext cx="3660840" cy="2746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5442120" y="6950160"/>
            <a:ext cx="4159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0F100B-8C85-415A-A539-9EE65A8CE7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2973240" y="546120"/>
            <a:ext cx="3660840" cy="2746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38D274-C840-496A-A643-829CADB19E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279CB1-9B59-499B-89F6-C593560EFC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D5607A-A7E8-4EAC-B6B3-68607040E2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906413-745C-4D32-86E1-8F47DB8A55A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C70571-4C04-4067-9076-80A7461C813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A17488-09D3-4F43-91E8-5F0E61EDDD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346B88-E5FF-4F1B-AEA1-7B28E78F15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B5D883-E58D-45D6-B537-6345C99471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0B29C1-ECB2-4FD3-9AAC-609E61028D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BEB11D-5021-4B47-B529-0F072BCB75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427B2C-E00C-4E95-A64E-552DDE4A87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202C4F-BDBB-4CFC-B304-B920EE8E95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4: Nonideal Transistor The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87F07-A712-47B5-97C5-0DD831357D30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Line 7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8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Line 9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Line 10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Rectangle 11"/>
          <p:cNvSpPr/>
          <p:nvPr/>
        </p:nvSpPr>
        <p:spPr>
          <a:xfrm>
            <a:off x="685800" y="6095880"/>
            <a:ext cx="7772400" cy="152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Rectangle 12"/>
          <p:cNvSpPr/>
          <p:nvPr/>
        </p:nvSpPr>
        <p:spPr>
          <a:xfrm>
            <a:off x="685800" y="1295280"/>
            <a:ext cx="7772400" cy="152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Text Box 13"/>
          <p:cNvSpPr/>
          <p:nvPr/>
        </p:nvSpPr>
        <p:spPr>
          <a:xfrm>
            <a:off x="3733920" y="624852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MOS VLSI Desig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Text Box 14"/>
          <p:cNvSpPr/>
          <p:nvPr/>
        </p:nvSpPr>
        <p:spPr>
          <a:xfrm>
            <a:off x="3733920" y="624852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MOS VLSI Design </a:t>
            </a:r>
            <a:r>
              <a:rPr b="1" lang="en-US" sz="1400" spc="-1" strike="noStrike" baseline="30000">
                <a:solidFill>
                  <a:srgbClr val="0000ff"/>
                </a:solidFill>
                <a:latin typeface="Arial"/>
              </a:rPr>
              <a:t>4th 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0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wmf"/><Relationship Id="rId3" Type="http://schemas.openxmlformats.org/officeDocument/2006/relationships/image" Target="../media/image2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28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wmf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Line 4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5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6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7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952880" y="4190760"/>
            <a:ext cx="4191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ecture 4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Nonideal Transistor Theory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60" name="Picture 13" descr="cover"/>
          <p:cNvPicPr/>
          <p:nvPr/>
        </p:nvPicPr>
        <p:blipFill>
          <a:blip r:embed="rId1"/>
          <a:stretch/>
        </p:blipFill>
        <p:spPr>
          <a:xfrm>
            <a:off x="533520" y="762120"/>
            <a:ext cx="4381560" cy="54864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4: Nonideal Transistor The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48018-34B4-4F9D-9A77-4E05DD0E8BC9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Vel Sat I-V Effect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1080" indent="-451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al transistor ON current increases with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1080" indent="-451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locity-saturated ON current increases with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1080" indent="-451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 transistors are partially velocity satur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roximate with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α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power law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cales with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α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&lt;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α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lt; 2 determined empirically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≈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3 for 65 n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5"/>
          <p:cNvSpPr/>
          <p:nvPr/>
        </p:nvSpPr>
        <p:spPr>
          <a:xfrm>
            <a:off x="3821040" y="318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9" name="Object 4"/>
          <p:cNvGraphicFramePr/>
          <p:nvPr/>
        </p:nvGraphicFramePr>
        <p:xfrm>
          <a:off x="1219320" y="2057400"/>
          <a:ext cx="3660480" cy="73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057400"/>
                    <a:ext cx="3660480" cy="73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Rectangle 7"/>
          <p:cNvSpPr/>
          <p:nvPr/>
        </p:nvSpPr>
        <p:spPr>
          <a:xfrm>
            <a:off x="382104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Picture 1" descr=""/>
          <p:cNvPicPr/>
          <p:nvPr/>
        </p:nvPicPr>
        <p:blipFill>
          <a:blip r:embed="rId3"/>
          <a:stretch/>
        </p:blipFill>
        <p:spPr>
          <a:xfrm>
            <a:off x="1143000" y="3440160"/>
            <a:ext cx="2984400" cy="4190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4: Nonideal Transistor The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8015D-30CC-4DC6-9D8B-3BC4E4444A70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-Power Model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Rectangle 5"/>
          <p:cNvSpPr/>
          <p:nvPr/>
        </p:nvSpPr>
        <p:spPr>
          <a:xfrm>
            <a:off x="3014640" y="24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7"/>
          <p:cNvSpPr/>
          <p:nvPr/>
        </p:nvSpPr>
        <p:spPr>
          <a:xfrm>
            <a:off x="3363840" y="296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8" name="Object 6"/>
          <p:cNvGraphicFramePr/>
          <p:nvPr/>
        </p:nvGraphicFramePr>
        <p:xfrm>
          <a:off x="762120" y="1600200"/>
          <a:ext cx="3962160" cy="1536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00200"/>
                    <a:ext cx="3962160" cy="153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" name="Rectangle 9"/>
          <p:cNvSpPr/>
          <p:nvPr/>
        </p:nvSpPr>
        <p:spPr>
          <a:xfrm>
            <a:off x="3897360" y="3075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1" name="Object 8"/>
          <p:cNvGraphicFramePr/>
          <p:nvPr/>
        </p:nvGraphicFramePr>
        <p:xfrm>
          <a:off x="6095880" y="1752480"/>
          <a:ext cx="2438640" cy="1279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2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95880" y="1752480"/>
                    <a:ext cx="2438640" cy="127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3" name="Picture 10" descr=""/>
          <p:cNvPicPr/>
          <p:nvPr/>
        </p:nvPicPr>
        <p:blipFill>
          <a:blip r:embed="rId5"/>
          <a:stretch/>
        </p:blipFill>
        <p:spPr>
          <a:xfrm>
            <a:off x="2514600" y="3276720"/>
            <a:ext cx="3276720" cy="26762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4: Nonideal Transistor The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B47F1-0616-48CF-9C59-7C7BB175D641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 Black"/>
              </a:rPr>
              <a:t>Channel Length Modulation</a:t>
            </a:r>
            <a:endParaRPr b="0" lang="en-US" sz="4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verse-biased p-n junctions form 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epletion reg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on between n and p with no carr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dth of depletion 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gion grows with reverse b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ef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L – 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rter 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ef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gives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mo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ur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increas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ith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n in satu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" name="Object 5"/>
          <p:cNvGraphicFramePr/>
          <p:nvPr/>
        </p:nvGraphicFramePr>
        <p:xfrm>
          <a:off x="5181480" y="2743200"/>
          <a:ext cx="3429000" cy="202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81480" y="2743200"/>
                    <a:ext cx="3429000" cy="202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" name="Rectangle 7"/>
          <p:cNvSpPr/>
          <p:nvPr/>
        </p:nvSpPr>
        <p:spPr>
          <a:xfrm>
            <a:off x="3714840" y="318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" name="Group 8"/>
          <p:cNvGrpSpPr/>
          <p:nvPr/>
        </p:nvGrpSpPr>
        <p:grpSpPr>
          <a:xfrm>
            <a:off x="3581280" y="3352680"/>
            <a:ext cx="762120" cy="304920"/>
            <a:chOff x="3581280" y="3352680"/>
            <a:chExt cx="762120" cy="304920"/>
          </a:xfrm>
        </p:grpSpPr>
        <p:sp>
          <p:nvSpPr>
            <p:cNvPr id="142" name="Rectangle 9"/>
            <p:cNvSpPr/>
            <p:nvPr/>
          </p:nvSpPr>
          <p:spPr>
            <a:xfrm>
              <a:off x="3581280" y="3352680"/>
              <a:ext cx="76212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10"/>
            <p:cNvSpPr/>
            <p:nvPr/>
          </p:nvSpPr>
          <p:spPr>
            <a:xfrm>
              <a:off x="3581280" y="3657600"/>
              <a:ext cx="717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" name="Group 11"/>
          <p:cNvGrpSpPr/>
          <p:nvPr/>
        </p:nvGrpSpPr>
        <p:grpSpPr>
          <a:xfrm>
            <a:off x="1981080" y="3809880"/>
            <a:ext cx="1371240" cy="304920"/>
            <a:chOff x="1981080" y="3809880"/>
            <a:chExt cx="1371240" cy="304920"/>
          </a:xfrm>
        </p:grpSpPr>
        <p:sp>
          <p:nvSpPr>
            <p:cNvPr id="145" name="Rectangle 12"/>
            <p:cNvSpPr/>
            <p:nvPr/>
          </p:nvSpPr>
          <p:spPr>
            <a:xfrm>
              <a:off x="1981080" y="3809880"/>
              <a:ext cx="137124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13"/>
            <p:cNvSpPr/>
            <p:nvPr/>
          </p:nvSpPr>
          <p:spPr>
            <a:xfrm>
              <a:off x="1981080" y="4114800"/>
              <a:ext cx="12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4: Nonideal Transistor The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26B91-32C6-44B1-8837-2FAD4FE086DC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han Length Mod I-V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nnel length modulation coeffic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feature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pirically fit to I-V character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5"/>
          <p:cNvSpPr/>
          <p:nvPr/>
        </p:nvSpPr>
        <p:spPr>
          <a:xfrm>
            <a:off x="2811600" y="2438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2" name="Object 6"/>
          <p:cNvGraphicFramePr/>
          <p:nvPr/>
        </p:nvGraphicFramePr>
        <p:xfrm>
          <a:off x="914400" y="2057400"/>
          <a:ext cx="4572000" cy="1046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2057400"/>
                    <a:ext cx="4572000" cy="104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4: Nonideal Transistor The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0A975-8693-4628-852C-458BACA1FF82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hreshold Voltage Effect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g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which the channel starts to inve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al models assumed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const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ly depends (weakly) on almost everything el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dy voltage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ody Eff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in voltage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rain-Induced Barrier Low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nel length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hort Channel Eff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Footer Placeholder 5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4: Nonideal Transistor The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F73D6-224A-4A03-907B-FCC1DE9620E8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ody Effec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dy is a fourth transistor termi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ffects the charge required to invert the chann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reasing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r decreasing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creases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t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nominal threshold volt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urface potenti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t thresh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pends on doping level 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intrinsic carrier concentration 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γ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ody effect coeffici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2" name="Object 11"/>
          <p:cNvGraphicFramePr/>
          <p:nvPr/>
        </p:nvGraphicFramePr>
        <p:xfrm>
          <a:off x="1676520" y="2666880"/>
          <a:ext cx="2361960" cy="408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2666880"/>
                    <a:ext cx="2361960" cy="40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4" name="Object 15"/>
          <p:cNvGraphicFramePr/>
          <p:nvPr/>
        </p:nvGraphicFramePr>
        <p:xfrm>
          <a:off x="1676520" y="3659040"/>
          <a:ext cx="1218960" cy="576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5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6520" y="3659040"/>
                    <a:ext cx="121896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6" name="Object 17"/>
          <p:cNvGraphicFramePr/>
          <p:nvPr/>
        </p:nvGraphicFramePr>
        <p:xfrm>
          <a:off x="1600200" y="5302080"/>
          <a:ext cx="2819520" cy="717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7" name="Object 1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600200" y="5302080"/>
                    <a:ext cx="2819520" cy="71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4: Nonideal Transistor The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F66E3-5350-4CBF-8002-7C53484D64A1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Body Effect Cont.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small source-to-body voltage, treat as lin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4" descr=""/>
          <p:cNvPicPr/>
          <p:nvPr/>
        </p:nvPicPr>
        <p:blipFill>
          <a:blip r:embed="rId1"/>
          <a:stretch/>
        </p:blipFill>
        <p:spPr>
          <a:xfrm>
            <a:off x="1295280" y="2133720"/>
            <a:ext cx="2362320" cy="6778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5" descr=""/>
          <p:cNvPicPr/>
          <p:nvPr/>
        </p:nvPicPr>
        <p:blipFill>
          <a:blip r:embed="rId2"/>
          <a:stretch/>
        </p:blipFill>
        <p:spPr>
          <a:xfrm>
            <a:off x="1600200" y="2895480"/>
            <a:ext cx="2228760" cy="11876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4: Nonideal Transistor The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15784-51DD-46BA-B99C-FD48969B582D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IBL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ic field from drain affects chan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pronounced in small transistors where the drain is closer to the chan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in-Induced Barrier Low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in voltage also affect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 drain voltage causes current to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increa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Object 4"/>
          <p:cNvGraphicFramePr/>
          <p:nvPr/>
        </p:nvGraphicFramePr>
        <p:xfrm>
          <a:off x="4152960" y="3287880"/>
          <a:ext cx="838080" cy="282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52960" y="3287880"/>
                    <a:ext cx="838080" cy="28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0" name="Rectangle 5"/>
          <p:cNvSpPr/>
          <p:nvPr/>
        </p:nvSpPr>
        <p:spPr>
          <a:xfrm>
            <a:off x="415296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1" name="Object 6"/>
          <p:cNvGraphicFramePr/>
          <p:nvPr/>
        </p:nvGraphicFramePr>
        <p:xfrm>
          <a:off x="1600200" y="3809880"/>
          <a:ext cx="1981080" cy="668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2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00200" y="3809880"/>
                    <a:ext cx="1981080" cy="66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83" name="Group 10"/>
          <p:cNvGrpSpPr/>
          <p:nvPr/>
        </p:nvGrpSpPr>
        <p:grpSpPr>
          <a:xfrm>
            <a:off x="6172200" y="4572000"/>
            <a:ext cx="1295280" cy="304920"/>
            <a:chOff x="6172200" y="4572000"/>
            <a:chExt cx="1295280" cy="304920"/>
          </a:xfrm>
        </p:grpSpPr>
        <p:sp>
          <p:nvSpPr>
            <p:cNvPr id="184" name="Rectangle 7"/>
            <p:cNvSpPr/>
            <p:nvPr/>
          </p:nvSpPr>
          <p:spPr>
            <a:xfrm>
              <a:off x="6172200" y="4572000"/>
              <a:ext cx="129528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Line 8"/>
            <p:cNvSpPr/>
            <p:nvPr/>
          </p:nvSpPr>
          <p:spPr>
            <a:xfrm>
              <a:off x="6172200" y="48769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86" name="Picture 11" descr=""/>
          <p:cNvPicPr/>
          <p:nvPr/>
        </p:nvPicPr>
        <p:blipFill>
          <a:blip r:embed="rId5"/>
          <a:stretch/>
        </p:blipFill>
        <p:spPr>
          <a:xfrm>
            <a:off x="5638680" y="2362320"/>
            <a:ext cx="2819520" cy="2251080"/>
          </a:xfrm>
          <a:prstGeom prst="rect">
            <a:avLst/>
          </a:prstGeom>
          <a:ln w="0">
            <a:noFill/>
          </a:ln>
        </p:spPr>
      </p:pic>
      <p:sp>
        <p:nvSpPr>
          <p:cNvPr id="187" name="Rectangle 12"/>
          <p:cNvSpPr/>
          <p:nvPr/>
        </p:nvSpPr>
        <p:spPr>
          <a:xfrm>
            <a:off x="6324480" y="3352680"/>
            <a:ext cx="762120" cy="304920"/>
          </a:xfrm>
          <a:prstGeom prst="rect">
            <a:avLst/>
          </a:prstGeom>
          <a:solidFill>
            <a:srgbClr val="ff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0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4: Nonideal Transistor The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C81C7-9949-4638-AD02-A170DF70FF56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hort Channel Effec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small transistors, source/drain depletion regions extend into the chan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acts the amount of charge required to invert the chan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thus makes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 function of channel l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rt channel effect: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creases with 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processes exhibit a reverse short channel effect in which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creases with 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4: Nonideal Transistor The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DE633-A186-432F-8BFE-871E5B9F3E8D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eakag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about current in cutoff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ulated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iffer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doesn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 to 0 in cuto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5" descr=""/>
          <p:cNvPicPr/>
          <p:nvPr/>
        </p:nvPicPr>
        <p:blipFill>
          <a:blip r:embed="rId1"/>
          <a:stretch/>
        </p:blipFill>
        <p:spPr>
          <a:xfrm>
            <a:off x="3809880" y="2155680"/>
            <a:ext cx="4934160" cy="3940200"/>
          </a:xfrm>
          <a:prstGeom prst="rect">
            <a:avLst/>
          </a:prstGeom>
          <a:ln w="0">
            <a:noFill/>
          </a:ln>
        </p:spPr>
      </p:pic>
      <p:sp>
        <p:nvSpPr>
          <p:cNvPr id="197" name="Rectangle 6"/>
          <p:cNvSpPr/>
          <p:nvPr/>
        </p:nvSpPr>
        <p:spPr>
          <a:xfrm>
            <a:off x="1600200" y="2895480"/>
            <a:ext cx="2286000" cy="838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7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4: Nonideal Transistor The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320F8-0DA4-47E4-8464-9FE637718D76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nideal Transistor Behavi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 Field Eff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bility Degrad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locity Satu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nnel Length Mod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reshold Voltage Eff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dy Eff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ain-Induced Barrier Low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rt Channel Eff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threshold Lea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te Lea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unction Lea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cess and Environmental Vari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4: Nonideal Transistor The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84DA6-BAAD-41D2-A4BE-E5F4E96F346F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eakage Sourc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threshold co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istors can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 abruptly turn ON or O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minant source in contemporary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te leak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nneling through ultrathin gate dielectr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nction leak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verse-biased PN junction diode cur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Footer Placeholder 4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4: Nonideal Transistor The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99DBE-FD62-42BE-B7A7-9B621A2C1011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ubthreshold Leakag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threshold leakage exponential with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 is process depend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ically 1.3-1.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write relative to 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of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n log 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≈ 100 mV/decade @ room tempera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3801960" y="31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4160880" y="330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Picture 9" descr=""/>
          <p:cNvPicPr/>
          <p:nvPr/>
        </p:nvPicPr>
        <p:blipFill>
          <a:blip r:embed="rId1"/>
          <a:stretch/>
        </p:blipFill>
        <p:spPr>
          <a:xfrm>
            <a:off x="1143000" y="4419720"/>
            <a:ext cx="4191120" cy="98244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10" descr=""/>
          <p:cNvPicPr/>
          <p:nvPr/>
        </p:nvPicPr>
        <p:blipFill>
          <a:blip r:embed="rId2"/>
          <a:stretch/>
        </p:blipFill>
        <p:spPr>
          <a:xfrm>
            <a:off x="5638680" y="4572000"/>
            <a:ext cx="2514600" cy="86832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1" descr=""/>
          <p:cNvPicPr/>
          <p:nvPr/>
        </p:nvPicPr>
        <p:blipFill>
          <a:blip r:embed="rId3"/>
          <a:stretch/>
        </p:blipFill>
        <p:spPr>
          <a:xfrm>
            <a:off x="5486400" y="1981080"/>
            <a:ext cx="3105000" cy="2479680"/>
          </a:xfrm>
          <a:prstGeom prst="rect">
            <a:avLst/>
          </a:prstGeom>
          <a:ln w="0">
            <a:noFill/>
          </a:ln>
        </p:spPr>
      </p:pic>
      <p:sp>
        <p:nvSpPr>
          <p:cNvPr id="211" name="Rectangle 12"/>
          <p:cNvSpPr/>
          <p:nvPr/>
        </p:nvSpPr>
        <p:spPr>
          <a:xfrm>
            <a:off x="7162920" y="2971800"/>
            <a:ext cx="1371600" cy="304920"/>
          </a:xfrm>
          <a:prstGeom prst="rect">
            <a:avLst/>
          </a:prstGeom>
          <a:solidFill>
            <a:srgbClr val="ff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Rectangle 13"/>
          <p:cNvSpPr/>
          <p:nvPr/>
        </p:nvSpPr>
        <p:spPr>
          <a:xfrm>
            <a:off x="6324480" y="2895480"/>
            <a:ext cx="762120" cy="304920"/>
          </a:xfrm>
          <a:prstGeom prst="rect">
            <a:avLst/>
          </a:prstGeom>
          <a:solidFill>
            <a:srgbClr val="ff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3" name="Object 16"/>
          <p:cNvGraphicFramePr/>
          <p:nvPr/>
        </p:nvGraphicFramePr>
        <p:xfrm>
          <a:off x="1295280" y="1908000"/>
          <a:ext cx="3200400" cy="835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14" name="Object 1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295280" y="1908000"/>
                    <a:ext cx="320040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4: Nonideal Transistor The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13208-8664-4B46-BA50-01309B5BA9E6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Gate Leakag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1080" indent="-451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riers tunnel thorough very thin gate oxi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1080" indent="-451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onentially sensitive to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and B are tech const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eater for elect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620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 nMOS gates leak m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1080" indent="-451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gligible for older processes (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gt; 20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Å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1080" indent="-451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itically important at 65 nm and below (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≈ 10.5 Å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5"/>
          <p:cNvSpPr/>
          <p:nvPr/>
        </p:nvSpPr>
        <p:spPr>
          <a:xfrm>
            <a:off x="3456000" y="247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Picture 7" descr="0221"/>
          <p:cNvPicPr/>
          <p:nvPr/>
        </p:nvPicPr>
        <p:blipFill>
          <a:blip r:embed="rId1"/>
          <a:stretch/>
        </p:blipFill>
        <p:spPr>
          <a:xfrm>
            <a:off x="5410080" y="2438280"/>
            <a:ext cx="2971800" cy="2748240"/>
          </a:xfrm>
          <a:prstGeom prst="rect">
            <a:avLst/>
          </a:prstGeom>
          <a:ln w="0">
            <a:noFill/>
          </a:ln>
        </p:spPr>
      </p:pic>
      <p:sp>
        <p:nvSpPr>
          <p:cNvPr id="221" name="Text Box 8"/>
          <p:cNvSpPr/>
          <p:nvPr/>
        </p:nvSpPr>
        <p:spPr>
          <a:xfrm>
            <a:off x="7467480" y="5029200"/>
            <a:ext cx="930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[Song01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2" name="Picture 9" descr=""/>
          <p:cNvPicPr/>
          <p:nvPr/>
        </p:nvPicPr>
        <p:blipFill>
          <a:blip r:embed="rId2"/>
          <a:stretch/>
        </p:blipFill>
        <p:spPr>
          <a:xfrm>
            <a:off x="1219320" y="2514600"/>
            <a:ext cx="3124080" cy="10857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4: Nonideal Transistor The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4F2D0-9B82-4DF4-A96B-7E32BB91D039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Junction Leakag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verse-biased p-n junctions have some leak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dinary diode leak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nd-to-band tunneling (BTB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te-induced drain leakage (GID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7" name="Object 5"/>
          <p:cNvGraphicFramePr/>
          <p:nvPr/>
        </p:nvGraphicFramePr>
        <p:xfrm>
          <a:off x="685800" y="4624560"/>
          <a:ext cx="7772400" cy="137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624560"/>
                    <a:ext cx="7772400" cy="137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4: Nonideal Transistor The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4C20C-FFFF-4D91-85F1-240334D455C8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iode Leakag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verse-biased p-n junctions have some leak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any significant negative diode voltage, 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-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pends on doping lev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area and perimeter of diffusion reg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ically &lt; 1 fA/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negligib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3" name="Object 4"/>
          <p:cNvGraphicFramePr/>
          <p:nvPr/>
        </p:nvGraphicFramePr>
        <p:xfrm>
          <a:off x="1295280" y="1981080"/>
          <a:ext cx="1752840" cy="89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1981080"/>
                    <a:ext cx="1752840" cy="89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4: Nonideal Transistor The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B287F-DD2A-450B-B5A8-BA43FD41AFA9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Band-to-Band Tunneling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1080" indent="-451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nneling across heavily doped p-n j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pecially sidewall between drain &amp; chan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halo dop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used to increase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1080" indent="-451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es junction leakage to significant lev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sidewall junction dep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bandgap volt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, B: tech const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4" descr=""/>
          <p:cNvPicPr/>
          <p:nvPr/>
        </p:nvPicPr>
        <p:blipFill>
          <a:blip r:embed="rId1"/>
          <a:stretch/>
        </p:blipFill>
        <p:spPr>
          <a:xfrm>
            <a:off x="1600200" y="3605040"/>
            <a:ext cx="3048120" cy="104328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5" descr=""/>
          <p:cNvPicPr/>
          <p:nvPr/>
        </p:nvPicPr>
        <p:blipFill>
          <a:blip r:embed="rId2"/>
          <a:stretch/>
        </p:blipFill>
        <p:spPr>
          <a:xfrm>
            <a:off x="5181480" y="3757680"/>
            <a:ext cx="3140280" cy="6825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4: Nonideal Transistor The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DD785-CB45-4A3F-B3BE-2550CA033EC6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 Black"/>
              </a:rPr>
              <a:t>Gate-Induced Drain Leakage</a:t>
            </a:r>
            <a:endParaRPr b="0" lang="en-US" sz="3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curs at overlap between gate and d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pronounced when drain is at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gate is at a negative volt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warts efforts to reduce subthreshold leakage using a negative gate volt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4" descr=""/>
          <p:cNvPicPr/>
          <p:nvPr/>
        </p:nvPicPr>
        <p:blipFill>
          <a:blip r:embed="rId1"/>
          <a:stretch/>
        </p:blipFill>
        <p:spPr>
          <a:xfrm>
            <a:off x="1523880" y="3581280"/>
            <a:ext cx="3105360" cy="2479680"/>
          </a:xfrm>
          <a:prstGeom prst="rect">
            <a:avLst/>
          </a:prstGeom>
          <a:ln w="0">
            <a:noFill/>
          </a:ln>
        </p:spPr>
      </p:pic>
      <p:sp>
        <p:nvSpPr>
          <p:cNvPr id="246" name="Rectangle 5"/>
          <p:cNvSpPr/>
          <p:nvPr/>
        </p:nvSpPr>
        <p:spPr>
          <a:xfrm>
            <a:off x="2438280" y="5029200"/>
            <a:ext cx="533520" cy="533520"/>
          </a:xfrm>
          <a:prstGeom prst="rect">
            <a:avLst/>
          </a:prstGeom>
          <a:solidFill>
            <a:srgbClr val="ff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4: Nonideal Transistor The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7E678-46B1-4F67-AA41-243A4794FF6C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Temperature Sensitivity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ing temper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es mo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es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decreas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ith temper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F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increas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ith temper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5"/>
          <p:cNvSpPr/>
          <p:nvPr/>
        </p:nvSpPr>
        <p:spPr>
          <a:xfrm>
            <a:off x="3021120" y="235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2" name="Object 4"/>
          <p:cNvGraphicFramePr/>
          <p:nvPr/>
        </p:nvGraphicFramePr>
        <p:xfrm>
          <a:off x="2438280" y="3809880"/>
          <a:ext cx="3102120" cy="215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3809880"/>
                    <a:ext cx="3102120" cy="215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4" name="Rectangle 7"/>
          <p:cNvSpPr/>
          <p:nvPr/>
        </p:nvSpPr>
        <p:spPr>
          <a:xfrm>
            <a:off x="3021120" y="235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5" name="Group 8"/>
          <p:cNvGrpSpPr/>
          <p:nvPr/>
        </p:nvGrpSpPr>
        <p:grpSpPr>
          <a:xfrm>
            <a:off x="1752480" y="2895480"/>
            <a:ext cx="1447560" cy="380880"/>
            <a:chOff x="1752480" y="2895480"/>
            <a:chExt cx="1447560" cy="380880"/>
          </a:xfrm>
        </p:grpSpPr>
        <p:sp>
          <p:nvSpPr>
            <p:cNvPr id="256" name="Rectangle 9"/>
            <p:cNvSpPr/>
            <p:nvPr/>
          </p:nvSpPr>
          <p:spPr>
            <a:xfrm>
              <a:off x="1752480" y="2895480"/>
              <a:ext cx="1447560" cy="38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Line 10"/>
            <p:cNvSpPr/>
            <p:nvPr/>
          </p:nvSpPr>
          <p:spPr>
            <a:xfrm>
              <a:off x="1752480" y="3276360"/>
              <a:ext cx="1362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8" name="Group 11"/>
          <p:cNvGrpSpPr/>
          <p:nvPr/>
        </p:nvGrpSpPr>
        <p:grpSpPr>
          <a:xfrm>
            <a:off x="1828800" y="3352680"/>
            <a:ext cx="1295280" cy="380880"/>
            <a:chOff x="1828800" y="3352680"/>
            <a:chExt cx="1295280" cy="380880"/>
          </a:xfrm>
        </p:grpSpPr>
        <p:sp>
          <p:nvSpPr>
            <p:cNvPr id="259" name="Rectangle 12"/>
            <p:cNvSpPr/>
            <p:nvPr/>
          </p:nvSpPr>
          <p:spPr>
            <a:xfrm>
              <a:off x="1828800" y="3352680"/>
              <a:ext cx="1295280" cy="38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13"/>
            <p:cNvSpPr/>
            <p:nvPr/>
          </p:nvSpPr>
          <p:spPr>
            <a:xfrm>
              <a:off x="1828800" y="37335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5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4: Nonideal Transistor The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8E71F-74F9-47FF-997A-F2113B1140AD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o What?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 what if transistors are not idea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still behave like switch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these effects matter for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ly voltage cho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cal ef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iescent power consum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ss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mperature of op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4: Nonideal Transistor The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92ED8-D343-4006-9C6B-B6843C3CF887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arameter Vari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46400" indent="-44640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istors have uncertainty in parame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44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: 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ef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nMOS and pM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44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y around typical (T) val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400" indent="-44640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st (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44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ef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sh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44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44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th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400" indent="-44640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ow (S): oppo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400" indent="-44640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parameters are independ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nMOS and pM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9" name="Object 4"/>
          <p:cNvGraphicFramePr/>
          <p:nvPr/>
        </p:nvGraphicFramePr>
        <p:xfrm>
          <a:off x="5867280" y="2666880"/>
          <a:ext cx="2563920" cy="259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67280" y="2666880"/>
                    <a:ext cx="2563920" cy="25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71" name="Group 5"/>
          <p:cNvGrpSpPr/>
          <p:nvPr/>
        </p:nvGrpSpPr>
        <p:grpSpPr>
          <a:xfrm>
            <a:off x="2133720" y="3276720"/>
            <a:ext cx="1143000" cy="380520"/>
            <a:chOff x="2133720" y="3276720"/>
            <a:chExt cx="1143000" cy="380520"/>
          </a:xfrm>
        </p:grpSpPr>
        <p:sp>
          <p:nvSpPr>
            <p:cNvPr id="272" name="Rectangle 6"/>
            <p:cNvSpPr/>
            <p:nvPr/>
          </p:nvSpPr>
          <p:spPr>
            <a:xfrm>
              <a:off x="2133720" y="3276720"/>
              <a:ext cx="1143000" cy="38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7"/>
            <p:cNvSpPr/>
            <p:nvPr/>
          </p:nvSpPr>
          <p:spPr>
            <a:xfrm>
              <a:off x="2133720" y="3657240"/>
              <a:ext cx="1075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4" name="Group 11"/>
          <p:cNvGrpSpPr/>
          <p:nvPr/>
        </p:nvGrpSpPr>
        <p:grpSpPr>
          <a:xfrm>
            <a:off x="2133720" y="3733920"/>
            <a:ext cx="1143000" cy="380520"/>
            <a:chOff x="2133720" y="3733920"/>
            <a:chExt cx="1143000" cy="380520"/>
          </a:xfrm>
        </p:grpSpPr>
        <p:sp>
          <p:nvSpPr>
            <p:cNvPr id="275" name="Rectangle 12"/>
            <p:cNvSpPr/>
            <p:nvPr/>
          </p:nvSpPr>
          <p:spPr>
            <a:xfrm>
              <a:off x="2133720" y="3733920"/>
              <a:ext cx="1143000" cy="38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13"/>
            <p:cNvSpPr/>
            <p:nvPr/>
          </p:nvSpPr>
          <p:spPr>
            <a:xfrm>
              <a:off x="2133720" y="4114440"/>
              <a:ext cx="1075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7" name="Group 14"/>
          <p:cNvGrpSpPr/>
          <p:nvPr/>
        </p:nvGrpSpPr>
        <p:grpSpPr>
          <a:xfrm>
            <a:off x="2133720" y="4191120"/>
            <a:ext cx="1143000" cy="380520"/>
            <a:chOff x="2133720" y="4191120"/>
            <a:chExt cx="1143000" cy="380520"/>
          </a:xfrm>
        </p:grpSpPr>
        <p:sp>
          <p:nvSpPr>
            <p:cNvPr id="278" name="Rectangle 15"/>
            <p:cNvSpPr/>
            <p:nvPr/>
          </p:nvSpPr>
          <p:spPr>
            <a:xfrm>
              <a:off x="2133720" y="4191120"/>
              <a:ext cx="1143000" cy="38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Line 16"/>
            <p:cNvSpPr/>
            <p:nvPr/>
          </p:nvSpPr>
          <p:spPr>
            <a:xfrm>
              <a:off x="2133720" y="4571640"/>
              <a:ext cx="1075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40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45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50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4: Nonideal Transistor The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0FFE0-A98F-4571-BA5E-1A9A836468F2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Ideal Transistor I-V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hockle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ong-channel transistor 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Object 4"/>
          <p:cNvGraphicFramePr/>
          <p:nvPr/>
        </p:nvGraphicFramePr>
        <p:xfrm>
          <a:off x="685800" y="2286000"/>
          <a:ext cx="7772400" cy="299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286000"/>
                    <a:ext cx="7772400" cy="299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4: Nonideal Transistor The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E62D1-D4E2-488A-B026-F4DE7136961B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nvironmental Vari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T also vary in time and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hi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   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1066680" y="3886200"/>
          <a:ext cx="6096240" cy="158436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rn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lta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.9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0 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 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.6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25 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85" name="Group 78"/>
          <p:cNvGrpSpPr/>
          <p:nvPr/>
        </p:nvGrpSpPr>
        <p:grpSpPr>
          <a:xfrm>
            <a:off x="2286000" y="2438280"/>
            <a:ext cx="1143000" cy="380880"/>
            <a:chOff x="2286000" y="2438280"/>
            <a:chExt cx="1143000" cy="380880"/>
          </a:xfrm>
        </p:grpSpPr>
        <p:sp>
          <p:nvSpPr>
            <p:cNvPr id="286" name="Rectangle 79"/>
            <p:cNvSpPr/>
            <p:nvPr/>
          </p:nvSpPr>
          <p:spPr>
            <a:xfrm>
              <a:off x="2286000" y="2438280"/>
              <a:ext cx="1143000" cy="38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80"/>
            <p:cNvSpPr/>
            <p:nvPr/>
          </p:nvSpPr>
          <p:spPr>
            <a:xfrm>
              <a:off x="2286000" y="2819160"/>
              <a:ext cx="1075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8" name="Group 81"/>
          <p:cNvGrpSpPr/>
          <p:nvPr/>
        </p:nvGrpSpPr>
        <p:grpSpPr>
          <a:xfrm>
            <a:off x="2286000" y="2895480"/>
            <a:ext cx="1143000" cy="380880"/>
            <a:chOff x="2286000" y="2895480"/>
            <a:chExt cx="1143000" cy="380880"/>
          </a:xfrm>
        </p:grpSpPr>
        <p:sp>
          <p:nvSpPr>
            <p:cNvPr id="289" name="Rectangle 82"/>
            <p:cNvSpPr/>
            <p:nvPr/>
          </p:nvSpPr>
          <p:spPr>
            <a:xfrm>
              <a:off x="2286000" y="2895480"/>
              <a:ext cx="1143000" cy="38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Line 83"/>
            <p:cNvSpPr/>
            <p:nvPr/>
          </p:nvSpPr>
          <p:spPr>
            <a:xfrm>
              <a:off x="2286000" y="3276360"/>
              <a:ext cx="1075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1" name="Rectangle 85"/>
          <p:cNvSpPr/>
          <p:nvPr/>
        </p:nvSpPr>
        <p:spPr>
          <a:xfrm>
            <a:off x="3200400" y="4343400"/>
            <a:ext cx="11430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Rectangle 87"/>
          <p:cNvSpPr/>
          <p:nvPr/>
        </p:nvSpPr>
        <p:spPr>
          <a:xfrm>
            <a:off x="3124080" y="5105520"/>
            <a:ext cx="114300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Rectangle 88"/>
          <p:cNvSpPr/>
          <p:nvPr/>
        </p:nvSpPr>
        <p:spPr>
          <a:xfrm>
            <a:off x="5181480" y="4343400"/>
            <a:ext cx="11430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Rectangle 89"/>
          <p:cNvSpPr/>
          <p:nvPr/>
        </p:nvSpPr>
        <p:spPr>
          <a:xfrm>
            <a:off x="5181480" y="5105520"/>
            <a:ext cx="114300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57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62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67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0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3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6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4: Nonideal Transistor The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0B9C0-A999-4C70-9DBB-640E6859D694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rocess Corner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 corners describe worst case vari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 design works in all corners, it will probably work for any vari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corner with four letters (T, F, 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MOS sp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MOS sp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lt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mper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4: Nonideal Transistor The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04CE0-ADC3-40EE-B496-3C61C133F3EB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Important Corner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ritical simulation corners 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3" name=""/>
          <p:cNvGraphicFramePr/>
          <p:nvPr/>
        </p:nvGraphicFramePr>
        <p:xfrm>
          <a:off x="838080" y="2895480"/>
          <a:ext cx="6782040" cy="2301840"/>
        </p:xfrm>
        <a:graphic>
          <a:graphicData uri="http://schemas.openxmlformats.org/drawingml/2006/table">
            <a:tbl>
              <a:tblPr/>
              <a:tblGrid>
                <a:gridCol w="1905120"/>
                <a:gridCol w="1219320"/>
                <a:gridCol w="1218960"/>
                <a:gridCol w="1219320"/>
                <a:gridCol w="1219320"/>
              </a:tblGrid>
              <a:tr h="51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rpo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M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M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m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ycle ti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w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bthreshol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aka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4" name="Rectangle 42"/>
          <p:cNvSpPr/>
          <p:nvPr/>
        </p:nvSpPr>
        <p:spPr>
          <a:xfrm>
            <a:off x="2819520" y="3429000"/>
            <a:ext cx="10666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Rectangle 43"/>
          <p:cNvSpPr/>
          <p:nvPr/>
        </p:nvSpPr>
        <p:spPr>
          <a:xfrm>
            <a:off x="4038480" y="3429000"/>
            <a:ext cx="106704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Rectangle 44"/>
          <p:cNvSpPr/>
          <p:nvPr/>
        </p:nvSpPr>
        <p:spPr>
          <a:xfrm>
            <a:off x="5257800" y="3429000"/>
            <a:ext cx="10666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Rectangle 45"/>
          <p:cNvSpPr/>
          <p:nvPr/>
        </p:nvSpPr>
        <p:spPr>
          <a:xfrm>
            <a:off x="6477120" y="3429000"/>
            <a:ext cx="10666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Rectangle 46"/>
          <p:cNvSpPr/>
          <p:nvPr/>
        </p:nvSpPr>
        <p:spPr>
          <a:xfrm>
            <a:off x="2819520" y="3962520"/>
            <a:ext cx="10666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Rectangle 47"/>
          <p:cNvSpPr/>
          <p:nvPr/>
        </p:nvSpPr>
        <p:spPr>
          <a:xfrm>
            <a:off x="4038480" y="3962520"/>
            <a:ext cx="106704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Rectangle 48"/>
          <p:cNvSpPr/>
          <p:nvPr/>
        </p:nvSpPr>
        <p:spPr>
          <a:xfrm>
            <a:off x="5257800" y="3962520"/>
            <a:ext cx="10666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Rectangle 49"/>
          <p:cNvSpPr/>
          <p:nvPr/>
        </p:nvSpPr>
        <p:spPr>
          <a:xfrm>
            <a:off x="6477120" y="3962520"/>
            <a:ext cx="10666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Rectangle 50"/>
          <p:cNvSpPr/>
          <p:nvPr/>
        </p:nvSpPr>
        <p:spPr>
          <a:xfrm>
            <a:off x="2819520" y="4495680"/>
            <a:ext cx="106668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Rectangle 51"/>
          <p:cNvSpPr/>
          <p:nvPr/>
        </p:nvSpPr>
        <p:spPr>
          <a:xfrm>
            <a:off x="4038480" y="4495680"/>
            <a:ext cx="106704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Rectangle 52"/>
          <p:cNvSpPr/>
          <p:nvPr/>
        </p:nvSpPr>
        <p:spPr>
          <a:xfrm>
            <a:off x="5257800" y="4495680"/>
            <a:ext cx="106668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Rectangle 53"/>
          <p:cNvSpPr/>
          <p:nvPr/>
        </p:nvSpPr>
        <p:spPr>
          <a:xfrm>
            <a:off x="6477120" y="4495680"/>
            <a:ext cx="106668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83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86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89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92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97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00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0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06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11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14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17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20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Footer Placeholder 5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4: Nonideal Transistor The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11D89-48F4-42A4-B235-CCBC7A2A8D20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Ideal vs. Simulated nMOS I-V Plo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6019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5 nm IBM process,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.0 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11"/>
          <p:cNvSpPr/>
          <p:nvPr/>
        </p:nvSpPr>
        <p:spPr>
          <a:xfrm>
            <a:off x="2133720" y="2438280"/>
            <a:ext cx="19047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" name="Object 12"/>
          <p:cNvGraphicFramePr/>
          <p:nvPr/>
        </p:nvGraphicFramePr>
        <p:xfrm>
          <a:off x="990720" y="1857240"/>
          <a:ext cx="7110360" cy="4238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857240"/>
                    <a:ext cx="7110360" cy="423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Footer Placeholder 4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4: Nonideal Transistor The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4953A-C3E8-46B7-B0C6-B5E419F89A39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ON and OFF Curren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d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@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g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d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D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tu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of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d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@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g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0,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d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to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Object 7"/>
          <p:cNvGraphicFramePr/>
          <p:nvPr/>
        </p:nvGraphicFramePr>
        <p:xfrm>
          <a:off x="5257800" y="1523880"/>
          <a:ext cx="3048120" cy="173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57800" y="1523880"/>
                    <a:ext cx="3048120" cy="173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" name="Rectangle 12"/>
          <p:cNvSpPr/>
          <p:nvPr/>
        </p:nvSpPr>
        <p:spPr>
          <a:xfrm>
            <a:off x="7543800" y="1676520"/>
            <a:ext cx="762120" cy="533160"/>
          </a:xfrm>
          <a:prstGeom prst="rect">
            <a:avLst/>
          </a:prstGeom>
          <a:solidFill>
            <a:srgbClr val="ff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14" descr="0220"/>
          <p:cNvPicPr/>
          <p:nvPr/>
        </p:nvPicPr>
        <p:blipFill>
          <a:blip r:embed="rId3"/>
          <a:stretch/>
        </p:blipFill>
        <p:spPr>
          <a:xfrm>
            <a:off x="4876920" y="3429000"/>
            <a:ext cx="3047760" cy="257184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15"/>
          <p:cNvSpPr/>
          <p:nvPr/>
        </p:nvSpPr>
        <p:spPr>
          <a:xfrm>
            <a:off x="5638680" y="4419720"/>
            <a:ext cx="914400" cy="304560"/>
          </a:xfrm>
          <a:prstGeom prst="rect">
            <a:avLst/>
          </a:prstGeom>
          <a:solidFill>
            <a:srgbClr val="ff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4: Nonideal Transistor The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CCD14-2CD8-4D67-91D9-E911F88D6220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lectric Fields Effect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tical electric field: 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ver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g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/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tracts carriers into chan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ng channel: 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channe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oportional to 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ve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teral electric field: 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la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/ 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elerates carriers from drain to 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ng channel: v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l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Group 4"/>
          <p:cNvGrpSpPr/>
          <p:nvPr/>
        </p:nvGrpSpPr>
        <p:grpSpPr>
          <a:xfrm>
            <a:off x="4952880" y="1600200"/>
            <a:ext cx="1143000" cy="380520"/>
            <a:chOff x="4952880" y="1600200"/>
            <a:chExt cx="1143000" cy="380520"/>
          </a:xfrm>
        </p:grpSpPr>
        <p:sp>
          <p:nvSpPr>
            <p:cNvPr id="92" name="Rectangle 5"/>
            <p:cNvSpPr/>
            <p:nvPr/>
          </p:nvSpPr>
          <p:spPr>
            <a:xfrm>
              <a:off x="4952880" y="1600200"/>
              <a:ext cx="1143000" cy="38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Line 6"/>
            <p:cNvSpPr/>
            <p:nvPr/>
          </p:nvSpPr>
          <p:spPr>
            <a:xfrm>
              <a:off x="4952880" y="1980720"/>
              <a:ext cx="1075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Group 7"/>
          <p:cNvGrpSpPr/>
          <p:nvPr/>
        </p:nvGrpSpPr>
        <p:grpSpPr>
          <a:xfrm>
            <a:off x="4800600" y="2895480"/>
            <a:ext cx="1295280" cy="380880"/>
            <a:chOff x="4800600" y="2895480"/>
            <a:chExt cx="1295280" cy="380880"/>
          </a:xfrm>
        </p:grpSpPr>
        <p:sp>
          <p:nvSpPr>
            <p:cNvPr id="95" name="Rectangle 8"/>
            <p:cNvSpPr/>
            <p:nvPr/>
          </p:nvSpPr>
          <p:spPr>
            <a:xfrm>
              <a:off x="4800600" y="2895480"/>
              <a:ext cx="1295280" cy="38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Line 9"/>
            <p:cNvSpPr/>
            <p:nvPr/>
          </p:nvSpPr>
          <p:spPr>
            <a:xfrm>
              <a:off x="4800600" y="32763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4: Nonideal Transistor The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9C307-1722-494F-B339-FF04AD964B98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offee Cart Analogy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46400" indent="-44640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red student runs from VLSI lab to coffee c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400" indent="-44640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eshmen are pouring out of the physics lecture h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400" indent="-44640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how long you have been 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44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r velocity = fatigu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400" indent="-44640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g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wind blowing you against the glass (Si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w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400" indent="-44640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high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g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you are buffeted against the w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44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obility degrad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400" indent="-44640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high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you scatter off freshmen, fall down, get 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44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Velocity satu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74320" indent="-2239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 confuse this with the saturation reg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4: Nonideal Transistor The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C67D3-B9CE-42E6-B842-3467B6B96BC9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Mobility Degrada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 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ver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ffectively reduces mo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isions with oxide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" descr=""/>
          <p:cNvPicPr/>
          <p:nvPr/>
        </p:nvPicPr>
        <p:blipFill>
          <a:blip r:embed="rId1"/>
          <a:stretch/>
        </p:blipFill>
        <p:spPr>
          <a:xfrm>
            <a:off x="914400" y="2895480"/>
            <a:ext cx="7315200" cy="17431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4: Nonideal Transistor The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FE5C3-40AF-48E0-8FA4-5DAE67D3E816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Velocity Satur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high 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la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carrier velocity rolls o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riers scatter off atoms in silicon latt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locity reache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s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ons: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m/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les: 8 x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m/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tter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6"/>
          <p:cNvSpPr/>
          <p:nvPr/>
        </p:nvSpPr>
        <p:spPr>
          <a:xfrm>
            <a:off x="4202280" y="3116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8" descr=""/>
          <p:cNvPicPr/>
          <p:nvPr/>
        </p:nvPicPr>
        <p:blipFill>
          <a:blip r:embed="rId1"/>
          <a:stretch/>
        </p:blipFill>
        <p:spPr>
          <a:xfrm>
            <a:off x="838080" y="4191120"/>
            <a:ext cx="2971800" cy="17413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9" descr=""/>
          <p:cNvPicPr/>
          <p:nvPr/>
        </p:nvPicPr>
        <p:blipFill>
          <a:blip r:embed="rId2"/>
          <a:stretch/>
        </p:blipFill>
        <p:spPr>
          <a:xfrm>
            <a:off x="4114800" y="4572000"/>
            <a:ext cx="1428840" cy="9795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0" descr=""/>
          <p:cNvPicPr/>
          <p:nvPr/>
        </p:nvPicPr>
        <p:blipFill>
          <a:blip r:embed="rId3"/>
          <a:stretch/>
        </p:blipFill>
        <p:spPr>
          <a:xfrm>
            <a:off x="5791320" y="2438280"/>
            <a:ext cx="2449440" cy="29196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03:13:39Z</dcterms:created>
  <dc:creator>David Harris</dc:creator>
  <dc:description/>
  <dc:language>en-US</dc:language>
  <cp:lastModifiedBy>Microsoft Office User</cp:lastModifiedBy>
  <dcterms:modified xsi:type="dcterms:W3CDTF">2020-01-21T11:08:28Z</dcterms:modified>
  <cp:revision>1810</cp:revision>
  <dc:subject/>
  <dc:title>PowerPoint Presentation</dc:title>
</cp:coreProperties>
</file>