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720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26AA2-E33C-4059-B861-BFC1D1216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ED452-6512-4EAE-804E-E89008F03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A1F95-B06B-4E3C-9FDC-C0E06D2F45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A7CC1-40AF-455A-AD43-EBE2B2E6C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53FFF2-6A3D-43AC-8300-A9E6D6DBC0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B6055-3008-40A6-A964-EF3024D51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CFEF12-D872-43EF-A4A8-EDD7F4E33A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4726B-D1E6-4CEE-A7CC-62B5BC284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BB4DA-6AC8-4476-8422-58BD991A9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A9D10-A6EF-4283-857F-5C2EC3088E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872C7-7E49-4998-B748-AC2758928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20A62-A2A7-40B4-A92D-1E3BDE833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0488B-9186-4E3E-8A1A-6BCDCD0A3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96CC98-6BD3-4952-9016-5C175FDA5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B9C92E-9E71-44A7-AC9F-2D595696B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B6D2D-0581-4E05-9588-8F513C43F6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005BD5-7229-4724-946B-7367BD5EBA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44A6B9-D0B3-4E29-A214-A05A6254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1DE64-1C26-4B65-A6D9-75F5DD65E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CFA6F-AD2C-4289-BEA3-CDD256B27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2680" y="3476520"/>
            <a:ext cx="7035840" cy="32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08FF0-4289-43D1-B61F-C57984B01B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51A1-D10D-4912-B0B5-71D2B99668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A25D6-C54F-40F4-B009-8D0318E318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639B6-A1C3-429A-A17F-8A6E61649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A16FAA-E343-45DB-A43B-CBBCF9DCF0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EBDFA-3B2F-4E54-8853-5BB7E1D8C9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B3503-85B9-44CE-AE1F-1DA6C237B9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EFEB6-63E7-47B0-9D6F-2F60422B88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CC1AA-2558-4E76-AB96-1263DA027C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8081F-5ED7-49DE-9979-B06248A5F2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97AFA-EEDA-4D40-91E9-90D4F37329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F389D-B424-4514-B841-618332940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982B-D4FF-4E43-AAC3-98E6C2FD240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9BF2-D6C8-49F4-8D88-45869B1C747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nel 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structure looks like parallel plate capacitor while operating in inver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)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5105520" y="4191120"/>
          <a:ext cx="32004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2004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Object 5"/>
          <p:cNvGraphicFramePr/>
          <p:nvPr/>
        </p:nvGraphicFramePr>
        <p:xfrm>
          <a:off x="762120" y="4203720"/>
          <a:ext cx="4724280" cy="178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203720"/>
                    <a:ext cx="4724280" cy="17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6"/>
          <p:cNvSpPr/>
          <p:nvPr/>
        </p:nvSpPr>
        <p:spPr>
          <a:xfrm>
            <a:off x="6248520" y="3200400"/>
            <a:ext cx="228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2438280" y="2819520"/>
            <a:ext cx="6098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752480" y="3276720"/>
            <a:ext cx="52578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086600" y="3276720"/>
            <a:ext cx="9907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0"/>
          <p:cNvSpPr/>
          <p:nvPr/>
        </p:nvSpPr>
        <p:spPr>
          <a:xfrm>
            <a:off x="1752480" y="3733920"/>
            <a:ext cx="3733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1143000" y="3200400"/>
            <a:ext cx="6094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BE316-82BD-494F-A837-5DA2DE4E53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ier velo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is carried by e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are propelled by the lateral electric field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 velocit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lateral E-fiel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lled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for carrier to cross chann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/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2133720" y="28195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2057400" y="3657600"/>
            <a:ext cx="3886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2057400" y="4572000"/>
            <a:ext cx="762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B6DFD-D98C-40CE-AEA0-9E2A4CEA97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kn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ti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carrier takes to cr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53520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Object 5"/>
          <p:cNvGraphicFramePr/>
          <p:nvPr/>
        </p:nvGraphicFramePr>
        <p:xfrm>
          <a:off x="762120" y="2895480"/>
          <a:ext cx="4724280" cy="277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4724280" cy="277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Rectangle 6"/>
          <p:cNvSpPr/>
          <p:nvPr/>
        </p:nvSpPr>
        <p:spPr>
          <a:xfrm>
            <a:off x="417204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7"/>
          <p:cNvGraphicFramePr/>
          <p:nvPr/>
        </p:nvGraphicFramePr>
        <p:xfrm>
          <a:off x="6248520" y="4724280"/>
          <a:ext cx="1752480" cy="8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48520" y="4724280"/>
                    <a:ext cx="17524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8"/>
          <p:cNvSpPr/>
          <p:nvPr/>
        </p:nvSpPr>
        <p:spPr>
          <a:xfrm>
            <a:off x="1523880" y="2895480"/>
            <a:ext cx="10670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1523880" y="3809880"/>
            <a:ext cx="39625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1523880" y="4724280"/>
            <a:ext cx="655344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55F31-1044-40AC-B045-EB7DF56178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hannel pinches off near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drain voltage no longer increases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401148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5"/>
          <p:cNvGraphicFramePr/>
          <p:nvPr/>
        </p:nvGraphicFramePr>
        <p:xfrm>
          <a:off x="1219320" y="2971800"/>
          <a:ext cx="426708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426708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6"/>
          <p:cNvSpPr/>
          <p:nvPr/>
        </p:nvSpPr>
        <p:spPr>
          <a:xfrm>
            <a:off x="4191120" y="1981080"/>
            <a:ext cx="1143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1981080" y="2971800"/>
            <a:ext cx="350532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1981080" y="3962520"/>
            <a:ext cx="182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CC14A-CE95-4CAE-ADEE-6FC9BC0C78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I-V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258300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2960640" y="2808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Object 8"/>
          <p:cNvGraphicFramePr/>
          <p:nvPr/>
        </p:nvGraphicFramePr>
        <p:xfrm>
          <a:off x="685800" y="259092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3565-836F-4D6F-8F8F-EAF5F41018F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be using a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 for your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AMI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5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*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s.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1, 2, 3, 4,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/L = 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269712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5"/>
          <p:cNvGraphicFramePr/>
          <p:nvPr/>
        </p:nvGraphicFramePr>
        <p:xfrm>
          <a:off x="728640" y="5334120"/>
          <a:ext cx="4943520" cy="64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8640" y="5334120"/>
                    <a:ext cx="49435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4"/>
          <p:cNvGraphicFramePr/>
          <p:nvPr/>
        </p:nvGraphicFramePr>
        <p:xfrm>
          <a:off x="4572000" y="2514600"/>
          <a:ext cx="4191120" cy="31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514600"/>
                    <a:ext cx="4191120" cy="31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70A7-D96A-435B-A524-B9A7470972B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pings and voltages are inverted for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is the more positive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etermined by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2-3x lower than that of electron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0 c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AMI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dvanced nodes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-41472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pMOS must be wider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am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-259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assu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8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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5715000" y="3581280"/>
          <a:ext cx="278928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789280" cy="25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ECE0-9317-49EF-9A8C-3544B6CB5D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two conductors separated by an insulator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to channel capacitor is very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s channel charge necessary for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have capacitance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ross reverse-biased di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diffusion capacitance because it is associated with source/drain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EB14-83A7-4243-A95D-C80908CE26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channel as connected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ε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/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L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ermic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ypically about 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4"/>
          <p:cNvGraphicFramePr/>
          <p:nvPr/>
        </p:nvGraphicFramePr>
        <p:xfrm>
          <a:off x="685800" y="3308400"/>
          <a:ext cx="6858000" cy="259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08400"/>
                    <a:ext cx="685800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A109-AF05-4EB3-8478-F615F9D8C4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usion Capacitan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/drain diffusion to body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sirable,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sit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depends on area and peri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diffusion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ble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contacted d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½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unconta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5"/>
          <p:cNvSpPr/>
          <p:nvPr/>
        </p:nvSpPr>
        <p:spPr>
          <a:xfrm>
            <a:off x="2629080" y="209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6" descr=""/>
          <p:cNvPicPr/>
          <p:nvPr/>
        </p:nvPicPr>
        <p:blipFill>
          <a:blip r:embed="rId1"/>
          <a:stretch/>
        </p:blipFill>
        <p:spPr>
          <a:xfrm>
            <a:off x="4495680" y="3540240"/>
            <a:ext cx="4011840" cy="226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CC2B-104C-4284-BF22-450B54D924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Diffusion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E23E-AB02-4C67-BFB0-F56314D1A9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far, we have treated transistors as ide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ON transistor passes a finite amount of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erminal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e current-voltage (I-V)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gate, source, drain all hav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) -&g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=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and current determine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5105520"/>
          <a:ext cx="7619760" cy="92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105520"/>
                    <a:ext cx="761976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24B0-9A34-4F84-9440-82BDCFDCFA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3505320" y="1981080"/>
          <a:ext cx="4495680" cy="415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981080"/>
                    <a:ext cx="4495680" cy="415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Capaci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and body form MOS capaci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rating m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l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hen in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Object 5"/>
          <p:cNvGraphicFramePr/>
          <p:nvPr/>
        </p:nvGraphicFramePr>
        <p:xfrm>
          <a:off x="3505320" y="3352680"/>
          <a:ext cx="4572000" cy="2808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3352680"/>
                    <a:ext cx="457200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" name="Object 7"/>
          <p:cNvGraphicFramePr/>
          <p:nvPr/>
        </p:nvGraphicFramePr>
        <p:xfrm>
          <a:off x="3581280" y="4751280"/>
          <a:ext cx="4038840" cy="132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4751280"/>
                    <a:ext cx="40388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7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8" dur="500" autoRev="1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7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18" dur="500" autoRev="1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7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28" dur="500" autoRev="1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3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4" dur="500" autoRev="1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39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0" dur="500" autoRev="1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5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51,51)"/>
                                      </p:to>
                                    </p:set>
                                    <p:set>
                                      <p:cBhvr>
                                        <p:cTn id="46" dur="500" autoRev="1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4521-1A41-40B1-BBEF-D2E434DB3AB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rminal Vol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 of operation depends on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and drain are symmetric diffusion termi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convention, source is terminal at lower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c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≥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MOS body is grounded.  First assume source is 0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gions of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4"/>
          <p:cNvGraphicFramePr/>
          <p:nvPr/>
        </p:nvGraphicFramePr>
        <p:xfrm>
          <a:off x="6629400" y="1447920"/>
          <a:ext cx="2133720" cy="17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9400" y="1447920"/>
                    <a:ext cx="2133720" cy="17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FB7E-9E24-4E33-99D5-222440C601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Cutoff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nversion, n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4267080" y="2743200"/>
          <a:ext cx="4113360" cy="217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743200"/>
                    <a:ext cx="4113360" cy="217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3B49-240D-48C4-90FD-7371B41B89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Linea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m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from d to 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s t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linear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5"/>
          <p:cNvGraphicFramePr/>
          <p:nvPr/>
        </p:nvGraphicFramePr>
        <p:xfrm>
          <a:off x="4573440" y="2286000"/>
          <a:ext cx="4113360" cy="381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3440" y="2286000"/>
                    <a:ext cx="4113360" cy="38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9518-CE4D-400E-BBAA-E366580EC8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pinche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ependen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 curr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tu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current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4343400" y="3657600"/>
          <a:ext cx="4113360" cy="187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4113360" cy="187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3: CMOS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5CD12-2AEE-48E3-9BEF-37458BA900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-V Characterist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inear region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uch charge is in the channe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fast is the charge mov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20-01-27T21:04:44Z</cp:lastPrinted>
  <dcterms:modified xsi:type="dcterms:W3CDTF">2020-01-27T21:04:45Z</dcterms:modified>
  <cp:revision>564</cp:revision>
  <dc:subject/>
  <dc:title>PowerPoint Presentation</dc:title>
</cp:coreProperties>
</file>