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4561E-0A56-4059-BCDA-632B7397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A061D-9EEA-4C04-B867-780892FD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229C8-6A18-4658-9043-35B6BFE5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74BE-6292-47F3-B162-C670EF2D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75FD-E7B7-4161-A543-3B8C51F8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A1702-36B2-4831-9930-E28B6778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BAB42-0429-4595-AE2F-B711DF63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9C88D-AE35-4B93-97BF-492A39F4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60D8-E8C0-4B24-B0B3-A4CAD7E9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1A08-2E55-4DD7-AAF9-CE61D284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3042-739E-4B87-8C90-E03DAD63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829D3-1CA0-4228-910A-72D9A10F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215F9-0BB4-4B9F-AADE-7C89EEE5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446CE-0541-4E33-BA83-EBA30CA8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DEAEE-2EF6-4BAD-9849-20EF6740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6445D-B292-4EDC-81BB-31B944EC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336F9-6396-4300-B601-C11DFF97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268CB-AFD1-4B7B-9878-D27975E8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82D79-7990-47B7-9680-7DA2A856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B627-69D1-43F4-AF8E-D01407E9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2809-3C3C-47B1-9A28-6AB4472F6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8821-A04D-4309-8C2C-138E0CB84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C5A9-2CC7-46BE-BD96-7FBE962F8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A8C8-E51A-48E5-958B-7BB18E1F2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FB6F-C22A-483A-8936-63597821E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26EF-0B7F-49B2-8F02-486817027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02F7-256B-4B78-8CC8-25D099401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60C9-0E38-4891-9931-E087A2438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084F-77D1-496E-AD9D-0D65FA0D8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814E-0218-499D-BDCE-6B5107DC9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FC33-3706-44B5-B877-5A94B7D5B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9EFB-6167-42AE-922D-D80A30752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C565-78B5-447F-A6FC-E49CE7FAAC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8DC0-3709-41CE-839E-38AF8EFC71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12AB-2FF5-4A6B-B9BC-3077D6C5E8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BCA3-183D-40D0-994B-29188DD434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95A-7DFC-4B99-B8B2-2DA655A607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B9F-A2E2-4339-9949-1299136F9C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F6A-A829-4EC2-9303-5C6F72A00C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48C-60F8-445B-A65F-29CD628452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vanced nod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0ED-0A1C-43EC-AAFB-F90514B5A5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671E-9443-4A20-B004-2F9A50F236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308400"/>
          <a:ext cx="68580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08400"/>
                    <a:ext cx="68580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37E4-CE1A-455B-95F9-1D3D3834F5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/drain diffusion to body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FACD-5590-44A4-A84C-74D0A680FA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6D7-DDFD-4D07-B96A-AE36AFF156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1A1-B575-47B2-B04E-F88259D80F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hen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17B-B454-431B-BEDD-815C8E3E0B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E6F-076B-496E-B1C1-D794057B43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version, 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7642-3E16-4EFC-B068-69762FECC5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573440" y="2286000"/>
          <a:ext cx="4113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286000"/>
                    <a:ext cx="4113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A641-EA28-4A0E-B2F6-25DEE2BCF7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427-CAF5-4ACD-8D99-722D1AF0EC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20-01-27T21:04:44Z</cp:lastPrinted>
  <dcterms:modified xsi:type="dcterms:W3CDTF">2020-01-27T21:04:45Z</dcterms:modified>
  <cp:revision>564</cp:revision>
  <dc:subject/>
  <dc:title>PowerPoint Presentation</dc:title>
</cp:coreProperties>
</file>