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8.wmf" ContentType="image/x-wmf"/>
  <Override PartName="/ppt/media/image13.wmf" ContentType="image/x-wmf"/>
  <Override PartName="/ppt/media/image41.wmf" ContentType="image/x-wmf"/>
  <Override PartName="/ppt/media/image38.png" ContentType="image/png"/>
  <Override PartName="/ppt/media/image40.wmf" ContentType="image/x-wmf"/>
  <Override PartName="/ppt/media/image42.png" ContentType="image/png"/>
  <Override PartName="/ppt/media/image25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png" ContentType="image/png"/>
  <Override PartName="/ppt/media/image43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8E287AD-DE84-447A-A619-D521F1EA4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D1C3708-91A4-4189-86EC-2B8F3F25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4DA4FE9-D023-4B6D-93C1-29BF39867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4902C31-CA90-40BE-B3A0-834C00B2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E1654EE-623D-479A-B326-6AC3CC732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5373871-03FB-450D-9B1D-364A7D759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CF5244C-F539-4462-B9BE-EB22E4125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24B7686-563C-44ED-B8F2-3C8679AEB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2F27CC3-4104-441E-8FC1-51DBC6A5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A1B1199-3C09-4311-BE96-50BFFA995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5BD6AE8-554F-4F80-8F50-F3CBCA933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D3E86B3-993F-45D3-B2A0-C8A5DDA74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DB63331-EFDC-4C15-B31C-F1FDB44B8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DFE1E27-7727-4814-AA0B-A89DBF4C4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6B726FF-4024-4292-86CB-F0DCA527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E3FF482-A133-4C84-9B30-E65AF9F1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94ECC81-1952-428B-B007-07CD644BF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68D1E36-46A6-4C82-94FE-6044EBC06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D63C2FA-F831-42F3-A2B2-351D6EAD9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FA2AA41-7394-4EB6-AAAE-A71108DC7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681838E-E0F6-465A-B3C2-B412C0719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A526DFF-CAFA-4E77-B851-FF3F30633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B48570E-39BD-477F-BE63-3043A51C3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383DE73-D370-4FE0-A110-47A9B58D2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FE6B943-8DC3-46A7-BE1B-4868F7CB2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141E011-B623-4FE9-8ACA-11AE491AC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9160249-DBF0-4358-9848-764535051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633565C-9818-49C6-974F-DFA0BB61D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970A448-B5C9-4949-9EB9-41BC41614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4681428-3EC9-4E1B-BF2C-BFB156B5C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253400D-EA33-4432-8A5C-35D5BAA6B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F138BCD-30BC-4F29-A650-B127A541C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F7EF3AA-5B8B-42C8-B08E-EA969324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7AA8-9924-43DD-B468-4ED484FF9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ACAC-5550-4111-B2BB-A225AE469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A724-A54C-4421-AC35-0A576C9D9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A94C-C082-440F-B92D-40A118FB56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D5DB-6E50-4D1A-A749-CC5E837AE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B856-071B-4DF8-B8E0-DD922BC1B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D10C-F331-45C7-949D-7B56A6D13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3A1F-AC31-4EE2-8E57-78A1069B5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9241-D5DE-40A8-A9FF-07E6885E1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21AE9-63AB-487E-B0D7-15C7BC3FB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E969-B38F-4914-A899-DBEAE8A38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0D64-4667-41D3-8542-3D057EC58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293F-7A82-42F7-AD7B-4BA523C6CD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/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E3C-3555-450E-B318-7D017B9CCB4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IS I/O P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two-met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re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di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d 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oxide cl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4038480" y="1684440"/>
            <a:ext cx="4648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5"/>
          <p:cNvGraphicFramePr/>
          <p:nvPr/>
        </p:nvGraphicFramePr>
        <p:xfrm>
          <a:off x="609480" y="3809880"/>
          <a:ext cx="4029120" cy="134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809880"/>
                    <a:ext cx="40291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AAA5-63F5-451C-909E-6C02100553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ofU I/O P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three-met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I/O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driver transistors provide ESD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d rings around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88756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0"/>
          <p:cNvGraphicFramePr/>
          <p:nvPr/>
        </p:nvGraphicFramePr>
        <p:xfrm>
          <a:off x="609480" y="3967200"/>
          <a:ext cx="502920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967200"/>
                    <a:ext cx="502920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BCEB-71B1-464D-A47E-21F5FB0F230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 Chann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Channel: connection between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frequency: ideal equipotential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requency: transmi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lin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velocity of signal along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impedance of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676520" y="4267080"/>
            <a:ext cx="4952880" cy="167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6EBF-8266-4897-B0EF-6F48DBBAA6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en is a wire a T-Lin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pagation delay along the wire is comparable to the edge rate of the signal propa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light in the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58DF-E5FE-4F07-A561-D3CF486617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ust a 10 cm trace on a PCB be treated as a transmi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4 epoxy has k = 4.35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rise/fall times are ¼ of cyc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propagation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fligh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wire should be treated as a transmission line when signals have a period &lt; 2.8 ns (&gt; 350 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219320" y="3549600"/>
          <a:ext cx="281916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49600"/>
                    <a:ext cx="2819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1219320" y="4495680"/>
          <a:ext cx="152388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95680"/>
                    <a:ext cx="15238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47F0-9FFA-479D-822A-9313FB0506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acteristic Impe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atio of voltage to current of a signal along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he geometry of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6"/>
          <p:cNvGraphicFramePr/>
          <p:nvPr/>
        </p:nvGraphicFramePr>
        <p:xfrm>
          <a:off x="2666880" y="3276720"/>
          <a:ext cx="334800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76720"/>
                    <a:ext cx="33480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6172200" y="2819520"/>
            <a:ext cx="2286000" cy="111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6172200" y="4676760"/>
            <a:ext cx="2286000" cy="13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8"/>
          <p:cNvGraphicFramePr/>
          <p:nvPr/>
        </p:nvGraphicFramePr>
        <p:xfrm>
          <a:off x="2666880" y="5410080"/>
          <a:ext cx="243864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410080"/>
                    <a:ext cx="2438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11"/>
          <p:cNvSpPr/>
          <p:nvPr/>
        </p:nvSpPr>
        <p:spPr>
          <a:xfrm>
            <a:off x="1209240" y="281952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tr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layer of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364040" y="48769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lin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ayer of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7887-1253-43FA-A86D-46D5DA9463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4-layer PCB contains power and ground planes on the inner layers and signals on the outer layers.  The board uses 1 oz copper (1.4 mils thick) and the FR4 dielectric is 8.7 mils thick.  How wide should the traces be to achieve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racteristic imped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microstrip design.  Solve for w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1.4 m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8.7 m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4.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15 m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3429000" y="3733920"/>
          <a:ext cx="342900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733920"/>
                    <a:ext cx="34290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26BE-DA41-4F6B-91E9-7BB0B5AA5CE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fle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wave hits the end of a transmission line, part of the energy will reflect if the load impedance does not match the characteristic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coeffic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ve with an amplitude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fl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ci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along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267080" y="2971800"/>
          <a:ext cx="15242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971800"/>
                    <a:ext cx="15242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1F67-413C-40E7-92DA-FA5B9EF23C7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Refle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ong driver with a Thevenin equivalent resistance of 1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s an unterminated transmission line with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light time T.  Plot the voltage at the 1/3 point and end of the l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coeffici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wave: 50/(10+50) = 5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ringing a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295280" y="4419720"/>
          <a:ext cx="320040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419720"/>
                    <a:ext cx="32004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4876920" y="1676520"/>
          <a:ext cx="36306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36306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7A33-6D14-4A43-B0E7-5AE72AFBC2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symbol Inter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wait until reflections damp out before sending nex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symbol inter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n unterminated transmission line, minimum bit time is equal to several round trips along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9ECD-79C0-4500-9A35-86B92AE872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/O P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n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Speed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o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C3CD-BC39-41F6-9E68-647D42D0C7A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Load Termi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 the previous example if the load is terminated with a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s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coeffici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wave: 50/(10+50) = 5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i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dissipation in load re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4724280" y="1752480"/>
          <a:ext cx="35625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52480"/>
                    <a:ext cx="35625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0"/>
          <p:cNvGraphicFramePr/>
          <p:nvPr/>
        </p:nvGraphicFramePr>
        <p:xfrm>
          <a:off x="1295280" y="2979720"/>
          <a:ext cx="312444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979720"/>
                    <a:ext cx="31244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94B1-9FF5-4B65-BEF4-C3DDBB4822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597560" y="1760400"/>
          <a:ext cx="378432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7560" y="1760400"/>
                    <a:ext cx="37843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ource Termi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 the previous example if the source is terminated with an extra 4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s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coeffici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wave: 50/(50+50) =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i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wer dissipation in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s along T-line momentarily see invalid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1433520" y="2979720"/>
          <a:ext cx="28465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2979720"/>
                    <a:ext cx="28465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9C06-E967-4E8E-9EFD-A103793F737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mination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oint-to-point links, source terminate to sav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ultidrop busses, load terminate to ensure valid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usses with multiple receivers and drivers, terminate at both ends of the line to prevent reflections from either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5410080" y="3301920"/>
            <a:ext cx="2743200" cy="660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210040" cy="115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50F3-377D-44BF-A4F4-FBF6A31A9A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ise and Inter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ources of intersymbol inter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nonzero 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or inductive coupling between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zero return path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 Switching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361960" cy="147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6450120" y="4343400"/>
            <a:ext cx="2008080" cy="793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3"/>
          <a:stretch/>
        </p:blipFill>
        <p:spPr>
          <a:xfrm>
            <a:off x="6450120" y="5257800"/>
            <a:ext cx="1979640" cy="79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B670-5A40-4C10-B51D-5ECB0B766A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-Spee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data faster than the flight time along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rs must generate very short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s must be accurately synchronized to detect th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8C6B-CFB1-4C98-969C-6A7E21CB69A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 Speed Transmit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erm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impedance current-mode driver + load te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low-impedance driver + source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vs. 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uses half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is Immune to common mod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only vs. Push-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only has half th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-pull uses less power for the sam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7A59-B0A6-468C-B40B-0866E58B0A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5800" y="1523880"/>
          <a:ext cx="7772400" cy="4359240"/>
        </p:xfrm>
        <a:graphic>
          <a:graphicData uri="http://schemas.openxmlformats.org/drawingml/2006/table">
            <a:tbl>
              <a:tblPr/>
              <a:tblGrid>
                <a:gridCol w="457200"/>
                <a:gridCol w="3581280"/>
                <a:gridCol w="3733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h-P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04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-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-Speed Transmit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219320" y="2467080"/>
            <a:ext cx="3429000" cy="124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800600" y="2587680"/>
            <a:ext cx="3581280" cy="1171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1219320" y="3929040"/>
            <a:ext cx="3047760" cy="1879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4"/>
          <a:stretch/>
        </p:blipFill>
        <p:spPr>
          <a:xfrm>
            <a:off x="4800600" y="3878280"/>
            <a:ext cx="2286000" cy="19429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0"/>
          <p:cNvSpPr/>
          <p:nvPr/>
        </p:nvSpPr>
        <p:spPr>
          <a:xfrm>
            <a:off x="1297800" y="2077920"/>
            <a:ext cx="212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nning Transcei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(GT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3052080" y="5181480"/>
            <a:ext cx="147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(C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3"/>
          <p:cNvSpPr/>
          <p:nvPr/>
        </p:nvSpPr>
        <p:spPr>
          <a:xfrm>
            <a:off x="7167600" y="472428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Volt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V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F500-7908-4351-9C76-C24159A335C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-Speed Receiv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in the middle of the bit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know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809880" cy="336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5E6C-7BC2-428D-911E-467B85895A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Source-Synchronous Clocking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clock with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times roughly matc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on falling edge of tc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on rising edge of rc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4495680" cy="251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0B69-776F-4E64-A229-476D6091B46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 vs. Double Data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inary single data rate (SDR) system, clock switches twice as often as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ystem can handle this speed clock, the data is running at half the availabl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ouble-data-rate (DDR) transmit and receive on both edges of the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514600" cy="797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124080" y="4876920"/>
            <a:ext cx="2590920" cy="8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3A64-BA78-43BB-8AC3-C09A68DA77E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/ Outp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 Syste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between chip and extern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arge capacitance off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 at compatible voltag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dequat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slew rates to contro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chip against 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number of pins (low c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8C49-325F-43D2-8D8F-6F22ABDC64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Alig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DR clock is aligned to the transmitted clock, it must be shifted by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6629400" cy="182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2E0B-ABE4-49A7-BD36-86CD437A75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ochronous Cloc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peeds increase, it is difficult to keep clock and data al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matches in trace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matches in propagation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in clock vs. data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ochronous: clock and data have same frequency but unknow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L/DLL to realign clock to each data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93B-78B4-4D86-BB8B-6998026768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Calibration Lo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hase detector compares clock &amp; data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9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2A3F-A356-4093-8D2C-315DCDAA99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/O Pa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7D7-C88F-4C83-B825-68E3000B07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put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arge off-chip loads (2 – 50 p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uitable rise/f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hain of successively large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d rings to protect against latch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elow GND injects charg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MOS outpu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inner guar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outer guar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019920" y="3726000"/>
            <a:ext cx="2476440" cy="233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9BDD-A85C-46A1-9DE7-A1F614BD646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or lower off-chip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thick oxid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mitt 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steresis chang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against 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5486400" y="1523880"/>
          <a:ext cx="30481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523880"/>
                    <a:ext cx="30481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5"/>
          <p:cNvGraphicFramePr/>
          <p:nvPr/>
        </p:nvGraphicFramePr>
        <p:xfrm>
          <a:off x="5257800" y="3048120"/>
          <a:ext cx="3276720" cy="14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276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B27-CA46-4C2C-BB63-3B2C9CA637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SD Prot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electricity builds up on your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 delivered to a chip can fry thi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dissipate this energy in protection circuits before it reaches th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D protectio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miting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 c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bod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human as charged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5334120" y="2971800"/>
          <a:ext cx="190476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971800"/>
                    <a:ext cx="190476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6553080" y="4838760"/>
          <a:ext cx="221004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838760"/>
                    <a:ext cx="22100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1DC0-05B2-4893-88B2-9FFE5B2FAB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directional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input and output 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ristate driver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able signal to set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tristate avoids huge serie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990720" y="3352680"/>
          <a:ext cx="5943600" cy="14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59436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1447920" y="4710240"/>
          <a:ext cx="259056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710240"/>
                    <a:ext cx="259056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4DB5-16DB-4E17-8BAA-1C00BDD7E48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alog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nalog voltages directly in or out of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circuits must not distort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7:11:38Z</dcterms:modified>
  <cp:revision>2151</cp:revision>
  <dc:subject/>
  <dc:title>PowerPoint Presentation</dc:title>
</cp:coreProperties>
</file>