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10.png" ContentType="image/png"/>
  <Override PartName="/ppt/media/image28.wmf" ContentType="image/x-wmf"/>
  <Override PartName="/ppt/media/image33.wmf" ContentType="image/x-wmf"/>
  <Override PartName="/ppt/media/image8.wmf" ContentType="image/x-wmf"/>
  <Override PartName="/ppt/media/image13.wmf" ContentType="image/x-wmf"/>
  <Override PartName="/ppt/media/image41.wmf" ContentType="image/x-wmf"/>
  <Override PartName="/ppt/media/image38.png" ContentType="image/png"/>
  <Override PartName="/ppt/media/image40.wmf" ContentType="image/x-wmf"/>
  <Override PartName="/ppt/media/image42.png" ContentType="image/png"/>
  <Override PartName="/ppt/media/image25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png" ContentType="image/png"/>
  <Override PartName="/ppt/media/image43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1760" y="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504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-3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176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01A9173-E5A5-4744-8ECF-80C145C9C2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F991EC0-6411-4376-B4D0-ED78079A0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679939B-8332-42AC-ACD4-81ED7DFD2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6ED228EC-93FF-4EAC-8392-F47248C10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9BB70EDB-686A-481E-9702-B249370EE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4DA821B-DF3F-404D-88A9-BEE861194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488C3C8-9B4B-4978-BB0D-1AF3FE99C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3CF9F01-0035-447B-B34B-47C987200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D4CCD07A-2F04-4318-BD13-D28DFE4A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0BD9A6E-BEAB-43F7-950D-0B8CB07863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DB1B590-46E7-45CF-9203-C93AE3747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6AFAAD9-1813-4283-94C5-A9933AAF0E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F407AD8-2DF0-4BE6-98F4-A60DE78CE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0A3BF1E5-E931-4A7F-81D8-B08DACCF1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F0E924A-A443-4CE4-BFE3-365E5CD296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8E1C88CE-D438-4C71-9130-4CCF006271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09621A3-A640-4D2F-BD3E-46449E651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4F8FDDA-DF2F-432A-B169-95593B341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D211421-F9C2-468B-B89A-AF4144009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8AEA23F-76B7-4F7F-971A-057339A96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C588457C-E4AD-40EA-9823-D077B2E00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2C2C812-0CD2-42AA-97D9-E8C757C05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8CFA28A-A1FD-4804-83AC-08A50C07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72427503-9229-4BF3-93ED-6A4F2E885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04F6DB1-7085-4347-A96E-4BB21D0EE1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B6278467-A7D1-4334-A3FF-E6937341F9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45B6DFBC-513F-4190-A02F-0B41F42CD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5997BFAC-54BD-4135-B8C5-CBF99FD0B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F0A814B3-1F30-4F9C-8696-C20E58FBEB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31E5A381-10AE-49CC-A7B6-8C72F60FF1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553962C-8DEC-4CAA-B599-ED4643A45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2FF0379C-FF58-4803-81C4-C7CD8D4A2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5442120" y="6950160"/>
            <a:ext cx="4159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200" rIns="97200" tIns="48600" bIns="48600" anchor="b">
            <a:noAutofit/>
          </a:bodyPr>
          <a:p>
            <a:pPr algn="r">
              <a:tabLst>
                <a:tab algn="l" pos="0"/>
                <a:tab algn="l" pos="971640"/>
                <a:tab algn="l" pos="1943280"/>
                <a:tab algn="l" pos="2914560"/>
                <a:tab algn="l" pos="3886200"/>
                <a:tab algn="l" pos="4857840"/>
                <a:tab algn="l" pos="5829480"/>
                <a:tab algn="l" pos="6800760"/>
                <a:tab algn="l" pos="7772400"/>
                <a:tab algn="l" pos="8744040"/>
                <a:tab algn="l" pos="9715680"/>
                <a:tab algn="l" pos="10686960"/>
              </a:tabLst>
            </a:pPr>
            <a:fld id="{1BCCBC40-33CF-411D-B43D-8CAD68055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97504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854C1-59CB-4E74-8B9B-EF8DE08B6A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CA553-40CD-4894-9237-159FF5AEF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E7B30-8487-447B-AB0E-B593B337D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EED85-795D-421A-8C67-3CEB59DDC4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EA5FF-B3BD-4D68-BEDD-C09C6FA993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6356E-ECA5-4243-B8C5-C8AC0F091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64556-8386-40C1-80E3-562313BBD0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425FA-47C9-4FC8-912A-C22CF4EB9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5A972-51B7-401D-9154-12753305FA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78B17-60C1-4147-BDC6-EC2879881B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EEDF6-1CA6-41DD-98D7-EEA00B2C51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2A18C-59EC-45BA-AF2A-3B17292FA1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638C-7C38-46B6-B6AC-3F3BC4AB6E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2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22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/O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1D8D-5D01-42E7-9416-B2E10CB29E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OSIS I/O P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two-met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re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tection di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d 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oxide cla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4038480" y="1684440"/>
            <a:ext cx="4648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5"/>
          <p:cNvGraphicFramePr/>
          <p:nvPr/>
        </p:nvGraphicFramePr>
        <p:xfrm>
          <a:off x="609480" y="3809880"/>
          <a:ext cx="4029120" cy="134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809880"/>
                    <a:ext cx="4029120" cy="13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8E191-849D-409D-8BF0-B377D4E9960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UofU I/O P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6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three-met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I/O dri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g driver transistors provide ESD prot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d rings around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9" descr=""/>
          <p:cNvPicPr/>
          <p:nvPr/>
        </p:nvPicPr>
        <p:blipFill>
          <a:blip r:embed="rId1"/>
          <a:stretch/>
        </p:blipFill>
        <p:spPr>
          <a:xfrm>
            <a:off x="5715000" y="1523880"/>
            <a:ext cx="2887560" cy="457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Object 10"/>
          <p:cNvGraphicFramePr/>
          <p:nvPr/>
        </p:nvGraphicFramePr>
        <p:xfrm>
          <a:off x="609480" y="3967200"/>
          <a:ext cx="5029200" cy="1657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967200"/>
                    <a:ext cx="5029200" cy="16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EDC35-8DA8-43EC-828E-DDA72DD6C6B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/O Channe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Channel: connection between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frequency: ideal equipotential 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frequency: transmi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line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te velocity of signal along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istic impedance of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1676520" y="4267080"/>
            <a:ext cx="4952880" cy="1679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682F-E45A-4919-8144-EE239198D4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en is a wire a T-Line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propagation delay along the wire is comparable to the edge rate of the signal propag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d of light in the med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ge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80C00-1BD0-477F-A88A-E183C051F25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must a 10 cm trace on a PCB be treated as a transmission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4 epoxy has k = 4.35 (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rise/fall times are ¼ of cyc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propagation velo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 flight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the wire should be treated as a transmission line when signals have a period &lt; 2.8 ns (&gt; 350 MH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1219320" y="3549600"/>
          <a:ext cx="2819160" cy="64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549600"/>
                    <a:ext cx="281916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Object 6"/>
          <p:cNvGraphicFramePr/>
          <p:nvPr/>
        </p:nvGraphicFramePr>
        <p:xfrm>
          <a:off x="1219320" y="4495680"/>
          <a:ext cx="1523880" cy="52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4495680"/>
                    <a:ext cx="1523880" cy="5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0888-BA41-47D6-A537-39694E0DA69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acteristic Impeda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atio of voltage to current of a signal along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the geometry of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6"/>
          <p:cNvGraphicFramePr/>
          <p:nvPr/>
        </p:nvGraphicFramePr>
        <p:xfrm>
          <a:off x="2666880" y="3276720"/>
          <a:ext cx="334800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276720"/>
                    <a:ext cx="334800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4" descr=""/>
          <p:cNvPicPr/>
          <p:nvPr/>
        </p:nvPicPr>
        <p:blipFill>
          <a:blip r:embed="rId3"/>
          <a:stretch/>
        </p:blipFill>
        <p:spPr>
          <a:xfrm>
            <a:off x="6172200" y="2819520"/>
            <a:ext cx="2286000" cy="1116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4"/>
          <a:stretch/>
        </p:blipFill>
        <p:spPr>
          <a:xfrm>
            <a:off x="6172200" y="4676760"/>
            <a:ext cx="2286000" cy="134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5" name="Object 8"/>
          <p:cNvGraphicFramePr/>
          <p:nvPr/>
        </p:nvGraphicFramePr>
        <p:xfrm>
          <a:off x="2666880" y="5410080"/>
          <a:ext cx="2438640" cy="622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5410080"/>
                    <a:ext cx="2438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Text Box 11"/>
          <p:cNvSpPr/>
          <p:nvPr/>
        </p:nvSpPr>
        <p:spPr>
          <a:xfrm>
            <a:off x="1209240" y="2819520"/>
            <a:ext cx="35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trip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er layer of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12"/>
          <p:cNvSpPr/>
          <p:nvPr/>
        </p:nvSpPr>
        <p:spPr>
          <a:xfrm>
            <a:off x="1364040" y="487692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plin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ner layer of PC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FDB4-F70B-4132-9367-C14A4E65808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4-layer PCB contains power and ground planes on the inner layers and signals on the outer layers.  The board uses 1 oz copper (1.4 mils thick) and the FR4 dielectric is 8.7 mils thick.  How wide should the traces be to achieve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aracteristic impeda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 microstrip design.  Solve for w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= 1.4 m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 = 8.7 mi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 = 4.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 = 15 mi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3429000" y="3733920"/>
          <a:ext cx="3429000" cy="63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3733920"/>
                    <a:ext cx="342900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0F7D-57EF-4F91-AB7C-488C339E13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flec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a wave hits the end of a transmission line, part of the energy will reflect if the load impedance does not match the characteristic imped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lection coeffic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wave with an amplitude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eflec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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ci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along th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Object 4"/>
          <p:cNvGraphicFramePr/>
          <p:nvPr/>
        </p:nvGraphicFramePr>
        <p:xfrm>
          <a:off x="4267080" y="2971800"/>
          <a:ext cx="152424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971800"/>
                    <a:ext cx="152424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D8540-B690-41E9-B6C6-DAFBA4011CE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Refle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trong driver with a Thevenin equivalent resistance of 1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rives an unterminated transmission line with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flight time T.  Plot the voltage at the 1/3 point and end of the li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coeffici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wave: 50/(10+50) = 5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serve ringing at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Object 4"/>
          <p:cNvGraphicFramePr/>
          <p:nvPr/>
        </p:nvGraphicFramePr>
        <p:xfrm>
          <a:off x="1295280" y="4419720"/>
          <a:ext cx="3200400" cy="56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4419720"/>
                    <a:ext cx="320040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Object 6"/>
          <p:cNvGraphicFramePr/>
          <p:nvPr/>
        </p:nvGraphicFramePr>
        <p:xfrm>
          <a:off x="4876920" y="1676520"/>
          <a:ext cx="3630600" cy="419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76920" y="1676520"/>
                    <a:ext cx="363060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27274-54AC-4279-BD5E-7F96AA8C454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symbol Inter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wait until reflections damp out before sending next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wis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tersymbol interfe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n unterminated transmission line, minimum bit time is equal to several round trips along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A648-9F70-4A67-9F64-982AAB48D37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I/O P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and Inter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-Speed I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Reco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-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o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A1B3-3CCF-498E-9A44-BCD49A2EFE8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Load Termi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 the previous example if the load is terminated with a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s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coeffici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wave: 50/(10+50) = 5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i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dissipation in load resi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4"/>
          <p:cNvGraphicFramePr/>
          <p:nvPr/>
        </p:nvGraphicFramePr>
        <p:xfrm>
          <a:off x="4724280" y="1752480"/>
          <a:ext cx="356256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52480"/>
                    <a:ext cx="356256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10"/>
          <p:cNvGraphicFramePr/>
          <p:nvPr/>
        </p:nvGraphicFramePr>
        <p:xfrm>
          <a:off x="1295280" y="2979720"/>
          <a:ext cx="312444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979720"/>
                    <a:ext cx="31244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D41EC-A460-4019-9A68-B5243CAFDB2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6"/>
          <p:cNvGraphicFramePr/>
          <p:nvPr/>
        </p:nvGraphicFramePr>
        <p:xfrm>
          <a:off x="4597560" y="1760400"/>
          <a:ext cx="3784320" cy="41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97560" y="1760400"/>
                    <a:ext cx="3784320" cy="41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ample: Source Termin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038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o the previous example if the source is terminated with an extra 4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sis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ion coefficient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wave: 50/(50+50) = 1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in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power dissipation in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ps along T-line momentarily see invalid lev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Object 5"/>
          <p:cNvGraphicFramePr/>
          <p:nvPr/>
        </p:nvGraphicFramePr>
        <p:xfrm>
          <a:off x="1433520" y="2979720"/>
          <a:ext cx="284652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3520" y="2979720"/>
                    <a:ext cx="284652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D6B27-C5C0-433B-A9A5-D7F6C732B0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ermination Summar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267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oint-to-point links, source terminate to save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ultidrop busses, load terminate to ensure valid log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usses with multiple receivers and drivers, terminate at both ends of the line to prevent reflections from either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5410080" y="3301920"/>
            <a:ext cx="2743200" cy="660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"/>
          <p:cNvPicPr/>
          <p:nvPr/>
        </p:nvPicPr>
        <p:blipFill>
          <a:blip r:embed="rId2"/>
          <a:stretch/>
        </p:blipFill>
        <p:spPr>
          <a:xfrm>
            <a:off x="5638680" y="1523880"/>
            <a:ext cx="2210040" cy="1152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6E668-E6A5-4F51-85F2-B689447CCBE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oise and Interfer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5715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sources of intersymbol interfer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nonzero line re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t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or inductive coupling between chan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zero return path impe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taneous Switching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5791320" y="2286000"/>
            <a:ext cx="2361960" cy="1477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2"/>
          <a:stretch/>
        </p:blipFill>
        <p:spPr>
          <a:xfrm>
            <a:off x="6450120" y="4343400"/>
            <a:ext cx="2008080" cy="793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3"/>
          <a:stretch/>
        </p:blipFill>
        <p:spPr>
          <a:xfrm>
            <a:off x="6450120" y="5257800"/>
            <a:ext cx="1979640" cy="793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83BAA-B184-44B1-A8FB-97CBB9F3CB6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-Speed I/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data faster than the flight time along the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ters must generate very short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rs must be accurately synchronized to detect th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3F838-128B-4C63-BAB0-788C66B2B8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 Speed Transmit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handle termin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impedance current-mode driver + load ter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low-impedance driver + source 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vs. 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ended uses half the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l is Immune to common mode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only vs. Push-P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l-only has half the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sh-pull uses less power for the same s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9F81A-16D0-4C38-AC51-1A5105AB386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685800" y="1523880"/>
          <a:ext cx="7772400" cy="4359240"/>
        </p:xfrm>
        <a:graphic>
          <a:graphicData uri="http://schemas.openxmlformats.org/drawingml/2006/table">
            <a:tbl>
              <a:tblPr/>
              <a:tblGrid>
                <a:gridCol w="457200"/>
                <a:gridCol w="3581280"/>
                <a:gridCol w="3733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ll-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sh-Pu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04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-End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6320">
                <a:tc>
                  <a:txBody>
                    <a:bodyPr lIns="90000" rIns="90000" tIns="46800" bIns="46800" anchor="t" vert="eaVer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-Speed Transmitt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1219320" y="2467080"/>
            <a:ext cx="3429000" cy="12430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"/>
          <p:cNvPicPr/>
          <p:nvPr/>
        </p:nvPicPr>
        <p:blipFill>
          <a:blip r:embed="rId2"/>
          <a:stretch/>
        </p:blipFill>
        <p:spPr>
          <a:xfrm>
            <a:off x="4800600" y="2587680"/>
            <a:ext cx="3581280" cy="1171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1219320" y="3929040"/>
            <a:ext cx="3047760" cy="1879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4"/>
          <a:stretch/>
        </p:blipFill>
        <p:spPr>
          <a:xfrm>
            <a:off x="4800600" y="3878280"/>
            <a:ext cx="2286000" cy="194292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40"/>
          <p:cNvSpPr/>
          <p:nvPr/>
        </p:nvSpPr>
        <p:spPr>
          <a:xfrm>
            <a:off x="1297800" y="2077920"/>
            <a:ext cx="212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unning Transceiv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(GT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3052080" y="5181480"/>
            <a:ext cx="147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rrent M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ic (C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3"/>
          <p:cNvSpPr/>
          <p:nvPr/>
        </p:nvSpPr>
        <p:spPr>
          <a:xfrm>
            <a:off x="7167600" y="4724280"/>
            <a:ext cx="1364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-Volt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l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V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9CBA-120C-43B1-851A-C42861286D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gh-Speed Receiv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ple data in the middle of the bit inter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we know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4419720" y="2438280"/>
            <a:ext cx="3809880" cy="3364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55F0-7BB3-47A0-979C-14D739D5B62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 Black"/>
              </a:rPr>
              <a:t>Source-Synchronous Clocking</a:t>
            </a:r>
            <a:endParaRPr b="0" lang="en-US" sz="3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clock with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ght times roughly match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t on falling edge of tc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eive on rising edge of rc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1143000" y="3352680"/>
            <a:ext cx="4495680" cy="2513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67581-85A8-4109-A940-10A73B34C97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ingle vs. Double Data R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inary single data rate (SDR) system, clock switches twice as often as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system can handle this speed clock, the data is running at half the availabl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double-data-rate (DDR) transmit and receive on both edges of the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3200400" y="2438280"/>
            <a:ext cx="2514600" cy="7970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124080" y="4876920"/>
            <a:ext cx="2590920" cy="809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2E3D2-618D-4B3D-A0E5-A66A86D88EA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/ Outpu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 System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between chip and external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arge capacitance off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e at compatible voltage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adequat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 slew rates to control di/dt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 chip against 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small number of pins (low co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408D-7522-4A90-BE5D-789600CD34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Alignm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DDR clock is aligned to the transmitted clock, it must be shifted by 9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fore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1371600" y="3048120"/>
            <a:ext cx="6629400" cy="182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F6DB-3CE9-4168-BC61-CB06451D28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sochronous Cloc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peeds increase, it is difficult to keep clock and data al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matches in trace leng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matches in propagation sp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in clock vs. data dri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sochronous: clock and data have same frequency but unknown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L/DLL to realign clock to each data ch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5427-58CC-4533-B192-4403C3D6B87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hase Calibration Loop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phase detector compares clock &amp; data 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4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6933960" cy="2971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46EF-E882-47C0-8BE6-31D724718A1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/O Pad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d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G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irec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3988-70C7-4FFC-BAB6-604473CD78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put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ive large off-chip loads (2 – 50 p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uitable rise/fall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chain of successively larger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d rings to protect against latch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elow GND injects charge into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nMOS output tran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+ inner guar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+ outer guard 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n-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6019920" y="3726000"/>
            <a:ext cx="2476440" cy="2332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A132-F1C8-4A0B-AA6A-D50257F78F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put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or lower off-chip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need thick oxid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mitt 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ysteresis chang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against electrostatic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5486400" y="1523880"/>
          <a:ext cx="304812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523880"/>
                    <a:ext cx="304812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" name="Object 5"/>
          <p:cNvGraphicFramePr/>
          <p:nvPr/>
        </p:nvGraphicFramePr>
        <p:xfrm>
          <a:off x="5257800" y="3048120"/>
          <a:ext cx="3276720" cy="1449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048120"/>
                    <a:ext cx="3276720" cy="14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677B7-CED0-4E1F-AA0A-81D475AC1A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SD Prote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electricity builds up on your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ck delivered to a chip can fry thi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dissipate this energy in protection circuits before it reaches the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D protectio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limiting 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ode clam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D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 bod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 human as charged capaci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4"/>
          <p:cNvGraphicFramePr/>
          <p:nvPr/>
        </p:nvGraphicFramePr>
        <p:xfrm>
          <a:off x="5334120" y="2971800"/>
          <a:ext cx="1904760" cy="152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971800"/>
                    <a:ext cx="1904760" cy="152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5"/>
          <p:cNvGraphicFramePr/>
          <p:nvPr/>
        </p:nvGraphicFramePr>
        <p:xfrm>
          <a:off x="6553080" y="4838760"/>
          <a:ext cx="2210040" cy="9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53080" y="4838760"/>
                    <a:ext cx="221004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5E303-8FB6-4F46-96BA-C100A81CDD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idirectional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input and output 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ristate driver 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enable signal to set di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imized tristate avoids huge series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Object 4"/>
          <p:cNvGraphicFramePr/>
          <p:nvPr/>
        </p:nvGraphicFramePr>
        <p:xfrm>
          <a:off x="990720" y="3352680"/>
          <a:ext cx="5943600" cy="14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352680"/>
                    <a:ext cx="594360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" name="Object 5"/>
          <p:cNvGraphicFramePr/>
          <p:nvPr/>
        </p:nvGraphicFramePr>
        <p:xfrm>
          <a:off x="1447920" y="4710240"/>
          <a:ext cx="259056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710240"/>
                    <a:ext cx="259056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23: I/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438CE-06B7-4048-BD68-4CF9E64103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nalog Pa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analog voltages directly in or out of c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ction circuits must not distort vol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7:11:38Z</dcterms:modified>
  <cp:revision>2151</cp:revision>
  <dc:subject/>
  <dc:title>PowerPoint Presentation</dc:title>
</cp:coreProperties>
</file>