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13.wmf" ContentType="image/x-wmf"/>
  <Override PartName="/ppt/media/image5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159080" cy="365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441760" y="0"/>
            <a:ext cx="4159080" cy="365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972880" y="547200"/>
            <a:ext cx="3659400" cy="274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-36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44176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 algn="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181FF8A8-42BC-4CC4-8458-5FCCBC850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33C6058F-8626-4338-811D-AC404B767A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0624281B-C274-4C66-BD44-5197A41FA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E204ADCB-E79F-4DE5-B76C-049634E86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008C24B7-FCC6-4E0C-AF83-1A60EE665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2B2A1265-6EDF-4615-A714-C70C31B38B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C31F4FCE-FBA4-4C21-BDAB-FA38A70400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374E45F6-2E8C-48C7-83EC-32BC3A37E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6C5BDAA1-6C43-4D00-9A31-5B444913A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E7A4A3AC-A19D-464E-B11F-635265963A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81670507-EEE4-414A-AAED-B03ECA682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1479BC23-5777-4C56-8ADE-9124E383E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C1C95A67-F4DB-46E2-820A-5C20BBE68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C606E679-4FF3-4926-97DF-7CD0F8C54D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F30A0E2B-3D91-4582-9E53-26477449C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D7F7CB08-9A82-44F5-80E8-A58689AD41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E44E9A9D-E334-4E27-95F3-96FB3550F6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165599E4-AFA2-4C18-8F03-64F9CEC4D3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9712B397-D0C4-442F-9EB1-E1B58627B9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7EBA337E-1E50-429C-9DEC-3116C7A86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A39688A4-CB1D-4264-B957-2F8A4A0BF3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1131ACF9-2BF9-4090-ACE4-A128B8AA47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5E3C9A82-9CF8-48A7-A88B-A9C804406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D49A2276-04FF-4782-ADF7-629999B727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AE2CB096-7DD5-44E5-810C-0F8184E1FA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2694F5B8-FFEE-4A19-89D8-D78647C8AA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587B293E-B69B-4B5D-A747-C1CACD80A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973240" y="547560"/>
            <a:ext cx="3659400" cy="2745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27BA6-1C02-4C27-9182-8E7496A810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51E29-764D-4B06-B0EA-FDF82E2E0C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8237F-A0CD-492E-9EB2-1674744376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53791-E5A3-4387-98B2-ED49CCD9978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C2CC0-40B2-4A51-B0FD-752FAE788A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D9BAE-8863-4495-B84B-2D95932B56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B060E-F837-4620-A8B2-0DFBD84750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6F845-CC73-4B86-BCAA-A70771CA42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A5C2D-4782-4FB4-8B6A-6ACBCD8A0B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051D4-AFB3-4647-BC4C-E3BC1B30FE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0EDB8-B04C-433C-A081-6231E54F66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64072-664B-4956-8D5A-4F674C6C6D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2AA2-6F57-4214-B12B-AFC9FF57389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21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 for Testabil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3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1EE3-0FF0-46B6-BDF1-E501CDFC2CF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2514600" y="1600200"/>
            <a:ext cx="3790800" cy="4419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27AF-5726-4F2D-8BFE-1D1064B01E9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ervability &amp; Controlla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bserv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ase of observing a node by watching external output pins of the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trollabi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ase of forcing a node to 0 or 1 by driving input pins of the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ational logic is usually easy to observe and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state machines can be very difficult, requiring many cycles to enter desired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if state transition diagram is not known to the test engin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28504-3027-4167-A097-A121F902FF3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 Pattern Gen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test ideally would check every node in the circuit to prove it is not stu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the smallest sequence of test vectors necessary to prove each node is not stu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observability and controllability reduces number of test vectors required for manufacturing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the cost of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es design-for-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4FF8-E56C-4593-B01E-2AF882BDA2A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2" marL="11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0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01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0110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{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et: {0100, 0101, 0110, 0111, 1010, 1110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5"/>
          <p:cNvGraphicFramePr/>
          <p:nvPr/>
        </p:nvGraphicFramePr>
        <p:xfrm>
          <a:off x="5638680" y="1676520"/>
          <a:ext cx="274320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676520"/>
                    <a:ext cx="274320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Rectangle 6"/>
          <p:cNvSpPr/>
          <p:nvPr/>
        </p:nvSpPr>
        <p:spPr>
          <a:xfrm>
            <a:off x="2590920" y="19810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4343400" y="19810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2590920" y="23623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4343400" y="23623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2590920" y="27432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4343400" y="27432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2590920" y="32004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4343400" y="32004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2590920" y="35812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5"/>
          <p:cNvSpPr/>
          <p:nvPr/>
        </p:nvSpPr>
        <p:spPr>
          <a:xfrm>
            <a:off x="4343400" y="35812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2590920" y="39625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7"/>
          <p:cNvSpPr/>
          <p:nvPr/>
        </p:nvSpPr>
        <p:spPr>
          <a:xfrm>
            <a:off x="4343400" y="39625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8"/>
          <p:cNvSpPr/>
          <p:nvPr/>
        </p:nvSpPr>
        <p:spPr>
          <a:xfrm>
            <a:off x="2590920" y="43434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9"/>
          <p:cNvSpPr/>
          <p:nvPr/>
        </p:nvSpPr>
        <p:spPr>
          <a:xfrm>
            <a:off x="4343400" y="43434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0"/>
          <p:cNvSpPr/>
          <p:nvPr/>
        </p:nvSpPr>
        <p:spPr>
          <a:xfrm>
            <a:off x="2590920" y="48006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1"/>
          <p:cNvSpPr/>
          <p:nvPr/>
        </p:nvSpPr>
        <p:spPr>
          <a:xfrm>
            <a:off x="4343400" y="48006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2"/>
          <p:cNvSpPr/>
          <p:nvPr/>
        </p:nvSpPr>
        <p:spPr>
          <a:xfrm>
            <a:off x="3124080" y="5562720"/>
            <a:ext cx="5181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0349-99D7-4D50-BD05-076F66C94AC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 for Te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the chip to increase observability and control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each register could be observed and controlled, test problem reduces to testing combinational logic between regis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yet, logic blocks could enter test mode where they generate test patterns and report the results automat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DDF3-733D-4762-9193-853F3468661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each flip-flop to a scan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sts one extra multip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mode: flip-flops behave as u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mode: flip-flops behave as shif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s of fl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sc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 and n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s scan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5"/>
          <p:cNvGraphicFramePr/>
          <p:nvPr/>
        </p:nvGraphicFramePr>
        <p:xfrm>
          <a:off x="6553080" y="1447920"/>
          <a:ext cx="2210040" cy="126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1447920"/>
                    <a:ext cx="2210040" cy="12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6"/>
          <p:cNvGraphicFramePr/>
          <p:nvPr/>
        </p:nvGraphicFramePr>
        <p:xfrm>
          <a:off x="3276720" y="3276720"/>
          <a:ext cx="5181480" cy="277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276720"/>
                    <a:ext cx="5181480" cy="27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90D4-7604-45D9-B261-0C408C253FE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nnable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7" name="Object 3"/>
          <p:cNvGraphicFramePr/>
          <p:nvPr/>
        </p:nvGraphicFramePr>
        <p:xfrm>
          <a:off x="1035000" y="1523880"/>
          <a:ext cx="70740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5000" y="1523880"/>
                    <a:ext cx="7074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9D7D-D818-4B98-BF77-89741CF30E6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TP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pattern generation is ted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Test Pattern Generation (ATPG) tools produce a good set of vectors for each block of combinational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 chains are used to control and observe the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coverage requires a large number of vectors, raising the cost of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roducts settle for covering 90+% of potential stuck-at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11940-20BF-4ADB-AFC0-D9A140A1664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uilt-in Self-te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-in self-test lets blocks test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pseudo-random inputs to comb.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outputs into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high probability, block is fault-free if it produces the expected synd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CC25-3E36-484A-B396-0D6260DB012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S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near Feedback Shift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register with input taken from XOR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seudo-Random Sequence Gen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685800" y="3276720"/>
          <a:ext cx="3886200" cy="156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276720"/>
                    <a:ext cx="3886200" cy="15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4952880" y="2971800"/>
          <a:ext cx="3124440" cy="3017880"/>
        </p:xfrm>
        <a:graphic>
          <a:graphicData uri="http://schemas.openxmlformats.org/drawingml/2006/table">
            <a:tbl>
              <a:tblPr/>
              <a:tblGrid>
                <a:gridCol w="1562400"/>
                <a:gridCol w="15620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 (repeat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Rectangle 37"/>
          <p:cNvSpPr/>
          <p:nvPr/>
        </p:nvSpPr>
        <p:spPr>
          <a:xfrm>
            <a:off x="6553080" y="335268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8"/>
          <p:cNvSpPr/>
          <p:nvPr/>
        </p:nvSpPr>
        <p:spPr>
          <a:xfrm>
            <a:off x="6553080" y="373392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9"/>
          <p:cNvSpPr/>
          <p:nvPr/>
        </p:nvSpPr>
        <p:spPr>
          <a:xfrm>
            <a:off x="6553080" y="403848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40"/>
          <p:cNvSpPr/>
          <p:nvPr/>
        </p:nvSpPr>
        <p:spPr>
          <a:xfrm>
            <a:off x="6553080" y="434340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41"/>
          <p:cNvSpPr/>
          <p:nvPr/>
        </p:nvSpPr>
        <p:spPr>
          <a:xfrm>
            <a:off x="6553080" y="472428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42"/>
          <p:cNvSpPr/>
          <p:nvPr/>
        </p:nvSpPr>
        <p:spPr>
          <a:xfrm>
            <a:off x="6553080" y="502920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43"/>
          <p:cNvSpPr/>
          <p:nvPr/>
        </p:nvSpPr>
        <p:spPr>
          <a:xfrm>
            <a:off x="6553080" y="533412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44"/>
          <p:cNvSpPr/>
          <p:nvPr/>
        </p:nvSpPr>
        <p:spPr>
          <a:xfrm>
            <a:off x="6553080" y="5715000"/>
            <a:ext cx="1371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45"/>
          <p:cNvSpPr/>
          <p:nvPr/>
        </p:nvSpPr>
        <p:spPr>
          <a:xfrm>
            <a:off x="1523880" y="46483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ps reset to 1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6"/>
          <p:cNvSpPr/>
          <p:nvPr/>
        </p:nvSpPr>
        <p:spPr>
          <a:xfrm>
            <a:off x="4114800" y="32004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2727-5451-4CE8-A6E5-024506A9191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Ver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on Debu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ul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ervability and Controll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or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ary S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A8AF-71D0-48D7-BA18-791F06C197F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ILB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-in Logic Block Ob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scan with PRSG &amp; signatur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4"/>
          <p:cNvGraphicFramePr/>
          <p:nvPr/>
        </p:nvGraphicFramePr>
        <p:xfrm>
          <a:off x="1371600" y="2438280"/>
          <a:ext cx="6095880" cy="35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38280"/>
                    <a:ext cx="6095880" cy="35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E236-805C-45EA-91BC-24C6B352FB9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undary Sca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boards is also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verify solder joints are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a pin to 0, then t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hat all connected pins get the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-hold boards used “bed of nail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T and BGA boards cannot easily contact p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capability of observing and controlling pins into each chip to make board test ea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6FEB-9402-40C6-ADB4-EC932C353B8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undary Scan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7" name="Object 3"/>
          <p:cNvGraphicFramePr/>
          <p:nvPr/>
        </p:nvGraphicFramePr>
        <p:xfrm>
          <a:off x="1738440" y="1523880"/>
          <a:ext cx="56671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38440" y="1523880"/>
                    <a:ext cx="56671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9682-CB4E-4070-AA8A-2D361EEDFA2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undary Scan Interfa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ary scan is accessed through five p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K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M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mode se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I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data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DO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data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ST*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reset (opt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with internal scan chains can access the chains through boundary scan for unified test strate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EAAF-221B-4A42-8D11-9C716154B92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sting Your Class Projec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ilicon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vectors: corner cases and random v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DL simulation of schematics for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2-phase clocking to avoid r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tatic CMOS gates to avoid electrical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VS to ensure layout matches schema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’t worry about ti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silicon Ver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your test vectors on the fabricated c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functional chip te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tentially use breadboard or PCB for ful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F8D72-8614-4B5E-84D4-3B166BF22A8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oster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osterICs functional chip t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 by clinic teams and David Diaz at HM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your test vectors, applies them to your chip, and reports assertion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4" descr="dut40white"/>
          <p:cNvPicPr/>
          <p:nvPr/>
        </p:nvPicPr>
        <p:blipFill>
          <a:blip r:embed="rId1"/>
          <a:stretch/>
        </p:blipFill>
        <p:spPr>
          <a:xfrm>
            <a:off x="4572000" y="3962520"/>
            <a:ext cx="3873600" cy="20890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testostericswhite2"/>
          <p:cNvPicPr/>
          <p:nvPr/>
        </p:nvPicPr>
        <p:blipFill>
          <a:blip r:embed="rId2"/>
          <a:stretch/>
        </p:blipFill>
        <p:spPr>
          <a:xfrm>
            <a:off x="685800" y="3209760"/>
            <a:ext cx="3352680" cy="2841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7B2B7-159F-4008-94EA-3A1CC19FF61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about testing from the begi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as you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for test after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don’t test it, it won’t work!  (Guaranteed)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2794-6B62-4528-BAC9-3A9A4EBCE9D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st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ing is one of the most expensive parts of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verification accounts for &gt; 50% of design effort for many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bug time after fabrication has enormous opportunity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pping defective parts can sink a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Intel FDIV bug (199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error not caught until &gt; 1M units shi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cost $450M (!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9292A-AA2B-4196-BE22-6C5692E8F9C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 Verif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 the chip simulate correct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done at HDL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cation engineers write test bench for H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’t test all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for corner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break logic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32-bit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all combinations of corner cases as inpu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 1, 2,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, -1, -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 few random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tests require ingen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8A34B-4DC2-4A88-BE94-98077F78194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licon Debu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the first chips back from fabr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you are lucky, they work the first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no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 bugs vs. electrical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chip failures are logic bugs from inadequate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are electrical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ta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nodes: leakage, charge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few are tool or methodology failures (e.g. DR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x the bugs and fabricate a corrected c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D1BF-3F36-448B-A243-B45FDB1AB7F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moo Plo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diagnose failu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 to access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opro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er voltage prob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-in self-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moo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y voltage,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for cause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2825640" cy="4419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2F13-2294-44CF-BD79-47100561441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anufacturing Te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peck of dust on a wafer is sufficient to kill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ie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ny chip is &lt;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test chips after manufacturing before delivery to customers to only ship good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testers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expens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e time on te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 selection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v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28" descr=""/>
          <p:cNvPicPr/>
          <p:nvPr/>
        </p:nvPicPr>
        <p:blipFill>
          <a:blip r:embed="rId1"/>
          <a:stretch/>
        </p:blipFill>
        <p:spPr>
          <a:xfrm>
            <a:off x="5181480" y="3365640"/>
            <a:ext cx="3413160" cy="2646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397C-C104-48E7-B7F2-69BE3893174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nufacturing Failur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1510-defects"/>
          <p:cNvPicPr/>
          <p:nvPr/>
        </p:nvPicPr>
        <p:blipFill>
          <a:blip r:embed="rId1"/>
          <a:stretch/>
        </p:blipFill>
        <p:spPr>
          <a:xfrm>
            <a:off x="685800" y="1447920"/>
            <a:ext cx="7769160" cy="46180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6400800" y="5881680"/>
            <a:ext cx="2362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M images courtesy Intel Corpo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2: Design for Testa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E78BC-98E7-4396-85AE-CB289B4B08F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uck-At Fa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es a chip fai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failures are shorts between two conductors or opens in a 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n cause very complicated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mpler model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ck-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all failures cause nodes to be “stuck-at” 0 or 1, i.e. shorted to GND or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quite true, but works well in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Microsoft Office User</cp:lastModifiedBy>
  <dcterms:modified xsi:type="dcterms:W3CDTF">2020-03-04T16:11:01Z</dcterms:modified>
  <cp:revision>1884</cp:revision>
  <dc:subject/>
  <dc:title>PowerPoint Presentation</dc:title>
</cp:coreProperties>
</file>