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159080" cy="365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441760" y="0"/>
            <a:ext cx="4159080" cy="365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972880" y="547200"/>
            <a:ext cx="3659400" cy="274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-36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44176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 algn="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415AF405-A5D6-4D11-81DF-C4D2083B8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DF49B20C-8337-4D3B-A9FA-35B763DEC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DD807FC2-9426-4F9F-AD25-BDFB47EDB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C825246E-41EA-4EDE-B7C2-1B08F8F5C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FCB7423D-30B4-4C2B-A85C-8BC939DE6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98DEACC0-6626-4BDC-B517-F995E9173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1F7CDDD7-4D82-4E24-A403-92D48942D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DCA0540D-F874-4E11-96A0-36715D806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DC892AF7-98FB-4BBF-801D-354FCD3AD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6AE345CA-0D3E-4ABD-917A-B5BA1477C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CCECF488-FE2E-4859-A1B2-15FF38184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4FF16147-DD12-46F0-8670-5232AC808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A5688C22-46D8-4E17-A193-CE11FECC6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17E91EA6-E02F-49FF-956D-9C2759743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9C801621-5A63-4D64-B400-62DA6A251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04B337BE-34B6-4E3C-B11B-786C77EBB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2F665BF4-D5E8-44B3-9E3B-8567A59BB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B20261A9-4314-4B8B-8799-03B24A4E0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07698ABC-9786-415A-B649-E3AF1DA3B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797ECEA8-D3B5-45FB-B00A-E7C053811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B7BAEDAA-36DA-4339-8C28-0D7792C84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D2C09D5A-91FE-486D-938D-F5FBF761E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52F340E7-D4CE-4CFE-A7FD-6823A2685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B6752F25-93E2-4DB3-8944-19FE6F6AB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B4226912-A9EC-487E-863F-9D2375AA2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3926DFFE-98C1-4C80-9DC2-2BDEBED27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6F4F3225-2AA8-4A94-B610-84E81ABFA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FFF10-22B7-404B-BF54-D72A56873B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1EC58-565C-4C90-B2A3-C40F8A8230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44BF8-F60E-4F9E-817B-D99DDB8FFA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50CA8-6615-452C-A3E8-87F0889D1F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FFF44-6228-4B48-8DC8-F07A15C6A3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9600B-E877-431A-854F-E1BEF456CA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27B7A-54AD-47E4-ABA5-EDAFB994D4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CBAE6-2492-4DFF-8464-E1958CD836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0283C-1355-4B70-874E-5EBC28DEB4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F397B-BC34-461D-91EF-F627C82510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FA8B9-CB32-4CDE-B910-8A1880EE7A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36A1C-7C0E-4A51-A928-9C0834EB89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384E-DC7D-4E98-A064-B756D77B01D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21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 for Testabil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3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DE21-8A11-4F7C-A2AA-5A3407475D7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3790800" cy="4419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3A84-72A2-4CC2-A52E-F338E70369D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ervability &amp; Controlla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bserv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ase of observing a node by watching external output pins of the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troll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ase of forcing a node to 0 or 1 by driving input pins of the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ional logic is usually easy to observe and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state machines can be very difficult, requiring many cycles to enter desired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if state transition diagram is not known to the test engin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16D0-2C95-4FD7-AD7A-DD102EB511C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 Pattern Gen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test ideally would check every node in the circuit to prove it is not stu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the smallest sequence of test vectors necessary to prove each node is not stu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observability and controllability reduces number of test vectors required for manufacturing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the cost of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es design-for-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8353-E72C-4490-A12C-2368F8C3873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2" marL="11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0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1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et: {0100, 0101, 0110, 0111, 1010, 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5"/>
          <p:cNvGraphicFramePr/>
          <p:nvPr/>
        </p:nvGraphicFramePr>
        <p:xfrm>
          <a:off x="5638680" y="1676520"/>
          <a:ext cx="274320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676520"/>
                    <a:ext cx="274320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Rectangle 6"/>
          <p:cNvSpPr/>
          <p:nvPr/>
        </p:nvSpPr>
        <p:spPr>
          <a:xfrm>
            <a:off x="2590920" y="19810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4343400" y="19810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2590920" y="23623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4343400" y="23623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2590920" y="27432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4343400" y="27432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2590920" y="32004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4343400" y="32004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2590920" y="35812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5"/>
          <p:cNvSpPr/>
          <p:nvPr/>
        </p:nvSpPr>
        <p:spPr>
          <a:xfrm>
            <a:off x="4343400" y="35812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2590920" y="39625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4343400" y="39625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2590920" y="43434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9"/>
          <p:cNvSpPr/>
          <p:nvPr/>
        </p:nvSpPr>
        <p:spPr>
          <a:xfrm>
            <a:off x="4343400" y="43434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0"/>
          <p:cNvSpPr/>
          <p:nvPr/>
        </p:nvSpPr>
        <p:spPr>
          <a:xfrm>
            <a:off x="2590920" y="48006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1"/>
          <p:cNvSpPr/>
          <p:nvPr/>
        </p:nvSpPr>
        <p:spPr>
          <a:xfrm>
            <a:off x="4343400" y="48006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2"/>
          <p:cNvSpPr/>
          <p:nvPr/>
        </p:nvSpPr>
        <p:spPr>
          <a:xfrm>
            <a:off x="3124080" y="5562720"/>
            <a:ext cx="5181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F698-B861-48D3-B947-2711F793D43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 for Te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the chip to increase observability and control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each register could be observed and controlled, test problem reduces to testing combinational logic between regis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yet, logic blocks could enter test mode where they generate test patterns and report the results automat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B916-8974-49CF-AB63-F79152D3D1B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each flip-flop to a scan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sts one extra multip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mode: flip-flops behave as u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mode: flip-flops behave as shif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s of fl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sc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 and n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s sc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5"/>
          <p:cNvGraphicFramePr/>
          <p:nvPr/>
        </p:nvGraphicFramePr>
        <p:xfrm>
          <a:off x="6553080" y="1447920"/>
          <a:ext cx="2210040" cy="126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1447920"/>
                    <a:ext cx="2210040" cy="12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6"/>
          <p:cNvGraphicFramePr/>
          <p:nvPr/>
        </p:nvGraphicFramePr>
        <p:xfrm>
          <a:off x="3276720" y="3276720"/>
          <a:ext cx="5181480" cy="277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276720"/>
                    <a:ext cx="5181480" cy="27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1617-6CE4-45AA-9F20-D5D57CF1658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nnable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7" name="Object 3"/>
          <p:cNvGraphicFramePr/>
          <p:nvPr/>
        </p:nvGraphicFramePr>
        <p:xfrm>
          <a:off x="1035000" y="1523880"/>
          <a:ext cx="70740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1523880"/>
                    <a:ext cx="7074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9453-89BC-4DA9-A73B-915EBA3BF18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TP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pattern generation is ted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Test Pattern Generation (ATPG) tools produce a good set of vectors for each block of combinational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chains are used to control and observe the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coverage requires a large number of vectors, raising the cost of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roducts settle for covering 90+% of potential stuck-at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50E4-9B7F-4DDE-B0CE-55A5BC8EB54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uilt-in Self-te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-in self-test lets blocks test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pseudo-random inputs to comb.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outputs into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high probability, block is fault-free if it produces the expected 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8F7C-A3DA-4E0B-A960-32160B1A435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S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near Feedback Shif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register with input taken from XOR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seudo-Random Sequence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685800" y="3276720"/>
          <a:ext cx="38862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276720"/>
                    <a:ext cx="38862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4952880" y="2971800"/>
          <a:ext cx="3124440" cy="3017880"/>
        </p:xfrm>
        <a:graphic>
          <a:graphicData uri="http://schemas.openxmlformats.org/drawingml/2006/table">
            <a:tbl>
              <a:tblPr/>
              <a:tblGrid>
                <a:gridCol w="1562400"/>
                <a:gridCol w="156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 (repea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Rectangle 37"/>
          <p:cNvSpPr/>
          <p:nvPr/>
        </p:nvSpPr>
        <p:spPr>
          <a:xfrm>
            <a:off x="6553080" y="335268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8"/>
          <p:cNvSpPr/>
          <p:nvPr/>
        </p:nvSpPr>
        <p:spPr>
          <a:xfrm>
            <a:off x="6553080" y="373392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9"/>
          <p:cNvSpPr/>
          <p:nvPr/>
        </p:nvSpPr>
        <p:spPr>
          <a:xfrm>
            <a:off x="6553080" y="403848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0"/>
          <p:cNvSpPr/>
          <p:nvPr/>
        </p:nvSpPr>
        <p:spPr>
          <a:xfrm>
            <a:off x="6553080" y="434340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41"/>
          <p:cNvSpPr/>
          <p:nvPr/>
        </p:nvSpPr>
        <p:spPr>
          <a:xfrm>
            <a:off x="6553080" y="472428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42"/>
          <p:cNvSpPr/>
          <p:nvPr/>
        </p:nvSpPr>
        <p:spPr>
          <a:xfrm>
            <a:off x="6553080" y="502920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43"/>
          <p:cNvSpPr/>
          <p:nvPr/>
        </p:nvSpPr>
        <p:spPr>
          <a:xfrm>
            <a:off x="6553080" y="533412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44"/>
          <p:cNvSpPr/>
          <p:nvPr/>
        </p:nvSpPr>
        <p:spPr>
          <a:xfrm>
            <a:off x="6553080" y="571500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5"/>
          <p:cNvSpPr/>
          <p:nvPr/>
        </p:nvSpPr>
        <p:spPr>
          <a:xfrm>
            <a:off x="1523880" y="46483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ps reset to 1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6"/>
          <p:cNvSpPr/>
          <p:nvPr/>
        </p:nvSpPr>
        <p:spPr>
          <a:xfrm>
            <a:off x="4114800" y="32004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429C-B57C-4075-AF76-6C17C7DCDA2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on Deb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ul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bility and Control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or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ary S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F39D-0C95-428D-BCD6-31BBC73BAD7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ILB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-in Logic Block Ob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scan with PRSG &amp; signatur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4"/>
          <p:cNvGraphicFramePr/>
          <p:nvPr/>
        </p:nvGraphicFramePr>
        <p:xfrm>
          <a:off x="1371600" y="2438280"/>
          <a:ext cx="6095880" cy="35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38280"/>
                    <a:ext cx="6095880" cy="35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AE96-B68B-48AE-883A-AC4EC50628F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undary Sca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boards is also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verify solder joints are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a pin to 0, then 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hat all connected pins get th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-hold boards used “bed of nail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T and BGA boards cannot easily contact p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capability of observing and controlling pins into each chip to make board test ea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5DA2-C930-4ABB-8905-5F56DC1ED8C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undary Scan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7" name="Object 3"/>
          <p:cNvGraphicFramePr/>
          <p:nvPr/>
        </p:nvGraphicFramePr>
        <p:xfrm>
          <a:off x="1738440" y="1523880"/>
          <a:ext cx="56671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8440" y="1523880"/>
                    <a:ext cx="56671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C4E8-74FA-41AB-84A7-8D0C0B7DC4F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undary Scan Interfa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ary scan is accessed through five p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K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mode se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I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data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O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data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ST*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reset (opt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with internal scan chains can access the chains through boundary scan for unified test strate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336F-0476-4AC1-AE12-52820436B08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sting Your Class Projec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ilicon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vectors: corner cases and random v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L simulation of schematics for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2-phase clocking to avoid r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atic CMOS gates to avoid electrical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VS to ensure layout matches schem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worry about ti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silicon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your test vectors on the fabricated c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functional chip te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ly use breadboard or PCB for ful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7477-4F01-4562-BB79-DF49D99C1CA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oster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osterICs functional chip t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 by clinic teams and David Diaz at H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your test vectors, applies them to your chip, and reports assertion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dut40white"/>
          <p:cNvPicPr/>
          <p:nvPr/>
        </p:nvPicPr>
        <p:blipFill>
          <a:blip r:embed="rId1"/>
          <a:stretch/>
        </p:blipFill>
        <p:spPr>
          <a:xfrm>
            <a:off x="4572000" y="3962520"/>
            <a:ext cx="3873600" cy="2089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testostericswhite2"/>
          <p:cNvPicPr/>
          <p:nvPr/>
        </p:nvPicPr>
        <p:blipFill>
          <a:blip r:embed="rId2"/>
          <a:stretch/>
        </p:blipFill>
        <p:spPr>
          <a:xfrm>
            <a:off x="685800" y="3209760"/>
            <a:ext cx="3352680" cy="2841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AEBE-B758-44BB-B031-BBA635D1868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testing from the begi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as you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test after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don’t test it, it won’t work!  (Guaranteed)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BB3F-DB46-4E6B-88D8-9CAFBB2CAA4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is one of the most expensive parts of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verification accounts for &gt; 50% of design effort for many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ug time after fabrication has enormous opportunity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pping defective parts can sink a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Intel FDIV bug (19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error not caught until &gt; 1M units shi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cost $450M (!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F3D7-43F9-4F3B-9275-B311C104E74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 Verif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chip simulate correct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done at HD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tion engineers write test bench for H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’t test all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for corner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break logic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32-bit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all combinations of corner cases as inpu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 1, 2,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, -1, -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few random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tests require inge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1D9B-1D9D-4D7B-B15A-6924FCAA9D7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licon Debu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first chips back from fabr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are lucky, they work the firs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bugs vs. electrical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chip failures are logic bugs from inadequate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are electrical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ta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nodes: leakage, charge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ew are tool or methodology failures (e.g. DR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 the bugs and fabricate a corrected c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94A0-B9F9-4802-8A62-E6B7C5BDF6B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moo Plo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diagnose failu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 to access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opro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er voltage prob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-in self-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moo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y voltage,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for caus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2825640" cy="4419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F587-8451-45BB-9CE1-3B7B8A04CF5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anufacturing Te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peck of dust on a wafer is sufficient to kill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ie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ny chip is &lt;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test chips after manufacturing before delivery to customers to only ship good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testers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time on t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 selec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28" descr=""/>
          <p:cNvPicPr/>
          <p:nvPr/>
        </p:nvPicPr>
        <p:blipFill>
          <a:blip r:embed="rId1"/>
          <a:stretch/>
        </p:blipFill>
        <p:spPr>
          <a:xfrm>
            <a:off x="5181480" y="3365640"/>
            <a:ext cx="3413160" cy="2646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8BB9-86A4-4CB9-A6FC-9A8305CC596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nufacturing Failur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1510-defects"/>
          <p:cNvPicPr/>
          <p:nvPr/>
        </p:nvPicPr>
        <p:blipFill>
          <a:blip r:embed="rId1"/>
          <a:stretch/>
        </p:blipFill>
        <p:spPr>
          <a:xfrm>
            <a:off x="685800" y="1447920"/>
            <a:ext cx="7769160" cy="46180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6400800" y="5881680"/>
            <a:ext cx="236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M images courtesy Intel Corpo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2824-81B0-45AE-8D91-B2FB8AE4243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uck-At Fa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a chip fai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failures are shorts between two conductors or opens in a 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n cause very complicated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mpler model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ck-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all failures cause nodes to be “stuck-at” 0 or 1, i.e. shorted to GND or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quite true, but works well in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Microsoft Office User</cp:lastModifiedBy>
  <dcterms:modified xsi:type="dcterms:W3CDTF">2020-03-04T16:11:01Z</dcterms:modified>
  <cp:revision>1884</cp:revision>
  <dc:subject/>
  <dc:title>PowerPoint Presentation</dc:title>
</cp:coreProperties>
</file>