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0.wmf" ContentType="image/x-wmf"/>
  <Override PartName="/ppt/media/image25.png" ContentType="image/png"/>
  <Override PartName="/ppt/media/image15.wmf" ContentType="image/x-wmf"/>
  <Override PartName="/ppt/media/image7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12.png" ContentType="image/png"/>
  <Override PartName="/ppt/media/image32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1760" y="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5040" y="547200"/>
            <a:ext cx="3659040" cy="27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-36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176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995FA9DC-FCDC-414B-ADF6-93C44D70F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C4324575-8E63-408F-BDE4-C2732E678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5FA452B5-263D-4CC0-B4A4-CAD745650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386F8263-F057-471F-8710-EA77DE441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2B241CEB-503C-445C-B8E4-56A2DC76F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922C8E6E-9487-4240-804B-E0D3F45AE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98A63853-0732-4D49-960C-534B04C99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3D4A8A38-F3DD-4B00-8EBE-67EA7C4FD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A8CECED1-52C1-4D54-8D5F-0B3DF2A6D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441C99C6-86F0-4247-A1D7-6AA29A719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4D570849-945D-4393-8B25-D3D368743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A12A4779-8B79-412E-826F-C40ED2033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783DD67A-1B76-4186-8D7E-6ED28FE62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DFDBFCC3-D7FD-439F-9722-24D6711F3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855D26E6-F9E1-44AD-A55C-5BEB9FE7B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42BA5764-7215-469A-AFFF-A94646343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4CBD5AC5-C3A2-4F20-BCF2-3BA971DDB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0FAD9E16-C93B-42C9-92ED-3EC898546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54DC273D-BC98-468B-80C1-8BAD27573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EFAC5538-7BDC-4877-8ACA-20F2A4827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6769FBB7-1756-4C12-8BD8-0FDBFAFBD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1DC03167-4618-4FEB-A92A-4F4AE3F82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48C72-F993-418E-97DD-4E63FB394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73DDE-1959-4648-962E-8212EE87D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3920D-F4DC-4C43-A26A-7DDB62E9C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D9F36-F67D-45E8-BD9F-05955C60AB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7E109-F7A1-466D-93D6-C257A662C7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9FF10-6013-493F-9877-165280929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87E93-578F-4AD9-A92E-E955D2125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F2816-D99F-4D5E-A6FC-78519A0B6A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CAF22-907E-4F95-BF8D-15FD3AED0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845C5-D87C-4B06-A856-A51C0F0A6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AFC2D-5EFF-4137-BD70-360CDB19F2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CEAC7-52CA-42FF-8CC1-1735AC882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146B-22F6-46DA-93FB-2E86B5DCEE3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20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Ls and D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8011-9C0A-4F1C-A22D-95C924A85C8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lternative Delay El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414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9449-1571-4780-A515-B027B52C83F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3809880" y="1523880"/>
            <a:ext cx="4724640" cy="15433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requency Divid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clock by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od-N coun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5943600" y="2362320"/>
            <a:ext cx="838080" cy="7617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10"/>
          <p:cNvGraphicFramePr/>
          <p:nvPr/>
        </p:nvGraphicFramePr>
        <p:xfrm>
          <a:off x="1143000" y="2743200"/>
          <a:ext cx="1828800" cy="169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743200"/>
                    <a:ext cx="1828800" cy="16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D731-15D1-4259-BD6A-1D31357020F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809880" y="1523880"/>
            <a:ext cx="4724640" cy="15433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hase Detec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 of input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clock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built from phase-frequency detector (PF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343400" y="1523880"/>
            <a:ext cx="1447920" cy="9144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2"/>
          <a:stretch/>
        </p:blipFill>
        <p:spPr>
          <a:xfrm>
            <a:off x="990720" y="3886200"/>
            <a:ext cx="1828800" cy="1611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"/>
          <p:cNvPicPr/>
          <p:nvPr/>
        </p:nvPicPr>
        <p:blipFill>
          <a:blip r:embed="rId3"/>
          <a:stretch/>
        </p:blipFill>
        <p:spPr>
          <a:xfrm>
            <a:off x="2971800" y="3962520"/>
            <a:ext cx="1828800" cy="1628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4"/>
          <a:stretch/>
        </p:blipFill>
        <p:spPr>
          <a:xfrm>
            <a:off x="5486400" y="4114800"/>
            <a:ext cx="1925640" cy="1228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B93D-2E14-4730-937D-6008F3909AD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hase Detec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up and down pulses into current proportional to phase error using a charge p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1143000" y="2819520"/>
          <a:ext cx="2666880" cy="103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19520"/>
                    <a:ext cx="2666880" cy="103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8" descr=""/>
          <p:cNvPicPr/>
          <p:nvPr/>
        </p:nvPicPr>
        <p:blipFill>
          <a:blip r:embed="rId3"/>
          <a:stretch/>
        </p:blipFill>
        <p:spPr>
          <a:xfrm>
            <a:off x="5638680" y="2971800"/>
            <a:ext cx="2481480" cy="2139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95CB-3693-4B81-9BAF-70935C28526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3809880" y="1523880"/>
            <a:ext cx="4724640" cy="15433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op Fil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charge pum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n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t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roportional-integral control (PI) to generate a control signal dependent on the error and its integ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s error to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5943600" y="1523880"/>
            <a:ext cx="1066680" cy="7621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9" descr=""/>
          <p:cNvPicPr/>
          <p:nvPr/>
        </p:nvPicPr>
        <p:blipFill>
          <a:blip r:embed="rId2"/>
          <a:stretch/>
        </p:blipFill>
        <p:spPr>
          <a:xfrm>
            <a:off x="4800600" y="4343400"/>
            <a:ext cx="2438280" cy="127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Object 10"/>
          <p:cNvGraphicFramePr/>
          <p:nvPr/>
        </p:nvGraphicFramePr>
        <p:xfrm>
          <a:off x="1371600" y="4724280"/>
          <a:ext cx="2362320" cy="104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724280"/>
                    <a:ext cx="2362320" cy="10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Text Box 12"/>
          <p:cNvSpPr/>
          <p:nvPr/>
        </p:nvSpPr>
        <p:spPr>
          <a:xfrm>
            <a:off x="6627600" y="502920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eglig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EEF3-07FB-4A34-9FD5-B73F44CE5B4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L Loop Dynam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loop transfer function of P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second ord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cates loop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cates damping; choose 0.7 – 1 to avoid ri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6"/>
          <p:cNvGraphicFramePr/>
          <p:nvPr/>
        </p:nvGraphicFramePr>
        <p:xfrm>
          <a:off x="1219320" y="1981080"/>
          <a:ext cx="4343400" cy="12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4343400" cy="12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8"/>
          <p:cNvGraphicFramePr/>
          <p:nvPr/>
        </p:nvGraphicFramePr>
        <p:xfrm>
          <a:off x="1219320" y="3733920"/>
          <a:ext cx="4190760" cy="13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733920"/>
                    <a:ext cx="419076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53C2-8A7E-4AFC-9C71-BF4825D7F8B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lay Locked Lo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s input clock rather than creating a new clock with an oscil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perform frequency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table and easier to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rather tha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variable is now time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s when loop delay is exactly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ation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from lock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0CAE-44A6-4CDB-9651-A6072DCCE82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lay-Locked Loop (DLL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1"/>
          <a:stretch/>
        </p:blipFill>
        <p:spPr>
          <a:xfrm>
            <a:off x="1447920" y="1925640"/>
            <a:ext cx="6172200" cy="1811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6629400" cy="168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D834-CF00-4FD8-A066-5BC6D83AA90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lay L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nput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use voltage-controlled delay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419720" cy="11239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6705720" y="1676520"/>
            <a:ext cx="1143000" cy="7617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10" descr=""/>
          <p:cNvPicPr/>
          <p:nvPr/>
        </p:nvPicPr>
        <p:blipFill>
          <a:blip r:embed="rId2"/>
          <a:stretch/>
        </p:blipFill>
        <p:spPr>
          <a:xfrm>
            <a:off x="4800600" y="3276720"/>
            <a:ext cx="3124080" cy="1384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"/>
          <p:cNvPicPr/>
          <p:nvPr/>
        </p:nvPicPr>
        <p:blipFill>
          <a:blip r:embed="rId3"/>
          <a:stretch/>
        </p:blipFill>
        <p:spPr>
          <a:xfrm>
            <a:off x="5181480" y="4648320"/>
            <a:ext cx="2514600" cy="135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Object 13"/>
          <p:cNvGraphicFramePr/>
          <p:nvPr/>
        </p:nvGraphicFramePr>
        <p:xfrm>
          <a:off x="1371600" y="3733920"/>
          <a:ext cx="2209680" cy="1035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8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71600" y="3733920"/>
                    <a:ext cx="220968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60B1-EE61-48C7-8722-D9D7F47E2EE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hase Detec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 phase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use PFD and charge pump, as in P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419720" cy="112392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5"/>
          <p:cNvSpPr/>
          <p:nvPr/>
        </p:nvSpPr>
        <p:spPr>
          <a:xfrm>
            <a:off x="4191120" y="1676520"/>
            <a:ext cx="1981080" cy="83808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10"/>
          <p:cNvGraphicFramePr/>
          <p:nvPr/>
        </p:nvGraphicFramePr>
        <p:xfrm>
          <a:off x="1371600" y="3581280"/>
          <a:ext cx="1676520" cy="10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3581280"/>
                    <a:ext cx="167652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FE65-58AB-4DBA-9AA9-405ED82B269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System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-Locked Loo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-Locked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4BFA-ADA8-4976-B327-52AFDA1E2EC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op Fil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rror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o control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l control is suffic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use a capacitor as the loop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4114800" y="1600200"/>
            <a:ext cx="4419720" cy="11239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6172200" y="1600200"/>
            <a:ext cx="990720" cy="83808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8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2514600" cy="99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Object 9"/>
          <p:cNvGraphicFramePr/>
          <p:nvPr/>
        </p:nvGraphicFramePr>
        <p:xfrm>
          <a:off x="1295280" y="3886200"/>
          <a:ext cx="3048120" cy="11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886200"/>
                    <a:ext cx="304812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1776-A237-436B-9B73-D4582888A8A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LL Loop Dynam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loop transfer function of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first ord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cates time constant (inverse of bandwid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t least 10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ontinuous time appr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7"/>
          <p:cNvGraphicFramePr/>
          <p:nvPr/>
        </p:nvGraphicFramePr>
        <p:xfrm>
          <a:off x="1219320" y="2057400"/>
          <a:ext cx="365760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365760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10"/>
          <p:cNvGraphicFramePr/>
          <p:nvPr/>
        </p:nvGraphicFramePr>
        <p:xfrm>
          <a:off x="1295280" y="3886200"/>
          <a:ext cx="3429000" cy="96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886200"/>
                    <a:ext cx="342900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0B68-E64A-438B-8B2C-DE46A8E6A0C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ock Gener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 input clock and drive to all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 delay introduces large skew relative to input c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it difficult to sample inpu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ng a very fast clock on a PCB is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F280-31AD-4451-A6E6-66FE5CD847F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Zero-Delay Buff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periodic clock is delayed by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t is indistinguishable from the original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feedback system to guarantee this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124080" y="2895480"/>
            <a:ext cx="4572000" cy="3068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688680" y="3368520"/>
            <a:ext cx="232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-Lock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p (P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764640" y="4952880"/>
            <a:ext cx="224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ay-Lock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p (P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8EAA-CFEA-4C0F-8D87-2C053A26DB1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requency Multipl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Ls can multiply the clock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43800" cy="2085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BFE2-538F-4826-A16A-0130D1A59BC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hase and Frequenc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PLLs and DLLs in term of pha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 rather than voltage v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and output clocks m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ate from locked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signa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5"/>
          <p:cNvGraphicFramePr/>
          <p:nvPr/>
        </p:nvGraphicFramePr>
        <p:xfrm>
          <a:off x="1219320" y="2590920"/>
          <a:ext cx="2971800" cy="87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90920"/>
                    <a:ext cx="2971800" cy="87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7"/>
          <p:cNvGraphicFramePr/>
          <p:nvPr/>
        </p:nvGraphicFramePr>
        <p:xfrm>
          <a:off x="1143000" y="3657600"/>
          <a:ext cx="205740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57600"/>
                    <a:ext cx="205740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10" descr=""/>
          <p:cNvPicPr/>
          <p:nvPr/>
        </p:nvPicPr>
        <p:blipFill>
          <a:blip r:embed="rId5"/>
          <a:stretch/>
        </p:blipFill>
        <p:spPr>
          <a:xfrm>
            <a:off x="4724280" y="2057400"/>
            <a:ext cx="2443320" cy="25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Object 11"/>
          <p:cNvGraphicFramePr/>
          <p:nvPr/>
        </p:nvGraphicFramePr>
        <p:xfrm>
          <a:off x="5334120" y="4876920"/>
          <a:ext cx="3124080" cy="911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1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876920"/>
                    <a:ext cx="31240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B5B8-9A62-4242-9E87-CC54CC80AF3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ear System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 PLL/DLL as a linea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deviation DF from locked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small deviations from l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 system as linear for these small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is not valid far from 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during acquisition at star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ime as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L/DLL is really a discrete ti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s once per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bandwidth &lt;&lt; 1/10 clock freq, treat as continu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aplace transforms and standard analysis of linear continuous-time feedback control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342E-2B4B-4349-8EBB-5B39B474379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hase-Locked Loop (PLL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600200" y="4168800"/>
            <a:ext cx="5791320" cy="189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1371600" y="1905120"/>
            <a:ext cx="6629400" cy="1833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3558-C254-4B1F-99E7-E74D09980F5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8" descr=""/>
          <p:cNvPicPr/>
          <p:nvPr/>
        </p:nvPicPr>
        <p:blipFill>
          <a:blip r:embed="rId1"/>
          <a:stretch/>
        </p:blipFill>
        <p:spPr>
          <a:xfrm>
            <a:off x="3809880" y="1523880"/>
            <a:ext cx="4724640" cy="1543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ltage-Controlled Oscilla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4495680" y="3048120"/>
            <a:ext cx="4038840" cy="182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Object 26"/>
          <p:cNvGraphicFramePr/>
          <p:nvPr/>
        </p:nvGraphicFramePr>
        <p:xfrm>
          <a:off x="609480" y="2971800"/>
          <a:ext cx="4038840" cy="28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971800"/>
                    <a:ext cx="403884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29"/>
          <p:cNvSpPr/>
          <p:nvPr/>
        </p:nvSpPr>
        <p:spPr>
          <a:xfrm>
            <a:off x="6781680" y="1523880"/>
            <a:ext cx="1752840" cy="7621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0" descr=""/>
          <p:cNvPicPr/>
          <p:nvPr/>
        </p:nvPicPr>
        <p:blipFill>
          <a:blip r:embed="rId5"/>
          <a:stretch/>
        </p:blipFill>
        <p:spPr>
          <a:xfrm>
            <a:off x="4259160" y="4876920"/>
            <a:ext cx="1760760" cy="1158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dcterms:modified xsi:type="dcterms:W3CDTF">2020-03-04T16:11:11Z</dcterms:modified>
  <cp:revision>2149</cp:revision>
  <dc:subject/>
  <dc:title>PowerPoint Presentation</dc:title>
</cp:coreProperties>
</file>