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0.wmf" ContentType="image/x-wmf"/>
  <Override PartName="/ppt/media/image25.png" ContentType="image/png"/>
  <Override PartName="/ppt/media/image15.wmf" ContentType="image/x-wmf"/>
  <Override PartName="/ppt/media/image7.png" ContentType="image/png"/>
  <Override PartName="/ppt/media/image6.wmf" ContentType="image/x-wmf"/>
  <Override PartName="/ppt/media/image31.wmf" ContentType="image/x-wmf"/>
  <Override PartName="/ppt/media/image11.wmf" ContentType="image/x-wmf"/>
  <Override PartName="/ppt/media/image12.png" ContentType="image/png"/>
  <Override PartName="/ppt/media/image32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6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1760" y="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5040" y="547200"/>
            <a:ext cx="3659040" cy="27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-36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176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082DC93E-8FD2-4591-B2FB-50370B9CD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EE148EFB-4312-42DE-AC59-9058EDE4F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B52A1318-65A1-4F29-AEC7-54E78EFDB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FD04A487-940D-4646-9211-9BBA7F5B1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81DB1061-C59E-4C2B-8443-82920BCF4E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8151A162-3495-44E7-94CC-9D0441FFC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1CEEDADA-F473-418F-AEA0-E85B2FF79D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FD7FB4C5-1FB1-4CB0-9016-1A85E0848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2B16A385-B5E8-4449-BB4E-71A288D46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89B0EF21-17A9-4AB2-A1A1-0276E44CF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C1184BB4-9AA8-4637-AE77-2B54EA5AC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3B3E73C5-6B3F-4D0C-BC1E-DACBD7ED6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BFD30CD4-62BB-440B-BA3F-36E7AE32C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CD265468-16BC-4C39-A1E0-6CE2B2B85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2279DE97-2142-4B0E-8D95-851962F4E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0808CF5D-F72C-4734-8996-AA7EE0713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7BC4D4EB-0DA8-429D-86C5-06CF8C6D34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7A086871-FAE7-4DF8-947F-7FDD9803B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EF1D9780-09C1-40D3-8992-6A47C4435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6DC40168-274C-47B3-8D9C-B93F24952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DA844E50-D67D-4603-912C-B546C08D83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66BC351B-1E36-4579-A7E6-77C952BBF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58F3A-FDEC-4B03-AD8B-627CF4BDB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00D88-22DC-40BD-A6BA-7A20781481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BEB841-A016-40D9-B862-8DBF894171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AA0AA-89CF-44C7-BF13-6F525BB5460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D5389-5E1B-4644-B74A-E8886FA1E6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23654-2294-4242-9015-F9F26EF121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0DF82-58A8-4913-84D7-88AB36AD1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1D688-E629-4BAA-88F1-565ADD864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C9D6A-E3D0-48AB-9EA7-ECA2455AD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615357-F6A4-460D-B06B-2F4E0FB7E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16FD1-9FA6-4239-BA48-9F7124922C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A40A2-E1D2-4622-AF20-D1960176D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DBD3-280F-470C-8AF0-3074B08BF7B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20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Ls and D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2CBA9-3C06-4939-8B03-0AD1D761121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lternative Delay Elemen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414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44A7-FE0C-4C7E-9134-89229DA58CD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3809880" y="1523880"/>
            <a:ext cx="4724640" cy="154332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requency Divid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 clock by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od-N coun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5943600" y="2362320"/>
            <a:ext cx="838080" cy="7617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Object 10"/>
          <p:cNvGraphicFramePr/>
          <p:nvPr/>
        </p:nvGraphicFramePr>
        <p:xfrm>
          <a:off x="1143000" y="2743200"/>
          <a:ext cx="1828800" cy="1697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2743200"/>
                    <a:ext cx="1828800" cy="16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7064A-6624-479E-BF61-8DDD127CC2C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>
            <a:off x="3809880" y="1523880"/>
            <a:ext cx="4724640" cy="15433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hase Detec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 of input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clock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built from phase-frequency detector (PF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4343400" y="1523880"/>
            <a:ext cx="1447920" cy="91440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2"/>
          <a:stretch/>
        </p:blipFill>
        <p:spPr>
          <a:xfrm>
            <a:off x="990720" y="3886200"/>
            <a:ext cx="1828800" cy="16113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"/>
          <p:cNvPicPr/>
          <p:nvPr/>
        </p:nvPicPr>
        <p:blipFill>
          <a:blip r:embed="rId3"/>
          <a:stretch/>
        </p:blipFill>
        <p:spPr>
          <a:xfrm>
            <a:off x="2971800" y="3962520"/>
            <a:ext cx="1828800" cy="1628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4"/>
          <a:stretch/>
        </p:blipFill>
        <p:spPr>
          <a:xfrm>
            <a:off x="5486400" y="4114800"/>
            <a:ext cx="1925640" cy="1228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E4DC-18CC-4842-A1DA-E9BA43F4F6F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hase Detec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vert up and down pulses into current proportional to phase error using a charge pu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6"/>
          <p:cNvGraphicFramePr/>
          <p:nvPr/>
        </p:nvGraphicFramePr>
        <p:xfrm>
          <a:off x="1143000" y="2819520"/>
          <a:ext cx="2666880" cy="103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819520"/>
                    <a:ext cx="2666880" cy="103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0" name="Picture 8" descr=""/>
          <p:cNvPicPr/>
          <p:nvPr/>
        </p:nvPicPr>
        <p:blipFill>
          <a:blip r:embed="rId3"/>
          <a:stretch/>
        </p:blipFill>
        <p:spPr>
          <a:xfrm>
            <a:off x="5638680" y="2971800"/>
            <a:ext cx="2481480" cy="2139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5489F-CF99-4061-BB09-B31AC83A5FD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"/>
          <p:cNvPicPr/>
          <p:nvPr/>
        </p:nvPicPr>
        <p:blipFill>
          <a:blip r:embed="rId1"/>
          <a:stretch/>
        </p:blipFill>
        <p:spPr>
          <a:xfrm>
            <a:off x="3809880" y="1523880"/>
            <a:ext cx="4724640" cy="154332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op Fil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charge pum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n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t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roportional-integral control (PI) to generate a control signal dependent on the error and its integ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s error to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5943600" y="1523880"/>
            <a:ext cx="1066680" cy="7621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9" descr=""/>
          <p:cNvPicPr/>
          <p:nvPr/>
        </p:nvPicPr>
        <p:blipFill>
          <a:blip r:embed="rId2"/>
          <a:stretch/>
        </p:blipFill>
        <p:spPr>
          <a:xfrm>
            <a:off x="4800600" y="4343400"/>
            <a:ext cx="2438280" cy="127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Object 10"/>
          <p:cNvGraphicFramePr/>
          <p:nvPr/>
        </p:nvGraphicFramePr>
        <p:xfrm>
          <a:off x="1371600" y="4724280"/>
          <a:ext cx="2362320" cy="104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4724280"/>
                    <a:ext cx="2362320" cy="10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Text Box 12"/>
          <p:cNvSpPr/>
          <p:nvPr/>
        </p:nvSpPr>
        <p:spPr>
          <a:xfrm>
            <a:off x="6627600" y="502920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egligib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1840-A362-4B2E-83A2-D14083901A4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L Loop Dynam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loop transfer function of P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second ord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cates loop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ζ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cates damping; choose 0.7 – 1 to avoid ri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6"/>
          <p:cNvGraphicFramePr/>
          <p:nvPr/>
        </p:nvGraphicFramePr>
        <p:xfrm>
          <a:off x="1219320" y="1981080"/>
          <a:ext cx="4343400" cy="12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981080"/>
                    <a:ext cx="4343400" cy="12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8"/>
          <p:cNvGraphicFramePr/>
          <p:nvPr/>
        </p:nvGraphicFramePr>
        <p:xfrm>
          <a:off x="1219320" y="3733920"/>
          <a:ext cx="4190760" cy="13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3733920"/>
                    <a:ext cx="419076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F012-C58F-4EAF-A503-38EFC3555C9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lay Locked Lo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s input clock rather than creating a new clock with an oscil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perform frequency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stable and easier to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der rather tha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variable is now time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ks when loop delay is exactly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ation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from locked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00CAC-CFEF-4F43-9516-9B66E8FD26A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lay-Locked Loop (DLL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1"/>
          <a:stretch/>
        </p:blipFill>
        <p:spPr>
          <a:xfrm>
            <a:off x="1447920" y="1925640"/>
            <a:ext cx="6172200" cy="18111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6629400" cy="1685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CB87-3F59-4C12-B34E-7336FA3DA4C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lay Lin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nput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use voltage-controlled delay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9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419720" cy="11239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5"/>
          <p:cNvSpPr/>
          <p:nvPr/>
        </p:nvSpPr>
        <p:spPr>
          <a:xfrm>
            <a:off x="6705720" y="1676520"/>
            <a:ext cx="1143000" cy="7617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10" descr=""/>
          <p:cNvPicPr/>
          <p:nvPr/>
        </p:nvPicPr>
        <p:blipFill>
          <a:blip r:embed="rId2"/>
          <a:stretch/>
        </p:blipFill>
        <p:spPr>
          <a:xfrm>
            <a:off x="4800600" y="3276720"/>
            <a:ext cx="3124080" cy="13842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"/>
          <p:cNvPicPr/>
          <p:nvPr/>
        </p:nvPicPr>
        <p:blipFill>
          <a:blip r:embed="rId3"/>
          <a:stretch/>
        </p:blipFill>
        <p:spPr>
          <a:xfrm>
            <a:off x="5181480" y="4648320"/>
            <a:ext cx="2514600" cy="135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Object 13"/>
          <p:cNvGraphicFramePr/>
          <p:nvPr/>
        </p:nvGraphicFramePr>
        <p:xfrm>
          <a:off x="1371600" y="3733920"/>
          <a:ext cx="2209680" cy="1035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8" name="Object 1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71600" y="3733920"/>
                    <a:ext cx="220968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FCD5-8281-4B75-BC0A-CD2B67A0818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hase Detec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 phase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use PFD and charge pump, as in P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114800" y="1676520"/>
            <a:ext cx="4419720" cy="1123920"/>
          </a:xfrm>
          <a:prstGeom prst="rect">
            <a:avLst/>
          </a:prstGeom>
          <a:ln w="0">
            <a:noFill/>
          </a:ln>
        </p:spPr>
      </p:pic>
      <p:sp>
        <p:nvSpPr>
          <p:cNvPr id="184" name="Rectangle 5"/>
          <p:cNvSpPr/>
          <p:nvPr/>
        </p:nvSpPr>
        <p:spPr>
          <a:xfrm>
            <a:off x="4191120" y="1676520"/>
            <a:ext cx="1981080" cy="83808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10"/>
          <p:cNvGraphicFramePr/>
          <p:nvPr/>
        </p:nvGraphicFramePr>
        <p:xfrm>
          <a:off x="1371600" y="3581280"/>
          <a:ext cx="1676520" cy="101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6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3581280"/>
                    <a:ext cx="1676520" cy="101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2798-B254-40A3-B9CA-BA7464F425E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System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ase-Locked Loop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-Locked Lo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EDE0-8A85-49D1-9849-F771102E590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op Fil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rror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o control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l control is suffic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use a capacitor as the loop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4114800" y="1600200"/>
            <a:ext cx="4419720" cy="11239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5"/>
          <p:cNvSpPr/>
          <p:nvPr/>
        </p:nvSpPr>
        <p:spPr>
          <a:xfrm>
            <a:off x="6172200" y="1600200"/>
            <a:ext cx="990720" cy="83808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8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2514600" cy="998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Object 9"/>
          <p:cNvGraphicFramePr/>
          <p:nvPr/>
        </p:nvGraphicFramePr>
        <p:xfrm>
          <a:off x="1295280" y="3886200"/>
          <a:ext cx="3048120" cy="111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886200"/>
                    <a:ext cx="304812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1BCC-418E-4887-A939-39C58A4FF7D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LL Loop Dynamic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loop transfer function of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first ord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icates time constant (inverse of bandwid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t least 10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continuous time appr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7"/>
          <p:cNvGraphicFramePr/>
          <p:nvPr/>
        </p:nvGraphicFramePr>
        <p:xfrm>
          <a:off x="1219320" y="2057400"/>
          <a:ext cx="3657600" cy="110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3657600" cy="110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10"/>
          <p:cNvGraphicFramePr/>
          <p:nvPr/>
        </p:nvGraphicFramePr>
        <p:xfrm>
          <a:off x="1295280" y="3886200"/>
          <a:ext cx="3429000" cy="96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886200"/>
                    <a:ext cx="342900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DEC8-4053-4974-9D60-F292A3B7FB6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ock Gener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frequen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 input clock and drive to all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 delay introduces large skew relative to input c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it difficult to sample inpu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ing a very fast clock on a PCB is h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ED76-EA86-4422-A81D-55EDD1F807C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Zero-Delay Buff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periodic clock is delayed by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t is indistinguishable from the original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feedback system to guarantee this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3124080" y="2895480"/>
            <a:ext cx="4572000" cy="30686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688680" y="3368520"/>
            <a:ext cx="232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ase-Lock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p (P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764640" y="4952880"/>
            <a:ext cx="224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lay-Lock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op (P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AAEE-8D57-432D-B156-EEEFE47686C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requency Multipl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Ls can multiply the clock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43800" cy="2085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1F0DA-AC31-4F6F-AB52-23C02EEED06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hase and Frequenc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PLLs and DLLs in term of phas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 rather than voltage v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 and output clocks m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iate from locked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signal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Object 5"/>
          <p:cNvGraphicFramePr/>
          <p:nvPr/>
        </p:nvGraphicFramePr>
        <p:xfrm>
          <a:off x="1219320" y="2590920"/>
          <a:ext cx="2971800" cy="87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90920"/>
                    <a:ext cx="2971800" cy="87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Object 7"/>
          <p:cNvGraphicFramePr/>
          <p:nvPr/>
        </p:nvGraphicFramePr>
        <p:xfrm>
          <a:off x="1143000" y="3657600"/>
          <a:ext cx="205740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57600"/>
                    <a:ext cx="205740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Picture 10" descr=""/>
          <p:cNvPicPr/>
          <p:nvPr/>
        </p:nvPicPr>
        <p:blipFill>
          <a:blip r:embed="rId5"/>
          <a:stretch/>
        </p:blipFill>
        <p:spPr>
          <a:xfrm>
            <a:off x="4724280" y="2057400"/>
            <a:ext cx="2443320" cy="2514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Object 11"/>
          <p:cNvGraphicFramePr/>
          <p:nvPr/>
        </p:nvGraphicFramePr>
        <p:xfrm>
          <a:off x="5334120" y="4876920"/>
          <a:ext cx="3124080" cy="911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1" name="Object 11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876920"/>
                    <a:ext cx="31240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3FFD3-D4AD-4CF3-B2B1-619F2C9A0B4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near System Mod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 PLL/DLL as a linea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 deviation DF from locked 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small deviations from lock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 system as linear for these small 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is not valid far from 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 during acquisition at star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inuous time assu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L/DLL is really a discrete tim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s once per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the bandwidth &lt;&lt; 1/10 clock freq, treat as continu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Laplace transforms and standard analysis of linear continuous-time feedback control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48C5-88BE-43E7-B0A2-3954F710AF6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hase-Locked Loop (PLL)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ea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600200" y="4168800"/>
            <a:ext cx="5791320" cy="18907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1371600" y="1905120"/>
            <a:ext cx="6629400" cy="1833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2: PLLs and D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A3D1-898E-40C8-8EA2-6CAA6BDD5E5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28" descr=""/>
          <p:cNvPicPr/>
          <p:nvPr/>
        </p:nvPicPr>
        <p:blipFill>
          <a:blip r:embed="rId1"/>
          <a:stretch/>
        </p:blipFill>
        <p:spPr>
          <a:xfrm>
            <a:off x="3809880" y="1523880"/>
            <a:ext cx="4724640" cy="1543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oltage-Controlled Oscilla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2"/>
          <a:stretch/>
        </p:blipFill>
        <p:spPr>
          <a:xfrm>
            <a:off x="4495680" y="3048120"/>
            <a:ext cx="4038840" cy="182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Object 26"/>
          <p:cNvGraphicFramePr/>
          <p:nvPr/>
        </p:nvGraphicFramePr>
        <p:xfrm>
          <a:off x="609480" y="2971800"/>
          <a:ext cx="4038840" cy="286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2971800"/>
                    <a:ext cx="403884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Rectangle 29"/>
          <p:cNvSpPr/>
          <p:nvPr/>
        </p:nvSpPr>
        <p:spPr>
          <a:xfrm>
            <a:off x="6781680" y="1523880"/>
            <a:ext cx="1752840" cy="7621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30" descr=""/>
          <p:cNvPicPr/>
          <p:nvPr/>
        </p:nvPicPr>
        <p:blipFill>
          <a:blip r:embed="rId5"/>
          <a:stretch/>
        </p:blipFill>
        <p:spPr>
          <a:xfrm>
            <a:off x="4259160" y="4876920"/>
            <a:ext cx="1760760" cy="1158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dcterms:modified xsi:type="dcterms:W3CDTF">2020-03-04T16:11:11Z</dcterms:modified>
  <cp:revision>2149</cp:revision>
  <dc:subject/>
  <dc:title>PowerPoint Presentation</dc:title>
</cp:coreProperties>
</file>