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248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06800" cy="343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239800" y="-360"/>
            <a:ext cx="4007160" cy="343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11320" y="512280"/>
            <a:ext cx="3430800" cy="25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515280"/>
            <a:ext cx="4006800" cy="342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23980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12D1A00-0648-41F6-B4C6-BFD06D79E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993921A-06E8-4788-A01B-19A2C11F6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222CA47-4B2E-4F75-A075-71FAF833C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2FE3B1F-87DA-4E67-BBF8-0034EAECA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C374C2F-D758-475F-A801-C4693E8C3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2BF1854-B4B5-44B0-AF9C-C2F857628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BB2ACBD-A66A-4BC8-A47F-62987F142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8E4FB5A-8F56-4674-937C-B746970A2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E5091DD-B6F2-4B4C-89C0-8CB14679F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908A077-91E5-4EE4-839F-A663B5336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35E033E-FB02-4376-8B3C-F4281CEF1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E0EEF09-F747-4E89-895A-E0962A196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7382F67-75BA-423A-A2E3-FE9D9EA7E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3D0DBCA-2DEC-4107-B618-759D2316D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41E239A-D089-48C9-A4E0-631BD273A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FDB777D-16D2-4C9A-AE11-595E5D980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913120" y="512640"/>
            <a:ext cx="3430440" cy="2573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A5CEACB-D6C9-4988-B110-9A0F410E0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913120" y="512640"/>
            <a:ext cx="3430440" cy="25736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9AFA233-A31C-4239-AA3D-30B77FFE9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913120" y="512640"/>
            <a:ext cx="3430440" cy="25736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C1C5667-5542-48E8-9D99-D37047E7E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913120" y="512640"/>
            <a:ext cx="3430440" cy="2573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B40373C-ACFF-4EDA-9CA5-1661BB78F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913120" y="512640"/>
            <a:ext cx="3430440" cy="25736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B16CECE-DC0F-4963-B87D-FFC082238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913120" y="512640"/>
            <a:ext cx="3430440" cy="2573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698E9AE-FDF0-4A8E-A785-2860DE66C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913120" y="512640"/>
            <a:ext cx="3430440" cy="2573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A7CA79D-A00F-4501-9E3B-7BF3A2F31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913120" y="512640"/>
            <a:ext cx="3430440" cy="2573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E7CF862-0B34-4716-8709-2B0676AEC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1B2580F-135C-4721-8DEB-67EB65289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913120" y="512640"/>
            <a:ext cx="3430440" cy="25736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B36684B-23AD-433B-A17A-B942B5148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913120" y="512640"/>
            <a:ext cx="3430440" cy="2573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9B76A98-EED2-48D4-ACBF-C2AA92B74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2E955FC-1BEE-4934-9822-A65601533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1E55CE1-E39F-4715-BF23-D66EF7C8E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AE9C375-7B0E-4CF2-89E0-10D6C733B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6665629-0DBB-4F75-A1E4-EF57BE801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4AF78FC-2D71-4C49-9E76-B19FCA728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639A7-9F78-4127-9419-3B046BCB3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82017-253F-4838-A857-103AC7F77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9F04E-E577-455E-B0A1-ABB6D03E1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908D-4128-4259-B7A4-E20E001971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9DB7B-DEDC-4F2C-9E8E-E33A37FE01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8741C-59A6-4774-A15D-55AB9FE1F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BC708-703A-4DD1-A0D7-C85C9840D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A97B-0C39-4656-9940-BC9C70D49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B3AA5-9D92-4E27-BA9B-62541FA81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85736-6700-498C-9AF7-39AF643BF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1721-5E1E-4691-B991-C191E7EB8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3ACF9-D29F-4925-8CF5-F68CF3825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22BD-C5C8-4A4C-9413-1477B3AB121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ing, Power, &amp; Cloc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6E31-C2BA-46D5-A6EF-BB100D13BF4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hip has a heat sink with a thermal resistance to the package of 4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istance from chip to package i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box ambient temperature may reach 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temperature must not exceed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aximum chip power dissip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0-55 C) / (4 + 1 C/W) = 9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143000" y="4495680"/>
            <a:ext cx="4419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B258-C132-44F9-8EE3-91576D5D60A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mperature Sen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die temperature and throttle performance if it gets too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pair of pnp 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np available in C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ifference is proportional to absolute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with on-chip A/D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629400" y="2362320"/>
            <a:ext cx="1593720" cy="122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2"/>
          <a:stretch/>
        </p:blipFill>
        <p:spPr>
          <a:xfrm>
            <a:off x="6477120" y="3886200"/>
            <a:ext cx="2060280" cy="96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Object 9"/>
          <p:cNvGraphicFramePr/>
          <p:nvPr/>
        </p:nvGraphicFramePr>
        <p:xfrm>
          <a:off x="914400" y="3429000"/>
          <a:ext cx="548640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54864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915F-DDE4-4522-B624-5DC02AC39C1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 Network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current from pads to transistors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table voltage with low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verage and peak power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urrent return paths for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electromigration &amp; self-heating wear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 little chip area and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la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A69D-B38F-41AB-B9BC-4DBBC9352D0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Requir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nom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+/- 10%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d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di/dt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on many time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2438280" y="4114800"/>
          <a:ext cx="3873600" cy="19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87360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E7AB-6C31-482F-A272-CC2F4DEC62D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R Dr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ip draws 24 W from a 1.2 V supply.  The power supply impedance is 5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What is the IR dr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4 W / 1.2 V = 2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drop = (20 A)(5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00 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219320" y="2362320"/>
            <a:ext cx="4419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219320" y="2819520"/>
            <a:ext cx="4647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914C-231D-44CA-8596-950A1ACF66B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 di/dt Noi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.2 V chip switches from an idle mode consuming 5W to a full-power mode consuming 53 W.  The transition takes 10 clock cycles at 1 GHz.  The supply inductance is 0.1 nH. What is the L di/dt dro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(53 W – 5 W)/(1.2 V) = 4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10 cycles * (1 ns / cycle) = 10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di/dt droop = (0.1 nH) * (40 A / 10 ns) = 0.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219320" y="342900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219320" y="396252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219320" y="426708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A5B0-F6F1-47D1-B42F-A0B7C02FE7A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ypass Capaci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low supply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capacitors have impedance decreasing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capacitors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resonant frequency of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828800" y="3429000"/>
          <a:ext cx="525780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429000"/>
                    <a:ext cx="525780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80D4-B324-43AD-B010-E74218F42E4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ystem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comes from regulator on system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nd package add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pass capacitors help stabilize supply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pacitors also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system for time and frequency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762120" y="3772080"/>
          <a:ext cx="761976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72080"/>
                    <a:ext cx="761976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C384-4243-47EB-AC28-5412ED3E587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requency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apacitors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capacitor near regulator has low impedance at low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has a low self-resonant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apacitors near chip and on chip have low impedance at high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aps to get low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2362320" y="4419720"/>
          <a:ext cx="4038480" cy="16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419720"/>
                    <a:ext cx="4038480" cy="16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5B8A-A23B-46E1-8DAE-1D96722AC80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Pentium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impedance for Pentium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ke near 100 MHz caused by package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response to sudden supply curren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on-chip bypass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packag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boar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90720" y="4132440"/>
            <a:ext cx="3124080" cy="1935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572000" y="4191120"/>
            <a:ext cx="3124080" cy="1753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3336840" y="582444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Xu0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933960" y="579132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Wong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4404-A240-4DFD-87C2-9C52A0DE73A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0539-B0B4-4D15-A70F-E27FD597149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ge Pum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a different supply voltage is needed but little current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V for Flash memory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ody bias for leakage control during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the voltage on-chip with a charge 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3657600" cy="1081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2057400" cy="865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1738-ED61-4F6F-B107-5E7DCB41884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Scaveng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ra-low power systems can scavenge their energy from the environment rather than needing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calculator (solar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ID tags (anten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 pressure monitors powered by vibrational energy of tires (piezoelectric gener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 film microbatteries deposited on the chip can store energy for times of peak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8E64-7C19-4B8A-91AD-BCF85CF25A9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small chip, the clock distribution network is just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ossibly an inverter for cl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ractical chips, the RC delay of the wire resistance and gate load is very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in this delay cause clock to get to different elements at different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hips use repeaters to buffer the clock and equalize th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but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eliminat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73E5-5439-448E-A6A4-A4B71FFD429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comes from differences in gate and wi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right buffer sizing,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ld ideally arrive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wer supply noise changes buff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always see RC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990720" y="3886200"/>
          <a:ext cx="6705360" cy="18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86200"/>
                    <a:ext cx="670536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E5CA-463F-4DD8-A36F-E9C8C59CF46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: Skew Impa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2" name="Object 3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4"/>
          <p:cNvGraphicFramePr/>
          <p:nvPr/>
        </p:nvGraphicFramePr>
        <p:xfrm>
          <a:off x="1020600" y="3987720"/>
          <a:ext cx="2681280" cy="12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0600" y="3987720"/>
                    <a:ext cx="268128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 full cycl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fo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adds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hold time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EBAC-3B2F-47F6-968C-42E350DCBFA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clock distribution network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nty of metal wiring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budget actual, not worst case sk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vs. global skew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erat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ircuit structures insensitive to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62C4-42D5-48BC-954F-42A282D710C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.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BC31-A911-4069-96CD-0C62E71B64C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rid on two or more levels to carry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wires wide to reduc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low skew between nearb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ssibly large skew acros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57E1-39D1-4758-8445-4CF5FFA6E1E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lpha 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2" name="Object 3"/>
          <p:cNvGraphicFramePr/>
          <p:nvPr/>
        </p:nvGraphicFramePr>
        <p:xfrm>
          <a:off x="1778040" y="1523880"/>
          <a:ext cx="55879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523880"/>
                    <a:ext cx="5587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AA2A-B14D-4551-8F4F-5B71EDC0A28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-Tre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s clock arbitrarily close to any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d delay along all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variations caus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B might see big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4"/>
          <p:cNvGraphicFramePr/>
          <p:nvPr/>
        </p:nvGraphicFramePr>
        <p:xfrm>
          <a:off x="5410080" y="2971800"/>
          <a:ext cx="281952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971800"/>
                    <a:ext cx="28195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CA84-3728-444E-BF8B-8BB1EA3136D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connection of signals and power from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delay or dist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connection of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heat produced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chip from mechanic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le with thermal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 to manufacture an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CB2B-A77A-412F-9C1A-23C035B992B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anium 2 H-Tre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levels of buff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-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3429000" y="2362320"/>
          <a:ext cx="5227560" cy="33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362320"/>
                    <a:ext cx="5227560" cy="33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A154-6D9F-4BC5-BD78-BEC23E74839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ybrid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-tree to distribute clock to man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 these points together with a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BM Power4, Powe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 drives 16-64 sector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s drive total of 1024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oints shorted together with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7CB9-1F24-4EEB-B022-684505A7630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e vs. surface 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12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133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0037-6323-4F3F-9FA4-CB6657549E8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ip-to-Package Bon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, chip is surround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pads on 100 – 2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nd wi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ach pads to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 fr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es signals i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t spr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with c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3200400" cy="232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6554-4C63-4AA9-B4FF-56719761DBB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wires contribute parasitic indu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cy packages have many signal, power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tiny printed circuit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ip-c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ces connections across surface of die rather than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level metal pads covered with solder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 flips upside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aligned to package (done blin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ed to melt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rolled Collapse Chip Conn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FF68-F2FB-427F-B06B-609A34ADB63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Parasi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685800" y="2514600"/>
          <a:ext cx="777240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77240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Rectangle 4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uctance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ACAD-ABD8-49CC-B0F4-C4866EA583E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eat Dissip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W light bulb has surface area of 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nium 2 die dissipates 130 W over 4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have enormous power d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ing is a serious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spreads heat to larg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sinks may increase surface area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s increase airflow rate ov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quid cooling used in extreme cases ($$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4366-6224-48EA-B2B5-4ECA2CCC14F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rmal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temperature rise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rmal resistance of chip junction to amb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power dissipation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resistances combine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and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dcterms:modified xsi:type="dcterms:W3CDTF">2020-03-04T16:11:19Z</dcterms:modified>
  <cp:revision>2104</cp:revision>
  <dc:subject/>
  <dc:title>PowerPoint Presentation</dc:title>
</cp:coreProperties>
</file>