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248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06800" cy="343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239800" y="-360"/>
            <a:ext cx="4007160" cy="343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11320" y="512280"/>
            <a:ext cx="3430800" cy="25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515280"/>
            <a:ext cx="4006800" cy="342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23980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5E87287-BA18-4BED-997C-12A9769B4C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30B6ABA6-56DA-4059-9D9F-484588C2F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1C1044B-77D2-416E-9A9D-DC532008C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3DAFE37-B079-48AF-8591-472E6FA10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0979782-9C2C-4318-82C4-298E8BB2E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CB6B20B-BAF1-4835-9653-E76449B81C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D3CDAA0-3C8E-4719-8BA2-28E405BBA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984E714E-A364-442D-BB91-43D44A9478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61670AC-C96B-4580-861B-39CF86D20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7D9399A-F6BD-4CA3-B516-7B0F2600DA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E15D1EE-B5EA-41B8-99FC-5619113E4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494DC82F-95CC-4911-9B78-916A929B5C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DA08855-8200-4A4F-A537-26D9256A3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F2BB418-8194-4135-B119-AC7BDA9330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62C18F6-77B2-4EEA-86EB-97D098902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190E4671-ED57-41B6-A992-DE39ADBF48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913120" y="512640"/>
            <a:ext cx="3430440" cy="25736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3D8CC54-DFA5-4CA6-B77B-70BB29192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913120" y="512640"/>
            <a:ext cx="3430440" cy="25736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E8AC8BF1-BC02-4A48-A27D-692F1EEDA5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913120" y="512640"/>
            <a:ext cx="3430440" cy="25736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47B05A5-8C80-41F1-8C51-48C335899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913120" y="512640"/>
            <a:ext cx="3430440" cy="25736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58B175F2-4E3F-40DF-9686-9151BE65A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913120" y="512640"/>
            <a:ext cx="3430440" cy="25736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00570E4C-FDD8-488B-89C4-177E68230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913120" y="512640"/>
            <a:ext cx="3430440" cy="25736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2713433-2B6C-4987-9768-CE9957D2E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913120" y="512640"/>
            <a:ext cx="3430440" cy="25736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0C6F097-B43B-4CC6-93A9-D8C56CCB72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913120" y="512640"/>
            <a:ext cx="3430440" cy="25736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FF3C44C6-4866-4A39-8EFF-6492E3019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F498288-2BFA-44D0-86AC-A9773F9C8B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913120" y="512640"/>
            <a:ext cx="3430440" cy="25736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7033B93-D7A4-49D7-B4CB-B2F4CA0144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913120" y="512640"/>
            <a:ext cx="3430440" cy="2573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C19495A-812E-4625-97B7-4A3D0D2A29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D0039C4B-3D8D-4848-B486-5B52B41670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71E98A8A-94D7-4429-9FC4-1B766BA93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AD92132F-D044-4E50-B7B3-354FBCF1E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2AB23B88-EDBD-429E-B49D-0CFF411CD3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B7FDF00C-3E2B-4042-B39E-F7A278CE62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08D16-DCB0-41D2-AC0B-808194E28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04499-3C14-4249-9C34-BDB8D99807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EDDB5-738E-4EA6-B7A7-FECDCC5B2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4A1CE-ADCC-4D77-8DDF-A2F3512249F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437C5-2D12-4BE3-88C0-7C6E53F319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C6E0C-2B49-49D7-ABA9-89898C4FF2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D05A9-C303-4361-9370-9697AD2103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C545F-1952-4D15-A0D5-1FE7D06831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D2023-C812-4183-963C-A621A2FBF2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F5D56-3C14-476D-9B7D-7A17BDD6F6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23A43-BCF6-4C76-85FD-86F8CFC7A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B1040-7974-4DD9-86BB-A18AE58A39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7FD1-6ED5-49FD-A47E-7C9CF2D4A44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9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ing, Power, &amp; Cloc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5570-4306-4ECB-A3F7-BAF0F3CACF0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chip has a heat sink with a thermal resistance to the package of 4.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istance from chip to package is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/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ystem box ambient temperature may reach 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temperature must not exceed 1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aximum chip power dissip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00-55 C) / (4 + 1 C/W) = 9 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143000" y="4495680"/>
            <a:ext cx="44197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4297-3E69-42D2-A27C-E1690E13FDA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mperature Sens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 die temperature and throttle performance if it gets too 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pair of pnp 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np available in C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difference is proportional to absolute te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with on-chip A/D co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629400" y="2362320"/>
            <a:ext cx="1593720" cy="1228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2"/>
          <a:stretch/>
        </p:blipFill>
        <p:spPr>
          <a:xfrm>
            <a:off x="6477120" y="3886200"/>
            <a:ext cx="2060280" cy="963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Object 9"/>
          <p:cNvGraphicFramePr/>
          <p:nvPr/>
        </p:nvGraphicFramePr>
        <p:xfrm>
          <a:off x="914400" y="3429000"/>
          <a:ext cx="5486400" cy="134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5486400" cy="134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2053-679A-4F61-8FFA-B028541CD31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 Network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current from pads to transistors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table voltage with low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verage and peak power dem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urrent return paths for 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electromigration &amp; self-heating wear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ume little chip area and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y to lay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8DAE-1908-49B2-A347-E66CF6A46DD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Requir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nomi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+/- 10%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r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dr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di/dt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es on many time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2438280" y="4114800"/>
          <a:ext cx="3873600" cy="19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4114800"/>
                    <a:ext cx="3873600" cy="19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1675-EE92-4CF7-9AA9-D81E0917D35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R Dr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ip draws 24 W from a 1.2 V supply.  The power supply impedance is 5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What is the IR dr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4 W / 1.2 V = 2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 drop = (20 A)(5 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100 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1219320" y="2362320"/>
            <a:ext cx="44193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219320" y="2819520"/>
            <a:ext cx="4647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CCEF-DBE7-4B16-9857-344024E4B67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 di/dt Noi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1.2 V chip switches from an idle mode consuming 5W to a full-power mode consuming 53 W.  The transition takes 10 clock cycles at 1 GHz.  The supply inductance is 0.1 nH. What is the L di/dt droo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(53 W – 5 W)/(1.2 V) = 40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10 cycles * (1 ns / cycle) = 10 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di/dt droop = (0.1 nH) * (40 A / 10 ns) = 0.4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219320" y="342900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1219320" y="396252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1219320" y="4267080"/>
            <a:ext cx="6629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99802-F081-4050-8885-B95BADD4CE8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ypass Capaci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low supply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capacitors have impedance decreasing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capacitors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resonant frequency of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Object 4"/>
          <p:cNvGraphicFramePr/>
          <p:nvPr/>
        </p:nvGraphicFramePr>
        <p:xfrm>
          <a:off x="1828800" y="3429000"/>
          <a:ext cx="5257800" cy="247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429000"/>
                    <a:ext cx="5257800" cy="24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E8B85-69F9-4EB0-87E1-F7D23E57E9F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ystem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comes from regulator on system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ard and package add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pass capacitors help stabilize supply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capacitors also have parasitic R and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 system for time and frequency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762120" y="3772080"/>
          <a:ext cx="761976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72080"/>
                    <a:ext cx="761976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09FF-3381-45A6-9765-15B7DB5C191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requency Respon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capacitors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capacitor near regulator has low impedance at low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so has a low self-resonant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apacitors near chip and on chip have low impedance at high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aps to get low impedance at all frequ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2362320" y="4419720"/>
          <a:ext cx="4038480" cy="16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4419720"/>
                    <a:ext cx="4038480" cy="16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DA1F-0DC7-4836-9356-38BD372D79D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Pentium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impedance for Pentium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ke near 100 MHz caused by package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response to sudden supply current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on-chip bypass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packag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op: board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990720" y="4132440"/>
            <a:ext cx="3124080" cy="1935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4572000" y="4191120"/>
            <a:ext cx="3124080" cy="175392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3336840" y="582444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Xu0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6933960" y="579132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Wong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1683-0510-42DD-BE3F-237189B6CE1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237F9-126B-40FA-83E0-8721B5327FC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ge Pump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a different supply voltage is needed but little current is requ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V for Flash memory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ody bias for leakage control during sle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the voltage on-chip with a charge pu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219320" y="4038480"/>
            <a:ext cx="3657600" cy="1081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2057400" cy="865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945BB-3524-44F8-937D-CD052C07459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Scaveng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ra-low power systems can scavenge their energy from the environment rather than needing batt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 calculator (solar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FID tags (anten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 pressure monitors powered by vibrational energy of tires (piezoelectric generat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 film microbatteries deposited on the chip can store energy for times of peak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20DBE-4A56-45B9-9788-4CFA99EBF26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rib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small chip, the clock distribution network is just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ossibly an inverter for clk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practical chips, the RC delay of the wire resistance and gate load is very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in this delay cause clock to get to different elements at different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hips use repeaters to buffer the clock and equalize th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but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eliminat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D7572-716F-46DA-9D5D-081F2DF5A3F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comes from differences in gate and wir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right buffer sizing,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ld ideally arrive at the sa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wer supply noise changes buff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clk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always see RC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990720" y="3886200"/>
          <a:ext cx="6705360" cy="184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86200"/>
                    <a:ext cx="6705360" cy="18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9B6F-6D50-42DB-8472-1D8458EA09F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: Skew Impa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2" name="Object 3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Object 4"/>
          <p:cNvGraphicFramePr/>
          <p:nvPr/>
        </p:nvGraphicFramePr>
        <p:xfrm>
          <a:off x="1020600" y="3987720"/>
          <a:ext cx="2681280" cy="1287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20600" y="3987720"/>
                    <a:ext cx="2681280" cy="128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ly full cycle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ailable for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 adds 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hold time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6796-F04A-44A9-8D64-DC2C0496C19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 clock distribution network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enty of metal wiring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budget actual, not worst case sk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vs. global skew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lerat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circuit structures insensitive to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7592-F42B-462A-A37D-A53116E7716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Dist.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d h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b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0AD6-5FF7-4687-974B-53D12C5E640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grid on two or more levels to carry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wires wide to reduce R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s low skew between nearb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ossibly large skew across d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FC82-4D1B-4411-AA52-580AFEE83D9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lpha Clock Gri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2" name="Object 3"/>
          <p:cNvGraphicFramePr/>
          <p:nvPr/>
        </p:nvGraphicFramePr>
        <p:xfrm>
          <a:off x="1778040" y="1523880"/>
          <a:ext cx="55879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8040" y="1523880"/>
                    <a:ext cx="55879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D6E3-00FF-486E-B837-E5CC9625582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-Tre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al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s clock arbitrarily close to any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ed delay along all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variations cause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B might see big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4"/>
          <p:cNvGraphicFramePr/>
          <p:nvPr/>
        </p:nvGraphicFramePr>
        <p:xfrm>
          <a:off x="5410080" y="2971800"/>
          <a:ext cx="281952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2971800"/>
                    <a:ext cx="281952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ABFB-D258-4A02-A74B-84029A3A334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connection of signals and power from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tle delay or distor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cal connection of chip to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s heat produced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s chip from mechanical dam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le with thermal expa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 to manufacture and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7302-16F8-4AC0-AFB2-B86720AE98D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anium 2 H-Tre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levels of buffe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-lev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te a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Object 4"/>
          <p:cNvGraphicFramePr/>
          <p:nvPr/>
        </p:nvGraphicFramePr>
        <p:xfrm>
          <a:off x="3429000" y="2362320"/>
          <a:ext cx="5227560" cy="339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362320"/>
                    <a:ext cx="5227560" cy="339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8CA8-293A-48D0-8384-D98207BB706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ybrid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-tree to distribute clock to many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 these points together with a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BM Power4, Power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-tree drives 16-64 sector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s drive total of 1024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oints shorted together with gr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4D24A-6968-4537-BF82-4648AF98354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-hole vs. surface 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12"/>
          <p:cNvPicPr/>
          <p:nvPr/>
        </p:nvPicPr>
        <p:blipFill>
          <a:blip r:embed="rId1"/>
          <a:stretch/>
        </p:blipFill>
        <p:spPr>
          <a:xfrm>
            <a:off x="762120" y="2286000"/>
            <a:ext cx="7619760" cy="3133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7DF7-F3D0-4564-BA8F-68EDD31086C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ip-to-Package Bon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, chip is surround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d fr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pads on 100 – 20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nd wi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ach pads to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 fr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stributes signals in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eat sprea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with c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"/>
          <p:cNvPicPr/>
          <p:nvPr/>
        </p:nvPicPr>
        <p:blipFill>
          <a:blip r:embed="rId1"/>
          <a:stretch/>
        </p:blipFill>
        <p:spPr>
          <a:xfrm>
            <a:off x="2438280" y="3733920"/>
            <a:ext cx="3200400" cy="232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7E3E2-2F6E-4134-A98A-5066AD24716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Pack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d wires contribute parasitic induc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cy packages have many signal, power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tiny printed circuit bo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ip-chi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ces connections across surface of die rather than around perip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level metal pads covered with solder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 flips upside 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aligned to package (done blind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ed to melt b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rolled Collapse Chip Conne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90B9-19C8-4EB2-ABF9-DF81B3157FB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ckage Parasi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685800" y="2514600"/>
          <a:ext cx="7772400" cy="353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7772400" cy="35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Rectangle 4"/>
          <p:cNvSpPr/>
          <p:nvPr/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an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 in parall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uctance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EE45A-BFB3-4167-AF18-B510F389725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eat Dissip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0 W light bulb has surface area of 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anium 2 die dissipates 130 W over 4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have enormous power den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ing is a serious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 spreads heat to larg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sinks may increase surface area fur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s increase airflow rate over surfac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quid cooling used in extreme cases ($$$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1: Package, Power, and C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26E7-B37F-42F0-997B-1B18581653A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rmal Resis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temperature rise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rmal resistance of chip junction to amb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: power dissipation on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resistances combine like re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and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Θ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comb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dcterms:modified xsi:type="dcterms:W3CDTF">2020-03-04T16:11:19Z</dcterms:modified>
  <cp:revision>2104</cp:revision>
  <dc:subject/>
  <dc:title>PowerPoint Presentation</dc:title>
</cp:coreProperties>
</file>