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25.png" ContentType="image/png"/>
  <Override PartName="/ppt/media/image10.wmf" ContentType="image/x-wmf"/>
  <Override PartName="/ppt/media/image30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5.wmf" ContentType="image/x-wmf"/>
  <Override PartName="/ppt/media/image40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7360" cy="355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33840" y="0"/>
            <a:ext cx="4167360" cy="355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DABF77E-EB88-42B5-8033-1F81C6C6499F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CAB87D8-2039-43A7-9200-BD88E27CDDCD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C13AEB4-9749-4E38-8548-0C6E6FC68F47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29BD7AA-9377-4FE1-BB72-87E30647484B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CF9D9612-303D-4E0B-A867-B736190A51DC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AB68245-B6C0-42EA-91EF-79A9A7CC063C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F7FFE89-41A0-4901-B36E-C51A71626D69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3C7AE9C-AF75-4972-866E-206139E03125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9EA5F87-F0F2-4FDC-AF73-4FAA6743F69C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E29264E-D52F-4691-ABA5-A6F82D826748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D3243D82-B2A3-4908-8105-5E71EF973169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5BF8089-153D-46B1-A1DE-97EE0141576C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3BEC6F7-4380-4501-A1C8-D9D518E4A28C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0C30C04-316C-4229-8765-8FCDB314325C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9FC5F9F-DEF3-4764-AD43-479C293C2C76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C22B2F8F-FD28-486E-92AB-AE54A394FC4A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854F5AF-B99C-4954-8E62-F3DE6C5E7250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910B1E5-1EE5-4643-9E3A-0BECCC6BB90C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B10D331-BDB4-4F74-B35E-1F4DEB0E40A2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432F2E7-9CB4-4E42-B57F-AB9E77D39E99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000D4F6-750F-409C-B062-DC73DB98DE5D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6458CC5-8F4D-438C-8662-81C64247AF51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D170ADB-4BA7-4645-AFF4-A15CDEDA0D10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741E570-7F34-42DA-B994-24259903CF7C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68EE659-A8AF-4C43-AFB5-5A51ECC4CBA6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0D895EB-A5C4-48D4-A9F8-E835373185ED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0F4491C-683C-4D18-AF16-38CBA39292F2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13F7258-928C-4F50-93CF-FF63BEF57249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B2ECD1B-B2C3-43B9-B5C2-3CC46E1B1B82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C5FB2D24-2A0E-4EE0-BF04-066416957174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592A7C1-5948-4788-B69A-5BE4F76E4104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3E1407E-41FB-44C5-A40D-2217991C7F53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AE5D4CC-9307-4858-91EC-CCCC1E691146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D206A38-5CAA-4235-9647-E4DBF4E75D6F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AA2D56E-7BF5-4000-A259-7E3E18FAC8FB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D800C21-4000-42B0-9EA6-501252F8AAB2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CE01-37C0-43D4-83D0-6EDD4C068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CDFE-FB42-4536-901E-65111CBD7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00D8-CFBD-4D1B-B9AC-B2765E82D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7E99-9207-4791-8858-1B83D26CAD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467C-92E5-4FF9-AE89-88F7D88675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EFF1-4493-48FF-93F3-677911591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BB13-6E4E-416F-98B8-A67AA9A6B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21782-7891-4B23-A770-9517ED8F7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A405-3640-4D33-80B4-A58820CA5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0AB5-FE1F-40D0-AA81-5AA4884D5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C609-4597-42B8-B9E6-235A5C4E4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D9FD-9DFE-48F2-89EC-57CEC0248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CEE2-C78C-449D-8E37-986A3E0A63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video" Target="file:///C:/docs/Classes/E158/electromigrationvideos/video1.avi" TargetMode="External"/><Relationship Id="rId2" Type="http://schemas.microsoft.com/office/2007/relationships/media" Target="file:///C:/docs/Classes/E158/electromigrationvideos/video1.avi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video" Target="file:///C:/docs/Classes/E158/electromigrationvideos/video2.avi" TargetMode="External"/><Relationship Id="rId2" Type="http://schemas.microsoft.com/office/2007/relationships/media" Target="file:///C:/docs/Classes/E158/electromigrationvideos/video2.avi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BC0A-2470-43C8-A51F-D8C62E65FD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te Carlo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ocess variation increases, the worst-case corners become too pessimistic for pract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: repeated simulations with parameters randomly varie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catter plot of results to predict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mpac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560680" cy="2235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F7C9-A615-4228-B393-8B2D549BE1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089B-C7C9-43F1-8905-DEDA01D91D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e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oltag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ing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time between failures (MT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vice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urs of operation / number of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time (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failures / thousand hours / millio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ject 4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038480" cy="2211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3F3B-8361-43CE-B78F-F44C2BBC70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Lifetim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reliability typically exceed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oducts come to market in 1-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d lifetime testing required to predict adequate long-term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578400" cy="2676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951440" y="579132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rnaud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F205-5A34-445E-BD51-80213CFA45A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CDE9-5720-4A6C-89F7-C9BF9F72229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B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applied across oxide forms dangling bonds called traps at Si-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traps caus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for pMOS transistors with strong negative bias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8800" cy="74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600200" cy="30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13BD-548C-46E5-96BA-22155DFDFD9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DD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 increase in gate leakage when an electric field is applied across a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-induced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0-year life at 125 C, keep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 V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FA83-C602-4A9D-B4A8-44ED4A6EF4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4114800" y="4137120"/>
          <a:ext cx="1676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137120"/>
                    <a:ext cx="1676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6324480" y="3992400"/>
            <a:ext cx="2340000" cy="1420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6627240" y="5440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hristianse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FF61-1B04-41B2-A41C-D5423E391C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905120" y="167652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A669-8676-4C7D-B6D8-CC79EF81C6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828800" y="17524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F714-FA89-4E70-BD09-EF2474254C5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8C85-6B0B-461C-B774-A5976A99B7C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A216-60F1-41E0-B6B4-C9445BFBBE9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oltage Fail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blow out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volts from static electricity when the package pins are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ide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65 nm proces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V c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depletion region between source and drain to touch, leading to high current flow and destructive over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053C-EE1A-41CD-9C66-3F7260E146D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Object 4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1295280" y="3668760"/>
            <a:ext cx="5334120" cy="242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A646-B4B1-42B8-9977-9A223C5EEC6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7773-7B4E-4691-8CE2-0728ACF968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DRAMs were observed to randomly fli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atom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p-n junction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626000" y="4343400"/>
            <a:ext cx="3222720" cy="16700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579120" y="571500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auman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0989-5A42-4D9F-81CB-70D411F046A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diation Harde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hardening reduces 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ode capacitance to minimize impact of coll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interlocke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 soft errors that d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193920" cy="208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2C64-91F4-4508-9D3B-8910C7B5027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0482-588F-4C87-AB60-CB77F48104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6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600200" y="4191120"/>
            <a:ext cx="6858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286000" y="55627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7556-466C-43F3-BCDA-8C6FC3D352B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6934320" y="491184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91184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9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1600200" y="4191120"/>
            <a:ext cx="6477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13"/>
          <p:cNvGrpSpPr/>
          <p:nvPr/>
        </p:nvGrpSpPr>
        <p:grpSpPr>
          <a:xfrm>
            <a:off x="1295280" y="4876920"/>
            <a:ext cx="7239240" cy="1218960"/>
            <a:chOff x="1295280" y="4876920"/>
            <a:chExt cx="7239240" cy="1218960"/>
          </a:xfrm>
        </p:grpSpPr>
        <p:sp>
          <p:nvSpPr>
            <p:cNvPr id="222" name="Rectangle 11"/>
            <p:cNvSpPr/>
            <p:nvPr/>
          </p:nvSpPr>
          <p:spPr>
            <a:xfrm>
              <a:off x="2286000" y="4876920"/>
              <a:ext cx="62485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1295280" y="525780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0FFF-A07F-4DDA-A255-3D55C84785E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7"/>
          <p:cNvGraphicFramePr/>
          <p:nvPr/>
        </p:nvGraphicFramePr>
        <p:xfrm>
          <a:off x="3429000" y="487692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7692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8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2286000" y="4876920"/>
            <a:ext cx="60958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77D4-C251-43D7-8C81-FEA936E3159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/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435E-CB1F-4D5E-B845-86DE5719AAB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Object 6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286000" y="48769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D667-B7FE-498E-92C5-6700982715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5867280" y="3989520"/>
          <a:ext cx="228600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89520"/>
                    <a:ext cx="228600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600200" y="4191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15"/>
          <p:cNvGrpSpPr/>
          <p:nvPr/>
        </p:nvGrpSpPr>
        <p:grpSpPr>
          <a:xfrm>
            <a:off x="1295280" y="5257800"/>
            <a:ext cx="7231320" cy="685800"/>
            <a:chOff x="1295280" y="5257800"/>
            <a:chExt cx="7231320" cy="685800"/>
          </a:xfrm>
        </p:grpSpPr>
        <p:sp>
          <p:nvSpPr>
            <p:cNvPr id="260" name="Rectangle 10"/>
            <p:cNvSpPr/>
            <p:nvPr/>
          </p:nvSpPr>
          <p:spPr>
            <a:xfrm>
              <a:off x="2362320" y="5257800"/>
              <a:ext cx="6164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1295280" y="5638680"/>
              <a:ext cx="68580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64E4-B941-4A6F-B167-FD215FAB91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Object 6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7" descr=""/>
          <p:cNvPicPr/>
          <p:nvPr/>
        </p:nvPicPr>
        <p:blipFill>
          <a:blip r:embed="rId2"/>
          <a:stretch/>
        </p:blipFill>
        <p:spPr>
          <a:xfrm>
            <a:off x="5715000" y="462276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9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10"/>
          <p:cNvSpPr/>
          <p:nvPr/>
        </p:nvSpPr>
        <p:spPr>
          <a:xfrm>
            <a:off x="228600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1600200" y="4114800"/>
            <a:ext cx="4114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1219320" y="4495680"/>
            <a:ext cx="6705360" cy="1600200"/>
            <a:chOff x="1219320" y="4495680"/>
            <a:chExt cx="6705360" cy="1600200"/>
          </a:xfrm>
        </p:grpSpPr>
        <p:sp>
          <p:nvSpPr>
            <p:cNvPr id="276" name="Rectangle 13"/>
            <p:cNvSpPr/>
            <p:nvPr/>
          </p:nvSpPr>
          <p:spPr>
            <a:xfrm>
              <a:off x="2438280" y="4495680"/>
              <a:ext cx="54864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1219320" y="4876920"/>
              <a:ext cx="312408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5AFE-B224-4802-B0C8-FC8A43CAF2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Object 7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9"/>
          <p:cNvSpPr/>
          <p:nvPr/>
        </p:nvSpPr>
        <p:spPr>
          <a:xfrm>
            <a:off x="236232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600200" y="4191120"/>
            <a:ext cx="4114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286000" y="44956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4D4D-F0F6-4B4D-96EC-4634705E773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Object 7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97" name="Object 8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>
            <a:off x="2286000" y="3809880"/>
            <a:ext cx="3733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1600200" y="4114800"/>
            <a:ext cx="6705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0" y="4876920"/>
            <a:ext cx="525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A72C-7EB8-4618-8728-922D7AAACB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7A51-9A96-44BE-8D6D-1DC8DE92BBB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31680" cy="1614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placement of dopants i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versely proportional to channe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ss-chip linewidth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L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ine edge roughness (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hing variations affect w, s,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2173320" cy="60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703520" cy="81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6764400" y="286704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ernstei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417560" y="5334120"/>
            <a:ext cx="20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4"/>
          <a:stretch/>
        </p:blipFill>
        <p:spPr>
          <a:xfrm>
            <a:off x="7202520" y="3200400"/>
            <a:ext cx="1484280" cy="2614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7082640" y="5715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Larry Pile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9A16-E76A-438A-8672-4299C480F29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atial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show spatial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-to-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2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fer-to-wa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2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e-to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2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-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transistors match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97280" y="1981080"/>
            <a:ext cx="3837240" cy="3335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409360" y="533412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M. Pelg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C997-D85A-49BF-8C75-E7310DFB0D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designed +/-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droop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temperatur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ie temperature ele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hip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38520" cy="1981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6629760" y="3505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62440" cy="671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14520" cy="1303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7467480" y="4876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rris01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965B-5227-46F8-9B01-8B98C46DCAD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hange over time as they wea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reshold volta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this la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4BF0-BD85-497C-8509-F37DB46518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xtremes of process variations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733560" cy="106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FB04-A592-4853-989F-3B32765BA6D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ner Che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are simulated in different corners to verify different performance and correctn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388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11:25Z</dcterms:modified>
  <cp:revision>1813</cp:revision>
  <dc:subject/>
  <dc:title>PowerPoint Presentation</dc:title>
</cp:coreProperties>
</file>