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8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25.png" ContentType="image/png"/>
  <Override PartName="/ppt/media/image10.wmf" ContentType="image/x-wmf"/>
  <Override PartName="/ppt/media/image30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5.wmf" ContentType="image/x-wmf"/>
  <Override PartName="/ppt/media/image40.wmf" ContentType="image/x-wmf"/>
  <Override PartName="/ppt/media/image38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7360" cy="355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33840" y="0"/>
            <a:ext cx="4167360" cy="355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BFAA5ED-C235-4006-B195-B3A4BF4B0867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A4BAC80-D0A7-4184-B421-B5C35F9D1DBF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420EDA7-B0CB-4E53-90CD-AC7EEDB6AC8E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522B6C0-E2C1-4707-9B80-26EB333C988E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6F0285C-DB1D-4652-A13D-C8E4DD2E2033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7F5118B-536A-460A-A5EE-A1F6B554BDFB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A640D8E-35CD-4E4D-B106-B2D80B730700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07D060A-26B2-400B-AF0F-2E975F1DFCD7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31A4FA7-00AA-4FCA-BFEF-F47E7CDB5F88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C8A1DFA-B942-47E2-B635-16650A5A8B7E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DB4AF305-A304-443C-BF3D-5B9CEB439BAD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B1A7BFF-7925-46CD-8819-76F5A94688A3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DEF32A7-9A3D-464F-879F-2A337ABDB13A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07514571-BDD6-4DF0-9444-65FE7155A704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AC10B01-6445-4F84-8008-24D07EC0916B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637B643-ADD0-45D9-822C-9524D1F51A7D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B9EE8E5-EA7F-40E4-AF6F-84949FEAB9EE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DD5A5BBB-997F-492C-9F5D-6303A6DA887E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EB63D74-B5F9-4652-A0E6-4DE602AEA1B1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CE46748-5D83-49F4-B9F5-A26D94A73E57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E3C8EFE-367C-4262-A84D-A80FA8EA095E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7CC25C4-6B86-40F7-AB6E-5B72001160D1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979FAD9-5DD4-42AB-8B13-431F3B07EAF8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ED15236-E2B8-4F0F-8E02-A57C108A8AF7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6F2EC03-FBC9-4126-8B5A-91EC94861F43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6E13A42E-FBCC-4D30-B120-AC48AEC5A67F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B8F81EE-D513-48C9-95AD-780C674D90A3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C6AF4BC-8F77-4B73-8F22-0611714A62D8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746EA3F-D196-44EF-BFD0-B712C61CCF44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8FE8F203-D560-46AD-9EC9-ED8FB88E73FE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FE5B9FC-5C26-4F98-BBB9-4FFB99966B7A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C60A22D-5A1C-4E48-B305-8EE56F1FDBED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89127F2-305D-493E-A802-051FF0FB7296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00FB516-6DC3-4096-9743-6AB32E772430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E91A7798-859F-4143-8775-BED569F8495F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5433840" y="6959520"/>
            <a:ext cx="41673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94213015-178C-4B6B-9C56-E9D73CBA2E7A}" type="slidenum"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3005280" y="558720"/>
            <a:ext cx="3657600" cy="27432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1266840" y="3479760"/>
            <a:ext cx="706752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A7E8B-2B18-4E9C-91A9-52964BB8B0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50466-45C8-4091-8F49-FD057E286D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07454-399B-4986-9457-A843FE6EB2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7752C-07EE-44E5-AC1F-AAEA5A95FF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9FD46-3DB9-4AAA-B068-68D5F92A77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03189-AD61-4063-8174-B0DB8953B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BE38A-2A72-47A0-882C-C1A7FDF27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DF0F0-B2FF-493E-9CB8-4CB1DD922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33F24-2C89-43C3-A904-CB9DC5B87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62775-D104-40BC-8F49-4D4054DFB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DC8E0-B2C5-4BBD-B9CE-AD7A602485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7E510-D6BB-4C59-AE51-2DA948395D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05BF-9C46-4EB9-AD11-DF09B9C16F5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video" Target="file:///C:/docs/Classes/E158/electromigrationvideos/video1.avi" TargetMode="External"/><Relationship Id="rId2" Type="http://schemas.microsoft.com/office/2007/relationships/media" Target="file:///C:/docs/Classes/E158/electromigrationvideos/video1.avi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video" Target="file:///C:/docs/Classes/E158/electromigrationvideos/video2.avi" TargetMode="External"/><Relationship Id="rId2" Type="http://schemas.microsoft.com/office/2007/relationships/media" Target="file:///C:/docs/Classes/E158/electromigrationvideos/video2.avi" TargetMode="External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8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D230-72C6-49EA-B842-DA8E296A50A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onte Carlo Simu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process variation increases, the worst-case corners become too pessimistic for practical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te Carlo: repeated simulations with parameters randomly varied each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 at scatter plot of results to predict y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impact of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5410080" y="3581280"/>
            <a:ext cx="2560680" cy="2235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926E-2276-44E9-B1FE-C79E6CFC4CA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ois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 supply noise / ground bou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ive cou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ge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feed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d delay (for noise to settle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incorrect compu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FE79-42DC-436F-82CB-29F30CE0A44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xide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 wear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voltag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zing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time between failures (MTB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devices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ours of operation / number of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s in time (F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of failures / thousand hours / million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Object 4" descr=""/>
          <p:cNvPicPr/>
          <p:nvPr/>
        </p:nvPicPr>
        <p:blipFill>
          <a:blip r:embed="rId1"/>
          <a:stretch/>
        </p:blipFill>
        <p:spPr>
          <a:xfrm>
            <a:off x="4343400" y="1752480"/>
            <a:ext cx="4038480" cy="2211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ACE6-1D19-4560-B045-8B2299A14A4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celerated Lifetime Test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cted reliability typically exceeds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products come to market in 1-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lerated lifetime testing required to predict adequate long-term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1752480" y="3352680"/>
            <a:ext cx="3578400" cy="26766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5"/>
          <p:cNvSpPr/>
          <p:nvPr/>
        </p:nvSpPr>
        <p:spPr>
          <a:xfrm>
            <a:off x="4951440" y="5791320"/>
            <a:ext cx="93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Arnaud08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D3860-DAE7-4826-AEC1-211C7E3505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t Carrie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s across channel impart high energies to some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rriers may be blasted into the gate oxide where they become trap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charge in oxide causes shift i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ually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s too far for devices to operate cor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6400" indent="-44640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chieve reasonable product life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44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problems for inverters and NORs with slow input risetime and long propagation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4808-ABAB-42DF-A040-D70501671F5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BTI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 field applied across oxide forms dangling bonds called traps at Si-Si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umulation of traps causes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i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pronounced for pMOS transistors with strong negative bias 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t high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1828800" cy="74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600200" cy="3081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B72D-399C-411F-824C-4D8357BD08A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DDB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l increase in gate leakage when an electric field is applied across an 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k.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ess-induced leakage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10-year life at 125 C, keep 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7 V/n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B41F-F06F-4AFF-9042-5FEAC5C6C86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lectromigr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 win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movement of metal atoms along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ive electromigration leads to ope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significant for unidirectional (DC) cu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s on current density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/ are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tial dependence on 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Equ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1 – 2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125960" y="315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Object 5"/>
          <p:cNvGraphicFramePr/>
          <p:nvPr/>
        </p:nvGraphicFramePr>
        <p:xfrm>
          <a:off x="4114800" y="4137120"/>
          <a:ext cx="1676520" cy="104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4137120"/>
                    <a:ext cx="1676520" cy="104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6" descr=""/>
          <p:cNvPicPr/>
          <p:nvPr/>
        </p:nvPicPr>
        <p:blipFill>
          <a:blip r:embed="rId3"/>
          <a:stretch/>
        </p:blipFill>
        <p:spPr>
          <a:xfrm>
            <a:off x="6324480" y="3992400"/>
            <a:ext cx="2340000" cy="14209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6627240" y="544032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Christianse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FA19-59D3-41E1-95D6-3F72D0EA5C3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905120" y="167652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6857-DC05-43F5-A70E-D020861CFA1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igration Video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828800" y="175248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7E44-2529-40FD-BD34-724D6D74BDF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6884-C7A9-428D-B0E0-3DAC430B3A3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lf-Heat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through wire resistance generates h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ide surrounding wires is a thermal 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t tends to build up in wi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ter wires are more resistive,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heating limits AC current densities for rel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limits: J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r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 15 mA /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4030560" y="307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5"/>
          <p:cNvGraphicFramePr/>
          <p:nvPr/>
        </p:nvGraphicFramePr>
        <p:xfrm>
          <a:off x="1371600" y="3809880"/>
          <a:ext cx="108252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09880"/>
                    <a:ext cx="10825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768F-8068-421C-AC24-0CDB5DE1331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vervoltage Fail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oltages can blow out tiny transi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ectrostatic dischar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S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lovolts from static electricity when the package pins are hand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xide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65 nm process,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3 V caus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rc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in gate ox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unchthr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uses depletion region between source and drain to touch, leading to high current flow and destructive over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D0EA-AF7F-46DB-AB63-0F0D9049873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u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Object 4" descr=""/>
          <p:cNvPicPr/>
          <p:nvPr/>
        </p:nvPicPr>
        <p:blipFill>
          <a:blip r:embed="rId1"/>
          <a:stretch/>
        </p:blipFill>
        <p:spPr>
          <a:xfrm>
            <a:off x="7162920" y="4419720"/>
            <a:ext cx="1676160" cy="12556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: positive feedback leading t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GND sh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problem for 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CMOS processes bef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was well 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oid by minimizing resistance of body to GND /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plenty of substrate and well t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1295280" y="3668760"/>
            <a:ext cx="5334120" cy="2427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1342A-5C5F-4DD0-8E08-FB59BD1E85C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uard Ring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tchup risk greatest when diffusion-to-substrate diodes could become forward-bi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round sensitive region with guard ring to collect inj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990720" y="3124080"/>
            <a:ext cx="6933960" cy="297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EDAE8-870A-4638-B742-25500EE42FD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oft Error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, DRAMs were observed to randomly flip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 linked to alpha particles and cosmic ray neut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isions with atoms create electron-hole pairs in subst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carriers are collected on p-n junctions, disturbing the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4626000" y="4343400"/>
            <a:ext cx="3222720" cy="16700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3579120" y="571500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aumann05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CB85-4394-415B-AF13-8D38D801718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diation Harden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ion hardening reduces soft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node capacitance to minimize impact of collected 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use redunda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ual-interlocked c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-correcting c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 for soft errors that do oc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5105520" y="2514600"/>
            <a:ext cx="3193920" cy="2084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3512-32A7-4318-81B7-B06A760C8BF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ircuit Pitfal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ve puzz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circuit and symptom, diagnose cause and recommend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pitfalls have caused failures in real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7CA4-DF7D-4F40-8BE1-B7A86035D30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1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:1 multiplex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x works when selected D is 0 but not 1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at low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 fails in SF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Object 5"/>
          <p:cNvGraphicFramePr/>
          <p:nvPr/>
        </p:nvGraphicFramePr>
        <p:xfrm>
          <a:off x="1219320" y="2301840"/>
          <a:ext cx="2971800" cy="143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301840"/>
                    <a:ext cx="2971800" cy="14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Rectangle 6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Threshold 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never rises above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s raised by the body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threshold drop is most serious as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ecomes a greater fraction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D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Use transmission gates, not pass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600200" y="4191120"/>
            <a:ext cx="6858000" cy="137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"/>
          <p:cNvSpPr/>
          <p:nvPr/>
        </p:nvSpPr>
        <p:spPr>
          <a:xfrm>
            <a:off x="2286000" y="55627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6106-73B1-495D-BDE8-988F9CA8585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2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ad a 0 into 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Q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Staticize node with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periodically refresh node (requires fast clock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practical processes with big leak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6"/>
          <p:cNvGraphicFramePr/>
          <p:nvPr/>
        </p:nvGraphicFramePr>
        <p:xfrm>
          <a:off x="1371600" y="2286000"/>
          <a:ext cx="2362320" cy="122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6000"/>
                    <a:ext cx="2362320" cy="122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Object 7"/>
          <p:cNvGraphicFramePr/>
          <p:nvPr/>
        </p:nvGraphicFramePr>
        <p:xfrm>
          <a:off x="6934320" y="4911840"/>
          <a:ext cx="1717560" cy="12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911840"/>
                    <a:ext cx="1717560" cy="12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Rectangle 9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10"/>
          <p:cNvSpPr/>
          <p:nvPr/>
        </p:nvSpPr>
        <p:spPr>
          <a:xfrm>
            <a:off x="1600200" y="4191120"/>
            <a:ext cx="647712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1" name="Group 13"/>
          <p:cNvGrpSpPr/>
          <p:nvPr/>
        </p:nvGrpSpPr>
        <p:grpSpPr>
          <a:xfrm>
            <a:off x="1295280" y="4876920"/>
            <a:ext cx="7239240" cy="1218960"/>
            <a:chOff x="1295280" y="4876920"/>
            <a:chExt cx="7239240" cy="1218960"/>
          </a:xfrm>
        </p:grpSpPr>
        <p:sp>
          <p:nvSpPr>
            <p:cNvPr id="222" name="Rectangle 11"/>
            <p:cNvSpPr/>
            <p:nvPr/>
          </p:nvSpPr>
          <p:spPr>
            <a:xfrm>
              <a:off x="2286000" y="4876920"/>
              <a:ext cx="624852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Rectangle 12"/>
            <p:cNvSpPr/>
            <p:nvPr/>
          </p:nvSpPr>
          <p:spPr>
            <a:xfrm>
              <a:off x="1295280" y="5257800"/>
              <a:ext cx="274320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A8642-409E-400A-85C3-FF7D7D8D5B5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3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(Y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ntually Y spontaneously flips to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Leak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X is a dynamic node holding value as charge on the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ntually subthreshold leakage may disturb ch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Kee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0" name="Object 6"/>
          <p:cNvGraphicFramePr/>
          <p:nvPr/>
        </p:nvGraphicFramePr>
        <p:xfrm>
          <a:off x="2666880" y="2209680"/>
          <a:ext cx="205740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2209680"/>
                    <a:ext cx="2057400" cy="15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7"/>
          <p:cNvGraphicFramePr/>
          <p:nvPr/>
        </p:nvGraphicFramePr>
        <p:xfrm>
          <a:off x="3429000" y="4876920"/>
          <a:ext cx="190512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4876920"/>
                    <a:ext cx="190512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8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9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10"/>
          <p:cNvSpPr/>
          <p:nvPr/>
        </p:nvSpPr>
        <p:spPr>
          <a:xfrm>
            <a:off x="2286000" y="4876920"/>
            <a:ext cx="609588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190A-6AFC-42E2-A46C-E9294D2927B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ing / Wear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D6050-63ED-4A01-BEA6-12D3459BA8B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4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eudo-nMOS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only one input is true, Y = 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haps only happens in SF cor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MOS and pMOS fight each oth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the pMOS is too strong, nMOS cannot pull X low enoug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Check that ratio is satisfied in all cor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Object 6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2971800" cy="1150920"/>
          </a:xfrm>
          <a:prstGeom prst="rect">
            <a:avLst/>
          </a:prstGeom>
          <a:ln w="0">
            <a:noFill/>
          </a:ln>
        </p:spPr>
      </p:pic>
      <p:sp>
        <p:nvSpPr>
          <p:cNvPr id="244" name="Rectangle 7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600200" y="4191120"/>
            <a:ext cx="6858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2286000" y="4876920"/>
            <a:ext cx="609588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14B8-3F51-4C5F-A0CE-C1F01B6FD89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5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stuck at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only happen for certain latches where input is driven by a small gate located far awa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Ratio Failure (aga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ies resistance of D driver, wi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istance, and tgate must be mu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s than weak feedback inver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Check relative streng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oid unbuffered diffusion inputs where driver is 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Object 6"/>
          <p:cNvGraphicFramePr/>
          <p:nvPr/>
        </p:nvGraphicFramePr>
        <p:xfrm>
          <a:off x="1295280" y="2286000"/>
          <a:ext cx="1828800" cy="149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286000"/>
                    <a:ext cx="18288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Object 7"/>
          <p:cNvGraphicFramePr/>
          <p:nvPr/>
        </p:nvGraphicFramePr>
        <p:xfrm>
          <a:off x="5867280" y="3989520"/>
          <a:ext cx="2286000" cy="14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3989520"/>
                    <a:ext cx="2286000" cy="14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7" name="Rectangle 8"/>
          <p:cNvSpPr/>
          <p:nvPr/>
        </p:nvSpPr>
        <p:spPr>
          <a:xfrm>
            <a:off x="2286000" y="3809880"/>
            <a:ext cx="27432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9"/>
          <p:cNvSpPr/>
          <p:nvPr/>
        </p:nvSpPr>
        <p:spPr>
          <a:xfrm>
            <a:off x="1600200" y="4191120"/>
            <a:ext cx="68580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Group 15"/>
          <p:cNvGrpSpPr/>
          <p:nvPr/>
        </p:nvGrpSpPr>
        <p:grpSpPr>
          <a:xfrm>
            <a:off x="1295280" y="5257800"/>
            <a:ext cx="7231320" cy="685800"/>
            <a:chOff x="1295280" y="5257800"/>
            <a:chExt cx="7231320" cy="685800"/>
          </a:xfrm>
        </p:grpSpPr>
        <p:sp>
          <p:nvSpPr>
            <p:cNvPr id="260" name="Rectangle 10"/>
            <p:cNvSpPr/>
            <p:nvPr/>
          </p:nvSpPr>
          <p:spPr>
            <a:xfrm>
              <a:off x="2362320" y="5257800"/>
              <a:ext cx="616428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4"/>
            <p:cNvSpPr/>
            <p:nvPr/>
          </p:nvSpPr>
          <p:spPr>
            <a:xfrm>
              <a:off x="1295280" y="5638680"/>
              <a:ext cx="68580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9BFC-462C-4516-8052-FE7A9E35009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6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mino AND g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= B = 0, so Z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ri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observed to sometimes 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X was low, it shares charge with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s: Limit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fe if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&gt;&gt;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precharge node X to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Object 6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269" name="Object 7" descr=""/>
          <p:cNvPicPr/>
          <p:nvPr/>
        </p:nvPicPr>
        <p:blipFill>
          <a:blip r:embed="rId2"/>
          <a:stretch/>
        </p:blipFill>
        <p:spPr>
          <a:xfrm>
            <a:off x="5715000" y="4622760"/>
            <a:ext cx="2286000" cy="139716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8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1" name="Object 9"/>
          <p:cNvGraphicFramePr/>
          <p:nvPr/>
        </p:nvGraphicFramePr>
        <p:xfrm>
          <a:off x="1600200" y="4800600"/>
          <a:ext cx="17524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00200" y="4800600"/>
                    <a:ext cx="17524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10"/>
          <p:cNvSpPr/>
          <p:nvPr/>
        </p:nvSpPr>
        <p:spPr>
          <a:xfrm>
            <a:off x="228600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11"/>
          <p:cNvSpPr/>
          <p:nvPr/>
        </p:nvSpPr>
        <p:spPr>
          <a:xfrm>
            <a:off x="1600200" y="4114800"/>
            <a:ext cx="4114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Group 15"/>
          <p:cNvGrpSpPr/>
          <p:nvPr/>
        </p:nvGrpSpPr>
        <p:grpSpPr>
          <a:xfrm>
            <a:off x="1219320" y="4495680"/>
            <a:ext cx="6705360" cy="1600200"/>
            <a:chOff x="1219320" y="4495680"/>
            <a:chExt cx="6705360" cy="1600200"/>
          </a:xfrm>
        </p:grpSpPr>
        <p:sp>
          <p:nvSpPr>
            <p:cNvPr id="276" name="Rectangle 13"/>
            <p:cNvSpPr/>
            <p:nvPr/>
          </p:nvSpPr>
          <p:spPr>
            <a:xfrm>
              <a:off x="2438280" y="4495680"/>
              <a:ext cx="5486400" cy="160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Rectangle 14"/>
            <p:cNvSpPr/>
            <p:nvPr/>
          </p:nvSpPr>
          <p:spPr>
            <a:xfrm>
              <a:off x="1219320" y="4876920"/>
              <a:ext cx="3124080" cy="1218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12C46-9607-4325-8EB0-411814B13C7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7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gate +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harge gate while transmission gat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latch becomes transparent, X 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Charge Sha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Y was low, it shares charge with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ynamic nodes befo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riving transmission g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Rectangle 6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Object 7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057400" cy="117000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9"/>
          <p:cNvSpPr/>
          <p:nvPr/>
        </p:nvSpPr>
        <p:spPr>
          <a:xfrm>
            <a:off x="2362320" y="3809880"/>
            <a:ext cx="3124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0"/>
          <p:cNvSpPr/>
          <p:nvPr/>
        </p:nvSpPr>
        <p:spPr>
          <a:xfrm>
            <a:off x="1600200" y="4191120"/>
            <a:ext cx="411480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11"/>
          <p:cNvSpPr/>
          <p:nvPr/>
        </p:nvSpPr>
        <p:spPr>
          <a:xfrm>
            <a:off x="2286000" y="4495680"/>
            <a:ext cx="33526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7A5D-B138-439B-85B5-F755F851E74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ad Circuit 8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ircu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mpt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 changes while latch is 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if D comes from a far-away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685800" y="3733920"/>
            <a:ext cx="77724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ciple: Diffusion Input Noise Sensi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f D &lt; 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ＭＳ Ｐゴシック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transmission gate turns 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72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st likely because of power supply noise or coupling on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5760" indent="-45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: Buffer D loc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4000680" y="324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Object 7" descr=""/>
          <p:cNvPicPr/>
          <p:nvPr/>
        </p:nvPicPr>
        <p:blipFill>
          <a:blip r:embed="rId1"/>
          <a:stretch/>
        </p:blipFill>
        <p:spPr>
          <a:xfrm>
            <a:off x="1371600" y="2362320"/>
            <a:ext cx="2286000" cy="1145880"/>
          </a:xfrm>
          <a:prstGeom prst="rect">
            <a:avLst/>
          </a:prstGeom>
          <a:ln w="0">
            <a:noFill/>
          </a:ln>
        </p:spPr>
      </p:pic>
      <p:pic>
        <p:nvPicPr>
          <p:cNvPr id="297" name="Object 8" descr=""/>
          <p:cNvPicPr/>
          <p:nvPr/>
        </p:nvPicPr>
        <p:blipFill>
          <a:blip r:embed="rId2"/>
          <a:stretch/>
        </p:blipFill>
        <p:spPr>
          <a:xfrm>
            <a:off x="5029200" y="4876920"/>
            <a:ext cx="2590920" cy="119376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9"/>
          <p:cNvSpPr/>
          <p:nvPr/>
        </p:nvSpPr>
        <p:spPr>
          <a:xfrm>
            <a:off x="2286000" y="3809880"/>
            <a:ext cx="37339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1600200" y="4114800"/>
            <a:ext cx="67057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1"/>
          <p:cNvSpPr/>
          <p:nvPr/>
        </p:nvSpPr>
        <p:spPr>
          <a:xfrm>
            <a:off x="2286000" y="4876920"/>
            <a:ext cx="525780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A791-F9E7-4866-A22D-B1B8794F03A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CMOS gates are very rob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ettle to correct value if you wait long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circuits suffer from a variety of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eoff between performance &amp; robust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ential to check circuits for pitf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arge chips, you need an automatic che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rules are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worth the paper they are printed on unless you back them up with a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94A9-F961-4393-9EEA-6D62658BCDB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876920" y="2362320"/>
            <a:ext cx="1831680" cy="16142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rocess Vari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shold Vol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ends on placement of dopants in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deviation inversely proportional to channe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nel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atic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cross-chip linewidth vari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CL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dom line edge roughness (L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ching variations affect w, s, 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1600200" y="2819520"/>
            <a:ext cx="2173320" cy="60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4572000" y="4572000"/>
            <a:ext cx="1703520" cy="81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6764400" y="2867040"/>
            <a:ext cx="108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Bernstein06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4417560" y="5334120"/>
            <a:ext cx="209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Texas Instr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9" descr=""/>
          <p:cNvPicPr/>
          <p:nvPr/>
        </p:nvPicPr>
        <p:blipFill>
          <a:blip r:embed="rId4"/>
          <a:stretch/>
        </p:blipFill>
        <p:spPr>
          <a:xfrm>
            <a:off x="7202520" y="3200400"/>
            <a:ext cx="1484280" cy="2614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0"/>
          <p:cNvSpPr/>
          <p:nvPr/>
        </p:nvSpPr>
        <p:spPr>
          <a:xfrm>
            <a:off x="7082640" y="5715000"/>
            <a:ext cx="168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Larry Pile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888EF-772A-429F-A0DE-056AAC5F512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patial Distrib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tions show spatial corre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t-to-l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2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afer-to-wa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2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ie-to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2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er-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ithin-di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ID) /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ntrad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er transistors match be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4697280" y="1981080"/>
            <a:ext cx="3837240" cy="33354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5409360" y="5334120"/>
            <a:ext cx="161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M. Pelg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63A2B-3070-4949-A95F-5EE0FB98CC7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vironmental Vari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D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designed +/- 1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hip droop fr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bient temperature r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die temperature elev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chip power consum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5943600" y="1523880"/>
            <a:ext cx="2738520" cy="19814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6629760" y="3505320"/>
            <a:ext cx="11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tesy IB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62440" cy="671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5867280" y="4648320"/>
            <a:ext cx="1514520" cy="1303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8"/>
          <p:cNvSpPr/>
          <p:nvPr/>
        </p:nvSpPr>
        <p:spPr>
          <a:xfrm>
            <a:off x="7467480" y="4876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Harris01b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2E9CC-A970-455F-AD48-E0EBB709A68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g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istors change over time as they wear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bias temperature in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-dependent dielectric breakd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s threshold voltage cha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on this la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80003-5D78-496A-8DF2-CA05325832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cess Corn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extremes of process variations in si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 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(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OS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2133360" cy="2068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733560" cy="1063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6: Circuit Pitfa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0A4A0-B2A2-4DD5-AFA0-78B53F03C6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ner Check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s are simulated in different corners to verify different performance and correctness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62120" y="2438280"/>
            <a:ext cx="7638840" cy="266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3-04T16:11:25Z</dcterms:modified>
  <cp:revision>1813</cp:revision>
  <dc:subject/>
  <dc:title>PowerPoint Presentation</dc:title>
</cp:coreProperties>
</file>