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wmf" ContentType="image/x-wmf"/>
  <Override PartName="/ppt/media/image1.png" ContentType="image/png"/>
  <Override PartName="/ppt/media/image2.jpeg" ContentType="image/jpeg"/>
  <Override PartName="/ppt/media/image5.png" ContentType="image/png"/>
  <Override PartName="/ppt/media/image10.png" ContentType="image/png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png" ContentType="image/png"/>
  <Override PartName="/ppt/media/image13.png" ContentType="image/png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159080" cy="3650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5441760" y="0"/>
            <a:ext cx="4159080" cy="3650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2975040" y="547200"/>
            <a:ext cx="3659040" cy="274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4"/>
          </p:nvPr>
        </p:nvSpPr>
        <p:spPr>
          <a:xfrm>
            <a:off x="-36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5"/>
          </p:nvPr>
        </p:nvSpPr>
        <p:spPr>
          <a:xfrm>
            <a:off x="544176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indent="0" algn="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65610571-3A05-4E2B-8947-3397A91BE7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0CE66B34-14DB-4B2C-977D-F54DCD940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2CEA167D-864F-4FEF-9D72-322313B24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4FC35F58-B888-4940-A923-AEA89DC9D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6411D366-9EFD-4284-9BD4-4DAA9202C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C3D9AEB7-9531-4557-A1C0-AA930A1D5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E9426589-8E86-4223-9A01-249E8BA22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10D2061F-F6DB-46EF-922B-7D6603B4B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E549EEA1-8947-4D59-A6EC-0EF622E718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3E64BEFC-6520-4A50-9D1A-F234BADDA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161BF188-F3D4-49BC-95E3-48906ED83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3E2608E1-0173-4F32-85F7-E11784CA4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42053C15-107F-403A-8E67-DB1974344B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9D143F81-E49E-42CF-89FA-FD4DF3167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D145C194-7669-4DDC-84E1-4F512C7D3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0F4A468C-BC74-4118-9FCA-2E3B70BB25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7DFEAAE8-8E3B-4C0F-9678-9A9EB2296E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CFB8FA23-9C68-46E7-8AB8-5365337D0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A236A3B6-A8A0-44A6-90A6-AE2B237E0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960E025D-B0F0-4B72-8943-6ACCA025D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41094DC9-0AAA-4F4A-90C2-5C6D6E8EB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E1AED3AA-3D64-4B2C-A733-B7161E0E3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0F68D3F4-0583-4084-A9BF-DA21D4F55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64EF9A60-E4F7-4FDC-9237-E41E905C7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85600E5A-C0F3-4C8F-AC5D-2C0FB7749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689134FC-8EB9-46BD-9E1E-64F330A14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E1FD29E8-3D87-4C96-893A-12BC5A2DF8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645B52EE-42BF-4001-B67F-F6C7B6EEF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551DB2DB-3A99-49CF-B815-9D7727987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87BA5471-DE13-41AA-9F1C-CDCA2AFD49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AAC64-764C-43D8-B547-1F51625EA9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12848-B154-4C05-AF49-A3116B4BB5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786629-DEBB-4F67-8F8F-0C5734709D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697D2-CBDE-481A-94C1-BAE2D913DE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540A7-5EC7-4E50-97C9-18109DACDE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B8F35-99D3-499A-B5A6-468B7D8165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E23D9-9A2A-4FFD-B388-9B1020104B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6F617-69D5-4C05-917D-6E1A232415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26530-19AA-4C1A-82F8-ED40978A64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D5ED2-3D6D-4052-A267-82ABDE6C20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4170E2-2544-4C9A-8A7B-C926397D02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FC177-FC00-4CE9-8BF6-5602CBBBAB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5: Scaling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6E4CC-218C-45F7-9682-C3C866145DF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14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7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caling &amp; Econom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13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5: Scaling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CA65-6E44-48F2-B4AC-C1B9DDAA24F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al Scal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 has slowed since 65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by gate tunneling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are only about 4 atomic layers thic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-k dielectrics have helped continued scaling of effective oxide thick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 has slowed since 65 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RAM cell stability at low voltage is challen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nard scaling predicts cost, speed, power all impro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ow 65 nm, some designers find they must choose just two of the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5: Scaling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B7D2B-CC66-4B68-9677-1AB3E9E2141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e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cross-s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s, t all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/ scaled 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size scaled by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≈ 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5: Scaling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2512A-B155-44AF-B420-4AB897E9AEE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1523880"/>
          <a:ext cx="6781680" cy="3556080"/>
        </p:xfrm>
        <a:graphic>
          <a:graphicData uri="http://schemas.openxmlformats.org/drawingml/2006/table">
            <a:tbl>
              <a:tblPr/>
              <a:tblGrid>
                <a:gridCol w="4114800"/>
                <a:gridCol w="1371600"/>
                <a:gridCol w="1295280"/>
              </a:tblGrid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itivi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ale Facto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: wid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: spac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: thicknes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: heigh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die siz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wire resistance/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w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f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fringing capacitance / 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p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parallel plate capacitance / 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/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total wire capacitance / 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f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p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u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unrepeated RC delay / 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r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repeated RC delay / 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rt(RCR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rt(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osstalk nois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/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energy per bit / unit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5: Scaling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81EE8-F170-4C01-9C96-B0BC1061170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85800" y="1523880"/>
          <a:ext cx="6705720" cy="1270080"/>
        </p:xfrm>
        <a:graphic>
          <a:graphicData uri="http://schemas.openxmlformats.org/drawingml/2006/table">
            <a:tbl>
              <a:tblPr/>
              <a:tblGrid>
                <a:gridCol w="2743200"/>
                <a:gridCol w="1143000"/>
                <a:gridCol w="1828800"/>
                <a:gridCol w="990720"/>
              </a:tblGrid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itivi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cal / Semiglob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: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repeated wire RC del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u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eated wire del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rt(1/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qrt(S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 per bi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5: Scaling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CA6F-CC10-4B37-84F4-8989F9D7157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ance per micron is remaining cons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0.2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ghly 1/5 of gate capac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wires are getting f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quite tracking transistor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ot a major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wires are getting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longer possible to cross chip in one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5: Scaling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C17E-CD21-4595-BDFA-4FC8E68F960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T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iconductor Industry Association fore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l. Technology Roadmap for Semicondu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7848720" cy="2859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5: Scaling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FC42-F336-44F5-9CC3-EE8BD23D2CA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caling Implic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 W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W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ivity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i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5: Scaling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C9FD-AD4C-41E2-9905-F5F51F5B8AE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st Improveme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2003, $0.01 bought you 100,000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Law is still going str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4"/>
          <p:cNvPicPr/>
          <p:nvPr/>
        </p:nvPicPr>
        <p:blipFill>
          <a:blip r:embed="rId1"/>
          <a:stretch/>
        </p:blipFill>
        <p:spPr>
          <a:xfrm>
            <a:off x="838080" y="3335400"/>
            <a:ext cx="7543800" cy="26874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4495320" y="578808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Moore0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5: Scaling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7ED7A-5EB8-4FA1-8856-351A6BE80A3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erconnect Wo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A made a gloomy forecast in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would reach minimum at 250 – 180 nm, then get worse because of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leading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 kgate blocks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3962520" y="2971800"/>
          <a:ext cx="4724280" cy="272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2971800"/>
                    <a:ext cx="472428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Text Box 5"/>
          <p:cNvSpPr/>
          <p:nvPr/>
        </p:nvSpPr>
        <p:spPr>
          <a:xfrm>
            <a:off x="5867640" y="5788080"/>
            <a:ext cx="68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SIA97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5: Scaling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F2FE-318D-41ED-AABA-0EBCDF9768E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achable Radiu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send a signal across a large fast chip in one cycle any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e microarchitect can plan around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st as off-chip memory latencies were tole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2133720" y="3276720"/>
            <a:ext cx="2457360" cy="2666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5: Scaling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51CAA-42C7-43BA-9957-1933EB48525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ture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5: Scaling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2F50-3160-4EA2-8FA4-812A32C692C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ynamic 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VP Patrick Gelsinger (ISSCC 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caling continues at present pace, by 2005, high speed processors would have power density of nuclear reactor, by 2010, a rocket nozzle, and by 2015, surface of s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iness as usual will not work in the future.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ntion to power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5868000" y="5788080"/>
            <a:ext cx="55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Intel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6" descr=""/>
          <p:cNvPicPr/>
          <p:nvPr/>
        </p:nvPicPr>
        <p:blipFill>
          <a:blip r:embed="rId1"/>
          <a:stretch/>
        </p:blipFill>
        <p:spPr>
          <a:xfrm>
            <a:off x="4800600" y="3886200"/>
            <a:ext cx="3200400" cy="1947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5: Scaling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5B24-9315-4BFE-B8A2-10057C68405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atic Pow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 dynam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 thin gate oxides and short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oint in high value because of velocity s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ust decrease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device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this causes exponent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in OFF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future challe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028" descr="4"/>
          <p:cNvPicPr/>
          <p:nvPr/>
        </p:nvPicPr>
        <p:blipFill>
          <a:blip r:embed="rId1"/>
          <a:stretch/>
        </p:blipFill>
        <p:spPr>
          <a:xfrm>
            <a:off x="5181480" y="3429000"/>
            <a:ext cx="3426120" cy="256536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029"/>
          <p:cNvSpPr/>
          <p:nvPr/>
        </p:nvSpPr>
        <p:spPr>
          <a:xfrm>
            <a:off x="7010280" y="4876920"/>
            <a:ext cx="83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030"/>
          <p:cNvSpPr/>
          <p:nvPr/>
        </p:nvSpPr>
        <p:spPr>
          <a:xfrm>
            <a:off x="6553080" y="396252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031"/>
          <p:cNvSpPr/>
          <p:nvPr/>
        </p:nvSpPr>
        <p:spPr>
          <a:xfrm>
            <a:off x="6327000" y="5791320"/>
            <a:ext cx="83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Moore03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5: Scaling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D1F4-F245-484F-8813-4B5A910B9DF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ductiv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count is increasing faster than designer productivity (gates / wee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ger design te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 to 500 for a high-end micropro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expensive design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sure to raise produ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y on synthesis, IP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for good engineering 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5: Scaling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BE366-F60F-46AA-AD87-DE5704874F2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hysical Lim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Moo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Law run out of st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build transistors smaller than an atom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reasons have been predicted for end of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threshold leakage, tunn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 channel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brication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mi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mors of demise have been exagge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5: Scaling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DD2A-3F89-46E3-BFCE-18AB7C189FB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VLSI Economic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ling price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(1-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= profit mar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total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recurring engineering cost (N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ring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d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5: Scaling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637A-6381-4DE8-A437-F36EA58621E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R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ineering 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size of design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benefits, training, comp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 to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front end: $10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og front end: $100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back end: $1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 manufactu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k costs: $5M in 45 nm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ixture and package too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5: Scaling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8B44-68A4-4C5D-ADEE-107C4961D47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curring Cos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br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fer cost / (Dice per wafer * Yie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fer cost: $500 - $3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ce per wafer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eld: Y = 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-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mall A, Y ≈ 1, cost proportional to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arge A, Y ≈ 0, cost increases expon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4068720" y="323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Object 4"/>
          <p:cNvGraphicFramePr/>
          <p:nvPr/>
        </p:nvGraphicFramePr>
        <p:xfrm>
          <a:off x="3886200" y="2819520"/>
          <a:ext cx="1905120" cy="75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2819520"/>
                    <a:ext cx="1905120" cy="75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5: Scaling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643F-9F3D-4432-A70F-2E1A79592A9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ixed Cos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sheets and application no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keting and adverti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eld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5: Scaling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EF0D-30D4-43FD-A02A-CE419705B46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want to start a company to build a wireless communications chip.  How much venture capital must you rai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you are smarter than everyone else, you can get away with a small team in just two yea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 digital desig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analog desig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ve support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5: Scaling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607C-35E3-40CC-8568-1E9AAA0C7C9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design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70k 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30k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k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k CA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: $120k * 7 = $840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og desig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0k 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30k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k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0k CA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: $240k * 3 = $720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8320" y="1523880"/>
            <a:ext cx="3962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45k 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20k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5k 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: $70k * 5 = $350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br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ck-end tools: $1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ks: $5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al: $6M /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years @ $7.91M /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6M design &amp; proto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5: Scaling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5F5E-79C2-4DA3-8316-764B7E4239D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ore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 Law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 that Moo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Law has been driving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2895120" y="3502080"/>
            <a:ext cx="86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Moore6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2133360" cy="19130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0104"/>
          <p:cNvPicPr/>
          <p:nvPr/>
        </p:nvPicPr>
        <p:blipFill>
          <a:blip r:embed="rId2"/>
          <a:stretch/>
        </p:blipFill>
        <p:spPr>
          <a:xfrm>
            <a:off x="685800" y="4089240"/>
            <a:ext cx="4191120" cy="1854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0105"/>
          <p:cNvPicPr/>
          <p:nvPr/>
        </p:nvPicPr>
        <p:blipFill>
          <a:blip r:embed="rId3"/>
          <a:stretch/>
        </p:blipFill>
        <p:spPr>
          <a:xfrm>
            <a:off x="5105520" y="2514600"/>
            <a:ext cx="3276360" cy="20271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1"/>
          <p:cNvSpPr/>
          <p:nvPr/>
        </p:nvSpPr>
        <p:spPr>
          <a:xfrm>
            <a:off x="3200400" y="57913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or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Law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5410080" y="464832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ollary: clock speeds have impro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5: Scaling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2B4A-9A24-4414-A9BF-B45F8F8EBC2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more transistors per I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r 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faster comput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faster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er microarchitecture (more IP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wer gate delays per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5: Scaling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78C5-B3DB-4FDC-B0A9-44B88CE3D93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nly constant in VLSI is constan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ature size shrinks by 30% every 2-3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become che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become faster and lower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s do not impro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nd may get wor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 factor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ology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Object 5"/>
          <p:cNvGraphicFramePr/>
          <p:nvPr/>
        </p:nvGraphicFramePr>
        <p:xfrm>
          <a:off x="2895480" y="4572000"/>
          <a:ext cx="990720" cy="44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4572000"/>
                    <a:ext cx="99072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>
            <a:off x="4419720" y="3654360"/>
            <a:ext cx="4038480" cy="2289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5: Scaling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0202-061F-4F0E-97B4-B0145337F3C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nnard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by Dennard in 19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known 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stant fie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c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 fields remain the same as features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ing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imensions (x, y, z =&gt; W, L,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ping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5: Scaling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99DC9-FC4D-463C-B2B4-86B3FE98793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vice Scal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685800" y="1523880"/>
          <a:ext cx="5334120" cy="4443480"/>
        </p:xfrm>
        <a:graphic>
          <a:graphicData uri="http://schemas.openxmlformats.org/drawingml/2006/table">
            <a:tbl>
              <a:tblPr/>
              <a:tblGrid>
                <a:gridCol w="2484360"/>
                <a:gridCol w="1095480"/>
                <a:gridCol w="1754280"/>
              </a:tblGrid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eter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sitivi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nnard Scal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: Leng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: Width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x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gate oxide thicknes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supply volt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threshold voltag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: substrate do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β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/(L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x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n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ON current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β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: effective resistan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I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: gate capacitanc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L/t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x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τ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 gate dela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C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: clock frequenc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: switching energy / ga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DD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: switching power / ga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: area per gate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L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S</a:t>
                      </a:r>
                      <a:r>
                        <a:rPr b="0" lang="en-US" sz="15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0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ing power densi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/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itching current density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15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on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A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5: Scaling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0A4AC-E495-4952-BE6B-6BF305AB677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capacitance per micron is nearly independent of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ON resistance * micron improves with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get faster with scaling (go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power goes down with scaling (go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density goes up with scaling (b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5: Scaling and Econom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A0510-59C1-4C3B-B370-158C1A69D07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capacitance is typically about 1 fF/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ypical FO4 inverter delay for a process of feature siz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in nm) is about 0.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ON resistance of a unit (4/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transist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4 = 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5 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 = (0.5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/ 15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/30) ps/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 = 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R = 16.6 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resistance is roughly independent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685800" y="4038480"/>
            <a:ext cx="68580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Microsoft Office User</cp:lastModifiedBy>
  <cp:lastPrinted>2015-03-31T17:38:31Z</cp:lastPrinted>
  <dcterms:modified xsi:type="dcterms:W3CDTF">2020-03-04T16:11:32Z</dcterms:modified>
  <cp:revision>2232</cp:revision>
  <dc:subject/>
  <dc:title>PowerPoint Presentation</dc:title>
</cp:coreProperties>
</file>