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wmf" ContentType="image/x-wmf"/>
  <Override PartName="/ppt/media/image1.png" ContentType="image/png"/>
  <Override PartName="/ppt/media/image2.jpeg" ContentType="image/jpeg"/>
  <Override PartName="/ppt/media/image5.png" ContentType="image/png"/>
  <Override PartName="/ppt/media/image10.png" ContentType="image/png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13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159080" cy="3650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5441760" y="0"/>
            <a:ext cx="4159080" cy="3650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2975040" y="547200"/>
            <a:ext cx="3659040" cy="274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4"/>
          </p:nvPr>
        </p:nvSpPr>
        <p:spPr>
          <a:xfrm>
            <a:off x="-36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5"/>
          </p:nvPr>
        </p:nvSpPr>
        <p:spPr>
          <a:xfrm>
            <a:off x="544176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indent="0" algn="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DE2492B5-635F-4954-AFEA-37B03F2C6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E4CDCE08-22E2-4ECB-BD89-7C96A8710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30F41E8A-5D79-4866-B8D5-922F02B8B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1793100E-4BA7-4810-A789-4BA0A5D78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88785145-9534-4B23-B20D-4A43B3068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BCCF1F4F-8FBE-4061-9647-28B6D9591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64C4A579-A146-4BF6-A271-2AE6C7DE8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15559740-0D05-4233-9E76-914F16EED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31FCF8CF-8FB5-4CC7-A459-5D8AB7797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6AFB3FE4-67F3-466D-B73F-9CDEC3C33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948AC17B-D528-438E-9C10-6EA8D917F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8F686B54-0237-44CB-837C-E74C33F30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4FA8360D-DF38-49E4-8487-60509C6E4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D0B26F82-F46A-4231-97A5-56E00A30D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2F05F7E9-0921-476C-856E-13B1B849A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A1448A76-B8F3-4DCB-8726-D3C4B9959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EC149A99-A28C-42D8-BA4E-418650DDB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432773C3-F9DF-4AAD-BC6B-6AC046B8B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6D7DD7B0-B8D8-45D3-9D07-83886646A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8D0DCF14-7817-455E-8A53-3545E8368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EE0C520A-DC09-41C7-BED6-F81E5E63A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3079CDE9-BB14-4B08-BB96-F1C136D73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9551425A-5573-4203-BE7E-78A900492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F519EB64-E0DC-4B0F-AACF-E3CBD4462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5F2D102A-4DF4-4BC5-ABE2-51D1974A2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03F8B491-0B7F-44E1-8D8D-88B638C3A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ACA27195-E562-43A3-89B2-5D3F566C2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62BFAD15-E946-4AC0-8E6C-DB43D4169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930F60B6-2698-4227-A60B-BC88A9A0C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9DF38A67-6899-4F5E-9064-F8437CE81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36EE1-E06F-4826-B093-0B8CB8FC98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CD38D-9C02-43F1-AA85-F5CD44AF4C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9F92C-79E9-4902-A10C-3B0CC49F2F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25463-14CA-43AD-9551-5599157CE0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FE528-AE83-4E02-BAC4-61907A0EC5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8FEBD-F07E-4F3F-989D-5832EBD36B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CAC8D-FA03-4A4B-B446-FE36F85584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C9A98-5FD2-4920-8CF1-F7AFB24871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5CC85-B6A1-499B-AD91-C4346A21A4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B42B2-B2D2-4A66-8FEE-8DD0992CAF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4757C-9900-438F-A30A-46E5CF9223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FD52D-CAFC-453A-9040-D10C5311F3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5: Scaling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7EFE-E621-4540-BB40-042034371CD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14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7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caling &amp; Econom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13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5: Scaling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036D-AC32-4BAB-A160-078FB6FEFF2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al Scal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 has slowed since 65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by gate tunneling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are only about 4 atomic layers thic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-k dielectrics have helped continued scaling of effective oxide thick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 has slowed since 65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RAM cell stability at low voltage is challe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nard scaling predicts cost, speed, power all impr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ow 65 nm, some designers find they must choose just two of the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5: Scaling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81BF-637D-4466-B9CF-992A34055E1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cross-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s, t all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/ scaled 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size scaled by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≈ 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5: Scaling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EACB-3507-4FE6-8419-D97715DA105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1523880"/>
          <a:ext cx="6781680" cy="3556080"/>
        </p:xfrm>
        <a:graphic>
          <a:graphicData uri="http://schemas.openxmlformats.org/drawingml/2006/table">
            <a:tbl>
              <a:tblPr/>
              <a:tblGrid>
                <a:gridCol w="4114800"/>
                <a:gridCol w="1371600"/>
                <a:gridCol w="1295280"/>
              </a:tblGrid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itivi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e Fact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: wid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: spac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: thicknes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: heigh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die siz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wire resistance/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w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f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fringing capacitance / 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p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parallel plate capacitance / 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/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total wire capacitance / 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f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u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unrepeated RC delay / 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r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repeated RC delay / 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rt(RCR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rt(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sstalk nois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/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energy per bit / 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5: Scaling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13DC-AC4B-4DCA-8813-D5F1772D284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5800" y="1523880"/>
          <a:ext cx="6705720" cy="1270080"/>
        </p:xfrm>
        <a:graphic>
          <a:graphicData uri="http://schemas.openxmlformats.org/drawingml/2006/table">
            <a:tbl>
              <a:tblPr/>
              <a:tblGrid>
                <a:gridCol w="2743200"/>
                <a:gridCol w="1143000"/>
                <a:gridCol w="1828800"/>
                <a:gridCol w="990720"/>
              </a:tblGrid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itivi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 / Semiglob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: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repeated wire RC del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eated wire del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rt(1/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rt(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 per bi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5: Scaling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5922-913B-4045-99D0-989C8247288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 per micron is remaining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0.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ghly 1/5 of gat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wires are getting f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quite tracking transistor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ot a major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wires are getting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onger possible to cross chip in one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5: Scaling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CFB8-7A26-4E2F-A69E-B52FCB55ED6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T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iconductor Industry Association fore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l. Technology Roadmap for Semicondu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7848720" cy="2859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5: Scaling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88C3-5569-413E-9755-6CC275CE358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caling Implic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 W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W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ivity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i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5: Scaling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8709-8DB6-4AF6-9493-23EC329B8C9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st Improveme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03, $0.01 bought you 100,000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Law is still going 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4"/>
          <p:cNvPicPr/>
          <p:nvPr/>
        </p:nvPicPr>
        <p:blipFill>
          <a:blip r:embed="rId1"/>
          <a:stretch/>
        </p:blipFill>
        <p:spPr>
          <a:xfrm>
            <a:off x="838080" y="3335400"/>
            <a:ext cx="7543800" cy="26874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4495320" y="578808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Moore0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5: Scaling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CE0D-25B8-4D81-906A-D8D2E978980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Wo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A made a gloomy forecast in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would reach minimum at 250 – 180 nm, then get worse because of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leading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kgate blocks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3962520" y="2971800"/>
          <a:ext cx="472428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971800"/>
                    <a:ext cx="472428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Text Box 5"/>
          <p:cNvSpPr/>
          <p:nvPr/>
        </p:nvSpPr>
        <p:spPr>
          <a:xfrm>
            <a:off x="5867640" y="5788080"/>
            <a:ext cx="68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SIA97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5: Scaling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80AB-B7F6-4762-9FC1-14DE8A18003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achable Radiu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send a signal across a large fast chip in one cycle any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 microarchitect can plan around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as off-chip memory latencies were tole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2133720" y="3276720"/>
            <a:ext cx="2457360" cy="2666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5: Scaling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FB4C-9220-4B0E-B248-AE1DD1DEE4A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5: Scaling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B901-6689-4AA1-8EA2-96A332D3C9D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ynamic 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VP Patrick Gelsinger (ISSCC 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caling continues at present pace, by 2005, high speed processors would have power density of nuclear reactor, by 2010, a rocket nozzle, and by 2015, surface of s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as usual will not work in the future.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tion to power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5868000" y="5788080"/>
            <a:ext cx="55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Intel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6" descr=""/>
          <p:cNvPicPr/>
          <p:nvPr/>
        </p:nvPicPr>
        <p:blipFill>
          <a:blip r:embed="rId1"/>
          <a:stretch/>
        </p:blipFill>
        <p:spPr>
          <a:xfrm>
            <a:off x="4800600" y="3886200"/>
            <a:ext cx="3200400" cy="1947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5: Scaling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3328-E9D6-431A-B73B-F6B99C8702A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atic 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dynam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 thin gate oxides and short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oint in high value because of velocity s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st decrease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devic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is causes exponent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in OFF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futur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028" descr="4"/>
          <p:cNvPicPr/>
          <p:nvPr/>
        </p:nvPicPr>
        <p:blipFill>
          <a:blip r:embed="rId1"/>
          <a:stretch/>
        </p:blipFill>
        <p:spPr>
          <a:xfrm>
            <a:off x="5181480" y="3429000"/>
            <a:ext cx="3426120" cy="256536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029"/>
          <p:cNvSpPr/>
          <p:nvPr/>
        </p:nvSpPr>
        <p:spPr>
          <a:xfrm>
            <a:off x="7010280" y="487692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030"/>
          <p:cNvSpPr/>
          <p:nvPr/>
        </p:nvSpPr>
        <p:spPr>
          <a:xfrm>
            <a:off x="6553080" y="3962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031"/>
          <p:cNvSpPr/>
          <p:nvPr/>
        </p:nvSpPr>
        <p:spPr>
          <a:xfrm>
            <a:off x="6327000" y="5791320"/>
            <a:ext cx="83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Moore0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5: Scaling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CF35-3C04-46FD-8371-29F0521A88D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ductiv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count is increasing faster than designer productivity (gates / wee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ger design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500 for a high-end micropro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expensive design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ure to raise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y on synthesis, IP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for good engineering 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5: Scaling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DB6E-851B-49A6-88A2-3DB0090BE3F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hysical Lim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Moo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Law run out of st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build transistors smaller than an atom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reasons have been predicted for end of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hreshold leakage, tunn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channel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brication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mi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mors of demise have been exagge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5: Scaling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09C9-D531-49D9-B68E-B3420A4185B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LSI Econom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ling price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(1-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= profit mar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otal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recurring engineering cost (N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ring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5: Scaling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018A-A1BD-4E5A-81AE-7DFA923A78B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R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ineering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size of design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benefits, training, 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 to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front end: $10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og front end: $100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back end: $1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 manufact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k costs: $5M in 45 n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ixture and package too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5: Scaling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7A87-2675-4BA7-9306-1E1889EC62B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curring Cos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fer cost / (Dice per wafer * Yie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fer cost: $500 - $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ce per waf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eld: Y =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mall A, Y ≈ 1, cost proportional to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arge A, Y ≈ 0, cost increases expon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406872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Object 4"/>
          <p:cNvGraphicFramePr/>
          <p:nvPr/>
        </p:nvGraphicFramePr>
        <p:xfrm>
          <a:off x="3886200" y="2819520"/>
          <a:ext cx="1905120" cy="75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819520"/>
                    <a:ext cx="190512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5: Scaling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8019-F4F0-40E7-B918-9ACC393B347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xed Cos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heets and application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 and advert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el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5: Scaling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1E4F-871E-419E-87E8-DC73BEFC796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ant to start a company to build a wireless communications chip.  How much venture capital must you rai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you are smarter than everyone else, you can get away with a small team in just two yea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 digital desig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analog desig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ve support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5: Scaling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255E-0858-4AC7-81A5-808E1FFDE11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design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70k 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30k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k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k CA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: $120k * 7 = $840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og desig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0k 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30k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k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0k CA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: $240k * 3 = $720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3962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45k 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20k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5k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: $70k * 5 = $350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br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-end tools: $1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ks: $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: $6M /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years @ $7.91M /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6M design &amp; proto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5: Scaling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E747-8BCF-40E9-900C-7094FC87A6F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ore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 Law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 that Moo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Law has been driving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895120" y="350208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Moore6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2133360" cy="1913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0104"/>
          <p:cNvPicPr/>
          <p:nvPr/>
        </p:nvPicPr>
        <p:blipFill>
          <a:blip r:embed="rId2"/>
          <a:stretch/>
        </p:blipFill>
        <p:spPr>
          <a:xfrm>
            <a:off x="685800" y="4089240"/>
            <a:ext cx="4191120" cy="1854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0105"/>
          <p:cNvPicPr/>
          <p:nvPr/>
        </p:nvPicPr>
        <p:blipFill>
          <a:blip r:embed="rId3"/>
          <a:stretch/>
        </p:blipFill>
        <p:spPr>
          <a:xfrm>
            <a:off x="5105520" y="2514600"/>
            <a:ext cx="3276360" cy="20271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1"/>
          <p:cNvSpPr/>
          <p:nvPr/>
        </p:nvSpPr>
        <p:spPr>
          <a:xfrm>
            <a:off x="3200400" y="5791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r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Law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5410080" y="464832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llary: clock speeds have impro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5: Scaling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5FAB-F0AA-40DA-9A3A-79319FDFA90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more transistors per 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r 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faster comput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faster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microarchitecture (more I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wer gate delays per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5: Scaling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2F07-6D60-44F0-8BE4-E9A1FE73D46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ly constant in VLSI is constan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 size shrinks by 30% every 2-3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become che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become faster and lower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s do not impro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nd may get wor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factor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Object 5"/>
          <p:cNvGraphicFramePr/>
          <p:nvPr/>
        </p:nvGraphicFramePr>
        <p:xfrm>
          <a:off x="2895480" y="4572000"/>
          <a:ext cx="990720" cy="44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4572000"/>
                    <a:ext cx="9907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>
            <a:off x="4419720" y="3654360"/>
            <a:ext cx="4038480" cy="2289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5: Scaling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7283-9E19-4F0D-869C-F09487D9C56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nnard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by Dennard in 19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known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stant fie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 fields remain the same as features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imensions (x, y, z =&gt; W, L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ping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5: Scaling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0A2D-F967-446A-857C-F2F7F5E1AAF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vice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85800" y="1523880"/>
          <a:ext cx="5334120" cy="4443480"/>
        </p:xfrm>
        <a:graphic>
          <a:graphicData uri="http://schemas.openxmlformats.org/drawingml/2006/table">
            <a:tbl>
              <a:tblPr/>
              <a:tblGrid>
                <a:gridCol w="2484360"/>
                <a:gridCol w="1095480"/>
                <a:gridCol w="1754280"/>
              </a:tblGrid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itivi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nard Scal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: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: Wid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x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gate oxide thicknes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supply volt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threshold volt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: substrate do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/(L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x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n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ON curr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β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: effective resistan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I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: gate capacitan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L/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τ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gate del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: clock frequenc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: switching energy / ga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: switching power / ga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: area per ga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ing power densi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/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ing current densi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n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5: Scaling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2A1D-192C-443A-B45A-CAB4A49B134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capacitance per micron is nearly independent of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ON resistance * micron improves with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get faster with scaling (go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ower goes down with scaling (go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density goes up with scaling (b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5: Scaling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ED41-F416-4D23-B047-3F3C489D209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capacitance is typically about 1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ypical FO4 inverter delay for a process of feature siz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n nm) is about 0.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ON resistance of a unit (4/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transis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4 = 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5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 = (0.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/ 15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30) ps/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 =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 = 16.6 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resistance is roughly independent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685800" y="4038480"/>
            <a:ext cx="68580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Microsoft Office User</cp:lastModifiedBy>
  <cp:lastPrinted>2015-03-31T17:38:31Z</cp:lastPrinted>
  <dcterms:modified xsi:type="dcterms:W3CDTF">2020-03-04T16:11:32Z</dcterms:modified>
  <cp:revision>2232</cp:revision>
  <dc:subject/>
  <dc:title>PowerPoint Presentation</dc:title>
</cp:coreProperties>
</file>