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29.png" ContentType="image/png"/>
  <Override PartName="/ppt/media/image32.wmf" ContentType="image/x-wmf"/>
  <Override PartName="/ppt/media/image14.wmf" ContentType="image/x-wmf"/>
  <Override PartName="/ppt/media/image24.png" ContentType="image/png"/>
  <Override PartName="/ppt/media/image13.wmf" ContentType="image/x-wmf"/>
  <Override PartName="/ppt/media/image30.png" ContentType="image/png"/>
  <Override PartName="/ppt/media/image41.png" ContentType="image/png"/>
  <Override PartName="/ppt/media/image9.wmf" ContentType="image/x-wmf"/>
  <Override PartName="/ppt/media/image39.png" ContentType="image/png"/>
  <Override PartName="/ppt/media/image42.wmf" ContentType="image/x-wmf"/>
  <Override PartName="/ppt/media/image28.png" ContentType="image/png"/>
  <Override PartName="/ppt/media/image31.wmf" ContentType="image/x-wmf"/>
  <Override PartName="/ppt/media/image11.png" ContentType="image/png"/>
  <Override PartName="/ppt/media/image43.wmf" ContentType="image/x-wmf"/>
  <Override PartName="/ppt/media/image44.wmf" ContentType="image/x-wmf"/>
  <Override PartName="/ppt/media/image1.png" ContentType="image/png"/>
  <Override PartName="/ppt/media/image45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27.png" ContentType="image/png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35.wmf" ContentType="image/x-wmf"/>
  <Override PartName="/ppt/media/image5.wmf" ContentType="image/x-wmf"/>
  <Override PartName="/ppt/media/image10.png" ContentType="image/png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440" y="545760"/>
            <a:ext cx="3662280" cy="27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CE93FC2-03C3-4483-AFED-86F56392A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5C22F6-E092-4DA4-88AA-C5E839328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7A9A0A7-E4A8-473D-B46C-AD981B61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3539209-34C1-409A-B856-4D31A10B6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B0B0C0B-C5E6-4B74-BC05-31EC84999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6BB4D6B-DD73-44B1-B3DB-4B96F2043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B235BFF-1729-464F-9808-E60D912CE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8621D1F-6ADC-468F-BEB1-D0722804F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F2EF50B-465C-4CBA-9C36-BD1B1F308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898D5B72-A275-499E-A9B5-2840CCB34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63E6F7F-BB82-4266-AFF7-19899E7F6E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81BD0DB-C9D8-4FF0-A719-B9EA460A84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2C8F3E7-CFAD-4A43-AB36-FA86C31E1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4E0E2F1-C267-4CA1-A04F-48CA8F7332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BC68BB78-0335-496B-A1B9-5C87DA790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6EBA411-32E9-4D89-B8B2-7F044701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5E529DE-9A85-41CE-8CEF-C8A54EEDC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E5779B6D-D46F-4C64-8547-60C0E1CC5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F978BBD8-4552-4E25-9F73-0F1A2B29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10CC08F-B77A-4ADD-8D7B-BCF43F52D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E0B58E6-C58E-4312-A8F6-62FB69DF3E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1362725-5CAA-47F6-AECA-D0CB2E95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134E2604-CB50-41F5-B740-15F733FD26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2454E75-4B4A-4243-8989-6617662CF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5401B2F-F80F-4B36-946D-482D6B8BE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E75EEA8-7BD9-47B9-ACB4-2FEC44C21E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E7E874-D6E9-4EE6-BD6B-EE0971E48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C0790566-F598-4FC0-B0E9-F756A8AF8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5041492-FB0B-42D6-A493-56E259A19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2604F95-E466-446B-8D8C-8EC1FFB81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72331E3B-0134-4F17-B736-0EBD5019E9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4283C9DF-5B69-48EF-878D-882BD2160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2971800" y="546120"/>
            <a:ext cx="3662280" cy="27464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8B53C-8339-4888-9130-1EDE9E831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8288C-511E-4469-8A26-3C436F0D0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BE8D-5F43-4D7B-931E-C77C2B2C89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A64D2-F863-4FD9-B70B-66DEB284C1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ED287-7736-42C9-B3D3-EB9DF59A201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A3BD8-FC47-4912-8D88-07FAEB057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69C9A-7072-4921-AFBE-77365DAC5C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6984D-D55C-4C21-8CFE-3636E32B66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3FB13-807A-4FCB-9065-36E4E89C7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FA206-81E5-4390-9777-EED63E12E9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9AAA7-A439-4131-8C5E-6A7C676BD8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068E6-C9DE-46E2-B8DE-DFD33027B1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A63E7-D85B-46F6-B69A-DD04E2E1A4D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, ROMs,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45A41-3B5E-4E58-8891-DE70B97B64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lete ROM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833480" y="104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333760" cy="4636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18C4-861A-455A-8ACE-D0365EB4AB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Ms and EP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rray with transistors at every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n out fuses to disable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Programmable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oating gate to turn off unwanted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ROM, EEPROM, F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2514600" y="4114800"/>
          <a:ext cx="4038480" cy="173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4114800"/>
                    <a:ext cx="4038480" cy="17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85C93-95BD-400F-B478-83A2606D15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lash Programm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on floating gate determin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1: nega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0: positiv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s erased to 1 by applying a high body voltage so that electrons tunnel off floating gat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to 0 by applying high gate volt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tretch/>
        </p:blipFill>
        <p:spPr>
          <a:xfrm>
            <a:off x="1600200" y="4370400"/>
            <a:ext cx="5715000" cy="14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6DC1-C9B6-4B9E-AC63-AA1751BD29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density, low cost /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ed one page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ased one block at a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96-bi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 pages / 8 KB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locks /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6095880" y="1600200"/>
            <a:ext cx="2514600" cy="2097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610F7-88B8-4B28-8665-8E6EC6445E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64 Gb NAND Flas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K cells /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bits / cell (multipl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4 cells /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6 pages /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K blocks /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pl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4952880" y="1676520"/>
            <a:ext cx="3416400" cy="39621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5202360" y="566892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Trinh09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C44B-6F6F-4BB4-B287-29A5EBDEFCF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uilding Logic with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OM as lookup table containing truth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 requires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rds x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ging function is easy – reprogram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Stat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inputs, k outputs, s bits of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with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n+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x 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OM and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(k+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i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914400" y="4038480"/>
          <a:ext cx="2225520" cy="20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2225520" cy="20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5"/>
          <p:cNvGraphicFramePr/>
          <p:nvPr/>
        </p:nvGraphicFramePr>
        <p:xfrm>
          <a:off x="4343400" y="4495680"/>
          <a:ext cx="2971800" cy="135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43400" y="4495680"/>
                    <a:ext cx="2971800" cy="13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Rectangle 6"/>
          <p:cNvSpPr/>
          <p:nvPr/>
        </p:nvSpPr>
        <p:spPr>
          <a:xfrm>
            <a:off x="5334120" y="1981080"/>
            <a:ext cx="380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6781680" y="1981080"/>
            <a:ext cx="30492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2971800" y="3733920"/>
            <a:ext cx="16002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9"/>
          <p:cNvSpPr/>
          <p:nvPr/>
        </p:nvSpPr>
        <p:spPr>
          <a:xfrm>
            <a:off x="6400800" y="3733920"/>
            <a:ext cx="685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D54-8156-44F0-A8A7-AABDA93128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1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build an 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ns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tenna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,R) – 1 when in cont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Actuator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e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ward step 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 degree turns TL, T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Goal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our ant smart enough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t out of a ma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trategy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eep right antenna on w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1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oboAnt adapted from MIT 6.004 2002 OpenCourseWare by Ward and Term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4419720" y="2514600"/>
            <a:ext cx="990360" cy="1127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5638680" y="3581280"/>
            <a:ext cx="2065320" cy="20415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7"/>
          <p:cNvSpPr/>
          <p:nvPr/>
        </p:nvSpPr>
        <p:spPr>
          <a:xfrm>
            <a:off x="43452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5183640" y="220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18D86-FB7E-4A0D-BDBC-E4E93DF386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st in spac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go forward until we hit some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4" descr=""/>
          <p:cNvPicPr/>
          <p:nvPr/>
        </p:nvPicPr>
        <p:blipFill>
          <a:blip r:embed="rId1"/>
          <a:stretch/>
        </p:blipFill>
        <p:spPr>
          <a:xfrm>
            <a:off x="3581280" y="1752480"/>
            <a:ext cx="1393920" cy="1257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5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1997280" cy="1447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1B01-5A93-482F-AA5C-3E3541A0F2E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onk!!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turn left (rotate counterclockw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we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touch anym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334120" cy="1349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"/>
          <p:cNvPicPr/>
          <p:nvPr/>
        </p:nvPicPr>
        <p:blipFill>
          <a:blip r:embed="rId2"/>
          <a:stretch/>
        </p:blipFill>
        <p:spPr>
          <a:xfrm>
            <a:off x="838080" y="4114800"/>
            <a:ext cx="3063960" cy="1913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C8AA-E7D1-4E26-A5E6-98753C34B93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little to the righ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forward and turn right a lit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ing for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1152360" cy="14634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5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3048120" cy="2224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B1BF-A63B-4492-B37F-E7285AA541C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-Addressable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mable Logic Arr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7610-2644-422C-A9CE-C1046E8E141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hen a little to the lef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left a little, until not tou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124080" y="1600200"/>
            <a:ext cx="1006560" cy="15159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4114800" cy="2307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7BBA-1BD3-4D31-9FA6-DEB41E4D77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Whoops – a corner!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: step and turn right until hitting next w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>
            <a:off x="1905120" y="1600200"/>
            <a:ext cx="4457520" cy="16542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2"/>
          <a:stretch/>
        </p:blipFill>
        <p:spPr>
          <a:xfrm>
            <a:off x="762120" y="3657600"/>
            <a:ext cx="4038480" cy="239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D897-E4FB-4087-81EC-F5F736142B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ge equivalent states where po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609480" y="2590920"/>
            <a:ext cx="3429000" cy="2036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429000" cy="2417760"/>
          </a:xfrm>
          <a:prstGeom prst="rect">
            <a:avLst/>
          </a:prstGeom>
          <a:ln w="0">
            <a:noFill/>
          </a:ln>
        </p:spPr>
      </p:pic>
      <p:sp>
        <p:nvSpPr>
          <p:cNvPr id="194" name="Line 6"/>
          <p:cNvSpPr/>
          <p:nvPr/>
        </p:nvSpPr>
        <p:spPr>
          <a:xfrm>
            <a:off x="4114800" y="3505320"/>
            <a:ext cx="609480" cy="0"/>
          </a:xfrm>
          <a:prstGeom prst="line">
            <a:avLst/>
          </a:prstGeom>
          <a:ln w="255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A3FF0-F5D6-4D13-A9F8-D2D6A9ABBE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tate Transition T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981080" y="1752480"/>
          <a:ext cx="5029200" cy="4095720"/>
        </p:xfrm>
        <a:graphic>
          <a:graphicData uri="http://schemas.openxmlformats.org/drawingml/2006/table">
            <a:tbl>
              <a:tblPr/>
              <a:tblGrid>
                <a:gridCol w="719280"/>
                <a:gridCol w="717480"/>
                <a:gridCol w="719280"/>
                <a:gridCol w="717480"/>
                <a:gridCol w="719280"/>
                <a:gridCol w="717480"/>
                <a:gridCol w="71892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9" name="Line 132"/>
          <p:cNvSpPr/>
          <p:nvPr/>
        </p:nvSpPr>
        <p:spPr>
          <a:xfrm flipH="1">
            <a:off x="1676160" y="21337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133"/>
          <p:cNvSpPr/>
          <p:nvPr/>
        </p:nvSpPr>
        <p:spPr>
          <a:xfrm>
            <a:off x="1676520" y="2590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134"/>
          <p:cNvSpPr/>
          <p:nvPr/>
        </p:nvSpPr>
        <p:spPr>
          <a:xfrm flipH="1">
            <a:off x="1676160" y="32004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35"/>
          <p:cNvSpPr/>
          <p:nvPr/>
        </p:nvSpPr>
        <p:spPr>
          <a:xfrm>
            <a:off x="1676520" y="365760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36"/>
          <p:cNvSpPr/>
          <p:nvPr/>
        </p:nvSpPr>
        <p:spPr>
          <a:xfrm flipH="1">
            <a:off x="1676160" y="48769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37"/>
          <p:cNvSpPr/>
          <p:nvPr/>
        </p:nvSpPr>
        <p:spPr>
          <a:xfrm>
            <a:off x="1676520" y="5334120"/>
            <a:ext cx="228600" cy="4572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38"/>
          <p:cNvSpPr/>
          <p:nvPr/>
        </p:nvSpPr>
        <p:spPr>
          <a:xfrm flipH="1">
            <a:off x="1676160" y="4191120"/>
            <a:ext cx="228600" cy="2286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39"/>
          <p:cNvSpPr/>
          <p:nvPr/>
        </p:nvSpPr>
        <p:spPr>
          <a:xfrm>
            <a:off x="1676520" y="4419720"/>
            <a:ext cx="228600" cy="3045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40"/>
          <p:cNvSpPr/>
          <p:nvPr/>
        </p:nvSpPr>
        <p:spPr>
          <a:xfrm>
            <a:off x="83988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41"/>
          <p:cNvSpPr/>
          <p:nvPr/>
        </p:nvSpPr>
        <p:spPr>
          <a:xfrm>
            <a:off x="536400" y="34290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CC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42"/>
          <p:cNvSpPr/>
          <p:nvPr/>
        </p:nvSpPr>
        <p:spPr>
          <a:xfrm>
            <a:off x="689040" y="41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43"/>
          <p:cNvSpPr/>
          <p:nvPr/>
        </p:nvSpPr>
        <p:spPr>
          <a:xfrm>
            <a:off x="689040" y="51055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ll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92BE-852E-4E4F-B796-6F1C2BB4667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8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2FDA-26E6-4881-B588-063A318A08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Implement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6-word x 5 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Object 4"/>
          <p:cNvGraphicFramePr/>
          <p:nvPr/>
        </p:nvGraphicFramePr>
        <p:xfrm>
          <a:off x="4495680" y="1600200"/>
          <a:ext cx="4114800" cy="131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114800" cy="13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5"/>
          <p:cNvGraphicFramePr/>
          <p:nvPr/>
        </p:nvGraphicFramePr>
        <p:xfrm>
          <a:off x="1295280" y="1905120"/>
          <a:ext cx="24084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24084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1096-0DF4-401A-B8E7-B49FB91F71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grammable Logic Arr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forms any function in sum-of-products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puts &amp; comp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oducts / Minte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ND of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utpu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R of Minte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Full 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37638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990720" y="4648320"/>
          <a:ext cx="3962160" cy="112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648320"/>
                    <a:ext cx="3962160" cy="11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6"/>
          <p:cNvGraphicFramePr/>
          <p:nvPr/>
        </p:nvGraphicFramePr>
        <p:xfrm>
          <a:off x="5257800" y="3048120"/>
          <a:ext cx="3137040" cy="309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13704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5DCD-2BFA-4E9D-AE29-A7870ABA821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R-NOR PLA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s and ORs are not very efficient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or Pseudo-nMOS NORs are very effic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DeMorga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w to convert to all N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4"/>
          <p:cNvGraphicFramePr/>
          <p:nvPr/>
        </p:nvGraphicFramePr>
        <p:xfrm>
          <a:off x="1066680" y="2895480"/>
          <a:ext cx="295596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95596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5"/>
          <p:cNvGraphicFramePr/>
          <p:nvPr/>
        </p:nvGraphicFramePr>
        <p:xfrm>
          <a:off x="4648320" y="2895480"/>
          <a:ext cx="3070080" cy="308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2895480"/>
                    <a:ext cx="307008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04F8E-82D2-464B-8266-5CE1B5BCD1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 Schematic &amp;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47" name="Object 4"/>
          <p:cNvGraphicFramePr/>
          <p:nvPr/>
        </p:nvGraphicFramePr>
        <p:xfrm>
          <a:off x="685800" y="1676520"/>
          <a:ext cx="4135320" cy="42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4135320" cy="42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Rectangle 6"/>
          <p:cNvSpPr/>
          <p:nvPr/>
        </p:nvSpPr>
        <p:spPr>
          <a:xfrm>
            <a:off x="355932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5"/>
          <p:cNvGraphicFramePr/>
          <p:nvPr/>
        </p:nvGraphicFramePr>
        <p:xfrm>
          <a:off x="5105520" y="1600200"/>
          <a:ext cx="3268440" cy="449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1600200"/>
                    <a:ext cx="32684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7281-B188-4F56-91DD-7522349297D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LAs vs. RO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R plane of the PLA is like the ROM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ND plane of the PLA is like the ROM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s are more flexible than R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to hav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ws for n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generate the minterms that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advantage of logic simpl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2C5FD-A772-4A9D-8717-D9EA120818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sion of ordinary memory (e.g.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memory as us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at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see which words contain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4"/>
          <p:cNvGraphicFramePr/>
          <p:nvPr/>
        </p:nvGraphicFramePr>
        <p:xfrm>
          <a:off x="1828800" y="3048120"/>
          <a:ext cx="510552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3048120"/>
                    <a:ext cx="510552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29499-79E5-426A-85C3-CA0C781E230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oboAnt PLA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state transition table to logic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609480" y="1924200"/>
          <a:ext cx="5181840" cy="4095720"/>
        </p:xfrm>
        <a:graphic>
          <a:graphicData uri="http://schemas.openxmlformats.org/drawingml/2006/table">
            <a:tbl>
              <a:tblPr/>
              <a:tblGrid>
                <a:gridCol w="741600"/>
                <a:gridCol w="739800"/>
                <a:gridCol w="741240"/>
                <a:gridCol w="736560"/>
                <a:gridCol w="741240"/>
                <a:gridCol w="739800"/>
                <a:gridCol w="741600"/>
              </a:tblGrid>
              <a:tr h="3837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:0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61" name="Picture 111" descr=""/>
          <p:cNvPicPr/>
          <p:nvPr/>
        </p:nvPicPr>
        <p:blipFill>
          <a:blip r:embed="rId1"/>
          <a:stretch/>
        </p:blipFill>
        <p:spPr>
          <a:xfrm>
            <a:off x="5943600" y="2057400"/>
            <a:ext cx="1828800" cy="14684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2" descr=""/>
          <p:cNvPicPr/>
          <p:nvPr/>
        </p:nvPicPr>
        <p:blipFill>
          <a:blip r:embed="rId2"/>
          <a:stretch/>
        </p:blipFill>
        <p:spPr>
          <a:xfrm>
            <a:off x="5943600" y="3733920"/>
            <a:ext cx="1752480" cy="1433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13"/>
          <p:cNvGraphicFramePr/>
          <p:nvPr/>
        </p:nvGraphicFramePr>
        <p:xfrm>
          <a:off x="5943600" y="5181480"/>
          <a:ext cx="89856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Object 1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3600" y="5181480"/>
                    <a:ext cx="8985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6863-5364-4FC6-8448-8C252DF30FF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7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boAnt Dot Diagram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3048120" y="1676520"/>
          <a:ext cx="5257800" cy="427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8120" y="1676520"/>
                    <a:ext cx="5257800" cy="42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762120" y="2286000"/>
          <a:ext cx="1844640" cy="1560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2286000"/>
                    <a:ext cx="1844640" cy="156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EF925-B773-43B3-BAEA-05F27F12BD4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10T CAM Cell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four match transistors to 6T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6 x 4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it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990720" y="2743200"/>
          <a:ext cx="286704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743200"/>
                    <a:ext cx="286704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Object 5"/>
          <p:cNvGraphicFramePr/>
          <p:nvPr/>
        </p:nvGraphicFramePr>
        <p:xfrm>
          <a:off x="4191120" y="2819520"/>
          <a:ext cx="3733560" cy="2855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373356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71EF-FB06-4FF7-AB55-B2C8B7A1E5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M Cell Ope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and write like ordinary S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atc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ve wordline 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charge match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key on bit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chlines evalu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eudo-nMOS NOR of match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es high if no words m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648320" y="1905120"/>
          <a:ext cx="3886200" cy="26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05120"/>
                    <a:ext cx="3886200" cy="26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C13FB-B270-4738-AB88-AE0FD44082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ad-Only Memori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-Only Memories are nonvolat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ain their contents when power is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k-programmed ROMs use one transistor per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ce or absence determines 1 or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00D6-01FD-4794-A2EC-32CB922B80E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word x 6-bit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ed with dot di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ts indicate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in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6095880" y="1600200"/>
            <a:ext cx="228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0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1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110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2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0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ord 3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101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Object 5"/>
          <p:cNvGraphicFramePr/>
          <p:nvPr/>
        </p:nvGraphicFramePr>
        <p:xfrm>
          <a:off x="990720" y="2819520"/>
          <a:ext cx="4343400" cy="300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4343400" cy="30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6"/>
          <p:cNvGraphicFramePr/>
          <p:nvPr/>
        </p:nvGraphicFramePr>
        <p:xfrm>
          <a:off x="5486400" y="3657600"/>
          <a:ext cx="2743200" cy="197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86400" y="3657600"/>
                    <a:ext cx="2743200" cy="19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Rectangle 7"/>
          <p:cNvSpPr/>
          <p:nvPr/>
        </p:nvSpPr>
        <p:spPr>
          <a:xfrm>
            <a:off x="1071360" y="5715000"/>
            <a:ext cx="436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s like 6 4-input pseudo-nMOS N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74E02-B5EE-4765-BA27-8D2F679B5CF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M Array Layo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cell is 12 x 8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λ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bout 1/10 size of SR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447920" y="2286000"/>
          <a:ext cx="5790960" cy="36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86000"/>
                    <a:ext cx="5790960" cy="36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0: CAMs, ROMs, and PL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6F07-CB6E-4B6F-8084-004CA6E64C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ow Decod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 row decoders must pitch-match with 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 single track per wor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236700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6933960" cy="368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6-01-26T22:08:32Z</cp:lastPrinted>
  <dcterms:modified xsi:type="dcterms:W3CDTF">2020-03-04T16:11:40Z</dcterms:modified>
  <cp:revision>1571</cp:revision>
  <dc:subject/>
  <dc:title>PowerPoint Presentation</dc:title>
</cp:coreProperties>
</file>