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41.png" ContentType="image/png"/>
  <Override PartName="/ppt/media/image9.wmf" ContentType="image/x-wmf"/>
  <Override PartName="/ppt/media/image39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576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1E15E2-FB57-4B6A-80AE-321AF4BB8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CE82C6-D675-4B2D-B1D6-D2FC49E2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BF6829-9E49-43FF-AB7B-BE897BC2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639AC8-6C76-4F85-97B6-FC8674C8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96A6C0C-FC39-4CE4-99CD-201B8DCE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EAD813-D03B-487E-8B13-AC6713A0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F9CBEF-6974-4554-9C85-29FBD05C7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A02A52-3732-4E49-829D-02A782C6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368FC2-9D12-43F2-9272-9BF87BB07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0B4FCC-A122-4EBF-BDB3-9D1202F9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3BCED1-602D-46BF-A776-C97A0536A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2730C6-10D5-4231-8794-D184667B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10E29A-24FB-4C73-87F8-043049B2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BF091CC-74BC-498A-B6BC-D5388453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0D939F-55AB-47DD-8C58-D92E0C0A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B34B25-EBF7-4734-9304-28D716ACB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3DCB17-1A98-4B90-988F-3D606452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945BA6-1688-4545-8429-654C91EF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B26C99-8BEF-4052-92A2-500A539F6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4C9EDA-54B0-4ACA-983F-5ECB12D0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820EF5-0A5A-4509-A786-F3D534601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97238B-CA31-420B-8157-3E994F0C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9B0343-3FA0-4CBC-8CF4-65148871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60FF51-A57A-4F45-BF8E-769B8D68A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F0CF113-161C-4D22-818B-DB508455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7A6506-0F0C-4571-8917-580FE93B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BD5BF65-9178-4EB2-A577-F0131CD2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89A7FD-B29A-4683-A494-79DA9D48F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4BFC91-150D-4C24-AB74-4783C746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F7FC49-2FC2-42D0-BE9A-A22515A1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51BAA6-835F-4F28-8B51-161F5F9F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D31D42-53A9-4E49-95F2-DE9FE4C7F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FA7A-4948-4CFF-A89D-D63814D97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07EB-7FAB-4C58-B892-5BD5FF796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A4EC-2D9F-447D-86D4-D67B33C3D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42AA-8C82-449D-A728-12A794D8B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5CCA-94CB-483F-A3BB-38E4462F1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4444-07F4-4EB9-ABC9-760E83F69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BFB3-B378-4514-8080-A77FC7E6E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A860-0F50-475B-A7C1-553819F7E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C711-22AB-4CC4-AFA4-09C55D08C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AB34-447B-454C-9FFC-3ACB1154D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9F26-EDDA-443E-AFA1-D65B3AD1F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9820-7D93-4AC5-8B3D-B01544734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C4B3-8545-4D45-AFED-705296AB3A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BD7-BCB8-44D2-8606-38C50C4E6A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F43-F55B-45A1-9477-BF453EC4C2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844-D618-43D9-9BD6-59C693CBE0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378-D0AA-48AF-BD94-CFECEAF992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B606-03A7-49DD-8E7D-25F4797300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CA7-0DA9-4F58-AE57-CF53654912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5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935-15C7-4149-9A5D-1571677344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0A6-CDC8-4625-A2B8-969AEC7AE8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F3B-C1D2-4D91-A6FD-1D226BB72F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F19-8A90-4C3B-8F45-27C4DE22E9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6E5-E2B2-4ADE-BCA2-C58616A0E0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2FF-B540-4BD4-9743-60A9444B0B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F2D-FA56-4C1C-95C3-8CBCFC34E2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C9A-E809-43AD-85AE-B97B58D1E6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94" name="Line 6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D44-7B65-4DA4-85E9-CA5A4FD7D0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Line 132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33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4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5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6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7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8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39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0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1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2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3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E2E-267B-45FC-9EAE-962D2C2B20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DC7-2505-4B8A-9A7F-63BA62FDA5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0EED-8A06-42A4-9DA3-22C7EA6501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A148-EACF-4381-BB12-5B6444C054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868-4EDE-4567-8222-D9D8ACF830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6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4EF-3E43-4D84-BFB8-895B01B581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6B8B-5723-4CDB-A8AA-1529426639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992-8C05-4D1C-B78B-C0192A88F1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1924200"/>
          <a:ext cx="5181840" cy="4095720"/>
        </p:xfrm>
        <a:graphic>
          <a:graphicData uri="http://schemas.openxmlformats.org/drawingml/2006/table">
            <a:tbl>
              <a:tblPr/>
              <a:tblGrid>
                <a:gridCol w="741600"/>
                <a:gridCol w="739800"/>
                <a:gridCol w="741240"/>
                <a:gridCol w="736560"/>
                <a:gridCol w="741240"/>
                <a:gridCol w="739800"/>
                <a:gridCol w="74160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Picture 111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2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13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1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D05-0715-4785-BB64-737FA52807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A374-B8EC-454E-9C98-E9BB46711F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8FCF-09F7-4B5D-9EEC-FBF17C4C4C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7D6D-CC2B-40C3-8774-273202B630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F3C-FE11-4EBA-9936-E64C41DBED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FA15-8899-4B64-8A40-0B5AF2EAD2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6B3-55DA-4238-BD93-8D5DD9892F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6-01-26T22:08:32Z</cp:lastPrinted>
  <dcterms:modified xsi:type="dcterms:W3CDTF">2020-03-04T16:11:40Z</dcterms:modified>
  <cp:revision>1571</cp:revision>
  <dc:subject/>
  <dc:title>PowerPoint Presentation</dc:title>
</cp:coreProperties>
</file>