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2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9269413" cy="6983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70000" cy="698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52760" y="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892240" y="522360"/>
            <a:ext cx="3493800" cy="262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5276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16B63C9-6F02-4F8D-8788-34F8EF796C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9CC1B1E-DD61-42B2-B49D-FD1B0F65A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90221F9-5CF9-4B95-99BC-06A1768F5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4F90DB9-FFF1-4702-973C-2A91BCB87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4342501E-AFD9-4E6E-BB01-082DD8C826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1359B6B-E26D-4E6C-9E04-A2E98A869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19A56D3-20B2-406B-89A6-6A8E1C83E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702966C-725A-4853-971A-5F0EE02DE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B46D481-6035-4F7B-9937-1B3EEF81E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CA42983-799C-47F9-9E4F-A809EDD1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2CDB6F0-F71E-4431-A800-D4A8CAB4F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1529C7D8-9520-467A-87E9-17BE56122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6D048C7-8491-422B-9DC5-2755836E1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35FD43-F4D0-4521-8EF1-D5E758AAF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476387E-14DE-4717-A0C7-AFC161318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6D74A94-7345-47A2-AC75-CB5A51F46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2068B73-578E-47EB-B7EB-62E5AE972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EBBE448-E11D-43D8-9C89-89F9D4FDD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56553C8-957F-416E-9A00-7007E603D2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A48E29C-F6C0-4199-9111-0FA103FFB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7D0C1FF-52DC-4AAA-A0C1-7AAB8B109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3456FA2-91EA-4CA2-9E89-AB91AAA61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55032FD-E2AB-4221-BFDE-13CDD15F2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E18CAA8-FAC6-4E92-93A4-20D0678E9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A977A1-F547-4DAA-8F02-2579AEF818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3CC6040-740B-45C2-B5F8-3AF9C5B0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80010668-42F5-4DBE-BB71-FB6959C9E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E88EA3F-A9C1-4BAB-BD32-0AE23C2FA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36C834C-6FD3-41CE-AA18-BC5B59F67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E8FE1B79-9338-4EA3-B1CE-AD1804A58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6500B27-E387-4BDE-AA6A-8B3DC162F7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C7953EF9-1415-4487-A462-7A58571AC6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0DBDED9-99BC-4367-BE2B-A74E33CEC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A78F033-4401-4882-A42F-649BEF40B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7D98DF0-65D5-4ABF-82FF-6FDA72D2D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CAFC020-0DEE-455F-ABB5-6E89BC487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D8E1DC3-9B38-438C-ABD4-CA6264411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C91C8F2-E356-47F1-94CD-EE0DAC4AF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F2E7C92F-185F-4F90-9860-3065D429E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53120" y="6635880"/>
            <a:ext cx="401796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7163B078-A693-4FB5-A28C-0C073A8C1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892600" y="522360"/>
            <a:ext cx="3493800" cy="26208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6240" y="3317760"/>
            <a:ext cx="679788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F255B-2D3E-4893-B833-9367981704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6E89E-2E19-4490-A434-C38E1CF5F4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23D12-E120-4953-8012-A12AAC3418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24A22-FF3D-4CF1-8371-50E7E687EE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385A7-46BB-4F07-ADE9-7C7102E98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2D141-2F84-4D55-9F44-3C20F81E96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A88BBA-5B8F-47DF-A852-122B1C57F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D2603-4A2A-4A26-8B2E-2A955BC28F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18D67-0158-4033-931C-305FBA653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808A0-12E4-450E-9843-A5651CC85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E8DCD-5AF5-4A9A-80F4-3A69D509D3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BFF76-E91E-423C-B40A-3A7608FAD8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28AC-0464-4957-84C1-E80DFD481A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5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C7A1-F23A-4427-8457-AD8D13D340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Column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4"/>
          <p:cNvGraphicFramePr/>
          <p:nvPr/>
        </p:nvGraphicFramePr>
        <p:xfrm>
          <a:off x="990720" y="1981080"/>
          <a:ext cx="211284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981080"/>
                    <a:ext cx="211284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4267080" y="1981080"/>
          <a:ext cx="2178000" cy="289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1981080"/>
                    <a:ext cx="21780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25A6-7C3F-41D7-932F-833EC8C029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is critical: 26 x 4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ven smaller in indust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 cells sharing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GND, bitlin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Object 4"/>
          <p:cNvGraphicFramePr/>
          <p:nvPr/>
        </p:nvGraphicFramePr>
        <p:xfrm>
          <a:off x="762120" y="2438280"/>
          <a:ext cx="23828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438280"/>
                    <a:ext cx="23828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5"/>
          <p:cNvGraphicFramePr/>
          <p:nvPr/>
        </p:nvGraphicFramePr>
        <p:xfrm>
          <a:off x="3276720" y="2424240"/>
          <a:ext cx="5248080" cy="36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2424240"/>
                    <a:ext cx="52480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19F04-27F9-430C-8292-061D69970E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in Cel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anometer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ends in polysilicon and diffu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ient all transistors in one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hographically friend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n ce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yout fixes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reduces length and capacitance of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1981080" y="3886200"/>
            <a:ext cx="4953240" cy="2146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156-2969-44BF-BEE8-5D79A77D50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mercial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generations of Intel SRAM cell micrograp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tion to thin cell at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ady scaling of cell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838080" y="3848040"/>
            <a:ext cx="7467840" cy="2124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5715000" y="2209680"/>
            <a:ext cx="2895480" cy="2376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D1ADC-808C-4359-AAF3-CE6249E220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oder consists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-input AND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needed for each row of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from NAND or NO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5"/>
          <p:cNvGraphicFramePr/>
          <p:nvPr/>
        </p:nvGraphicFramePr>
        <p:xfrm>
          <a:off x="4876920" y="3657600"/>
          <a:ext cx="1708200" cy="237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3657600"/>
                    <a:ext cx="170820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6"/>
          <p:cNvGraphicFramePr/>
          <p:nvPr/>
        </p:nvGraphicFramePr>
        <p:xfrm>
          <a:off x="6705720" y="4876920"/>
          <a:ext cx="1581120" cy="606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05720" y="4876920"/>
                    <a:ext cx="158112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7"/>
          <p:cNvGraphicFramePr/>
          <p:nvPr/>
        </p:nvGraphicFramePr>
        <p:xfrm>
          <a:off x="2819520" y="4876920"/>
          <a:ext cx="144756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19520" y="4876920"/>
                    <a:ext cx="14475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8"/>
          <p:cNvGraphicFramePr/>
          <p:nvPr/>
        </p:nvGraphicFramePr>
        <p:xfrm>
          <a:off x="762120" y="3657600"/>
          <a:ext cx="1822320" cy="2374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62120" y="3657600"/>
                    <a:ext cx="1822320" cy="237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C2F22-276F-4AA1-B478-1FAE5E509B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coder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 must be pitch-matched to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very skinny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762120" y="2895480"/>
          <a:ext cx="7543800" cy="202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95480"/>
                    <a:ext cx="7543800" cy="20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A0B1-06AD-4538-B5BE-787F6FB517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rge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 &gt; 4, NAND gates become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eak large gates into multiple smalle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Object 4"/>
          <p:cNvGraphicFramePr/>
          <p:nvPr/>
        </p:nvGraphicFramePr>
        <p:xfrm>
          <a:off x="2743200" y="2438280"/>
          <a:ext cx="3440160" cy="36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438280"/>
                    <a:ext cx="344016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5F7BB-8859-4497-A5A1-40F4741621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ede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f these gates are redund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 comm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into pre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s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703760" y="1981080"/>
          <a:ext cx="378000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3760" y="1981080"/>
                    <a:ext cx="378000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31F9-E51D-4526-A7F7-749BEAE9ED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Circuit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ircuitry is required for each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 cond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E7D8-E5AF-4B73-BD2E-CA42C65DF9F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tline Condition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lines high before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ze bitlines to minimize voltage difference when using sense ampl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6" name="Object 4"/>
          <p:cNvGraphicFramePr/>
          <p:nvPr/>
        </p:nvGraphicFramePr>
        <p:xfrm>
          <a:off x="1371600" y="2057400"/>
          <a:ext cx="137160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057400"/>
                    <a:ext cx="1371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Object 5"/>
          <p:cNvGraphicFramePr/>
          <p:nvPr/>
        </p:nvGraphicFramePr>
        <p:xfrm>
          <a:off x="1447920" y="3733920"/>
          <a:ext cx="1295280" cy="91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3733920"/>
                    <a:ext cx="1295280" cy="91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1C6B-97D0-4E97-B503-3E61493234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Circui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C87E2-0C19-44FE-8F24-46FA692D061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e Amplif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have many cells att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32-kbit SRAM has 128 rows x 256 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8 cells on each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~ (C/I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with shared diffusion contacts, 64C of diffusion capacitance (big 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harged slowly through small transistors (small 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nse ampl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triggered on small voltage swing (reduc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40A9-4B8E-4A54-AEF5-C9A9F5BD9F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ifferential Pair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pair requires no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lways dissipates stat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2133720" y="3200400"/>
          <a:ext cx="4343400" cy="196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200400"/>
                    <a:ext cx="4343400" cy="196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8144-003B-43FF-A056-42313E9D3A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ed Sense Am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ed sense amp saves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nse_clk after enough bitlin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transistors cut off large bitlin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Object 4"/>
          <p:cNvGraphicFramePr/>
          <p:nvPr/>
        </p:nvGraphicFramePr>
        <p:xfrm>
          <a:off x="1752480" y="3200400"/>
          <a:ext cx="388620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200400"/>
                    <a:ext cx="388620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51F6D-9B17-488C-A6E7-34AD16487A0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isted Bitlin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e amplifiers also amplify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pling noise is severe in moder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couple equally onto bit and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e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wis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5"/>
          <p:cNvGraphicFramePr/>
          <p:nvPr/>
        </p:nvGraphicFramePr>
        <p:xfrm>
          <a:off x="1676520" y="3505320"/>
          <a:ext cx="42670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505320"/>
                    <a:ext cx="42670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DEA0-F549-45D6-8D2A-3D5389A6D3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lumn Multiplex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array may be folded for good aspect rat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2 kword x 16 folded into 256 rows x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lect 16 output bits from the 128 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16 8:1 column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05371-ED20-4338-A478-65411063172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ee Decoder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umn mux can use 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nMOS only, precharge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design is to use k series transistors for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1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external decoder logic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1447920" y="3581280"/>
          <a:ext cx="6019560" cy="24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581280"/>
                    <a:ext cx="601956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78C-366A-4C69-945F-02868B139A2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ngle Pass-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liminate series transistors with separate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514600" y="2362320"/>
          <a:ext cx="351792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362320"/>
                    <a:ext cx="3517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007E-3F52-42C9-8848-732391D600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: 2-way Mux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1" name="Object 4"/>
          <p:cNvGraphicFramePr/>
          <p:nvPr/>
        </p:nvGraphicFramePr>
        <p:xfrm>
          <a:off x="1676520" y="1523880"/>
          <a:ext cx="4800600" cy="44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523880"/>
                    <a:ext cx="4800600" cy="44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2C0B-8032-4912-AF22-8BD841145D8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 Por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considered single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read or one write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ultipor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RAM are needed for register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ycle MIPS must read two sources or write a result on some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lined MIPS must read two sources and write a third result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scalar MIPS must read and write many sources and results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18DDF-CF37-454A-A6DA-403FA589DC9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ual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ual-ported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independent single-ended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one differential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wo reads and one write by time multipl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during ph1, write during ph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1371600" y="2895480"/>
          <a:ext cx="3048120" cy="200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895480"/>
                    <a:ext cx="304812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30F8-4B24-4A23-89BC-32704D5B44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mory Arr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68" name="Object 1028"/>
          <p:cNvGraphicFramePr/>
          <p:nvPr/>
        </p:nvGraphicFramePr>
        <p:xfrm>
          <a:off x="685800" y="1600200"/>
          <a:ext cx="7772400" cy="41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00200"/>
                    <a:ext cx="7772400" cy="41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75E8-B310-47E2-BD39-1C9948D418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Ported S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more access transistors hurts 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orted SRAM isolates reads from state n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bitlines save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1"/>
          <a:stretch/>
        </p:blipFill>
        <p:spPr>
          <a:xfrm>
            <a:off x="2438280" y="2895480"/>
            <a:ext cx="3505320" cy="3024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F61C-2BAD-49B8-B758-D8163E5AC0C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arge SRAM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SRAMs are split into subarrays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UltraSparc 512KB ca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128 KB subarr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have 16 8KB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6 rows x 256 cols / b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 subarray area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space for tags &amp;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4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519720" cy="365760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5"/>
          <p:cNvSpPr/>
          <p:nvPr/>
        </p:nvSpPr>
        <p:spPr>
          <a:xfrm>
            <a:off x="5201640" y="5668920"/>
            <a:ext cx="74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hi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4F5F8-6EE6-446E-805C-C50900634D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Access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access memories do not use a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pped Delay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al In Parallel Out (SI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In Serial Out (PI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s (FIFO, 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ACD3-028C-48AB-BA2E-BB2C2151A7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 Regis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ift regist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ore and dela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design: cascade of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h your hold tim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1295280" y="3276720"/>
          <a:ext cx="518184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276720"/>
                    <a:ext cx="51818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6657F-0E66-4931-9A6B-AD30F9A8636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ser Shift Regis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 a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very area-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shift registers, keep data in SRAM inst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read/write pointers to RAM rather tha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ddress to first entry, write to 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 address on each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Object 4"/>
          <p:cNvGraphicFramePr/>
          <p:nvPr/>
        </p:nvGraphicFramePr>
        <p:xfrm>
          <a:off x="2209680" y="3618000"/>
          <a:ext cx="3810240" cy="24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618000"/>
                    <a:ext cx="3810240" cy="24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2F2A0-51AF-4E25-AE68-69749BD6F92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apped Delay 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pped delay 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hift register with a programmable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number of stages with delay controls to m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 – 63 stages of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4"/>
          <p:cNvGraphicFramePr/>
          <p:nvPr/>
        </p:nvGraphicFramePr>
        <p:xfrm>
          <a:off x="838080" y="3352680"/>
          <a:ext cx="7467840" cy="173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352680"/>
                    <a:ext cx="7467840" cy="173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C2B1D-2FB7-4954-A305-8805F6FACCC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al In Paralle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shift register reads in seri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N steps, presents N-bit parallel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1905120" y="3048120"/>
          <a:ext cx="4190760" cy="206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048120"/>
                    <a:ext cx="4190760" cy="206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E5E36-01EC-4E2F-ACB2-01D8D87F84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rallel In Serial 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 all N bits in parallel when shift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shift one bit out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Object 5"/>
          <p:cNvGraphicFramePr/>
          <p:nvPr/>
        </p:nvGraphicFramePr>
        <p:xfrm>
          <a:off x="1676520" y="3048120"/>
          <a:ext cx="5943600" cy="172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5943600" cy="172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A409-1F6E-4196-B782-E9072990DA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Queu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ow data to be read and written at different 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each use their own clock,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ndicates whether it is full or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SRAM and read/write counters (poin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2" name="Object 4"/>
          <p:cNvGraphicFramePr/>
          <p:nvPr/>
        </p:nvGraphicFramePr>
        <p:xfrm>
          <a:off x="2057400" y="4267080"/>
          <a:ext cx="4191120" cy="12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4267080"/>
                    <a:ext cx="41911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9922F-9AA7-4DB3-BB43-A26F7E1C6C6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FO, LIFO Queu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r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F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read and write pointers to first e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ue is EMP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write, increment writ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rite almost catches read, Queue is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read, increment read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ast In First 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LIF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ngl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ck poin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read and w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4968-EC04-47D0-8591-CFA43BE161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Architectu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i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 &gt;&gt; m, fold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few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ow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mo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lum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regularity – easy to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igh density if good cells are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2666880" y="2362320"/>
            <a:ext cx="3048120" cy="2678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050D-CD73-4B8F-B5E1-154C3F459A9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2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building block: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s one bit of information, like a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be read and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transistor (12T)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imple latch connected to bi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6 x 7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676520" y="4038480"/>
          <a:ext cx="188748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4038480"/>
                    <a:ext cx="18874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" name="Object 5"/>
          <p:cNvGraphicFramePr/>
          <p:nvPr/>
        </p:nvGraphicFramePr>
        <p:xfrm>
          <a:off x="4724280" y="3886200"/>
          <a:ext cx="1809720" cy="213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886200"/>
                    <a:ext cx="1809720" cy="21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93999-3FC8-4BAE-BBE6-C9BD719F0FA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6T SR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size accounts for most of array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e cell size at expense of complex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T SRAM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most commerci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tored in cross-coupled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data onto bit, bit_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se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Object 4"/>
          <p:cNvGraphicFramePr/>
          <p:nvPr/>
        </p:nvGraphicFramePr>
        <p:xfrm>
          <a:off x="4952880" y="3505320"/>
          <a:ext cx="3810240" cy="229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3505320"/>
                    <a:ext cx="381024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F97E-1D86-41B1-99BC-087E738E9B9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R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both bitlin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the two bitlines will be pulled down by the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discharges, bit_b stay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bumps up sligh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ad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ust not fl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1 &gt;&gt; 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Object 4"/>
          <p:cNvGraphicFramePr/>
          <p:nvPr/>
        </p:nvGraphicFramePr>
        <p:xfrm>
          <a:off x="6095880" y="2895480"/>
          <a:ext cx="2100240" cy="12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289548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" name="Object 5"/>
          <p:cNvGraphicFramePr/>
          <p:nvPr/>
        </p:nvGraphicFramePr>
        <p:xfrm>
          <a:off x="5943600" y="4191120"/>
          <a:ext cx="222876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4191120"/>
                    <a:ext cx="22287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A69C-7BCE-4232-AA92-57B1D8952D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Wri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one bitline high, the other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urn on word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lines overpower cell with new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A = 0, A_b = 1, bit = 1, bit_b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A_b low, then A rise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overpower feedback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2 &gt;&gt;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400800" y="4038480"/>
          <a:ext cx="2076480" cy="177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4038480"/>
                    <a:ext cx="2076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5"/>
          <p:cNvGraphicFramePr/>
          <p:nvPr/>
        </p:nvGraphicFramePr>
        <p:xfrm>
          <a:off x="6400800" y="2743200"/>
          <a:ext cx="210024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743200"/>
                    <a:ext cx="210024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9: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E67A-0E0D-4B29-B72C-E78CB6EF5FC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RAM Siz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bitlines must not overpower inverters during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low bitlines must write new value into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Object 4"/>
          <p:cNvGraphicFramePr/>
          <p:nvPr/>
        </p:nvGraphicFramePr>
        <p:xfrm>
          <a:off x="2514600" y="2743200"/>
          <a:ext cx="4343400" cy="24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3200"/>
                    <a:ext cx="434340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51Z</dcterms:modified>
  <cp:revision>1502</cp:revision>
  <dc:subject/>
  <dc:title>PowerPoint Presentation</dc:title>
</cp:coreProperties>
</file>