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2240" y="522360"/>
            <a:ext cx="3493800" cy="262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161B23-594A-436D-A618-6611857A8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BF2BC2-1E73-466F-BF72-6092CD55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B3937B-23D1-4313-A0CA-A99B92B9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E5D963-D281-4058-B1DC-D40B1E19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B3F6C0-6C55-4207-BD1E-C7940D0E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1F9392-0CA4-4E6C-8DB8-A842E8AC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1B644B-A51E-4959-A5DA-FEBECF18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EF2B29-6633-4A28-92C4-C08BEAA11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6F9DFA-0473-4B86-9EE5-26104F3D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491408-578B-49F6-B271-B435C9F1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BBE2D7-31A1-47F7-A88F-E1CB8110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B6385A-9BD2-4406-8BBF-60F8CA40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62754C-6E39-457F-9FF9-BE4CA663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0F0B9B-805E-4082-8FCD-C9163737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35C68D-59F4-4581-8F29-EEA42937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561B5D-276F-4849-B40B-4174EFDF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798008-91AC-4744-9FEA-ABE58071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1EF3B0-83A8-4EA2-ACE3-4305675C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A3A8AE-50D3-43A2-B823-8F2354DB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EB5548-947F-4371-93E8-01FFCCB36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8298FD-E428-43F0-9F93-6FBEBA97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0ADF7D-E835-4550-9BCD-EF68626F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C8D7BD-F705-4694-B663-3CC37A5A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27CBEB-73BF-4223-B766-0E07BC57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69EB3B-0D50-4EF5-A520-D846E5EA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1A1B89-AA04-43D5-96CA-865CA297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1255CB-2D6C-4D2D-B57F-A5C290795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3A9719-B45F-421A-9732-ACFB74014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C8029B-2C28-403F-8CF5-5CF08827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A0C985-C190-4FEA-916D-15A5EE4A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35338D-0953-49BE-AEE7-A6C46B33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AF7868-1FDF-4771-BD79-1F872D2B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259625-4623-47B4-BADB-9CD3626F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9F6CDA0-370D-4DEE-8160-D3697F58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A1E01B-E6FB-4C41-9BE6-0BE97BAB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029CDF-CDF4-4AE7-A42F-A617384D2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0C8DB4-7D02-46BA-8BF8-A08FF1C1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A5097B-E678-4A4B-B98A-C5FBF8E6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4428FD-9059-4D58-8FF6-9C26BC8B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D2E92A-87C1-4F9E-AC17-0AC616C2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9BE7-CCED-4170-A3E2-1CC1E100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227E-DDC1-4ECC-982F-E1581D519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9E98-2AE4-4112-879C-505A328AC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BB10-6507-4303-9FAB-6EE66D54B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FADB-6DE2-4CF8-8BB2-53C5BF57E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90B2-461C-4444-BA67-E63580EC7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1CB1-25C4-49A2-B7B5-65459E462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CD3B-0FAE-4958-BCF6-94CEE5590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62D3-DCB7-4316-AA32-C368E992F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9632-0578-409C-B38B-7C78229A3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9F4B-68DA-4DA7-9FBD-84F9D37F2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FFC1-F767-4E89-AE58-0C45AD9C0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FB96-855C-47A7-A16D-524ED831CDE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E4A-6714-425E-A26A-5D218C8B2A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567-9618-41E1-B704-AB7C3DA9F9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F188-1D6B-4D31-A5AA-1C35332F27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759-9F6E-4931-B0C3-F922F6F59D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2B18-C78F-4B8C-9BA4-830D90667C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AEE-CF59-40E8-B413-8640C384F5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691-62C1-449E-A9B8-78F7DB3AB1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68E-FBF5-4201-9AFC-CD62201245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732-68F9-464B-A40F-80BB65F54E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4730-4AB8-414F-9900-4A8701B9B5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E03-D35B-4B20-9BAF-CD2BFB1EF3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4BD-F4EA-48D2-A46E-E9EC5B9C92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459-34D5-4F3A-AC36-03C84E7C1D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079F-A9F1-4728-80A4-2AEC5420B0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5FAB-A546-4A43-8D44-484280314D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DDAE-EB05-48AB-BEA3-FFFF0ACAE0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309-6E34-4D0B-8DAC-9E6059E516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7A4-487E-460D-824F-A962EC5C1A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CCD-0476-4B0E-BFC3-45FA136381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9A4-D3D4-4A34-9991-B34D487C27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6C1-F335-430C-82C3-9EAA548128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D8BD-5913-43D9-8679-D98944D8BF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" name="Object 1028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41B-79FC-4761-ADB5-30439E3A98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7D3-25F1-4296-92FE-81FBBCAD0D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4D6-587C-4F32-9ECB-F0C5A8E667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942C-A46D-40E1-ABE1-5C77B77DE8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CFB0-5820-4A87-99BB-D973D5B471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0D7-298E-4B70-BED2-B30C625657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24E-3EDC-4A09-84F1-E10CF6650A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5A0-9E45-46BF-8BE8-798D98DA6A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DD8-9D6D-44C7-A519-893C3BA7F9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4AA7-61AF-4382-A713-757440EC74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2747-5A34-416D-8EA3-F87DC753FB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19DB-ADCE-4324-9050-584774D059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5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D13D-B3FD-40C3-821C-C1F9DE1CCD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A7C-C33B-4614-9D16-82DB0C3907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0A2B-BA26-406C-B4B6-D55F67380B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10F-966C-4A87-BC3E-13F3E87737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51Z</dcterms:modified>
  <cp:revision>1502</cp:revision>
  <dc:subject/>
  <dc:title>PowerPoint Presentation</dc:title>
</cp:coreProperties>
</file>