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3C8D12-F0E4-4ACD-A0B2-D84E085B9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2E40C1-0346-4FBE-A3C9-D17F360B2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6F4E23-A3E7-402C-9C8E-A16CAC45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6D3920C-760B-4B4F-BD08-487DC5F6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73D1B9A-4F8A-42FD-A42A-04B49EB5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5B1434-8A7A-4B6F-AB90-EC60397B6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46E458-10FB-4308-8F9D-C1245F155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0BB7DA0-CFB3-4A9A-9E11-7E8ADE7E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4609F6-2CBF-495B-8DDA-90FB9AA98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D0635C7-B9AE-484F-ABFF-90C775F4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9B7BE2-9F50-4AC8-AEEC-CC308CEC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DE0A71-A870-410C-A8CC-CE668DA1E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1200773-17C8-4E5F-AF94-AF3E326F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9D0739-E4FB-4FA7-9FE5-3E0D85EC2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76F045-0F6C-4F6C-9C1B-43FD62A6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D7A1A5-F543-4604-AB97-04F947E91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2BF091-25F7-4893-8DD2-15D1EB7D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B96372-F090-42F0-A9DF-53D415814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E86B294-49F3-43AB-B069-88D32FCD5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BFCEBA-E189-4637-8844-C5FADDF28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DAAA39D-4768-48EC-8AFA-2F93EC526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9B526D-0908-4F2B-A5A9-E8EEDCEF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FF7C943-871D-48F6-9532-862A6BFE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58BBC9-F521-4E11-9F20-6AD5E1DFC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4B01E78-B0CE-4BBA-B1F7-4006946E8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00030E-A683-4DE3-9944-F5A1198D5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22CC5B-9049-4A92-8AF1-3357F99CF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063A94-957C-4B33-AA59-41807ACE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D37F37-7D71-48BC-A1F9-9B8A17012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E617AF-B448-4D24-A44D-009CBBC7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FDE9F0-449A-456A-879D-89850D8AE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7CE0E2-0E59-4862-B855-7523FBCE5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5E3B-2CE8-416B-B1C6-10D0D49AA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2283-D6CF-4B05-9083-F796FC647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328F-22C0-482D-B07D-46FE9F5D7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FBBF-9735-436B-9F28-AEE8180782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3169-DFF5-4E85-95DD-9699432F6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EF57-3E10-429E-8034-6B43A4E7B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97A7-2BD2-439F-8B81-0C5F04015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4F14-BD5D-4946-8467-4917F6B9B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1CE6-7989-44C9-B3F6-0827E237B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76F8-77EF-4D4C-9ECA-5B7CEFCB7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DA0E-83A9-43CE-A0F2-98EED2803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0814-6EFE-4A0C-8CE6-4BF5905DA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C24-9F69-4873-A021-8B701D80F0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4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619-3415-4378-9B3E-C242D78175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3352680"/>
          <a:ext cx="5562720" cy="259092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C35F-2033-4FAE-9FC0-174EA6B17E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5A3E-95CE-4E72-B2A1-71CB5BA415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6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9C1F-566A-47BC-99AB-97B5EA5DB5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1295280" y="2438280"/>
          <a:ext cx="403884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1"/>
          <p:cNvGraphicFramePr/>
          <p:nvPr/>
        </p:nvGraphicFramePr>
        <p:xfrm>
          <a:off x="1424160" y="4648320"/>
          <a:ext cx="385596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4160" y="4648320"/>
                    <a:ext cx="38559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4"/>
          <p:cNvSpPr/>
          <p:nvPr/>
        </p:nvSpPr>
        <p:spPr>
          <a:xfrm>
            <a:off x="1905120" y="243828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FE39-C2D9-40C8-8AB4-2DEC1B2CC5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CDF5-94CB-4330-B5F0-1D0DB22FB5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D90E-4092-4209-A733-6FF14A528D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E2E3-8537-4DCF-B0A5-35BE2D0656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D45-1EAE-4E9D-BE57-24304F6ECB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D261-4229-41E5-96DA-BA65E90B52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057400" y="3048120"/>
            <a:ext cx="6019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6BC3-C2B8-4A91-A24D-B23F4CC903E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2C60-05BD-4780-AA54-B8668C9100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752480" y="2971800"/>
            <a:ext cx="63248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F676-6C5B-42B9-8749-9170BD9B95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6A0-5673-4D01-BA6C-70D173A8766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447920" y="4343400"/>
          <a:ext cx="5790960" cy="158436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32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3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8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9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465-20D5-457E-8C1C-7E67B0818C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97A9-4993-4DFF-B501-60AF1D3AD9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7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0583-BB3E-4A2A-B8E5-95F086F0CD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CEB-DB56-4E68-B285-A36FB12523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9B98-9133-42EF-938E-72147D68FA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B14D-4D4C-4C3E-B860-95918610DA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5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4EA0-7B42-4C24-9DB2-4293B63C75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5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0EC-91F2-43D4-9964-7199443A76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F9E5-DD0A-4D1E-AFB1-45148982F9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10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4AE-8E9A-4907-9F03-A2186BD1A3D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ED4B-9F05-4DA1-BD63-91DA8C4073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≈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A86-47C2-4B7E-A250-E923E7A4BC6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A77-414A-471A-928E-7C4AF2910D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0198-E378-4180-8819-67CD7099BC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D4A7-D508-4EDB-9BE3-DBEBB8AFBD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Line 5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6874-FC63-4355-8397-9666F032E7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8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3-26T21:30:02Z</cp:lastPrinted>
  <dcterms:modified xsi:type="dcterms:W3CDTF">2020-03-04T16:11:59Z</dcterms:modified>
  <cp:revision>953</cp:revision>
  <dc:subject/>
  <dc:title>PowerPoint Presentation</dc:title>
</cp:coreProperties>
</file>