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5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70222A-7645-4147-9FDD-6B0809037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B2437E-35EB-4F3A-A514-56D006EE7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A711BDA-B7D6-4B6A-A59A-7A12125F7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EAC39F-36FD-4DD4-BE03-928C99876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06BA11A-7F39-425F-8BFB-90AB2589C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C29220B-D384-4975-AE36-E163277A7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2757557-BBD2-45A4-AD19-2033E748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1F41F6-8EAB-436B-BD71-A6D54E599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4A2E26-B70A-4287-8835-CBE923439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BFE9D0-1A70-4F67-9DB4-922F07ECC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F2BB4DB-7EE6-49EB-B6B1-F64D0E471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B697910-9F9C-493C-8C82-B5D023249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218707-C533-4B0F-9CDA-9B6A136AC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9022CD4-B501-415D-BEA7-171DFAEBD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7DC5C92-0A8E-46CA-9513-3AEED195C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45D4AA0-40A5-44B3-8BB5-313965E5D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A30FF24-7A94-4258-B126-FF966633B7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A9E350F-FA1D-4AC3-919F-250D50B1D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8AF118-6701-42F0-B6B6-7D92F410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D7129E8-CCC0-4978-96CB-9F7554FCB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427D26F-17A0-46F8-95C8-B2FAB4F32A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0446EE4-9DB4-4294-9A96-8FE22B189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103E1A-104C-4768-8AAC-B57566FD2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9CDF11-5CBA-4799-8E18-0E70231EB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E9ED284-63D0-4B44-A719-A43BE526EA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4E3E88A-1EB1-410F-9CA1-17E15B556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249CDF2-AF58-4FF5-A16D-6A3F8179A3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FCED042-C2D3-46E4-87C2-43298E23E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26E93E-98D3-4091-8A0A-23C309D44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4D93BD4-C483-4B5A-9962-39FC88D1B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C73F0F-2C86-44E9-932A-55E9F9F70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842A2E0-6C62-44C6-86F2-1104543CD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F320-4012-4B74-91A7-F60ED3FAE9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AA254-C8EF-4980-91A4-CD2E1E3CA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1279A-A1E0-4DE4-BB10-8BD76D57E7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E7F0C-0E72-4848-B6EC-82014DA901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1D5AD-3ADA-4575-A1E5-41E331A4CD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746F6-F0E7-4799-8362-47FBB92860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15AE9-715A-4764-8DA4-39FD4B029F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C2C6E-AB06-445B-BFD9-3750D4504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78E70-1438-44A6-AA14-9186A4F3C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A398A-2ADD-4CC6-8A3A-05A4A2200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1F5F0-6FC8-499C-8D21-2C381E9739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B158A-4B1A-4D2F-AA9F-0F920AEF9E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76FAB-637A-4E61-9479-4F7EEF56A5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4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3985-E123-4292-A810-85C0F7EE98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oice of Met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80 nm generation, most wires were alum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mporary processes normally use c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 atoms diffuse into silicon and damage 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surrounded by a diffusion barr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295280" y="3352680"/>
          <a:ext cx="5562720" cy="2590920"/>
        </p:xfrm>
        <a:graphic>
          <a:graphicData uri="http://schemas.openxmlformats.org/drawingml/2006/table">
            <a:tbl>
              <a:tblPr/>
              <a:tblGrid>
                <a:gridCol w="2286000"/>
                <a:gridCol w="3276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k resistivity (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μ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Ω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•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lver (A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pper (C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ld (Au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inum (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ngsten (W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anium (T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D894-C5D0-4394-ADAC-4F3E72FDAF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s and vias also have 2-2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contacts for lower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mall contacts for current crowding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447920" y="3733920"/>
          <a:ext cx="6019560" cy="212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733920"/>
                    <a:ext cx="6019560" cy="21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ECD2-ED2B-404F-910E-4CFF3013B6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pper Issu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wires diffusion barrier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per is also prone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uring poli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resistance is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019920" y="2743200"/>
            <a:ext cx="21891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Object 6"/>
          <p:cNvGraphicFramePr/>
          <p:nvPr/>
        </p:nvGraphicFramePr>
        <p:xfrm>
          <a:off x="1219320" y="2971800"/>
          <a:ext cx="3809880" cy="83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971800"/>
                    <a:ext cx="38098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54E6-4055-4443-A59C-52BB448489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the sheet resistance of a 0.2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thick Cu wire in a 65 nm process.  Ignore dis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the total resistance if the wire is 0.12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 and 1 mm long.  Ignore the barrier lay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Object 9"/>
          <p:cNvGraphicFramePr/>
          <p:nvPr/>
        </p:nvGraphicFramePr>
        <p:xfrm>
          <a:off x="1295280" y="2438280"/>
          <a:ext cx="403884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38280"/>
                    <a:ext cx="403884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Object 11"/>
          <p:cNvGraphicFramePr/>
          <p:nvPr/>
        </p:nvGraphicFramePr>
        <p:xfrm>
          <a:off x="1424160" y="4648320"/>
          <a:ext cx="3855960" cy="80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4160" y="4648320"/>
                    <a:ext cx="3855960" cy="80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Rectangle 14"/>
          <p:cNvSpPr/>
          <p:nvPr/>
        </p:nvSpPr>
        <p:spPr>
          <a:xfrm>
            <a:off x="1905120" y="2438280"/>
            <a:ext cx="35812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15"/>
          <p:cNvSpPr/>
          <p:nvPr/>
        </p:nvSpPr>
        <p:spPr>
          <a:xfrm>
            <a:off x="1828800" y="4572000"/>
            <a:ext cx="36576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56DC-426B-4CD1-BAC5-50F8CD4F8B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has capacitance per uni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ayers above and be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2057400" y="3124080"/>
          <a:ext cx="480060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124080"/>
                    <a:ext cx="480060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2A27-3F41-4DC4-B233-825F8ECB726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 Tren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plate equation:  C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/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not parallel plates, but obey tr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area (W, t) in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istance (s, h) decreases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lectric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.85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1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/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3.9 for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es are starting to use low-k dielectr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n-US" sz="2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(or less) as dielectrics use air p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E8DA-011D-4225-91FC-3D6A46780B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apacitance Formula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of a line without neighbors can be approxima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empirical formula is accurate to 6% for AR &lt; 3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1295280" y="2443320"/>
          <a:ext cx="5715000" cy="9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443320"/>
                    <a:ext cx="5715000" cy="9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CED3-027D-4972-81AC-5BC8651BE90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2 Capacitance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dense wires have ~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to 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for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2438280" y="2362320"/>
          <a:ext cx="4070520" cy="36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362320"/>
                    <a:ext cx="407052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B4411-2C67-4481-B0DB-3360E00FBF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&amp; 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capacitance is very high (1-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also has high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using diffusio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unn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ir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has lower C but high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transist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asionally for very short wires betwee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9DD59-E6C4-4C86-9282-0F7BB07B67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C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10x inverter driving a 2x inverter at the end of the 1 mm wire.  Assume wire capacitance is 0.2 fF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and that a unit-sized inverter has R = 10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 = 0.1 f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10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fF) + (1000 + 80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(100 + 0.6 fF) = 281 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"/>
          <p:cNvPicPr/>
          <p:nvPr/>
        </p:nvPicPr>
        <p:blipFill>
          <a:blip r:embed="rId1"/>
          <a:stretch/>
        </p:blipFill>
        <p:spPr>
          <a:xfrm>
            <a:off x="1600200" y="3873600"/>
            <a:ext cx="5638680" cy="191772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6"/>
          <p:cNvSpPr/>
          <p:nvPr/>
        </p:nvSpPr>
        <p:spPr>
          <a:xfrm>
            <a:off x="2057400" y="3048120"/>
            <a:ext cx="60199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A4791-8144-4071-8FE3-E7088F4993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07CE-F39C-46E9-B77E-2CB0080559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ire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energy per unit length to send a bit of information (one rising and one falling transition) in a CMOS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(0.2 pF/mm)(1.0 V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pJ/bit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2 mW/Gbps/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1752480" y="2971800"/>
            <a:ext cx="63248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FEB65-7CD2-461E-A1E4-38190B1D7F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citor does not like to change its voltage instantaneous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ire has high capacitance to its neighb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neighbor switches from 1-&gt; 0 or 0-&gt;1, the wire tends to switch to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capacitiv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upl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on 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1DE99-FE53-4997-B17C-74FA978735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layers above and below on average are qui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terminal of capacitor can b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behavior of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er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6477120" y="3276720"/>
          <a:ext cx="1828800" cy="91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276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447920" y="4343400"/>
          <a:ext cx="5790960" cy="1584360"/>
        </p:xfrm>
        <a:graphic>
          <a:graphicData uri="http://schemas.openxmlformats.org/drawingml/2006/table">
            <a:tbl>
              <a:tblPr/>
              <a:tblGrid>
                <a:gridCol w="2708280"/>
                <a:gridCol w="752400"/>
                <a:gridCol w="1581120"/>
                <a:gridCol w="74916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Δ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eff(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C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st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with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opposite 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V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gnd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2 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dj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Rectangle 32"/>
          <p:cNvSpPr/>
          <p:nvPr/>
        </p:nvSpPr>
        <p:spPr>
          <a:xfrm>
            <a:off x="4191120" y="48006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3"/>
          <p:cNvSpPr/>
          <p:nvPr/>
        </p:nvSpPr>
        <p:spPr>
          <a:xfrm>
            <a:off x="4952880" y="480060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4"/>
          <p:cNvSpPr/>
          <p:nvPr/>
        </p:nvSpPr>
        <p:spPr>
          <a:xfrm>
            <a:off x="6553080" y="480060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35"/>
          <p:cNvSpPr/>
          <p:nvPr/>
        </p:nvSpPr>
        <p:spPr>
          <a:xfrm>
            <a:off x="4191120" y="518148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6"/>
          <p:cNvSpPr/>
          <p:nvPr/>
        </p:nvSpPr>
        <p:spPr>
          <a:xfrm>
            <a:off x="4952880" y="5181480"/>
            <a:ext cx="1524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7"/>
          <p:cNvSpPr/>
          <p:nvPr/>
        </p:nvSpPr>
        <p:spPr>
          <a:xfrm>
            <a:off x="6553080" y="5181480"/>
            <a:ext cx="609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8"/>
          <p:cNvSpPr/>
          <p:nvPr/>
        </p:nvSpPr>
        <p:spPr>
          <a:xfrm>
            <a:off x="4191120" y="5562720"/>
            <a:ext cx="685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9"/>
          <p:cNvSpPr/>
          <p:nvPr/>
        </p:nvSpPr>
        <p:spPr>
          <a:xfrm>
            <a:off x="4952880" y="5562720"/>
            <a:ext cx="15242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40"/>
          <p:cNvSpPr/>
          <p:nvPr/>
        </p:nvSpPr>
        <p:spPr>
          <a:xfrm>
            <a:off x="6553080" y="5562720"/>
            <a:ext cx="6098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D993F-CAEF-41D2-9DD6-F56CFF21244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rosstalk 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 causes noise on nonswitch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ictim is floa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as capacitive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Object 4"/>
          <p:cNvGraphicFramePr/>
          <p:nvPr/>
        </p:nvGraphicFramePr>
        <p:xfrm>
          <a:off x="2438280" y="4114800"/>
          <a:ext cx="3962520" cy="16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962520" cy="16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Rectangle 6"/>
          <p:cNvSpPr/>
          <p:nvPr/>
        </p:nvSpPr>
        <p:spPr>
          <a:xfrm>
            <a:off x="3608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5" name="Object 5"/>
          <p:cNvGraphicFramePr/>
          <p:nvPr/>
        </p:nvGraphicFramePr>
        <p:xfrm>
          <a:off x="1600200" y="2895480"/>
          <a:ext cx="434340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895480"/>
                    <a:ext cx="434340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61B1-41E4-4926-AFDE-2237D76F93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riven Victi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victim is driven by a gate that fights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depends on relative resist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ctim driver is in linear region, agg.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izes are same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ggr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4 x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5"/>
          <p:cNvSpPr/>
          <p:nvPr/>
        </p:nvSpPr>
        <p:spPr>
          <a:xfrm>
            <a:off x="34480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685800" y="3505320"/>
          <a:ext cx="4191120" cy="85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4191120" cy="8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Rectangle 7"/>
          <p:cNvSpPr/>
          <p:nvPr/>
        </p:nvSpPr>
        <p:spPr>
          <a:xfrm>
            <a:off x="34401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685800" y="4724280"/>
          <a:ext cx="4114800" cy="970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724280"/>
                    <a:ext cx="411480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5029200" y="3733920"/>
          <a:ext cx="4038480" cy="148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29200" y="3733920"/>
                    <a:ext cx="4038480" cy="148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4E804-7822-4330-86A4-40C2C34CCB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upling Wavefor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coupling for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d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ic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705720" cy="3649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9E228-59AD-4DF8-BFB1-0EC9DD8AE1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o wh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we have no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noise is less than the noise margin, nothing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logic will eventually settle to correct output even if disturbed by large noise sp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glitches cause extra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use extra power from false tran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 never recovers from gl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ies and other sensitive circuits also can produce the wrong ans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4C6E-D482-4B4F-A5B0-022BF44460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Enginee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: achieve delay, area, power goals with accepta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rees of freedo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e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2743200" y="2590920"/>
          <a:ext cx="6168960" cy="229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6168960" cy="229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5"/>
          <p:cNvGraphicFramePr/>
          <p:nvPr/>
        </p:nvGraphicFramePr>
        <p:xfrm>
          <a:off x="1600200" y="5029200"/>
          <a:ext cx="5172120" cy="92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5029200"/>
                    <a:ext cx="5172120" cy="92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D4FE-2CDC-45A8-81EA-52FB1E36FF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and C are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delay is proportional t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cceptably great for 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ong wires into N shorter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each one with an inverter or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1981080" y="3657600"/>
          <a:ext cx="4572000" cy="247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657600"/>
                    <a:ext cx="4572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2" name="Rectangle 5"/>
          <p:cNvSpPr/>
          <p:nvPr/>
        </p:nvSpPr>
        <p:spPr>
          <a:xfrm>
            <a:off x="4952880" y="16002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4"/>
          <p:cNvSpPr/>
          <p:nvPr/>
        </p:nvSpPr>
        <p:spPr>
          <a:xfrm>
            <a:off x="4876920" y="205740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75B28-3554-4D3B-A92A-255A401B74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repeaters should we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large should each one 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valent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esistance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 width W (nMOS = W, pMOS = 2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W, Resistance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1676520" y="4648320"/>
          <a:ext cx="4952880" cy="139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648320"/>
                    <a:ext cx="4952880" cy="139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Rectangle 5"/>
          <p:cNvSpPr/>
          <p:nvPr/>
        </p:nvSpPr>
        <p:spPr>
          <a:xfrm>
            <a:off x="1905120" y="4800600"/>
            <a:ext cx="449568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0371-623F-403A-BE8F-D6B59FE745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mostly made of wire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tick diagram, wires set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ittle things under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layers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s important a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ng layers run orthogon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3470F-21AA-4D65-8B28-B9A32D8FDD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peater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equation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with respect to W and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equal to 0, sol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"/>
          <p:cNvSpPr/>
          <p:nvPr/>
        </p:nvSpPr>
        <p:spPr>
          <a:xfrm>
            <a:off x="416088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295280" y="2971800"/>
          <a:ext cx="205740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971800"/>
                    <a:ext cx="20574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7"/>
          <p:cNvSpPr/>
          <p:nvPr/>
        </p:nvSpPr>
        <p:spPr>
          <a:xfrm>
            <a:off x="3763800" y="322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Object 6"/>
          <p:cNvGraphicFramePr/>
          <p:nvPr/>
        </p:nvGraphicFramePr>
        <p:xfrm>
          <a:off x="1219320" y="4191120"/>
          <a:ext cx="400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191120"/>
                    <a:ext cx="400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Rectangle 9"/>
          <p:cNvSpPr/>
          <p:nvPr/>
        </p:nvSpPr>
        <p:spPr>
          <a:xfrm>
            <a:off x="41832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Object 8"/>
          <p:cNvGraphicFramePr/>
          <p:nvPr/>
        </p:nvGraphicFramePr>
        <p:xfrm>
          <a:off x="1295280" y="5181480"/>
          <a:ext cx="1455840" cy="897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5181480"/>
                    <a:ext cx="14558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Text Box 10"/>
          <p:cNvSpPr/>
          <p:nvPr/>
        </p:nvSpPr>
        <p:spPr>
          <a:xfrm>
            <a:off x="5638680" y="41911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40 ps/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65 nm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39F3-1A56-4368-BC66-4388733A45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peater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/ leng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.87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7% premium over unrepeated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tra power is consumed in the large rep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peaters are downsized for minimum ED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premium is only 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creases by 14% from mi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7EFD-2720-4080-BCC3-A60AA91A6D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Geome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ch = w +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 ratio: AR = t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d processes had AR &lt;&l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rn processes have AR ≈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 in many skinny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276720" y="3048120"/>
          <a:ext cx="5105160" cy="286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3048120"/>
                    <a:ext cx="5105160" cy="28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21FB-2266-4F63-890C-6CCA0DA80A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er Sta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MI 0.6 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 process has 3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 for within-cell rout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2 for vertic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3 for horizontal routing between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dern processes use 6-10+ metal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1: thin, narrow (&lt; 3</a:t>
            </a:r>
            <a:r>
              <a:rPr b="0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igh density cel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 lay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cker and wider, (density vs. spe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 layers: thick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V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GND, c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AD8E-6163-403C-BAEE-837D53B907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5246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90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496400" y="5334120"/>
            <a:ext cx="253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5 nm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8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2890800" cy="3436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3995640" cy="2602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0"/>
          <p:cNvSpPr/>
          <p:nvPr/>
        </p:nvSpPr>
        <p:spPr>
          <a:xfrm>
            <a:off x="2896560" y="5791320"/>
            <a:ext cx="98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Thompson0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1"/>
          <p:cNvSpPr/>
          <p:nvPr/>
        </p:nvSpPr>
        <p:spPr>
          <a:xfrm>
            <a:off x="6249960" y="5791320"/>
            <a:ext cx="70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Moon08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BD7D-D78A-4D5C-B318-6FB1AE92C85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connect Mod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in a wire is analogous to current in a pi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istance: narrow size impedes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citance: trough under the leaky pipe must fill fir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uctance: paddle wheel inertia opposes changes in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gible for m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4419720" y="3006720"/>
            <a:ext cx="3962160" cy="3043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66B4-8F2A-431B-B125-E648F16E66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umped Element Mode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are a distribut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lumped elemen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-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is accurate to 3%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-model needs 100 segments for same accurac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ingle segmen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model for Elmo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981080" y="2362320"/>
          <a:ext cx="4267440" cy="25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362320"/>
                    <a:ext cx="4267440" cy="25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Line 5"/>
          <p:cNvSpPr/>
          <p:nvPr/>
        </p:nvSpPr>
        <p:spPr>
          <a:xfrm>
            <a:off x="190512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6"/>
          <p:cNvSpPr/>
          <p:nvPr/>
        </p:nvSpPr>
        <p:spPr>
          <a:xfrm flipH="1">
            <a:off x="1904760" y="3581280"/>
            <a:ext cx="1143000" cy="11430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276720" y="3657600"/>
            <a:ext cx="1295280" cy="114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4: Wi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E07D-1D29-4F05-8964-161A9747A1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eet resi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dimensionless unit(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squ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* (# of squa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42782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42670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Object 6"/>
          <p:cNvGraphicFramePr/>
          <p:nvPr/>
        </p:nvGraphicFramePr>
        <p:xfrm>
          <a:off x="4495680" y="3124080"/>
          <a:ext cx="4122720" cy="28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3124080"/>
                    <a:ext cx="4122720" cy="28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7"/>
          <p:cNvGraphicFramePr/>
          <p:nvPr/>
        </p:nvGraphicFramePr>
        <p:xfrm>
          <a:off x="1143000" y="1981080"/>
          <a:ext cx="2438280" cy="925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1981080"/>
                    <a:ext cx="24382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Rectangle 8"/>
          <p:cNvSpPr/>
          <p:nvPr/>
        </p:nvSpPr>
        <p:spPr>
          <a:xfrm>
            <a:off x="1752480" y="1981080"/>
            <a:ext cx="2819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3-26T21:30:02Z</cp:lastPrinted>
  <dcterms:modified xsi:type="dcterms:W3CDTF">2020-03-04T16:11:59Z</dcterms:modified>
  <cp:revision>953</cp:revision>
  <dc:subject/>
  <dc:title>PowerPoint Presentation</dc:title>
</cp:coreProperties>
</file>