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10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3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png" ContentType="image/png"/>
  <Override PartName="/ppt/media/image16.wmf" ContentType="image/x-wmf"/>
  <Override PartName="/ppt/media/image17.wmf" ContentType="image/x-wmf"/>
  <Override PartName="/ppt/media/image19.wmf" ContentType="image/x-wmf"/>
  <Override PartName="/ppt/media/image21.wmf" ContentType="image/x-wmf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17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5040" y="547200"/>
            <a:ext cx="3659040" cy="27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17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E900771B-2B24-42F0-83D2-531C0E389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1E359D9-A862-447D-B105-3A05836FD8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8F00DB86-E53F-40E7-878C-B9CE2A6FC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566DF84A-491A-486E-A033-6587E08687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ABE0471-8ACF-4D51-8B48-8A2503D69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D54C4D6-6A94-4824-AE15-FBDF4D7B6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3D2F0CC2-DBA6-4B4F-9FA8-F5B9DB9EE0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0E5E3B2-2707-4AF9-8DD7-E2F87B861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8509B29-A2FD-4D12-AB01-F6CDA111A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3112061-E030-432C-B038-86489436C2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3A837B6-788E-4459-9B78-FF2FB388B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4845937-91D5-4274-9B7C-773643F76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FA56C8B-39EB-41D4-A89B-E79F0787F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98E57F6-C7DA-47FA-AC3A-E43E23D7C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4800FE26-CBA5-485F-AF14-131A16E0E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10E9EB6-3624-430E-AF66-290B821D8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98C797B-0E82-4C3E-BD82-9A8C02138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CE7BC69-8C18-4991-BCEF-7634586C3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865DB4D-E4C7-4334-A0B9-7AB141176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AECFC10-961B-4099-98A2-34237DE4B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5368693-56B3-4F9A-928E-2A20159EB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D4AFE95F-1098-47F5-85E9-AF67F43EC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6595677-12BD-4F19-A301-ED801E88A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B4970C8B-E9E7-4F71-8B32-2E878179E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DAC6403-15CE-4F19-91D9-F2B074AC8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21845052-1C65-47B5-8142-D6DB86FB5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4AB57E3-2056-46D0-A17C-8E5DA1C76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9E8B78B3-AAAD-4804-81F3-91AA1EC3B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CCE63DE3-E572-4B4F-BF39-69CACB5CCB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62626B49-E982-41BF-9CF7-27AE05652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0857A70C-C555-436F-854A-2263DF332D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9094054-D230-4137-8B5C-E1946F1F4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76FE9-9F52-4C46-AC34-366B13DBB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40C9E-BECE-48C3-B279-51BF24AAC1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9A9E2-5594-4552-B13D-48D7D9E690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2AD8C-9CAC-44C2-A225-5A73CDD39E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AA565-894A-43BF-96B6-8879279CCE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65523-99C3-414C-A544-DDECCF77C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43E00-5DF6-4CB3-9C7E-EA2699C00F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3D2DC-6192-4C5D-909F-A2C1CF9BD4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24005-94BF-4C20-A5F7-A91038ED59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C8231-3619-42FA-8977-752DB1EB05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ADAE5-053B-494E-93D4-D119FE2F9A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92FB9-17FC-48E8-80F7-5E7C340E20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38F02-4650-4528-B827-BB887C4BEC6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3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atapath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ctional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n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83808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D8776-63C8-4EE7-B26B-FD85EC0AF28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unnel Source Genera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772400" cy="25891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5"/>
          <p:cNvSpPr/>
          <p:nvPr/>
        </p:nvSpPr>
        <p:spPr>
          <a:xfrm>
            <a:off x="762120" y="2133720"/>
            <a:ext cx="2971800" cy="3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762120" y="251460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62120" y="292896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thmetic R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762120" y="3352680"/>
            <a:ext cx="2971800" cy="34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e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762120" y="3733920"/>
            <a:ext cx="2971800" cy="34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cal/Arithmetic Le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46F58-01BF-4DDC-878C-8EAF2569225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N-input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1-of-N hot select signals for shift amo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pass transistor design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1295280" y="2743200"/>
          <a:ext cx="327672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743200"/>
                    <a:ext cx="327672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5257800" y="3124080"/>
            <a:ext cx="2166840" cy="2743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E26D7-3C39-4918-8B7F-E238A831435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arithmic 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N stages of 2-input mu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lect decoding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1600200" y="2835360"/>
            <a:ext cx="5410080" cy="2651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25AC-D158-4C89-853F-37C060890D5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2-bit Logarithmic Funn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r multiplexers reduce delay and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nds &gt; 32 bits introduce datapath irreg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3443400" cy="3581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4572000" y="2973240"/>
            <a:ext cx="4114800" cy="2532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6C46A-22B4-4162-A380-EB85533869D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rrel Shif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el shifters perform right rotations using wrap-around w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ft rotations are right rotations by N – k = k + 1 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are rotations with the end bits masked of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4"/>
          <p:cNvSpPr/>
          <p:nvPr/>
        </p:nvSpPr>
        <p:spPr>
          <a:xfrm>
            <a:off x="7010280" y="23623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F487-6B9A-4855-A4F0-2C209CD4C76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garithmic Barrel Shif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1981080" cy="1795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685800" y="3581280"/>
            <a:ext cx="2590920" cy="2089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3"/>
          <a:stretch/>
        </p:blipFill>
        <p:spPr>
          <a:xfrm>
            <a:off x="4648320" y="1600200"/>
            <a:ext cx="3573360" cy="40273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7"/>
          <p:cNvSpPr/>
          <p:nvPr/>
        </p:nvSpPr>
        <p:spPr>
          <a:xfrm>
            <a:off x="762120" y="327672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 shift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762120" y="56386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/Left shi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9"/>
          <p:cNvSpPr/>
          <p:nvPr/>
        </p:nvSpPr>
        <p:spPr>
          <a:xfrm>
            <a:off x="4800600" y="55627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/Left Shift &amp; Rot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3C1E-A288-4D74-861F-43053E20B06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32-bit Logarithmic Barre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never wider than 32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stage preshifts by 1 to handle lef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2743200" y="2362320"/>
            <a:ext cx="3203640" cy="3657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DA45-761D-4F13-8C25-637CA22B156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-input Ad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ose we want to add k N-bit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0001 + 0111 + 1101 + 0010 = 1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aightforward solution: k-1 N-input C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and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Object 4"/>
          <p:cNvGraphicFramePr/>
          <p:nvPr/>
        </p:nvGraphicFramePr>
        <p:xfrm>
          <a:off x="3581280" y="3809880"/>
          <a:ext cx="194328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3809880"/>
                    <a:ext cx="19432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5ACA-06D1-49A5-962A-57E049106E8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rry Save Addi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ll adder sums 3 inputs and produces 2 out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output has twi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e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sum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full adders in parallel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ry save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sums and N carry o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Object 4"/>
          <p:cNvGraphicFramePr/>
          <p:nvPr/>
        </p:nvGraphicFramePr>
        <p:xfrm>
          <a:off x="2209680" y="3352680"/>
          <a:ext cx="373392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352680"/>
                    <a:ext cx="373392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F2C5-8E5A-484A-A7D1-12A9D583637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SA Ap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k-2 stages of C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result in carry-save redundant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al CPA computes actual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4"/>
          <p:cNvGraphicFramePr/>
          <p:nvPr/>
        </p:nvGraphicFramePr>
        <p:xfrm>
          <a:off x="2209680" y="2971800"/>
          <a:ext cx="3581640" cy="30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2971800"/>
                    <a:ext cx="3581640" cy="30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Rectangle 5"/>
          <p:cNvSpPr/>
          <p:nvPr/>
        </p:nvSpPr>
        <p:spPr>
          <a:xfrm>
            <a:off x="4572000" y="4800600"/>
            <a:ext cx="712800" cy="94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495680" y="5791320"/>
            <a:ext cx="838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2743200" y="4724280"/>
            <a:ext cx="7128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4021200" y="4724280"/>
            <a:ext cx="533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Rectangle 10"/>
          <p:cNvSpPr/>
          <p:nvPr/>
        </p:nvSpPr>
        <p:spPr>
          <a:xfrm>
            <a:off x="3429000" y="54864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AEB9-AB99-4541-8163-E5BA515649C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input Ad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FCB1-6121-4B00-9CF2-B9C86356409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x N-bit multi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 N M-bit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 these to produce M+N-bit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Object 4"/>
          <p:cNvGraphicFramePr/>
          <p:nvPr/>
        </p:nvGraphicFramePr>
        <p:xfrm>
          <a:off x="2666880" y="1523880"/>
          <a:ext cx="53341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523880"/>
                    <a:ext cx="53341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Rectangle 5"/>
          <p:cNvSpPr/>
          <p:nvPr/>
        </p:nvSpPr>
        <p:spPr>
          <a:xfrm>
            <a:off x="3429000" y="243828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3276720" y="2743200"/>
            <a:ext cx="761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3124080" y="3048120"/>
            <a:ext cx="76212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2971800" y="342900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"/>
          <p:cNvSpPr/>
          <p:nvPr/>
        </p:nvSpPr>
        <p:spPr>
          <a:xfrm>
            <a:off x="2819520" y="3733920"/>
            <a:ext cx="24382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64F8-D66D-4A08-9473-AD6B55723F0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eneral For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can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= 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M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i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= 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…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3303720" y="318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5"/>
          <p:cNvGraphicFramePr/>
          <p:nvPr/>
        </p:nvGraphicFramePr>
        <p:xfrm>
          <a:off x="2743200" y="2590920"/>
          <a:ext cx="5105520" cy="96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90920"/>
                    <a:ext cx="5105520" cy="96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Object 7"/>
          <p:cNvGraphicFramePr/>
          <p:nvPr/>
        </p:nvGraphicFramePr>
        <p:xfrm>
          <a:off x="1143000" y="3657600"/>
          <a:ext cx="6477120" cy="23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3657600"/>
                    <a:ext cx="647712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627B2-67F1-4040-A325-6796C0843C1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dot represents a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838080" y="2209680"/>
          <a:ext cx="7848720" cy="313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848720" cy="31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01A8-ABC2-476F-90B0-2960DF958CE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rray Multipli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2057400" y="1523880"/>
          <a:ext cx="487692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487692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0A661-C067-493C-99E5-95AFB789032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ctangular Arr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quash array to fit rectangular floor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Object 4"/>
          <p:cNvGraphicFramePr/>
          <p:nvPr/>
        </p:nvGraphicFramePr>
        <p:xfrm>
          <a:off x="2514600" y="1981080"/>
          <a:ext cx="342108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981080"/>
                    <a:ext cx="3421080" cy="40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C841-84D3-4887-A420-63784348F69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ewer Partial Produc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multiplier requires N partial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looked at groups of r bits, we could form N/r partial produ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 and small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radix-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r = 2: look at pairs of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partial products of 0, Y, 2Y, 3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three are easy, but 3Y requires add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8DE8-33B6-496A-B76B-2F1BBDFF157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Encod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 of 3Y, try –Y, then increment next partial product to add 4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ly, for 2Y, try –2Y + 4Y in next partial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1295280" y="2895480"/>
            <a:ext cx="6858000" cy="31356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8"/>
          <p:cNvSpPr/>
          <p:nvPr/>
        </p:nvSpPr>
        <p:spPr>
          <a:xfrm>
            <a:off x="3429000" y="41911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3429000" y="44956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10"/>
          <p:cNvSpPr/>
          <p:nvPr/>
        </p:nvSpPr>
        <p:spPr>
          <a:xfrm>
            <a:off x="3429000" y="48006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1"/>
          <p:cNvSpPr/>
          <p:nvPr/>
        </p:nvSpPr>
        <p:spPr>
          <a:xfrm>
            <a:off x="3429000" y="510552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3429000" y="541008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3429000" y="5715000"/>
            <a:ext cx="1600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5105520" y="41911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15"/>
          <p:cNvSpPr/>
          <p:nvPr/>
        </p:nvSpPr>
        <p:spPr>
          <a:xfrm>
            <a:off x="6248520" y="41911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16"/>
          <p:cNvSpPr/>
          <p:nvPr/>
        </p:nvSpPr>
        <p:spPr>
          <a:xfrm>
            <a:off x="7391520" y="41911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7"/>
          <p:cNvSpPr/>
          <p:nvPr/>
        </p:nvSpPr>
        <p:spPr>
          <a:xfrm>
            <a:off x="5105520" y="44956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8"/>
          <p:cNvSpPr/>
          <p:nvPr/>
        </p:nvSpPr>
        <p:spPr>
          <a:xfrm>
            <a:off x="6248520" y="44956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19"/>
          <p:cNvSpPr/>
          <p:nvPr/>
        </p:nvSpPr>
        <p:spPr>
          <a:xfrm>
            <a:off x="7391520" y="44956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20"/>
          <p:cNvSpPr/>
          <p:nvPr/>
        </p:nvSpPr>
        <p:spPr>
          <a:xfrm>
            <a:off x="5105520" y="48006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21"/>
          <p:cNvSpPr/>
          <p:nvPr/>
        </p:nvSpPr>
        <p:spPr>
          <a:xfrm>
            <a:off x="6248520" y="48006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22"/>
          <p:cNvSpPr/>
          <p:nvPr/>
        </p:nvSpPr>
        <p:spPr>
          <a:xfrm>
            <a:off x="7391520" y="48006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23"/>
          <p:cNvSpPr/>
          <p:nvPr/>
        </p:nvSpPr>
        <p:spPr>
          <a:xfrm>
            <a:off x="5105520" y="51055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24"/>
          <p:cNvSpPr/>
          <p:nvPr/>
        </p:nvSpPr>
        <p:spPr>
          <a:xfrm>
            <a:off x="6248520" y="51055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25"/>
          <p:cNvSpPr/>
          <p:nvPr/>
        </p:nvSpPr>
        <p:spPr>
          <a:xfrm>
            <a:off x="7391520" y="510552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26"/>
          <p:cNvSpPr/>
          <p:nvPr/>
        </p:nvSpPr>
        <p:spPr>
          <a:xfrm>
            <a:off x="5105520" y="54100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7"/>
          <p:cNvSpPr/>
          <p:nvPr/>
        </p:nvSpPr>
        <p:spPr>
          <a:xfrm>
            <a:off x="6248520" y="541008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8"/>
          <p:cNvSpPr/>
          <p:nvPr/>
        </p:nvSpPr>
        <p:spPr>
          <a:xfrm>
            <a:off x="7391520" y="541008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29"/>
          <p:cNvSpPr/>
          <p:nvPr/>
        </p:nvSpPr>
        <p:spPr>
          <a:xfrm>
            <a:off x="5105520" y="57150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30"/>
          <p:cNvSpPr/>
          <p:nvPr/>
        </p:nvSpPr>
        <p:spPr>
          <a:xfrm>
            <a:off x="6248520" y="571500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ectangle 31"/>
          <p:cNvSpPr/>
          <p:nvPr/>
        </p:nvSpPr>
        <p:spPr>
          <a:xfrm>
            <a:off x="7391520" y="5715000"/>
            <a:ext cx="609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F689F-1D86-487A-809D-7C2A55EB3F4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oth Hardwar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encoder generates control lines for each 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h selectors choose PP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Picture 6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029200" cy="3646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F411-F81A-4413-A796-63A59C28268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 Extens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al products can be neg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sign extension, which is cumber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fanout on most significant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Object 4"/>
          <p:cNvGraphicFramePr/>
          <p:nvPr/>
        </p:nvGraphicFramePr>
        <p:xfrm>
          <a:off x="990720" y="2666880"/>
          <a:ext cx="7467480" cy="344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66880"/>
                    <a:ext cx="7467480" cy="34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EAF05-B476-468E-8B59-10D3104D534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ed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 bits are either all 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or all 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all 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s all 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+ 1 in proper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is to reduce loading on MS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6" name="Object 4"/>
          <p:cNvGraphicFramePr/>
          <p:nvPr/>
        </p:nvGraphicFramePr>
        <p:xfrm>
          <a:off x="1295280" y="3048120"/>
          <a:ext cx="5715000" cy="29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5715000" cy="29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5D26-E2E8-4C00-9944-BE6F61312DD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a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detec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00…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detecto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11…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ity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tude comparato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&lt;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228C-4349-4F4F-84F0-7780DBB1419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ven Simpler Sign Ex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add all the 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n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ompute the answ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2" name="Object 4"/>
          <p:cNvGraphicFramePr/>
          <p:nvPr/>
        </p:nvGraphicFramePr>
        <p:xfrm>
          <a:off x="990720" y="2743200"/>
          <a:ext cx="7467480" cy="201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74674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3E3D0-CEF3-4849-8F02-F1B7BB99534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dvanced Multipl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vs. unsigned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radix Booth en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ray vs. tree CSA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40E73-D7EE-463B-8937-FD542CC2C24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 &amp; 0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 Detect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detector: N-input AND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detector: NOTs + 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detector (N-input N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4"/>
          <p:cNvGraphicFramePr/>
          <p:nvPr/>
        </p:nvGraphicFramePr>
        <p:xfrm>
          <a:off x="1219320" y="2590920"/>
          <a:ext cx="2895480" cy="18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590920"/>
                    <a:ext cx="2895480" cy="18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Object 5"/>
          <p:cNvGraphicFramePr/>
          <p:nvPr/>
        </p:nvGraphicFramePr>
        <p:xfrm>
          <a:off x="5105520" y="2743200"/>
          <a:ext cx="3047760" cy="125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743200"/>
                    <a:ext cx="304776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6"/>
          <p:cNvGraphicFramePr/>
          <p:nvPr/>
        </p:nvGraphicFramePr>
        <p:xfrm>
          <a:off x="1295280" y="4419720"/>
          <a:ext cx="4648320" cy="1447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4419720"/>
                    <a:ext cx="4648320" cy="14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F09C-BE18-4048-9942-97D4090C6B5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quality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f each bit is equal (XNOR, aka equality g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detect on bitwise e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2057400" y="2819520"/>
          <a:ext cx="4724280" cy="27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819520"/>
                    <a:ext cx="4724280" cy="27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99AD6-7942-473E-B9BB-7F8AED368AA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gnitude Compar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and look at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= B + ~A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unsigned numbers, carry out is sign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4"/>
          <p:cNvGraphicFramePr/>
          <p:nvPr/>
        </p:nvGraphicFramePr>
        <p:xfrm>
          <a:off x="2666880" y="2971800"/>
          <a:ext cx="3276720" cy="290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971800"/>
                    <a:ext cx="3276720" cy="29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7466-BC79-4CBA-97BF-669CF309FA2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gned vs. Unsign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igned numbers, comparison is ha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: carry 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: zero (all bits of 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 are 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: negative (MSB of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: overflow (inputs had different signs, output sign ≠ 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: N xor V (sign of resul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2209680" y="3630600"/>
            <a:ext cx="4800600" cy="2389320"/>
          </a:xfrm>
          <a:prstGeom prst="rect">
            <a:avLst/>
          </a:prstGeom>
          <a:ln w="0">
            <a:noFill/>
          </a:ln>
        </p:spPr>
      </p:pic>
      <p:sp>
        <p:nvSpPr>
          <p:cNvPr id="96" name="Line 6"/>
          <p:cNvSpPr/>
          <p:nvPr/>
        </p:nvSpPr>
        <p:spPr>
          <a:xfrm>
            <a:off x="4038480" y="50292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FC5B-4411-4E0A-9F02-B95F49CAA42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hift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R 1 = 0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L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Shif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.  Rt shift sign exte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ASL1 = 0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number left or right and fills with lost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R1 = 1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 ROL1 = 0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886200" y="2438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7162920" y="2438280"/>
            <a:ext cx="1066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3886200" y="37339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7162920" y="373392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3886200" y="5029200"/>
            <a:ext cx="1066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7238880" y="5029200"/>
            <a:ext cx="1067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8: Datapath Functional Un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4B1A-8F1E-41A3-A746-AFB84FB752C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unnel Shif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funnel shifter can do all six types of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s N-bit field Y from 2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-bit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 by k bits (0 ≤ k &lt; 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ly involves N N:1 multiplex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3048120" y="3408480"/>
            <a:ext cx="3581280" cy="2458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cp:lastPrinted>2020-03-04T16:05:31Z</cp:lastPrinted>
  <dcterms:modified xsi:type="dcterms:W3CDTF">2020-03-04T16:05:39Z</dcterms:modified>
  <cp:revision>1523</cp:revision>
  <dc:subject/>
  <dc:title>PowerPoint Presentation</dc:title>
</cp:coreProperties>
</file>