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17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5040" y="547200"/>
            <a:ext cx="3659040" cy="27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17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E090077-EF1F-461C-ADE1-6493CA328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F55287C-C57B-4225-B44A-FE2D5A5AA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1EC3541-0E74-4996-8D60-F1B6AFEDD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9BE8C41-A229-472A-8C2E-F1E759FB4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0368121-27BD-40ED-A4E1-4F091E4C8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E3A6705-25E7-404F-8E09-176D2D015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5EC8FA5-DC0C-48FA-AA7C-9014C0D50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EA7A9A4-083A-4093-A922-717A4136F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933AF7B-1702-4A5D-89C9-5402398E0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933B461-6C4E-46AC-A7C8-3B512106A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67230AB-FAE0-43C1-A953-1D0D60E3B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3CC5F4E-95BD-42AC-B2E2-499DFE16E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D2601DE-9D5F-4885-944A-195AC2A54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197082B-658B-4253-B602-6882ACAF1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7506796-8FE9-47E6-9F28-5AB176A7B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CE6EFC3-A471-4EEB-90AE-CD3A79983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DF9133A-103E-44E3-9DC5-479285547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14DAC07-E895-4C2D-9C08-8C9BC7803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905090D-EDF2-426F-BC39-5587D044D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5094BBE-5B27-4325-AA36-F7D375AB0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D2D19CF-E1D6-40C5-98F4-FF9B9B026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8D7BCDB-9599-4E9B-BDDE-EE783A1E5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6D9C88C-206A-47AF-9DC2-171493388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67962B6-CA07-4720-8A35-1C239E1B5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521CA2D-36CA-4DDB-AD5B-9F1A185C2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2F29FAE-91E5-4C80-8FD3-BB07EDF7E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B97A053-486C-40F8-8258-713C4E684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BB36F0B-3D31-4E7C-85BB-C825B469C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2438B04-718A-4383-8743-C4ADA5C39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B73D1E0-121B-4A67-8D98-E2FFC3169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F2CE272-ABFC-4F7E-B2C7-8B503E041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E8C48E7-6DA1-4574-805C-53CF3B027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54BAC-D8E4-4320-9851-220F8F87C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54DB3-880E-4F90-A4FB-D4F91995E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0FA3B-854D-4B5C-A7B1-280B711D4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9D2D-4853-4F8C-8885-FCB0A1FA1F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54661-44AB-4374-BB13-2F29DECE84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7D566-D173-408A-B31B-469D7E682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C3B1-6E03-4FA9-884F-51B1D8FF5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4D0E9-298C-43C6-8EC8-7A18A7384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42B42-233C-43EE-B4AF-853D7A8B4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2206E-4B14-43D3-BB19-DFDD7ECA5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2049D-9695-4BA4-8A7B-26C420A10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462F5-EEAC-48FA-BA83-64AABE04D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FF73-4FE3-49E4-8E51-08A2694DF00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atapa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cti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83808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DA4C-E08F-46AE-8D7B-CA3467CEEFA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nel Source Genera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25891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762120" y="2133720"/>
            <a:ext cx="2971800" cy="3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762120" y="251460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62120" y="292896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thmetic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762120" y="335268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762120" y="3733920"/>
            <a:ext cx="297180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/Arithmetic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2332-0CFD-4456-BD08-301AC37FA14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N-input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1-of-N hot select signals for shift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 design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1295280" y="2743200"/>
          <a:ext cx="327672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32767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5257800" y="3124080"/>
            <a:ext cx="216684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8A12-F675-46C3-B6A5-A05C0200E79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arithmic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N stages of 2-input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lect decoding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600200" y="2835360"/>
            <a:ext cx="5410080" cy="265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B968-31CA-4BC2-8253-BCDBAADA46A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2-bit Logarithmic Funn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multiplexers reduce delay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nds &gt; 32 bits introduce datapath ir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3443400" cy="358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4572000" y="2973240"/>
            <a:ext cx="4114800" cy="2532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F1BA-45EA-4BC8-89CF-5B3FB1DB49B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rrel Shif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l shifters perform right rotations using wrap-around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rotations are right rotations by N – k = k + 1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are rotations with the end bits masked 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70102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595B-50C3-433D-B25D-D2EDF5EB4B5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garithmic Barrel Shif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1981080" cy="1795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2590920" cy="2089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3573360" cy="40273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762120" y="32767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shif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762120" y="56386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/Left sh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800600" y="5562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/Left Shift &amp; Ro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56C5-D1A4-49E2-969E-574EC6F2CAE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2-bit Logarithmic Barr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never wider than 3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age preshifts by 1 to handle lef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20364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FD4B-D22E-4E45-B244-DC3922A3E00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input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want to add k N-bit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001 + 0111 + 1101 + 0010 = 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ghtforward solution: k-1 N-input C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and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3581280" y="3809880"/>
          <a:ext cx="19432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809880"/>
                    <a:ext cx="19432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6241-1831-4097-9861-4DE3F5E68A2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Save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ll adder sums 3 inputs and produces 2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output has tw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um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full adders in parallel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ry sav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sums and N carry 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2209680" y="3352680"/>
          <a:ext cx="373392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373392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4BF9-3C03-401F-B8D4-410AFE7FD70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SA Ap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-2 stages of C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sult in carry-save redunda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CPA computes actual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4"/>
          <p:cNvGraphicFramePr/>
          <p:nvPr/>
        </p:nvGraphicFramePr>
        <p:xfrm>
          <a:off x="2209680" y="2971800"/>
          <a:ext cx="358164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35816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5"/>
          <p:cNvSpPr/>
          <p:nvPr/>
        </p:nvSpPr>
        <p:spPr>
          <a:xfrm>
            <a:off x="4572000" y="4800600"/>
            <a:ext cx="712800" cy="94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495680" y="579132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2743200" y="4724280"/>
            <a:ext cx="712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4021200" y="4724280"/>
            <a:ext cx="533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3429000" y="54864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9C4F-17EA-415D-A604-BCECCFFDDBA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inpu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A476-C36D-443F-B791-5B3F3F7E10F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x N-bit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M-bit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these to produce M+N-bit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5"/>
          <p:cNvSpPr/>
          <p:nvPr/>
        </p:nvSpPr>
        <p:spPr>
          <a:xfrm>
            <a:off x="3429000" y="243828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276720" y="274320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124080" y="3048120"/>
            <a:ext cx="762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971800" y="342900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819520" y="373392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3BCE-B2F5-4926-A38B-F51401FF565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l For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n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33037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2743200" y="2590920"/>
          <a:ext cx="510552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1055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7"/>
          <p:cNvGraphicFramePr/>
          <p:nvPr/>
        </p:nvGraphicFramePr>
        <p:xfrm>
          <a:off x="1143000" y="3657600"/>
          <a:ext cx="6477120" cy="23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647712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86F9-69A4-4A51-AB2F-AF89BBE8541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t represents a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838080" y="2209680"/>
          <a:ext cx="784872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84872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42B4-6A7C-4E7E-9671-74A1A80C604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Multipli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2057400" y="1523880"/>
          <a:ext cx="4876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76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B881-C178-4425-B9AE-75767395EB5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tangular Arr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sh array to fit rectangular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4"/>
          <p:cNvGraphicFramePr/>
          <p:nvPr/>
        </p:nvGraphicFramePr>
        <p:xfrm>
          <a:off x="2514600" y="1981080"/>
          <a:ext cx="342108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81080"/>
                    <a:ext cx="34210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7965-7FE8-491D-8301-755336E270D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ewer Partial Produ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multiplier requires N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looked at groups of r bits, we could form N/r parti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and small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radix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r = 2: look at pairs of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partial products of 0, Y, 2Y, 3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hree are easy, but 3Y requires add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CDF6-5BB7-4CE2-908C-D75956E2B88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858000" cy="31356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8"/>
          <p:cNvSpPr/>
          <p:nvPr/>
        </p:nvSpPr>
        <p:spPr>
          <a:xfrm>
            <a:off x="3429000" y="41911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3429000" y="44956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3429000" y="48006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3429000" y="5105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3429000" y="54100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3429000" y="57150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5105520" y="41911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5"/>
          <p:cNvSpPr/>
          <p:nvPr/>
        </p:nvSpPr>
        <p:spPr>
          <a:xfrm>
            <a:off x="6248520" y="41911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7391520" y="41911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5105520" y="44956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8"/>
          <p:cNvSpPr/>
          <p:nvPr/>
        </p:nvSpPr>
        <p:spPr>
          <a:xfrm>
            <a:off x="6248520" y="44956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9"/>
          <p:cNvSpPr/>
          <p:nvPr/>
        </p:nvSpPr>
        <p:spPr>
          <a:xfrm>
            <a:off x="7391520" y="44956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0"/>
          <p:cNvSpPr/>
          <p:nvPr/>
        </p:nvSpPr>
        <p:spPr>
          <a:xfrm>
            <a:off x="5105520" y="48006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1"/>
          <p:cNvSpPr/>
          <p:nvPr/>
        </p:nvSpPr>
        <p:spPr>
          <a:xfrm>
            <a:off x="6248520" y="48006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2"/>
          <p:cNvSpPr/>
          <p:nvPr/>
        </p:nvSpPr>
        <p:spPr>
          <a:xfrm>
            <a:off x="7391520" y="48006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3"/>
          <p:cNvSpPr/>
          <p:nvPr/>
        </p:nvSpPr>
        <p:spPr>
          <a:xfrm>
            <a:off x="5105520" y="51055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4"/>
          <p:cNvSpPr/>
          <p:nvPr/>
        </p:nvSpPr>
        <p:spPr>
          <a:xfrm>
            <a:off x="6248520" y="51055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5"/>
          <p:cNvSpPr/>
          <p:nvPr/>
        </p:nvSpPr>
        <p:spPr>
          <a:xfrm>
            <a:off x="7391520" y="51055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6"/>
          <p:cNvSpPr/>
          <p:nvPr/>
        </p:nvSpPr>
        <p:spPr>
          <a:xfrm>
            <a:off x="5105520" y="54100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6248520" y="54100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8"/>
          <p:cNvSpPr/>
          <p:nvPr/>
        </p:nvSpPr>
        <p:spPr>
          <a:xfrm>
            <a:off x="7391520" y="54100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9"/>
          <p:cNvSpPr/>
          <p:nvPr/>
        </p:nvSpPr>
        <p:spPr>
          <a:xfrm>
            <a:off x="5105520" y="57150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0"/>
          <p:cNvSpPr/>
          <p:nvPr/>
        </p:nvSpPr>
        <p:spPr>
          <a:xfrm>
            <a:off x="6248520" y="57150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1"/>
          <p:cNvSpPr/>
          <p:nvPr/>
        </p:nvSpPr>
        <p:spPr>
          <a:xfrm>
            <a:off x="7391520" y="57150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AE89-7148-460F-995E-D6C5A9F343E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Hardwa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encoder generates control lines for each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selectors choose PP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029200" cy="3646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8146-4953-42BA-AF71-9BE3D7CB4A9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 Exten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products can be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sign extension, which is cumber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fanout on most significant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990720" y="2666880"/>
          <a:ext cx="7467480" cy="34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46748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3C37-264F-4F60-95E1-3559D8A5F3D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bits are either all 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or all 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all 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s all 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+ 1 in proper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is to reduce loading on 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4"/>
          <p:cNvGraphicFramePr/>
          <p:nvPr/>
        </p:nvGraphicFramePr>
        <p:xfrm>
          <a:off x="1295280" y="3048120"/>
          <a:ext cx="5715000" cy="29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571500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38AC-DD9E-4D18-99C8-C416FEAE599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a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detec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0…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detecto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11…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ty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tude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&lt;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3E95-7118-4B45-A6F0-7E22BAFCBEF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ven Simpler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add all the 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n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he ans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990720" y="2743200"/>
          <a:ext cx="746748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74674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CE69-E2E7-4976-954E-B52B398D053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vs. unsigned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radix Booth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s. tree CS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77D0-CDF2-4724-AB95-E05F01ADEE3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 &amp; 0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 Detec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detector: N-input 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detector: NOTs + 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detector (N-input N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1219320" y="2590920"/>
          <a:ext cx="289548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289548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"/>
          <p:cNvGraphicFramePr/>
          <p:nvPr/>
        </p:nvGraphicFramePr>
        <p:xfrm>
          <a:off x="5105520" y="2743200"/>
          <a:ext cx="3047760" cy="12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743200"/>
                    <a:ext cx="304776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6"/>
          <p:cNvGraphicFramePr/>
          <p:nvPr/>
        </p:nvGraphicFramePr>
        <p:xfrm>
          <a:off x="1295280" y="4419720"/>
          <a:ext cx="4648320" cy="14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419720"/>
                    <a:ext cx="46483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3909-98AD-4A9F-9024-AD0B4913CFB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quality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each bit is equal (XNOR, aka equality g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detect on bitwise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2057400" y="2819520"/>
          <a:ext cx="472428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819520"/>
                    <a:ext cx="472428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1072-1612-42E5-96A2-3ABE0C203B1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gnitude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look at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B + ~A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unsigned numbers, carry out is sign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2666880" y="2971800"/>
          <a:ext cx="32767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971800"/>
                    <a:ext cx="32767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E7A7-B9CA-4C75-ACD3-2CE5840F87B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ed vs. Unsign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igned numbers, comparison is ha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 carr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: zero (all bits of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are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 negative (MSB of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: overflow (inputs had different signs, output sign ≠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 N xor V (sign of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2209680" y="3630600"/>
            <a:ext cx="4800600" cy="2389320"/>
          </a:xfrm>
          <a:prstGeom prst="rect">
            <a:avLst/>
          </a:prstGeom>
          <a:ln w="0">
            <a:noFill/>
          </a:ln>
        </p:spPr>
      </p:pic>
      <p:sp>
        <p:nvSpPr>
          <p:cNvPr id="96" name="Line 6"/>
          <p:cNvSpPr/>
          <p:nvPr/>
        </p:nvSpPr>
        <p:spPr>
          <a:xfrm>
            <a:off x="40384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634F-AE4E-4278-8C0E-146EFE343B4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R 1 = 0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.  Rt shift sign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lost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L1 = 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886200" y="2438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7162920" y="2438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86200" y="37339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7162920" y="37339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3886200" y="5029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7238880" y="502920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5B93-36E2-451E-A3CA-9861CEA03EF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nel shifter can do all six types of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s N-bit field Y from 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by k bits (0 ≤ k &lt;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ly involves N N:1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3048120" y="3408480"/>
            <a:ext cx="3581280" cy="245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cp:lastPrinted>2020-03-04T16:05:31Z</cp:lastPrinted>
  <dcterms:modified xsi:type="dcterms:W3CDTF">2020-03-04T16:05:39Z</dcterms:modified>
  <cp:revision>1523</cp:revision>
  <dc:subject/>
  <dc:title>PowerPoint Presentation</dc:title>
</cp:coreProperties>
</file>