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3.wmf" ContentType="image/x-wmf"/>
  <Override PartName="/ppt/media/image50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39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38880" y="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5040" y="547200"/>
            <a:ext cx="3659040" cy="27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2357D2F-0560-4FC2-B819-42DF4140B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D0D2B85-3AAE-474F-83DD-54D555059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59099F1-6C62-4A89-97B7-AE9578113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35B7A04-748F-4A24-A206-C2372F5A8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B9F8DC7-C2E8-4FF9-A165-463A7BF44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B4F2DBF-C4A9-447B-B785-6DE58B4E4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A45BC6B-87F4-4D76-93BF-D8CBC4A34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B30BF04-6522-4687-AFFC-08C6F1D77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FD949A4-21BF-4231-837A-7F1831D81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E5CC3CA-7DBB-4797-840D-C7E6213C4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B9E197A-E757-419D-A716-04A38715B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677B6B5-2212-45C9-AD45-92CBEC4B7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5803673-9997-4A2F-9328-9EBAA8C02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ACA7A91-6F23-401D-93FD-45E40B9F9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E775404-5834-4B7A-B07D-DBF563AAB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2EAE309-4656-4068-A937-F86C7338D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8E4C6D6-76FC-48BB-AB0F-A7B834924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70AEBC4-58EB-45A9-9A40-2D464E767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E17C938-DB2A-4DB2-8F12-39D0F03D1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9946159-0DA4-4BDA-B4DA-522ED5107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4F8CED0-E45D-4BA0-8C8C-DECFA7597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7C1C092-4FB3-4C3E-8AF2-689729E91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1AB4013-D8FD-4858-9381-EC5D8FF32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7F30CF1-EF94-4C7C-8270-DE2DDFDA5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8D5042F-56B7-4B4F-9EB9-9EDAD9DE1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68FAE84-4117-440E-98C2-F681C0CB2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AE24267-CF60-4A3D-8971-0B606897D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465EF81-D459-4095-8FFE-3B03C1E15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4DC2A2C-6D19-4F99-9A57-BA20F9ABB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968C8C0-544A-4F51-85E6-2C04D9928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BAB58F6-FEA7-4A0C-B644-B24BDD68F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7AA9B97-C8D1-431A-96C6-9987E0E89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71683D47-BFA4-4931-822C-3B91C7198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0B47414-9630-45DF-8B66-3BEF7A4E2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A01E6E6-4104-43C7-8709-BBB97878E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683B1B7-CF36-4E6D-B7AE-2A91155AD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F89F728-DD02-48C3-BF0E-0B65366CA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FD993FE-6BA4-41E2-B1CD-488E1F7F1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EDC39-6941-46A9-8E7C-3D1A4E2B1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92233-8FD8-4CD4-8AD7-10FE2BDB5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8908E-0A5D-4A30-8BFE-990BAC559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4533F-E56F-4384-9E50-8ADD4F8F3E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CD6AC-4EE9-4DD1-8F25-2D4880AB85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F110D-227D-491D-A344-993F5312B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BBAE8-63FA-4D4C-9F5C-1DDF1768E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AD5DF-2E10-4F87-86EB-7A3B964E7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E4C90-16CB-4ADE-A939-F8FD09D87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B6AE0-B9E6-4F44-998D-A39C0542E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51492-8717-4894-B576-EC4DF2DB0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89BAD-38A3-4878-A09B-15A868E3F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D1B31D89-A1D6-4745-8C58-2DD0C66FB7F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2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592786DD-C76C-4C35-9BB3-688103A8B9B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 Propagate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bit adder called C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m bit depends on all previous car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compute all these carries quick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914400" y="3352680"/>
          <a:ext cx="2514600" cy="21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352680"/>
                    <a:ext cx="251460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5"/>
          <p:cNvGraphicFramePr/>
          <p:nvPr/>
        </p:nvGraphicFramePr>
        <p:xfrm>
          <a:off x="3886200" y="3733920"/>
          <a:ext cx="4419720" cy="15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3733920"/>
                    <a:ext cx="441972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EA4C52DD-5797-4557-AF27-A4515517B8C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st design: cascade full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goes from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ull adder to have fast carry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685800" y="3124080"/>
          <a:ext cx="7772400" cy="28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7772400" cy="28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23CBB167-AE3C-4FC4-AA3B-9B97181384D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s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passes through majority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from minority +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inverter and use inverting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1752480" y="3048120"/>
          <a:ext cx="533412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533412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A93A52FF-DD0C-48BC-9A53-DA2B8AF82DC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rate / Propa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often factored into G and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nd propagate for groups spanning i: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9736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1219320" y="2514600"/>
          <a:ext cx="281916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281916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6"/>
          <p:cNvSpPr/>
          <p:nvPr/>
        </p:nvSpPr>
        <p:spPr>
          <a:xfrm>
            <a:off x="41148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Object 7"/>
          <p:cNvGraphicFramePr/>
          <p:nvPr/>
        </p:nvGraphicFramePr>
        <p:xfrm>
          <a:off x="1295280" y="4191120"/>
          <a:ext cx="198144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191120"/>
                    <a:ext cx="198144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8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9"/>
          <p:cNvSpPr/>
          <p:nvPr/>
        </p:nvSpPr>
        <p:spPr>
          <a:xfrm>
            <a:off x="43164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10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1"/>
          <p:cNvGraphicFramePr/>
          <p:nvPr/>
        </p:nvGraphicFramePr>
        <p:xfrm>
          <a:off x="4799160" y="4114800"/>
          <a:ext cx="1677960" cy="86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99160" y="4114800"/>
                    <a:ext cx="16779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12"/>
          <p:cNvGraphicFramePr/>
          <p:nvPr/>
        </p:nvGraphicFramePr>
        <p:xfrm>
          <a:off x="1371600" y="5562720"/>
          <a:ext cx="1622520" cy="41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9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1600" y="5562720"/>
                    <a:ext cx="162252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13"/>
          <p:cNvSpPr/>
          <p:nvPr/>
        </p:nvSpPr>
        <p:spPr>
          <a:xfrm>
            <a:off x="1981080" y="25146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1981080" y="304812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1981080" y="41148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1981080" y="45720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5486400" y="40384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5486400" y="44956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1905120" y="54864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21B56E0A-6DBE-424B-A821-FF46EDAAF91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914400" y="1600200"/>
          <a:ext cx="746748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4674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5F772813-A3FA-47D1-A245-9C95476FBB9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404640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4"/>
          <p:cNvGraphicFramePr/>
          <p:nvPr/>
        </p:nvGraphicFramePr>
        <p:xfrm>
          <a:off x="838080" y="1600200"/>
          <a:ext cx="266724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26672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6"/>
          <p:cNvGraphicFramePr/>
          <p:nvPr/>
        </p:nvGraphicFramePr>
        <p:xfrm>
          <a:off x="2209680" y="2057400"/>
          <a:ext cx="4343400" cy="394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057400"/>
                    <a:ext cx="434340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2EE5154B-E4C5-4AEC-B7C0-103EBDB6D24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3" name="Object 3"/>
          <p:cNvGraphicFramePr/>
          <p:nvPr/>
        </p:nvGraphicFramePr>
        <p:xfrm>
          <a:off x="3809880" y="1447920"/>
          <a:ext cx="4572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447920"/>
                    <a:ext cx="4572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Rectangle 4"/>
          <p:cNvSpPr/>
          <p:nvPr/>
        </p:nvSpPr>
        <p:spPr>
          <a:xfrm>
            <a:off x="372600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Object 5"/>
          <p:cNvGraphicFramePr/>
          <p:nvPr/>
        </p:nvGraphicFramePr>
        <p:xfrm>
          <a:off x="762120" y="2362320"/>
          <a:ext cx="304776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362320"/>
                    <a:ext cx="30477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6"/>
          <p:cNvSpPr/>
          <p:nvPr/>
        </p:nvSpPr>
        <p:spPr>
          <a:xfrm>
            <a:off x="152388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B770544D-FEAA-480D-8724-D14642D257D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 Diagram No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685800" y="1968480"/>
          <a:ext cx="7772400" cy="36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68480"/>
                    <a:ext cx="7772400" cy="36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F4240D1E-112E-465C-8D30-541521FE070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kip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ripple is slow through all 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kip allows carry to skip over groups of n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based on n-bit propagate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4"/>
          <p:cNvGraphicFramePr/>
          <p:nvPr/>
        </p:nvGraphicFramePr>
        <p:xfrm>
          <a:off x="762120" y="3200400"/>
          <a:ext cx="7696080" cy="18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200400"/>
                    <a:ext cx="769608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00063419-2F41-4569-B6C6-D55016B4C3E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kip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k n-bit groups (N = 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5"/>
          <p:cNvGraphicFramePr/>
          <p:nvPr/>
        </p:nvGraphicFramePr>
        <p:xfrm>
          <a:off x="1219320" y="5486400"/>
          <a:ext cx="41907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486400"/>
                    <a:ext cx="41907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7"/>
          <p:cNvGraphicFramePr/>
          <p:nvPr/>
        </p:nvGraphicFramePr>
        <p:xfrm>
          <a:off x="1828800" y="1600200"/>
          <a:ext cx="5181480" cy="332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600200"/>
                    <a:ext cx="518148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8"/>
          <p:cNvSpPr/>
          <p:nvPr/>
        </p:nvSpPr>
        <p:spPr>
          <a:xfrm>
            <a:off x="1828800" y="548640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3AE40EB6-F001-44F9-B562-A98400266D1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bit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Rippl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kip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Lookahead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elec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Incremen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5FC27E83-1E8D-4B17-8FCF-94C86E7B753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riable Group Siz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914400" y="56386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grows as O(sqrt(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Object 6"/>
          <p:cNvGraphicFramePr/>
          <p:nvPr/>
        </p:nvGraphicFramePr>
        <p:xfrm>
          <a:off x="685800" y="1600200"/>
          <a:ext cx="7772400" cy="41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9739C86D-4EA9-4312-A9A2-6C0DECCC794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Lookahead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lookahead adder computes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: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bits in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higher-valency cells with more than two in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762120" y="3429000"/>
          <a:ext cx="761976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429000"/>
                    <a:ext cx="761976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E8C06087-2585-4DDE-BF98-2BB6D4998A4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A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838080" y="2133720"/>
          <a:ext cx="7467840" cy="32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467840" cy="32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E5A6979A-8F1B-4112-B4AE-DC3586DD744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gher-Valency Ce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9" name="Object 3"/>
          <p:cNvGraphicFramePr/>
          <p:nvPr/>
        </p:nvGraphicFramePr>
        <p:xfrm>
          <a:off x="685800" y="2546280"/>
          <a:ext cx="7772400" cy="25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46280"/>
                    <a:ext cx="777240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37D30AB0-C6BF-4512-BC20-9FAC4085AC8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elect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 for critical paths dependent on late input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mpute two possible outputs for X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proper output when X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elect adder precomputes n-bit s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oth possible carries into n-bi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Object 4"/>
          <p:cNvGraphicFramePr/>
          <p:nvPr/>
        </p:nvGraphicFramePr>
        <p:xfrm>
          <a:off x="1066680" y="3886200"/>
          <a:ext cx="6705720" cy="21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86200"/>
                    <a:ext cx="670572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530C833B-7DD7-4E37-9E62-C0A60893E82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Increment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initial PG and final XOR out of carry-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Object 4"/>
          <p:cNvGraphicFramePr/>
          <p:nvPr/>
        </p:nvGraphicFramePr>
        <p:xfrm>
          <a:off x="1523880" y="2057400"/>
          <a:ext cx="5715000" cy="30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571500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8"/>
          <p:cNvSpPr/>
          <p:nvPr/>
        </p:nvSpPr>
        <p:spPr>
          <a:xfrm>
            <a:off x="334152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Object 7"/>
          <p:cNvGraphicFramePr/>
          <p:nvPr/>
        </p:nvGraphicFramePr>
        <p:xfrm>
          <a:off x="1066680" y="5257800"/>
          <a:ext cx="518184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257800"/>
                    <a:ext cx="51818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Rectangle 9"/>
          <p:cNvSpPr/>
          <p:nvPr/>
        </p:nvSpPr>
        <p:spPr>
          <a:xfrm>
            <a:off x="2286000" y="5334120"/>
            <a:ext cx="3962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0F2AD017-330F-4AC2-9372-0941D153EB5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riable Group Siz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bu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3657600" y="1523880"/>
          <a:ext cx="480996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523880"/>
                    <a:ext cx="4809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CD552799-C5E5-4261-ACD4-3FEB9639167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lookahead is good, lookahead across lookahea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lookahead gives O(log N)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variations on tree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1D32BF51-0A7A-47E6-96B5-3C42A0C0723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rent-Ku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0" name="Object 3"/>
          <p:cNvGraphicFramePr/>
          <p:nvPr/>
        </p:nvGraphicFramePr>
        <p:xfrm>
          <a:off x="828720" y="1523880"/>
          <a:ext cx="74865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523880"/>
                    <a:ext cx="7486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11FB07FC-12AB-415A-8FC0-168BF9FA671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lansk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5" name="Object 3"/>
          <p:cNvGraphicFramePr/>
          <p:nvPr/>
        </p:nvGraphicFramePr>
        <p:xfrm>
          <a:off x="685800" y="2197080"/>
          <a:ext cx="7772400" cy="32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97080"/>
                    <a:ext cx="7772400" cy="32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E495CF12-126B-4688-8CE9-0BE1EA3A93F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ngle-Bit Ad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Ad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62120" y="2743200"/>
          <a:ext cx="2438280" cy="18288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181480" y="2743200"/>
          <a:ext cx="2819520" cy="3292560"/>
        </p:xfrm>
        <a:graphic>
          <a:graphicData uri="http://schemas.openxmlformats.org/drawingml/2006/table">
            <a:tbl>
              <a:tblPr/>
              <a:tblGrid>
                <a:gridCol w="563760"/>
                <a:gridCol w="565200"/>
                <a:gridCol w="561960"/>
                <a:gridCol w="565200"/>
                <a:gridCol w="5634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Object 98"/>
          <p:cNvGraphicFramePr/>
          <p:nvPr/>
        </p:nvGraphicFramePr>
        <p:xfrm>
          <a:off x="2230560" y="1371600"/>
          <a:ext cx="1315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0560" y="1371600"/>
                    <a:ext cx="1315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99"/>
          <p:cNvGraphicFramePr/>
          <p:nvPr/>
        </p:nvGraphicFramePr>
        <p:xfrm>
          <a:off x="6705720" y="1379520"/>
          <a:ext cx="144756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9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379520"/>
                    <a:ext cx="144756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100"/>
          <p:cNvGraphicFramePr/>
          <p:nvPr/>
        </p:nvGraphicFramePr>
        <p:xfrm>
          <a:off x="838080" y="1981080"/>
          <a:ext cx="129564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Object 10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1981080"/>
                    <a:ext cx="12956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101"/>
          <p:cNvGraphicFramePr/>
          <p:nvPr/>
        </p:nvGraphicFramePr>
        <p:xfrm>
          <a:off x="4870440" y="1981080"/>
          <a:ext cx="1835280" cy="62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" name="Object 10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0440" y="1981080"/>
                    <a:ext cx="18352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102"/>
          <p:cNvSpPr/>
          <p:nvPr/>
        </p:nvSpPr>
        <p:spPr>
          <a:xfrm>
            <a:off x="205740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3"/>
          <p:cNvSpPr/>
          <p:nvPr/>
        </p:nvSpPr>
        <p:spPr>
          <a:xfrm>
            <a:off x="266688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04"/>
          <p:cNvSpPr/>
          <p:nvPr/>
        </p:nvSpPr>
        <p:spPr>
          <a:xfrm>
            <a:off x="205740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05"/>
          <p:cNvSpPr/>
          <p:nvPr/>
        </p:nvSpPr>
        <p:spPr>
          <a:xfrm>
            <a:off x="266688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6"/>
          <p:cNvSpPr/>
          <p:nvPr/>
        </p:nvSpPr>
        <p:spPr>
          <a:xfrm>
            <a:off x="205740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7"/>
          <p:cNvSpPr/>
          <p:nvPr/>
        </p:nvSpPr>
        <p:spPr>
          <a:xfrm>
            <a:off x="266688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8"/>
          <p:cNvSpPr/>
          <p:nvPr/>
        </p:nvSpPr>
        <p:spPr>
          <a:xfrm>
            <a:off x="205740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09"/>
          <p:cNvSpPr/>
          <p:nvPr/>
        </p:nvSpPr>
        <p:spPr>
          <a:xfrm>
            <a:off x="266688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10"/>
          <p:cNvSpPr/>
          <p:nvPr/>
        </p:nvSpPr>
        <p:spPr>
          <a:xfrm>
            <a:off x="693432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11"/>
          <p:cNvSpPr/>
          <p:nvPr/>
        </p:nvSpPr>
        <p:spPr>
          <a:xfrm>
            <a:off x="746748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12"/>
          <p:cNvSpPr/>
          <p:nvPr/>
        </p:nvSpPr>
        <p:spPr>
          <a:xfrm>
            <a:off x="693432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3"/>
          <p:cNvSpPr/>
          <p:nvPr/>
        </p:nvSpPr>
        <p:spPr>
          <a:xfrm>
            <a:off x="746748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14"/>
          <p:cNvSpPr/>
          <p:nvPr/>
        </p:nvSpPr>
        <p:spPr>
          <a:xfrm>
            <a:off x="693432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15"/>
          <p:cNvSpPr/>
          <p:nvPr/>
        </p:nvSpPr>
        <p:spPr>
          <a:xfrm>
            <a:off x="746748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16"/>
          <p:cNvSpPr/>
          <p:nvPr/>
        </p:nvSpPr>
        <p:spPr>
          <a:xfrm>
            <a:off x="693432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17"/>
          <p:cNvSpPr/>
          <p:nvPr/>
        </p:nvSpPr>
        <p:spPr>
          <a:xfrm>
            <a:off x="746748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22"/>
          <p:cNvSpPr/>
          <p:nvPr/>
        </p:nvSpPr>
        <p:spPr>
          <a:xfrm>
            <a:off x="693432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23"/>
          <p:cNvSpPr/>
          <p:nvPr/>
        </p:nvSpPr>
        <p:spPr>
          <a:xfrm>
            <a:off x="746748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4"/>
          <p:cNvSpPr/>
          <p:nvPr/>
        </p:nvSpPr>
        <p:spPr>
          <a:xfrm>
            <a:off x="6934320" y="5029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25"/>
          <p:cNvSpPr/>
          <p:nvPr/>
        </p:nvSpPr>
        <p:spPr>
          <a:xfrm>
            <a:off x="7467480" y="5029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6"/>
          <p:cNvSpPr/>
          <p:nvPr/>
        </p:nvSpPr>
        <p:spPr>
          <a:xfrm>
            <a:off x="693432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7"/>
          <p:cNvSpPr/>
          <p:nvPr/>
        </p:nvSpPr>
        <p:spPr>
          <a:xfrm>
            <a:off x="746748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8"/>
          <p:cNvSpPr/>
          <p:nvPr/>
        </p:nvSpPr>
        <p:spPr>
          <a:xfrm>
            <a:off x="6934320" y="5715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29"/>
          <p:cNvSpPr/>
          <p:nvPr/>
        </p:nvSpPr>
        <p:spPr>
          <a:xfrm>
            <a:off x="7467480" y="5715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D8484B7E-F4DA-4D71-B7B6-194A4C07F27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ogge-Sto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0" name="Object 3"/>
          <p:cNvGraphicFramePr/>
          <p:nvPr/>
        </p:nvGraphicFramePr>
        <p:xfrm>
          <a:off x="685800" y="1933560"/>
          <a:ext cx="777240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33560"/>
                    <a:ext cx="777240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E72BCBC2-ED6C-4DBA-A705-6C958D9F4FB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 Taxonom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N-bit tree adder would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og N   logic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out never exceedi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than one wiring track between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dder with 3-D taxonomy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ou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ing track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tree adders sit on plane defin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D8C12685-0854-4979-842F-318A5B5C855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 Taxonom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9" name="Object 3"/>
          <p:cNvGraphicFramePr/>
          <p:nvPr/>
        </p:nvGraphicFramePr>
        <p:xfrm>
          <a:off x="1676520" y="1523880"/>
          <a:ext cx="5759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5759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Rectangle 4"/>
          <p:cNvSpPr/>
          <p:nvPr/>
        </p:nvSpPr>
        <p:spPr>
          <a:xfrm>
            <a:off x="6324480" y="220968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572000" y="518148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2133720" y="2362320"/>
            <a:ext cx="5331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11BB6B93-CCB0-49A8-82B9-378ED13A47F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n-Carl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7" name="Object 3"/>
          <p:cNvGraphicFramePr/>
          <p:nvPr/>
        </p:nvGraphicFramePr>
        <p:xfrm>
          <a:off x="685800" y="1700280"/>
          <a:ext cx="777240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00280"/>
                    <a:ext cx="777240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57506593-0004-4EB6-B1E8-66B2ADC9CF4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nowles [2, 1, 1, 1]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2" name="Object 3"/>
          <p:cNvGraphicFramePr/>
          <p:nvPr/>
        </p:nvGraphicFramePr>
        <p:xfrm>
          <a:off x="685800" y="1933560"/>
          <a:ext cx="777240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33560"/>
                    <a:ext cx="777240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49F3F019-0F69-4C36-B87F-112A7C347A8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dner-Fisch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7" name="Object 3"/>
          <p:cNvGraphicFramePr/>
          <p:nvPr/>
        </p:nvGraphicFramePr>
        <p:xfrm>
          <a:off x="685800" y="1814400"/>
          <a:ext cx="7772400" cy="39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14400"/>
                    <a:ext cx="777240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26198056-7B92-4523-9D4D-52C89AFD311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axonomy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22" name="Object 1028"/>
          <p:cNvGraphicFramePr/>
          <p:nvPr/>
        </p:nvGraphicFramePr>
        <p:xfrm>
          <a:off x="2209680" y="2057400"/>
          <a:ext cx="472464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472464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1029"/>
          <p:cNvGraphicFramePr/>
          <p:nvPr/>
        </p:nvGraphicFramePr>
        <p:xfrm>
          <a:off x="1295280" y="4800600"/>
          <a:ext cx="222264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800600"/>
                    <a:ext cx="222264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1030"/>
          <p:cNvGraphicFramePr/>
          <p:nvPr/>
        </p:nvGraphicFramePr>
        <p:xfrm>
          <a:off x="685800" y="3276720"/>
          <a:ext cx="1905120" cy="10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7" name="Object 10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276720"/>
                    <a:ext cx="19051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1031"/>
          <p:cNvGraphicFramePr/>
          <p:nvPr/>
        </p:nvGraphicFramePr>
        <p:xfrm>
          <a:off x="609480" y="1676520"/>
          <a:ext cx="1905120" cy="93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9" name="Object 10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1676520"/>
                    <a:ext cx="190512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1032"/>
          <p:cNvGraphicFramePr/>
          <p:nvPr/>
        </p:nvGraphicFramePr>
        <p:xfrm>
          <a:off x="6553080" y="1523880"/>
          <a:ext cx="2133720" cy="1252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1" name="Object 103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3080" y="1523880"/>
                    <a:ext cx="2133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1033"/>
          <p:cNvGraphicFramePr/>
          <p:nvPr/>
        </p:nvGraphicFramePr>
        <p:xfrm>
          <a:off x="6248520" y="2743200"/>
          <a:ext cx="2209680" cy="152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3" name="Object 103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2743200"/>
                    <a:ext cx="220968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1034"/>
          <p:cNvGraphicFramePr/>
          <p:nvPr/>
        </p:nvGraphicFramePr>
        <p:xfrm>
          <a:off x="5638680" y="4572000"/>
          <a:ext cx="2362320" cy="1469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5" name="Object 103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572000"/>
                    <a:ext cx="236232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4673C1DE-9DD6-4FE2-A63A-CFFA8828AE0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533520" y="2819520"/>
          <a:ext cx="8153280" cy="307800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1295280"/>
                <a:gridCol w="990720"/>
                <a:gridCol w="990360"/>
                <a:gridCol w="1447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te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Lev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Fan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Ri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Skip n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4 +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Inc. n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4 +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-K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-1, 0,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lans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L-1,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2 +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N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gge-S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0, L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Text Box 160"/>
          <p:cNvSpPr/>
          <p:nvPr/>
        </p:nvSpPr>
        <p:spPr>
          <a:xfrm>
            <a:off x="685800" y="1600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r architectures offer area / power / delay tradeoff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best one for your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6D7140BE-0440-4CFE-9701-73ADF2B26E9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ull adder, define what happens to car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terms of A and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g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l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~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514600" y="2895480"/>
            <a:ext cx="7621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514600" y="37339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514600" y="4648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4D756AA2-9D88-4A9D-865D-2DA7753A574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e force implementation from eq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1219320" y="2057400"/>
          <a:ext cx="2743200" cy="9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274320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5"/>
          <p:cNvGraphicFramePr/>
          <p:nvPr/>
        </p:nvGraphicFramePr>
        <p:xfrm>
          <a:off x="1295280" y="3200400"/>
          <a:ext cx="6172200" cy="283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200400"/>
                    <a:ext cx="617220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834FC381-8577-4DC5-8525-C8CDDBDBA36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S in terms of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ABC + (A + B + C)(~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is usually C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ippl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1447920" y="2743200"/>
          <a:ext cx="609588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43200"/>
                    <a:ext cx="60958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DE9AAE61-B148-40AA-896E-7F04B1053B4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ver layout circumvents usual line of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de transistors on 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output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7696080" cy="2468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78875AE9-261B-48B1-A2DD-5BACCFBDAB0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I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Pass Transistor Logic (CP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faster, but mor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1523880" y="2293920"/>
          <a:ext cx="579132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93920"/>
                    <a:ext cx="57913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0A8A5A59-0992-4E21-84C7-9E4E468711C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ast, but large and power hung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very fast multi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371600" y="2787480"/>
          <a:ext cx="5715000" cy="33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787480"/>
                    <a:ext cx="5715000" cy="33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dcterms:modified xsi:type="dcterms:W3CDTF">2020-03-04T16:06:00Z</dcterms:modified>
  <cp:revision>1405</cp:revision>
  <dc:subject/>
  <dc:title>PowerPoint Presentation</dc:title>
</cp:coreProperties>
</file>