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13.wmf" ContentType="image/x-wmf"/>
  <Override PartName="/ppt/media/image50.wmf" ContentType="image/x-wmf"/>
  <Override PartName="/ppt/media/image30.wmf" ContentType="image/x-wmf"/>
  <Override PartName="/ppt/media/image40.wmf" ContentType="image/x-wmf"/>
  <Override PartName="/ppt/media/image41.wmf" ContentType="image/x-wmf"/>
  <Override PartName="/ppt/media/image39.wmf" ContentType="image/x-wmf"/>
  <Override PartName="/ppt/media/image31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48.wmf" ContentType="image/x-wmf"/>
  <Override PartName="/ppt/media/image11.wmf" ContentType="image/x-wmf"/>
  <Override PartName="/ppt/media/image51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38880" y="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5040" y="547200"/>
            <a:ext cx="3659040" cy="27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2255DAC-96DC-4614-A786-E6445806A6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EDC1CFA-F5B5-4DD9-B4AD-BF93240E8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92FCD6F-E5C5-4968-B7B9-232F4813B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5BFFCBB-2C21-4FBA-906C-ED9F89F50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C9CF19E-EA66-47E7-80F7-6FC937F57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5F362A1-A8CA-4686-947C-C99788B32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F15DDEE-C0AF-4AD2-89E6-6F7008624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6858E26-D23B-45C3-90CB-B3C5FD34FF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74E8B224-DF2E-4F80-A97C-E6F567F0F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993ECC4-AEC7-433B-A92F-D2A42C14F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1883553-E26A-41D9-A978-7A44E8D150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9C12D3C-0550-4AEC-85D9-99920410F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CC1363B-D45C-4C30-9D01-069FEDC3C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EEF656A-6E22-4216-B0C1-78D4DCD8A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5AA5B7E-A478-4772-A4AD-00167FCF83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7F7F369-79FF-4B67-B5BF-E8F6C5E16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0A39E37-5A38-4908-B48D-D9C78FA451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7A833B32-B111-4889-9456-58E57CA5B3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D06C456-55B4-4325-B1F3-A16CEB2774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DCADC25-DC22-468B-AE91-2F8938A76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F577049-4D42-41AC-8887-2AE5A8A74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51FC9F0-7821-455D-847D-AD23D436C3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69E48C5-C7C3-4393-9B4B-461C76E048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A0125B3B-CE97-4B13-939D-56DC78D0C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37EAD3A-29EF-470F-B28D-9C9DCD9CD6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606DA4C-313F-427F-8413-3B13E8413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383CB35-2B8B-4E44-A869-16D46D681E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0ECA169-C998-438D-B6C9-63EED106E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FC9633A-2071-4BDE-85A5-77D3F7E41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3392BE8-938D-4F03-B527-0E65C2784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F4F943E-A675-45A3-B1D0-71599E9C4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835275C-9BC3-45F6-BF71-EC9FF6049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9B5CFED-040B-4C3F-B3CB-5F4DAC80F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4F5F3CD-ED8B-43F0-8FAD-9948DD81B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1C6D93FD-A9B8-48DA-BE49-D88AA05E5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D931B08-9D68-40DD-8016-017F36AE6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629E103-C2E1-4B7B-BBBD-065229188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5438880" y="6950160"/>
            <a:ext cx="4162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6FAADB5-FE6D-4F9A-8A1A-EA3B28ADD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9DF89-E915-4EF1-A50A-BB2296362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858CB-CE81-4B6A-B453-B40D5A713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8B8BA-3F87-432C-9169-CFCB41780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C16BD-2665-4493-B9BD-9203BBA2A3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46741-525B-4207-8147-C598926217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250CB-A5A5-44E7-ADA8-D4AD440232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8E1E0-2052-4BE7-8F24-1752035FF0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A778F-17DE-4079-BC01-D839DA182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B4094-A633-4038-BC0A-1A37B8B07C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F4508-BA24-4B89-B03F-16CA48104A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46976-3DF7-43A0-BDE1-35963A4AD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41B27-C98B-49BB-869B-551BB97FD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541A3A78-EA70-44F5-861D-B990625B611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0.wmf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1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2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1530960C-8D9B-43A9-9B38-5EFD1BDA05A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 Propagate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bit adder called C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sum bit depends on all previous car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compute all these carries quick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Object 4"/>
          <p:cNvGraphicFramePr/>
          <p:nvPr/>
        </p:nvGraphicFramePr>
        <p:xfrm>
          <a:off x="914400" y="3352680"/>
          <a:ext cx="2514600" cy="21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352680"/>
                    <a:ext cx="2514600" cy="21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Object 5"/>
          <p:cNvGraphicFramePr/>
          <p:nvPr/>
        </p:nvGraphicFramePr>
        <p:xfrm>
          <a:off x="3886200" y="3733920"/>
          <a:ext cx="4419720" cy="15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3733920"/>
                    <a:ext cx="4419720" cy="15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7D1028CB-1E06-4D29-B100-094FD599E17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st design: cascade full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goes from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full adder to have fast carry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685800" y="3124080"/>
          <a:ext cx="7772400" cy="281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124080"/>
                    <a:ext cx="7772400" cy="281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090C74F2-F0E0-4850-814C-FCBDF8480F3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s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passes through majority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from minority +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inverter and use inverting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1752480" y="3048120"/>
          <a:ext cx="5334120" cy="28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048120"/>
                    <a:ext cx="5334120" cy="28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7CC4F702-8542-4276-A4DB-B654720D577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rate / Propa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s often factored into G and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 and propagate for groups spanning i: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397368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1219320" y="2514600"/>
          <a:ext cx="2819160" cy="9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14600"/>
                    <a:ext cx="2819160" cy="9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Rectangle 6"/>
          <p:cNvSpPr/>
          <p:nvPr/>
        </p:nvSpPr>
        <p:spPr>
          <a:xfrm>
            <a:off x="41148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Object 7"/>
          <p:cNvGraphicFramePr/>
          <p:nvPr/>
        </p:nvGraphicFramePr>
        <p:xfrm>
          <a:off x="1295280" y="4191120"/>
          <a:ext cx="1981440" cy="86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191120"/>
                    <a:ext cx="198144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Object 8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2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9"/>
          <p:cNvSpPr/>
          <p:nvPr/>
        </p:nvSpPr>
        <p:spPr>
          <a:xfrm>
            <a:off x="431640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Object 10"/>
          <p:cNvGraphicFramePr/>
          <p:nvPr/>
        </p:nvGraphicFramePr>
        <p:xfrm>
          <a:off x="4316400" y="3230640"/>
          <a:ext cx="511200" cy="396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5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316400" y="3230640"/>
                    <a:ext cx="51120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11"/>
          <p:cNvGraphicFramePr/>
          <p:nvPr/>
        </p:nvGraphicFramePr>
        <p:xfrm>
          <a:off x="4799160" y="4114800"/>
          <a:ext cx="1677960" cy="860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7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799160" y="4114800"/>
                    <a:ext cx="1677960" cy="8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12"/>
          <p:cNvGraphicFramePr/>
          <p:nvPr/>
        </p:nvGraphicFramePr>
        <p:xfrm>
          <a:off x="1371600" y="5562720"/>
          <a:ext cx="1622520" cy="4172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79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1600" y="5562720"/>
                    <a:ext cx="162252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13"/>
          <p:cNvSpPr/>
          <p:nvPr/>
        </p:nvSpPr>
        <p:spPr>
          <a:xfrm>
            <a:off x="1981080" y="25146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1981080" y="304812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15"/>
          <p:cNvSpPr/>
          <p:nvPr/>
        </p:nvSpPr>
        <p:spPr>
          <a:xfrm>
            <a:off x="1981080" y="41148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1981080" y="45720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5486400" y="40384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5486400" y="44956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1905120" y="548640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8FCEDC14-D28A-4CB2-BBE9-3F02DD0D829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 Logic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0" name="Object 4"/>
          <p:cNvGraphicFramePr/>
          <p:nvPr/>
        </p:nvGraphicFramePr>
        <p:xfrm>
          <a:off x="914400" y="1600200"/>
          <a:ext cx="746748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46748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6517D4FA-6D77-4403-8385-B805F14FCD9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4046400" y="33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6" name="Object 4"/>
          <p:cNvGraphicFramePr/>
          <p:nvPr/>
        </p:nvGraphicFramePr>
        <p:xfrm>
          <a:off x="838080" y="1600200"/>
          <a:ext cx="2667240" cy="48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2667240" cy="4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6"/>
          <p:cNvGraphicFramePr/>
          <p:nvPr/>
        </p:nvGraphicFramePr>
        <p:xfrm>
          <a:off x="2209680" y="2057400"/>
          <a:ext cx="4343400" cy="394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057400"/>
                    <a:ext cx="4343400" cy="39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2FCA7F38-5AC2-4417-A108-AC2A7ACB587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Ripple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3" name="Object 3"/>
          <p:cNvGraphicFramePr/>
          <p:nvPr/>
        </p:nvGraphicFramePr>
        <p:xfrm>
          <a:off x="3809880" y="1447920"/>
          <a:ext cx="457200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447920"/>
                    <a:ext cx="457200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Rectangle 4"/>
          <p:cNvSpPr/>
          <p:nvPr/>
        </p:nvSpPr>
        <p:spPr>
          <a:xfrm>
            <a:off x="372600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Object 5"/>
          <p:cNvGraphicFramePr/>
          <p:nvPr/>
        </p:nvGraphicFramePr>
        <p:xfrm>
          <a:off x="762120" y="2362320"/>
          <a:ext cx="304776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362320"/>
                    <a:ext cx="304776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Rectangle 6"/>
          <p:cNvSpPr/>
          <p:nvPr/>
        </p:nvSpPr>
        <p:spPr>
          <a:xfrm>
            <a:off x="152388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19C97CB9-F765-4899-9A6D-F9E5ECE7C87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 Diagram No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685800" y="1968480"/>
          <a:ext cx="7772400" cy="368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68480"/>
                    <a:ext cx="7772400" cy="368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50590371-3BD0-4230-8785-71E5E22A226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kip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ripple is slow through all 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kip allows carry to skip over groups of n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 based on n-bit propagate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8" name="Object 4"/>
          <p:cNvGraphicFramePr/>
          <p:nvPr/>
        </p:nvGraphicFramePr>
        <p:xfrm>
          <a:off x="762120" y="3200400"/>
          <a:ext cx="7696080" cy="18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200400"/>
                    <a:ext cx="769608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35738FFA-C5DD-45E2-A20D-251C372BC45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kip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k n-bit groups (N = n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5"/>
          <p:cNvGraphicFramePr/>
          <p:nvPr/>
        </p:nvGraphicFramePr>
        <p:xfrm>
          <a:off x="1219320" y="5486400"/>
          <a:ext cx="4190760" cy="50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5486400"/>
                    <a:ext cx="419076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Object 7"/>
          <p:cNvGraphicFramePr/>
          <p:nvPr/>
        </p:nvGraphicFramePr>
        <p:xfrm>
          <a:off x="1828800" y="1600200"/>
          <a:ext cx="5181480" cy="3322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8800" y="1600200"/>
                    <a:ext cx="518148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8"/>
          <p:cNvSpPr/>
          <p:nvPr/>
        </p:nvSpPr>
        <p:spPr>
          <a:xfrm>
            <a:off x="1828800" y="548640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683552EF-D7CF-4488-8CAF-E1931BBB5CA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bit Ad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Rippl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kip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Lookahead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elec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Increment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328D841A-24CA-4A59-A947-35EDC09B67A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riable Group Siz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914400" y="56386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grows as O(sqrt(N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3" name="Object 6"/>
          <p:cNvGraphicFramePr/>
          <p:nvPr/>
        </p:nvGraphicFramePr>
        <p:xfrm>
          <a:off x="685800" y="1600200"/>
          <a:ext cx="7772400" cy="41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F8430AEA-F821-4D89-92E3-11AD6C7892C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Lookahead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lookahead adder computes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: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ny bits in parall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higher-valency cells with more than two in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762120" y="3429000"/>
          <a:ext cx="7619760" cy="18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429000"/>
                    <a:ext cx="7619760" cy="18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BB77112B-87C8-4944-BDD4-262F302E5C1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A PG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4" name="Object 4"/>
          <p:cNvGraphicFramePr/>
          <p:nvPr/>
        </p:nvGraphicFramePr>
        <p:xfrm>
          <a:off x="838080" y="2133720"/>
          <a:ext cx="7467840" cy="32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33720"/>
                    <a:ext cx="7467840" cy="32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DDFC209C-743C-4CD7-B6A1-BDF25306F99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igher-Valency Ce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9" name="Object 3"/>
          <p:cNvGraphicFramePr/>
          <p:nvPr/>
        </p:nvGraphicFramePr>
        <p:xfrm>
          <a:off x="685800" y="2546280"/>
          <a:ext cx="7772400" cy="25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46280"/>
                    <a:ext cx="7772400" cy="25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509766D4-8AC5-4F94-B104-B312862FA70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Select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ck for critical paths dependent on late input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mpute two possible outputs for X = 0,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proper output when X ar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-select adder precomputes n-bit s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oth possible carries into n-bit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Object 4"/>
          <p:cNvGraphicFramePr/>
          <p:nvPr/>
        </p:nvGraphicFramePr>
        <p:xfrm>
          <a:off x="1066680" y="3886200"/>
          <a:ext cx="6705720" cy="21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86200"/>
                    <a:ext cx="670572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C87E8F48-1F3B-4F08-90E1-5E79605C8BF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-Increment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initial PG and final XOR out of carry-sel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Object 4"/>
          <p:cNvGraphicFramePr/>
          <p:nvPr/>
        </p:nvGraphicFramePr>
        <p:xfrm>
          <a:off x="1523880" y="2057400"/>
          <a:ext cx="5715000" cy="30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057400"/>
                    <a:ext cx="5715000" cy="30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8"/>
          <p:cNvSpPr/>
          <p:nvPr/>
        </p:nvSpPr>
        <p:spPr>
          <a:xfrm>
            <a:off x="334152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4" name="Object 7"/>
          <p:cNvGraphicFramePr/>
          <p:nvPr/>
        </p:nvGraphicFramePr>
        <p:xfrm>
          <a:off x="1066680" y="5257800"/>
          <a:ext cx="5181840" cy="5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5257800"/>
                    <a:ext cx="51818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Rectangle 9"/>
          <p:cNvSpPr/>
          <p:nvPr/>
        </p:nvSpPr>
        <p:spPr>
          <a:xfrm>
            <a:off x="2286000" y="5334120"/>
            <a:ext cx="3962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08A9CE0E-D777-4C96-A043-30D0E35F895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ariable Group Siz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buf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crit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1" name="Object 4"/>
          <p:cNvGraphicFramePr/>
          <p:nvPr/>
        </p:nvGraphicFramePr>
        <p:xfrm>
          <a:off x="3657600" y="1523880"/>
          <a:ext cx="480996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1523880"/>
                    <a:ext cx="480996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F53D1FFF-CCD5-49CB-A423-3722844CC9D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lookahead is good, lookahead across lookahea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ve lookahead gives O(log N)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variations on tree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1360BCE1-40AB-48CF-A363-26F055B000E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rent-Ku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0" name="Object 3"/>
          <p:cNvGraphicFramePr/>
          <p:nvPr/>
        </p:nvGraphicFramePr>
        <p:xfrm>
          <a:off x="828720" y="1523880"/>
          <a:ext cx="748656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1523880"/>
                    <a:ext cx="748656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F55F525F-F35A-48B1-B818-A0D0229643A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lansk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5" name="Object 3"/>
          <p:cNvGraphicFramePr/>
          <p:nvPr/>
        </p:nvGraphicFramePr>
        <p:xfrm>
          <a:off x="685800" y="2197080"/>
          <a:ext cx="7772400" cy="322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97080"/>
                    <a:ext cx="7772400" cy="322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41BC069C-2706-422E-A6B2-78C60841685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ngle-Bit Ad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Ad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62120" y="2743200"/>
          <a:ext cx="2438280" cy="1828800"/>
        </p:xfrm>
        <a:graphic>
          <a:graphicData uri="http://schemas.openxmlformats.org/drawingml/2006/table">
            <a:tbl>
              <a:tblPr/>
              <a:tblGrid>
                <a:gridCol w="609480"/>
                <a:gridCol w="609480"/>
                <a:gridCol w="609840"/>
                <a:gridCol w="60948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181480" y="2743200"/>
          <a:ext cx="2819520" cy="3292560"/>
        </p:xfrm>
        <a:graphic>
          <a:graphicData uri="http://schemas.openxmlformats.org/drawingml/2006/table">
            <a:tbl>
              <a:tblPr/>
              <a:tblGrid>
                <a:gridCol w="563760"/>
                <a:gridCol w="565200"/>
                <a:gridCol w="561960"/>
                <a:gridCol w="565200"/>
                <a:gridCol w="563400"/>
              </a:tblGrid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Object 98"/>
          <p:cNvGraphicFramePr/>
          <p:nvPr/>
        </p:nvGraphicFramePr>
        <p:xfrm>
          <a:off x="2230560" y="1371600"/>
          <a:ext cx="131580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0560" y="1371600"/>
                    <a:ext cx="131580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Object 99"/>
          <p:cNvGraphicFramePr/>
          <p:nvPr/>
        </p:nvGraphicFramePr>
        <p:xfrm>
          <a:off x="6705720" y="1379520"/>
          <a:ext cx="1447560" cy="137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" name="Object 9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1379520"/>
                    <a:ext cx="144756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100"/>
          <p:cNvGraphicFramePr/>
          <p:nvPr/>
        </p:nvGraphicFramePr>
        <p:xfrm>
          <a:off x="838080" y="1981080"/>
          <a:ext cx="1295640" cy="69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Object 10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1981080"/>
                    <a:ext cx="12956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101"/>
          <p:cNvGraphicFramePr/>
          <p:nvPr/>
        </p:nvGraphicFramePr>
        <p:xfrm>
          <a:off x="4870440" y="1981080"/>
          <a:ext cx="1835280" cy="623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" name="Object 10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0440" y="1981080"/>
                    <a:ext cx="1835280" cy="6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Rectangle 102"/>
          <p:cNvSpPr/>
          <p:nvPr/>
        </p:nvSpPr>
        <p:spPr>
          <a:xfrm>
            <a:off x="205740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03"/>
          <p:cNvSpPr/>
          <p:nvPr/>
        </p:nvSpPr>
        <p:spPr>
          <a:xfrm>
            <a:off x="266688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104"/>
          <p:cNvSpPr/>
          <p:nvPr/>
        </p:nvSpPr>
        <p:spPr>
          <a:xfrm>
            <a:off x="205740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05"/>
          <p:cNvSpPr/>
          <p:nvPr/>
        </p:nvSpPr>
        <p:spPr>
          <a:xfrm>
            <a:off x="266688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106"/>
          <p:cNvSpPr/>
          <p:nvPr/>
        </p:nvSpPr>
        <p:spPr>
          <a:xfrm>
            <a:off x="205740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107"/>
          <p:cNvSpPr/>
          <p:nvPr/>
        </p:nvSpPr>
        <p:spPr>
          <a:xfrm>
            <a:off x="266688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108"/>
          <p:cNvSpPr/>
          <p:nvPr/>
        </p:nvSpPr>
        <p:spPr>
          <a:xfrm>
            <a:off x="205740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109"/>
          <p:cNvSpPr/>
          <p:nvPr/>
        </p:nvSpPr>
        <p:spPr>
          <a:xfrm>
            <a:off x="266688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10"/>
          <p:cNvSpPr/>
          <p:nvPr/>
        </p:nvSpPr>
        <p:spPr>
          <a:xfrm>
            <a:off x="693432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111"/>
          <p:cNvSpPr/>
          <p:nvPr/>
        </p:nvSpPr>
        <p:spPr>
          <a:xfrm>
            <a:off x="7467480" y="312408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12"/>
          <p:cNvSpPr/>
          <p:nvPr/>
        </p:nvSpPr>
        <p:spPr>
          <a:xfrm>
            <a:off x="693432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3"/>
          <p:cNvSpPr/>
          <p:nvPr/>
        </p:nvSpPr>
        <p:spPr>
          <a:xfrm>
            <a:off x="7467480" y="3505320"/>
            <a:ext cx="4572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114"/>
          <p:cNvSpPr/>
          <p:nvPr/>
        </p:nvSpPr>
        <p:spPr>
          <a:xfrm>
            <a:off x="693432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15"/>
          <p:cNvSpPr/>
          <p:nvPr/>
        </p:nvSpPr>
        <p:spPr>
          <a:xfrm>
            <a:off x="7467480" y="38862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16"/>
          <p:cNvSpPr/>
          <p:nvPr/>
        </p:nvSpPr>
        <p:spPr>
          <a:xfrm>
            <a:off x="693432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17"/>
          <p:cNvSpPr/>
          <p:nvPr/>
        </p:nvSpPr>
        <p:spPr>
          <a:xfrm>
            <a:off x="7467480" y="42670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122"/>
          <p:cNvSpPr/>
          <p:nvPr/>
        </p:nvSpPr>
        <p:spPr>
          <a:xfrm>
            <a:off x="693432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23"/>
          <p:cNvSpPr/>
          <p:nvPr/>
        </p:nvSpPr>
        <p:spPr>
          <a:xfrm>
            <a:off x="7467480" y="4648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4"/>
          <p:cNvSpPr/>
          <p:nvPr/>
        </p:nvSpPr>
        <p:spPr>
          <a:xfrm>
            <a:off x="6934320" y="5029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25"/>
          <p:cNvSpPr/>
          <p:nvPr/>
        </p:nvSpPr>
        <p:spPr>
          <a:xfrm>
            <a:off x="7467480" y="50292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26"/>
          <p:cNvSpPr/>
          <p:nvPr/>
        </p:nvSpPr>
        <p:spPr>
          <a:xfrm>
            <a:off x="693432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27"/>
          <p:cNvSpPr/>
          <p:nvPr/>
        </p:nvSpPr>
        <p:spPr>
          <a:xfrm>
            <a:off x="7467480" y="53341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28"/>
          <p:cNvSpPr/>
          <p:nvPr/>
        </p:nvSpPr>
        <p:spPr>
          <a:xfrm>
            <a:off x="6934320" y="5715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129"/>
          <p:cNvSpPr/>
          <p:nvPr/>
        </p:nvSpPr>
        <p:spPr>
          <a:xfrm>
            <a:off x="7467480" y="571500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A2060F53-6E85-4483-A2C0-0130F624B3D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ogge-Sto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0" name="Object 3"/>
          <p:cNvGraphicFramePr/>
          <p:nvPr/>
        </p:nvGraphicFramePr>
        <p:xfrm>
          <a:off x="685800" y="1933560"/>
          <a:ext cx="777240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33560"/>
                    <a:ext cx="777240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3AEBF3C6-70DF-4D86-906C-A0856B92C70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 Taxonom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N-bit tree adder would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og N   logic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out never exceeding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more than one wiring track between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adder with 3-D taxonomy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level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ou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ing track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n tree adders sit on plane defin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B4684BDC-03B1-47B5-BBEA-DC0B62F513F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Adder Taxonom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99" name="Object 3"/>
          <p:cNvGraphicFramePr/>
          <p:nvPr/>
        </p:nvGraphicFramePr>
        <p:xfrm>
          <a:off x="1676520" y="1523880"/>
          <a:ext cx="5759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5759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Rectangle 4"/>
          <p:cNvSpPr/>
          <p:nvPr/>
        </p:nvSpPr>
        <p:spPr>
          <a:xfrm>
            <a:off x="6324480" y="220968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4572000" y="518148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2133720" y="2362320"/>
            <a:ext cx="53316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D04CE65D-D0C5-4B70-A3A5-834B08E60CE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n-Carl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07" name="Object 3"/>
          <p:cNvGraphicFramePr/>
          <p:nvPr/>
        </p:nvGraphicFramePr>
        <p:xfrm>
          <a:off x="685800" y="1700280"/>
          <a:ext cx="7772400" cy="42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00280"/>
                    <a:ext cx="7772400" cy="42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06D01111-4483-4650-8572-26B764A3BCC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Knowles [2, 1, 1, 1]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2" name="Object 3"/>
          <p:cNvGraphicFramePr/>
          <p:nvPr/>
        </p:nvGraphicFramePr>
        <p:xfrm>
          <a:off x="685800" y="1933560"/>
          <a:ext cx="777240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33560"/>
                    <a:ext cx="777240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48FC7075-D825-4DFE-B823-D1954E426AD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dner-Fisch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7" name="Object 3"/>
          <p:cNvGraphicFramePr/>
          <p:nvPr/>
        </p:nvGraphicFramePr>
        <p:xfrm>
          <a:off x="685800" y="1814400"/>
          <a:ext cx="7772400" cy="398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14400"/>
                    <a:ext cx="7772400" cy="39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7CC3CF60-0D73-45B9-81CE-F409774D551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axonomy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22" name="Object 1028"/>
          <p:cNvGraphicFramePr/>
          <p:nvPr/>
        </p:nvGraphicFramePr>
        <p:xfrm>
          <a:off x="2209680" y="2057400"/>
          <a:ext cx="4724640" cy="37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057400"/>
                    <a:ext cx="4724640" cy="37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1029"/>
          <p:cNvGraphicFramePr/>
          <p:nvPr/>
        </p:nvGraphicFramePr>
        <p:xfrm>
          <a:off x="1295280" y="4800600"/>
          <a:ext cx="2222640" cy="12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4800600"/>
                    <a:ext cx="222264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1030"/>
          <p:cNvGraphicFramePr/>
          <p:nvPr/>
        </p:nvGraphicFramePr>
        <p:xfrm>
          <a:off x="685800" y="3276720"/>
          <a:ext cx="1905120" cy="10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7" name="Object 103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276720"/>
                    <a:ext cx="190512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1031"/>
          <p:cNvGraphicFramePr/>
          <p:nvPr/>
        </p:nvGraphicFramePr>
        <p:xfrm>
          <a:off x="609480" y="1676520"/>
          <a:ext cx="1905120" cy="93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9" name="Object 103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9480" y="1676520"/>
                    <a:ext cx="190512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1032"/>
          <p:cNvGraphicFramePr/>
          <p:nvPr/>
        </p:nvGraphicFramePr>
        <p:xfrm>
          <a:off x="6553080" y="1523880"/>
          <a:ext cx="2133720" cy="1252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1" name="Object 103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53080" y="1523880"/>
                    <a:ext cx="2133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1033"/>
          <p:cNvGraphicFramePr/>
          <p:nvPr/>
        </p:nvGraphicFramePr>
        <p:xfrm>
          <a:off x="6248520" y="2743200"/>
          <a:ext cx="2209680" cy="1528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3" name="Object 103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48520" y="2743200"/>
                    <a:ext cx="2209680" cy="15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1034"/>
          <p:cNvGraphicFramePr/>
          <p:nvPr/>
        </p:nvGraphicFramePr>
        <p:xfrm>
          <a:off x="5638680" y="4572000"/>
          <a:ext cx="2362320" cy="1469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35" name="Object 103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4572000"/>
                    <a:ext cx="2362320" cy="146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9D595B90-C6DF-45CF-AD03-2A214962E3B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533520" y="2819520"/>
          <a:ext cx="8153280" cy="3078000"/>
        </p:xfrm>
        <a:graphic>
          <a:graphicData uri="http://schemas.openxmlformats.org/drawingml/2006/table">
            <a:tbl>
              <a:tblPr/>
              <a:tblGrid>
                <a:gridCol w="1752480"/>
                <a:gridCol w="1676520"/>
                <a:gridCol w="1295280"/>
                <a:gridCol w="990720"/>
                <a:gridCol w="990360"/>
                <a:gridCol w="1447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chitec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if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Leve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 Fan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ck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Rip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-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Skip n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4 +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y-Inc. n=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4 +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-K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-1, 0,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 –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lans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L-1, 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2 +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 N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gge-St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, 0, L-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log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0" name="Text Box 160"/>
          <p:cNvSpPr/>
          <p:nvPr/>
        </p:nvSpPr>
        <p:spPr>
          <a:xfrm>
            <a:off x="685800" y="16002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r architectures offer area / power / delay tradeoff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best one for your applic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8973FF29-A2FE-4EA2-9073-E1829492913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GK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ull adder, define what happens to car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terms of A and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agate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A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l: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 independent of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 = ~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514600" y="2895480"/>
            <a:ext cx="7621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2514600" y="3733920"/>
            <a:ext cx="8380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514600" y="46483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7A78378B-D878-4A58-AAF0-6B8D6CC2C62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te force implementation from eq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1219320" y="2057400"/>
          <a:ext cx="2743200" cy="9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2743200" cy="9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5"/>
          <p:cNvGraphicFramePr/>
          <p:nvPr/>
        </p:nvGraphicFramePr>
        <p:xfrm>
          <a:off x="1295280" y="3200400"/>
          <a:ext cx="6172200" cy="283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3200400"/>
                    <a:ext cx="6172200" cy="28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ADAD64EE-669C-4898-BAE6-6B31C42DFB0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S in terms of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= ABC + (A + B + C)(~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 path is usually C to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rippl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4"/>
          <p:cNvGraphicFramePr/>
          <p:nvPr/>
        </p:nvGraphicFramePr>
        <p:xfrm>
          <a:off x="1447920" y="2743200"/>
          <a:ext cx="6095880" cy="331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743200"/>
                    <a:ext cx="6095880" cy="331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29D30625-8CAA-45EE-8FA2-E2B914859E2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ver layout circumvents usual line of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wide transistors on critical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output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685800" y="3505320"/>
            <a:ext cx="7696080" cy="2468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1262AE8B-721B-484D-B4FB-0E68313CA0C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I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Pass Transistor Logic (CP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faster, but mor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1523880" y="2293920"/>
          <a:ext cx="5791320" cy="367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93920"/>
                    <a:ext cx="57913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7: Ad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 </a:t>
            </a:r>
            <a:fld id="{2ED32916-41F5-49D2-8C7A-6691D1CDD22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ll Adder Design I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al-rail dom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fast, but large and power hung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very fast multi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Object 4"/>
          <p:cNvGraphicFramePr/>
          <p:nvPr/>
        </p:nvGraphicFramePr>
        <p:xfrm>
          <a:off x="1371600" y="2787480"/>
          <a:ext cx="5715000" cy="33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787480"/>
                    <a:ext cx="5715000" cy="33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dcterms:modified xsi:type="dcterms:W3CDTF">2020-03-04T16:06:00Z</dcterms:modified>
  <cp:revision>1405</cp:revision>
  <dc:subject/>
  <dc:title>PowerPoint Presentation</dc:title>
</cp:coreProperties>
</file>