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2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1.wmf" ContentType="image/x-wmf"/>
  <Override PartName="/ppt/media/image1.png" ContentType="image/png"/>
  <Override PartName="/ppt/media/image29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42.png" ContentType="image/png"/>
  <Override PartName="/ppt/media/image2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24877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2484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0680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239800" y="-360"/>
            <a:ext cx="4007160" cy="3430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11320" y="512280"/>
            <a:ext cx="3430800" cy="25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515280"/>
            <a:ext cx="400680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23980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A8E26AC-EFF1-40B7-BBE8-5DF583213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BAC5A36-412F-42E9-8EC6-A1D84C97A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C8061BB-4B10-4B30-A3DD-11DA3AEA2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DCE9A3F-DC95-4828-A290-E6C8B71D7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FFDE660-E029-4E71-9122-D0B75B136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C8908E-B15E-4114-A487-19ED0E5D59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F6B5B82-334B-4454-9936-258CD43B3A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082CA9-22E8-407D-AE44-3BC73D92CC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993F3C-3341-4926-89C4-E8C9CFEA2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66B925-3EBC-4551-8539-D859E2D2D9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3E5F8C-B809-49F8-A603-21B66C0090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1B7FD52-2991-4D13-A0E2-880E40A76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46DA419-AA55-49FB-9EB3-FE9AD654B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5399F8-C8CE-48F3-8C37-282663A32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6932F4-D86E-4101-B974-BFE9A246D9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34BCDB-F759-4982-8C5C-7F0A4AD4A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B12B919-0244-4405-92A8-E3EA937DA1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9C01E71-409D-4685-9DC5-77CE151EB0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23D078-F369-4BE0-AE01-2E0E298375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8C32F9-A1CB-42F1-9EAB-C29225F7C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4539E7-E958-46FC-8925-16F9476A04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96E54E-D101-4AB4-BF32-42E83B0C9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5ADDF6-0F3C-4472-B473-0BCED80D3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53FB9D-CCCF-4FAA-ADBE-1594883497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3E58B8-4FF9-4068-B3B3-B712B82D56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19E615D-1FBC-4F85-A507-517E41438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E2E123-19EA-462F-940F-7F98519BB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EA7C29F-76A7-4C67-A9E5-C0C2FBE5C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8347BC-4D32-4E65-86D0-F657FD4724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FC6FF98-DC4D-4B77-8B24-389B8FF101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E7F015-A8DD-4392-A044-AF63E92AF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1CA4324-4CFD-40FC-AF80-BE07EDCA9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A34DED-76F0-4FD6-9F1D-416006EE58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9BB7B7-41B3-4BD7-8A2C-A776033015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8E77B7E-2E8A-498E-BBA7-1C8A3139B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5240160" y="6515280"/>
            <a:ext cx="400716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325B585-D8CC-4FC1-95C8-1537CCFB2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2911320" y="512640"/>
            <a:ext cx="3430800" cy="25736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1233360" y="3257280"/>
            <a:ext cx="678024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EA737-5535-4E56-BB40-BC0466392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44E71-6C56-4916-B27C-C48A7213DC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1EA0B-9136-4037-89E0-756E46D2E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5CE90-A767-47C5-81CC-DAECEB5457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FD48F-A6B8-48B5-B784-2FDB897EB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065799-D5B8-4B38-9618-7B35A5055C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23AB-F5F7-42D8-B760-92619AC4B6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0332-329F-42F2-AD33-19FEDBF7B6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0120BA-A7CB-49A5-978A-8C46207C46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C2FC-12B0-4306-B922-75732E4EA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6FCE8-DE37-48B7-A7BE-35BFFDD6F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E4007-8719-43AA-9682-E3A43DF50A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0294-D5C0-4467-901F-C3F40EED293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11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tial Circuit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3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F0AD-CB62-4E49-9BE3-8F457C4F971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state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 latches are now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of lea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4"/>
          <p:cNvGraphicFramePr/>
          <p:nvPr/>
        </p:nvGraphicFramePr>
        <p:xfrm>
          <a:off x="5638680" y="1828800"/>
          <a:ext cx="274320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828800"/>
                    <a:ext cx="274320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Rectangle 5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F7A5-17E2-4811-8954-09DF0F08A6F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inve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4"/>
          <p:cNvGraphicFramePr/>
          <p:nvPr/>
        </p:nvGraphicFramePr>
        <p:xfrm>
          <a:off x="5334120" y="1828800"/>
          <a:ext cx="304776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828800"/>
                    <a:ext cx="304776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5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9BEC1-6654-4E4F-9AF8-E06635F31C7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ffer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ly used in stand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Very robust (most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her slow (1.5 – 2 FO4 delay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clock 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Object 4"/>
          <p:cNvGraphicFramePr/>
          <p:nvPr/>
        </p:nvGraphicFramePr>
        <p:xfrm>
          <a:off x="4952880" y="1600200"/>
          <a:ext cx="3200400" cy="23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1600200"/>
                    <a:ext cx="3200400" cy="23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Rectangle 5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081D-06C4-4A68-B065-3A41375A8B3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path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buffered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Object 4"/>
          <p:cNvGraphicFramePr/>
          <p:nvPr/>
        </p:nvGraphicFramePr>
        <p:xfrm>
          <a:off x="5410080" y="1676520"/>
          <a:ext cx="266724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1676520"/>
                    <a:ext cx="266724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Rectangle 5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6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1600200" y="2895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01B01-7152-4B94-B666-CD24F22E66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Flip-Flop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is built as pair of back-to-back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Object 4"/>
          <p:cNvGraphicFramePr/>
          <p:nvPr/>
        </p:nvGraphicFramePr>
        <p:xfrm>
          <a:off x="1600200" y="2057400"/>
          <a:ext cx="4800600" cy="393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057400"/>
                    <a:ext cx="4800600" cy="39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F3B7-E1D3-48FE-B4EC-61E9CEE9BA3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nab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: ignore clock when en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x: increase latch D-Q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Gating: increase en setup time,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2133720" y="2971800"/>
          <a:ext cx="3962160" cy="319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2971800"/>
                    <a:ext cx="3962160" cy="31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DADFE-FF4C-452B-97DA-6E0787C8673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ce output low when reset asse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chronous vs. asynchron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4"/>
          <p:cNvGraphicFramePr/>
          <p:nvPr/>
        </p:nvGraphicFramePr>
        <p:xfrm>
          <a:off x="1752480" y="2362320"/>
          <a:ext cx="5248440" cy="37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362320"/>
                    <a:ext cx="5248440" cy="37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8C8E6-20B1-4BF0-80A5-9B159799A8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t / Rese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forces output high when ena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 with asynchronous set and re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Object 4"/>
          <p:cNvGraphicFramePr/>
          <p:nvPr/>
        </p:nvGraphicFramePr>
        <p:xfrm>
          <a:off x="762120" y="2801880"/>
          <a:ext cx="6933960" cy="29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801880"/>
                    <a:ext cx="6933960" cy="29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1F9B6-09AB-4376-AB07-2A31DE5860D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Method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Object 4"/>
          <p:cNvGraphicFramePr/>
          <p:nvPr/>
        </p:nvGraphicFramePr>
        <p:xfrm>
          <a:off x="4114800" y="1447920"/>
          <a:ext cx="4427640" cy="46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447920"/>
                    <a:ext cx="4427640" cy="46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0996-4269-4FAC-97F1-D2F3FF6D182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ing Diagram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86" name="Object 4"/>
          <p:cNvGraphicFramePr/>
          <p:nvPr/>
        </p:nvGraphicFramePr>
        <p:xfrm>
          <a:off x="4267080" y="2286000"/>
          <a:ext cx="4419720" cy="36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2286000"/>
                    <a:ext cx="4419720" cy="36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685800" y="2743200"/>
          <a:ext cx="3657600" cy="3170160"/>
        </p:xfrm>
        <a:graphic>
          <a:graphicData uri="http://schemas.openxmlformats.org/drawingml/2006/table">
            <a:tbl>
              <a:tblPr/>
              <a:tblGrid>
                <a:gridCol w="700200"/>
                <a:gridCol w="2957400"/>
              </a:tblGrid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c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Clk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p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Prop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cd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 D-&gt;Q Cont. Dela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set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Setup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ch/Flop Hol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Text Box 53"/>
          <p:cNvSpPr/>
          <p:nvPr/>
        </p:nvSpPr>
        <p:spPr>
          <a:xfrm>
            <a:off x="685800" y="182880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mination and Propagation De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96845-E604-47B1-8759-4B0FE01FFEE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ing Element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 and Min-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Phase Cloc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E313-693E-480D-9DC5-711D8F67E20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ax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93" name="Object 1027"/>
          <p:cNvGraphicFramePr/>
          <p:nvPr/>
        </p:nvGraphicFramePr>
        <p:xfrm>
          <a:off x="3048120" y="1676520"/>
          <a:ext cx="5410080" cy="274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676520"/>
                    <a:ext cx="5410080" cy="274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Rectangle 1028"/>
          <p:cNvSpPr/>
          <p:nvPr/>
        </p:nvSpPr>
        <p:spPr>
          <a:xfrm>
            <a:off x="397368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029"/>
          <p:cNvSpPr/>
          <p:nvPr/>
        </p:nvSpPr>
        <p:spPr>
          <a:xfrm>
            <a:off x="388620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30"/>
          <p:cNvGraphicFramePr/>
          <p:nvPr/>
        </p:nvGraphicFramePr>
        <p:xfrm>
          <a:off x="847800" y="1731960"/>
          <a:ext cx="218916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1731960"/>
                    <a:ext cx="218916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1031"/>
          <p:cNvSpPr/>
          <p:nvPr/>
        </p:nvSpPr>
        <p:spPr>
          <a:xfrm>
            <a:off x="1828800" y="1752480"/>
            <a:ext cx="121932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2D5F-F933-48C0-B767-B24F14AC18A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03" name="Object 3"/>
          <p:cNvGraphicFramePr/>
          <p:nvPr/>
        </p:nvGraphicFramePr>
        <p:xfrm>
          <a:off x="3505320" y="1600200"/>
          <a:ext cx="4647960" cy="433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1600200"/>
                    <a:ext cx="4647960" cy="433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" name="Object 4"/>
          <p:cNvGraphicFramePr/>
          <p:nvPr/>
        </p:nvGraphicFramePr>
        <p:xfrm>
          <a:off x="709560" y="1812960"/>
          <a:ext cx="2666880" cy="625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9560" y="1812960"/>
                    <a:ext cx="26668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5"/>
          <p:cNvSpPr/>
          <p:nvPr/>
        </p:nvSpPr>
        <p:spPr>
          <a:xfrm>
            <a:off x="2590920" y="1752480"/>
            <a:ext cx="6858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5E2C-CC16-4453-A630-078F9040AE6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x 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3886200" y="1752480"/>
          <a:ext cx="4648320" cy="33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1752480"/>
                    <a:ext cx="4648320" cy="33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Rectangle 4"/>
          <p:cNvSpPr/>
          <p:nvPr/>
        </p:nvSpPr>
        <p:spPr>
          <a:xfrm>
            <a:off x="34862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803160" y="1731960"/>
          <a:ext cx="3416400" cy="77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3160" y="1731960"/>
                    <a:ext cx="3416400" cy="77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Rectangle 6"/>
          <p:cNvSpPr/>
          <p:nvPr/>
        </p:nvSpPr>
        <p:spPr>
          <a:xfrm>
            <a:off x="2286000" y="1828800"/>
            <a:ext cx="182880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7178-8AC1-4C29-9217-2837D867882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in-Delay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0" name="Object 3"/>
          <p:cNvGraphicFramePr/>
          <p:nvPr/>
        </p:nvGraphicFramePr>
        <p:xfrm>
          <a:off x="762120" y="1981080"/>
          <a:ext cx="1412640" cy="3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981080"/>
                    <a:ext cx="141264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4"/>
          <p:cNvGraphicFramePr/>
          <p:nvPr/>
        </p:nvGraphicFramePr>
        <p:xfrm>
          <a:off x="3657600" y="1600200"/>
          <a:ext cx="5029200" cy="341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00200"/>
                    <a:ext cx="5029200" cy="34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Rectangle 5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A67D-86F0-4A94-B974-19131AA3F9D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2-Phase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858960" y="1960560"/>
          <a:ext cx="272232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8960" y="1960560"/>
                    <a:ext cx="27223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4"/>
          <p:cNvGraphicFramePr/>
          <p:nvPr/>
        </p:nvGraphicFramePr>
        <p:xfrm>
          <a:off x="4038480" y="1752480"/>
          <a:ext cx="4434120" cy="334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1752480"/>
                    <a:ext cx="4434120" cy="33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Text Box 5"/>
          <p:cNvSpPr/>
          <p:nvPr/>
        </p:nvSpPr>
        <p:spPr>
          <a:xfrm>
            <a:off x="838080" y="2666880"/>
            <a:ext cx="32767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reduced by nonoverl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: hold applies twice each cycle, vs. only once for flo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 flop is made of two latch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752480" y="19810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3854-C67E-420C-AB80-94926AC8F6D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in-Delay: Pulsed Latch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37" name="Object 3"/>
          <p:cNvGraphicFramePr/>
          <p:nvPr/>
        </p:nvGraphicFramePr>
        <p:xfrm>
          <a:off x="771480" y="1960560"/>
          <a:ext cx="188424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960560"/>
                    <a:ext cx="188424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Object 4"/>
          <p:cNvGraphicFramePr/>
          <p:nvPr/>
        </p:nvGraphicFramePr>
        <p:xfrm>
          <a:off x="3733920" y="1676520"/>
          <a:ext cx="4732200" cy="33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676520"/>
                    <a:ext cx="4732200" cy="33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Text Box 5"/>
          <p:cNvSpPr/>
          <p:nvPr/>
        </p:nvSpPr>
        <p:spPr>
          <a:xfrm>
            <a:off x="838080" y="2666880"/>
            <a:ext cx="3276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ld time increased by pulse wid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1219320" y="1981080"/>
            <a:ext cx="15238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CE83-5431-4867-94CE-3C1923599B7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flop-based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launches on one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setup before next rising 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late, system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t arrives early, time is wa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ps have hard ed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 latch-based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can pass through latch while transpa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cycle of logic can borrow time into 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long as each loop completes in one cy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0896-3411-425D-A15A-09BEAE29D8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ime Borrowing 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152360" y="1523880"/>
          <a:ext cx="683928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2360" y="1523880"/>
                    <a:ext cx="683928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6E64-D783-4BF4-AA52-E3C9839F84C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ow Much Borrowing?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55" name="Object 4"/>
          <p:cNvGraphicFramePr/>
          <p:nvPr/>
        </p:nvGraphicFramePr>
        <p:xfrm>
          <a:off x="3809880" y="1676520"/>
          <a:ext cx="440856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676520"/>
                    <a:ext cx="440856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Object 6"/>
          <p:cNvGraphicFramePr/>
          <p:nvPr/>
        </p:nvGraphicFramePr>
        <p:xfrm>
          <a:off x="762120" y="2057400"/>
          <a:ext cx="2825640" cy="63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057400"/>
                    <a:ext cx="282564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Text Box 7"/>
          <p:cNvSpPr/>
          <p:nvPr/>
        </p:nvSpPr>
        <p:spPr>
          <a:xfrm>
            <a:off x="685800" y="1600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Object 8"/>
          <p:cNvGraphicFramePr/>
          <p:nvPr/>
        </p:nvGraphicFramePr>
        <p:xfrm>
          <a:off x="762120" y="3733920"/>
          <a:ext cx="1698480" cy="3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3733920"/>
                    <a:ext cx="1698480" cy="3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2" name="Text Box 9"/>
          <p:cNvSpPr/>
          <p:nvPr/>
        </p:nvSpPr>
        <p:spPr>
          <a:xfrm>
            <a:off x="762120" y="31240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5B07-AD48-4534-86EA-9E14C0AEE00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ock Skew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assumed zero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cks really have uncertainty in arrival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maximum propag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s minimum contamination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s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743B-A27D-4BA0-A511-626BB48F55E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bination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equenti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depends on current and previous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separating previous, current, 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SM,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5"/>
          <p:cNvGraphicFramePr/>
          <p:nvPr/>
        </p:nvGraphicFramePr>
        <p:xfrm>
          <a:off x="762120" y="4495680"/>
          <a:ext cx="7696080" cy="16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495680"/>
                    <a:ext cx="7696080" cy="163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ABF8-62CE-483F-AD71-3B3B8A8086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Flip-Flop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70" name="Object 4"/>
          <p:cNvGraphicFramePr/>
          <p:nvPr/>
        </p:nvGraphicFramePr>
        <p:xfrm>
          <a:off x="4562640" y="1523880"/>
          <a:ext cx="390204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2640" y="1523880"/>
                    <a:ext cx="390204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6"/>
          <p:cNvGraphicFramePr/>
          <p:nvPr/>
        </p:nvGraphicFramePr>
        <p:xfrm>
          <a:off x="868320" y="1778040"/>
          <a:ext cx="2681280" cy="128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68320" y="1778040"/>
                    <a:ext cx="2681280" cy="12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E288-0CC0-47B2-89B4-A3AD6D5A31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kew: Latch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277" name="Object 1029"/>
          <p:cNvGraphicFramePr/>
          <p:nvPr/>
        </p:nvGraphicFramePr>
        <p:xfrm>
          <a:off x="4724280" y="1676520"/>
          <a:ext cx="371628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76520"/>
                    <a:ext cx="371628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Object 1030"/>
          <p:cNvGraphicFramePr/>
          <p:nvPr/>
        </p:nvGraphicFramePr>
        <p:xfrm>
          <a:off x="792000" y="2017800"/>
          <a:ext cx="3400560" cy="202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Object 103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000" y="2017800"/>
                    <a:ext cx="3400560" cy="202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Text Box 1031"/>
          <p:cNvSpPr/>
          <p:nvPr/>
        </p:nvSpPr>
        <p:spPr>
          <a:xfrm>
            <a:off x="685800" y="15238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Object 1032"/>
          <p:cNvGraphicFramePr/>
          <p:nvPr/>
        </p:nvGraphicFramePr>
        <p:xfrm>
          <a:off x="801720" y="4302000"/>
          <a:ext cx="4033800" cy="1835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3" name="Object 10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1720" y="4302000"/>
                    <a:ext cx="4033800" cy="18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Text Box 1033"/>
          <p:cNvSpPr/>
          <p:nvPr/>
        </p:nvSpPr>
        <p:spPr>
          <a:xfrm>
            <a:off x="685800" y="3962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9A7D5-17E5-4162-9B61-BBD4132673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Two-Phase Clocking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tup times are violated, reduce clock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hold times are violated, chip fails at any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lass, working chips are most impor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ools to analyze clock sk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asy way to guarantee hold times is to use 2-phase latches with big nonoverlap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 these clocks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1, ph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C84B-56C3-42CA-B233-D55FD027C9D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afe Flip-Flop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t years used flip-flop with nonoverlapping c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– nonoverlap adds to setup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no hold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industry, use a better timing analyz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buffers to slow signals if hold time is at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3" name="Object 4"/>
          <p:cNvGraphicFramePr/>
          <p:nvPr/>
        </p:nvGraphicFramePr>
        <p:xfrm>
          <a:off x="1905120" y="3733920"/>
          <a:ext cx="480060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733920"/>
                    <a:ext cx="480060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A703-9230-4F4A-BA58-2332B9111CA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daptive Sequenc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rs include timing mar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l inaccura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run faster and check for near fail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a introduced as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zo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e frequency until at the verge of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reduce cycle time by ~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Object 6"/>
          <p:cNvGraphicFramePr/>
          <p:nvPr/>
        </p:nvGraphicFramePr>
        <p:xfrm>
          <a:off x="5715000" y="1371600"/>
          <a:ext cx="253044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1371600"/>
                    <a:ext cx="253044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FCBD-F1F8-4C65-9134-E11D8783C14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ip-Flo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easy to use, supported by all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-Phase Transparent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skew tolerance and time borr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lsed Lat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st, some skew tol &amp; borrow, hold tim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4" descr=""/>
          <p:cNvPicPr/>
          <p:nvPr/>
        </p:nvPicPr>
        <p:blipFill>
          <a:blip r:embed="rId1"/>
          <a:stretch/>
        </p:blipFill>
        <p:spPr>
          <a:xfrm>
            <a:off x="762120" y="4162320"/>
            <a:ext cx="7619760" cy="1832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D4E7F-6D3F-4365-A3DF-DD5F34ABEA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Cont.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okens moved through pipeline at constant speed, no sequencing elements would be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fiber-optic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pulses (tokens) are sent down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pulse sent before first reaches end of c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hardware to separate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per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ts min time between pul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ave pipeli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ost circuits, dispersion is hi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fast tokens so they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catch slow 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7776-A825-44E9-9EE5-2C7FE899BEB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Overhea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lip-flops to delay fast tokens so they move through exactly one stage each cyc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y adds some delay to the slow tok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circuit slower than just the log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sequenc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people call this clock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it applies to asynchronous circuits 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evitable side effect of maintaining sequ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Footer Placeholder 4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F83A-C405-42B5-876A-77D59211AB8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quencing Elemen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tc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Level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transparent latch, D l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lip-flo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dge trigg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k.a. master-slave flip-flop, D flip-flop, D reg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a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a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ge-tri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Object 4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5"/>
          <p:cNvGraphicFramePr/>
          <p:nvPr/>
        </p:nvGraphicFramePr>
        <p:xfrm>
          <a:off x="4724280" y="3429000"/>
          <a:ext cx="3016440" cy="2146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3429000"/>
                    <a:ext cx="3016440" cy="21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E28E7-56DD-4661-A379-65A85CE725D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 Transistor L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 clock 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6172200" y="1828800"/>
          <a:ext cx="2057400" cy="14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2200" y="1828800"/>
                    <a:ext cx="2057400" cy="14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5867280" y="3352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in 197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1600200" y="23623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1600200" y="27432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1600200" y="3581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1600200" y="39625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2"/>
          <p:cNvSpPr/>
          <p:nvPr/>
        </p:nvSpPr>
        <p:spPr>
          <a:xfrm>
            <a:off x="1600200" y="4343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13"/>
          <p:cNvSpPr/>
          <p:nvPr/>
        </p:nvSpPr>
        <p:spPr>
          <a:xfrm>
            <a:off x="1600200" y="4724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14"/>
          <p:cNvSpPr/>
          <p:nvPr/>
        </p:nvSpPr>
        <p:spPr>
          <a:xfrm>
            <a:off x="1600200" y="51814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600200" y="55627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8C3C-C176-43F2-AA47-8FADED8F1BF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inverted c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Object 4"/>
          <p:cNvGraphicFramePr/>
          <p:nvPr/>
        </p:nvGraphicFramePr>
        <p:xfrm>
          <a:off x="6324480" y="1752480"/>
          <a:ext cx="1694160" cy="182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1752480"/>
                    <a:ext cx="16941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Rectangle 5"/>
          <p:cNvSpPr/>
          <p:nvPr/>
        </p:nvSpPr>
        <p:spPr>
          <a:xfrm>
            <a:off x="1600200" y="20574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1600200" y="251460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11: Sequential Circu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1FC5F-3D8A-4A2A-AC58-E2994A88CDA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atch Desig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ing bu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ackdr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es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noise sensi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diffusion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d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6095880" y="1600200"/>
          <a:ext cx="2273400" cy="28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1600200"/>
                    <a:ext cx="2273400" cy="281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Rectangle 5"/>
          <p:cNvSpPr/>
          <p:nvPr/>
        </p:nvSpPr>
        <p:spPr>
          <a:xfrm>
            <a:off x="1600200" y="19810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1600200" y="2438280"/>
            <a:ext cx="335268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981080" y="3352680"/>
            <a:ext cx="33530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1981080" y="3733920"/>
            <a:ext cx="335304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600200" y="4191120"/>
            <a:ext cx="335268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dcterms:modified xsi:type="dcterms:W3CDTF">2020-02-24T19:04:37Z</dcterms:modified>
  <cp:revision>1295</cp:revision>
  <dc:subject/>
  <dc:title>PowerPoint Presentation</dc:title>
</cp:coreProperties>
</file>