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42.png" ContentType="image/png"/>
  <Override PartName="/ppt/media/image2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24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0680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239800" y="-360"/>
            <a:ext cx="400716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11320" y="512280"/>
            <a:ext cx="3430800" cy="25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515280"/>
            <a:ext cx="400680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23980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798ECE-5579-41CF-93B6-C079D689C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08F3EA-3A55-4098-B31B-02C8558F7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A413F7-9401-42FA-B637-57C7825AA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B53D01-6F36-41F9-9F08-1B35D4206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ECACC2-E9C9-449E-8BEA-5393F1FEF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51E321-1D31-47F8-910A-A7C3BA2AD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B07539-5195-4E15-8658-D3A7B003C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555E8D-3EB3-4193-9A91-163A292B3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6A913F-D96C-4319-A380-D704F020D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CBE4F6-02EC-4E89-9822-885A2E25E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3B276F-426A-4295-AE30-4952C9746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4F5722-3157-4773-AACB-BE2D8ADE3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2218CC-8499-4B08-8495-CC71C56E6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79DD85-F91E-4990-B80D-C804D057F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BFC0D4-9155-4694-B830-964F22FBC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32B861-4255-412B-8C73-82459BE9F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EC4149-3A98-4229-BAB5-531F93F65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0771AA-6D97-48F8-9348-CB8AB9AA1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5131FD-87EA-4953-9065-EB898124A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443FEC-17A9-43DA-BE46-F745D70FC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43CE39-89B8-49E4-BE94-3706ED138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C30903-7354-46AC-92BB-69032B2E4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5E8FBA-3C93-425D-BD8F-4E2B6803E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B71D0F-7DA9-4B61-AE86-68DFC62C1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893510-4E71-49F1-8990-DDEB396C9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D513E6-962C-446A-A1D7-8531143F6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8E20B0-CA58-41E1-9E64-96B5800CB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DD42C5-8A36-458F-BA39-2320CB7DF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BCC3AB-355A-4751-ACBD-43B1D4AAA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7ABE0D-879A-4F03-A035-A4AD6967A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CBF8F5-4CAA-4809-8770-ADD513A40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BFE0F7-3FBE-48BF-8741-3A4FFD18E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537ADB-B4B1-4483-855D-90930CF44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70B357-1902-49D9-8A8A-03C3A7C9D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AF2DEB-233D-40A8-B447-44E2F580F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BFD00B-645A-4EAA-9F03-9ABF1B098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9224-12A2-4DE4-8F55-CDD600F30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4F12-6749-46CD-94EA-AE1E4756E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A55A-176F-4C0F-8947-ECF8E9B46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9AB9-68C3-46E8-A726-2420A076EA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9DBB-4207-4E9E-9629-A732629E2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CE71-7083-4BE4-8B51-DAD5C0F3A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DA84-FD8C-40AA-94FB-094C1BB72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E809-9374-4438-8CF0-5B7C4C9DE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5299-FCD9-4332-B5C5-C7F8A4A40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7302-16FC-43EC-91FD-C6C5BC74E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6DB5-6582-4FD9-93FD-4291F5A1A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042B-033D-45FB-8DC5-2930D751F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F4AD-05A5-451F-AD42-589A135FC1F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tial 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469F-6942-4137-98BF-14F3EF1C8C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5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5A33-C755-4986-8BF4-358EF1B133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5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557E-E9F8-4529-9749-F354D96E21A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5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96F4-AF6F-4610-83E6-E285440D9E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5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600200" y="2895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54D7-2B00-402F-B70A-A664CDDC24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F82F-5DED-4944-86FE-0E4892EA2D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F68D-BE73-44B6-89A9-5F97FF0AB9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744D-7346-4797-80EE-99A5025498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B877-E2E5-4F0C-97B9-2ED1D55DA6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9716-74B1-4AE8-ADB8-418C1DC22B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5800" y="2743200"/>
          <a:ext cx="3657600" cy="317016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53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CB12-0100-48FC-89E0-BCC755A572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63DB-56D2-4903-8291-15816DB7461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028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29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30"/>
          <p:cNvGraphicFramePr/>
          <p:nvPr/>
        </p:nvGraphicFramePr>
        <p:xfrm>
          <a:off x="847800" y="1731960"/>
          <a:ext cx="218916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1731960"/>
                    <a:ext cx="21891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1031"/>
          <p:cNvSpPr/>
          <p:nvPr/>
        </p:nvSpPr>
        <p:spPr>
          <a:xfrm>
            <a:off x="1828800" y="175248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D594-BCBC-45FC-B6F3-D1256CD44A4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4"/>
          <p:cNvGraphicFramePr/>
          <p:nvPr/>
        </p:nvGraphicFramePr>
        <p:xfrm>
          <a:off x="709560" y="1812960"/>
          <a:ext cx="266688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560" y="1812960"/>
                    <a:ext cx="26668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5"/>
          <p:cNvSpPr/>
          <p:nvPr/>
        </p:nvSpPr>
        <p:spPr>
          <a:xfrm>
            <a:off x="2590920" y="1752480"/>
            <a:ext cx="685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DCF2-FE3F-44FF-A1BE-8CA1304DC0A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4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803160" y="1731960"/>
          <a:ext cx="341640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160" y="1731960"/>
                    <a:ext cx="34164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2286000" y="182880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927B-4618-4585-8FE7-EEC021251E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0" name="Object 3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4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D92E-0A99-4EF8-82ED-6110CFC07E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858960" y="1960560"/>
          <a:ext cx="272232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960560"/>
                    <a:ext cx="27223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4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5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52480" y="19810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3685-A935-41A6-8F9C-0B37B462DC6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7" name="Object 3"/>
          <p:cNvGraphicFramePr/>
          <p:nvPr/>
        </p:nvGraphicFramePr>
        <p:xfrm>
          <a:off x="771480" y="1960560"/>
          <a:ext cx="188424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960560"/>
                    <a:ext cx="18842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4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 Box 5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0029-D87B-4BF2-8DB0-C9E65DD7CE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AC5-8522-4712-AC89-FA2A019D3E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3CAC-59DA-4F54-9D60-89B36E29BE6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6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7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AA94-817A-40E6-ABD0-9B9B58CA52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B32D-866E-412B-B5B5-F7F369790B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5781-2A42-4E42-A954-12DA64B6D8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868320" y="1778040"/>
          <a:ext cx="2681280" cy="12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1778040"/>
                    <a:ext cx="26812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931A-EB25-4BEE-9D4C-1754CBA3E3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77" name="Object 1029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030"/>
          <p:cNvGraphicFramePr/>
          <p:nvPr/>
        </p:nvGraphicFramePr>
        <p:xfrm>
          <a:off x="792000" y="2017800"/>
          <a:ext cx="3400560" cy="20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0" y="2017800"/>
                    <a:ext cx="3400560" cy="20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1031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Object 1032"/>
          <p:cNvGraphicFramePr/>
          <p:nvPr/>
        </p:nvGraphicFramePr>
        <p:xfrm>
          <a:off x="801720" y="4302000"/>
          <a:ext cx="4033800" cy="183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Object 10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1720" y="4302000"/>
                    <a:ext cx="40338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1033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4B73-A0E4-4EB8-98A8-4AAECD3B4A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2BB3-1E54-4068-932B-45BABEE784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4D2C-4FED-4E17-92E9-7C37F6015C6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aptive Seque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include timing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run faster and check for nea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introduced a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z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requency until at the verge o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duce cycle time by ~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6"/>
          <p:cNvGraphicFramePr/>
          <p:nvPr/>
        </p:nvGraphicFramePr>
        <p:xfrm>
          <a:off x="5715000" y="1371600"/>
          <a:ext cx="25304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371600"/>
                    <a:ext cx="2530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F988-0B6F-4014-8E3A-B3FF493EC6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579B-ACFC-4E04-8533-28BB0DAEA1E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8983-34DD-43F0-AEBE-FF20849B421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250A-F3FF-474C-AE13-5C85C8A8570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5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1DC8-8B93-442C-899A-3DB9F7B3BBC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23623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600200" y="27432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600200" y="3581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600200" y="39625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600200" y="4343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600200" y="4724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600200" y="5181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600200" y="55627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4619-6F67-4857-A420-478138FE566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5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47D0-3F15-49BC-894F-0373208D07D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5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981080" y="3352680"/>
            <a:ext cx="335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981080" y="3733920"/>
            <a:ext cx="3353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600200" y="41911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2-24T19:04:37Z</dcterms:modified>
  <cp:revision>1295</cp:revision>
  <dc:subject/>
  <dc:title>PowerPoint Presentation</dc:title>
</cp:coreProperties>
</file>