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0.wmf" ContentType="image/x-wmf"/>
  <Override PartName="/ppt/media/image31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2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892240" y="522360"/>
            <a:ext cx="3493800" cy="262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F2CDBAD-ECE5-4D58-AABD-D6492EF85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8E9E46-C6AF-48F2-9BFE-C8DAD33B6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09AF58B-65EC-40B2-9CFE-F21C88561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CBDD3D-0604-4F6A-949F-1327D2B94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B069FB6-73B9-4FE8-897E-E7DEDD031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059FB29-7F9E-4001-B52B-EEBCF29D8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A355AAC-C75E-43E5-B3DE-D2E6F0AC4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4EA0C2A-37BA-4F4B-B9CE-7A01899F1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D13D14B-205E-43DF-8651-AE412503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3ED5386-EB1E-4305-AB66-2BDA0C9691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18666FF-333B-4D31-857E-0FD2D9266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009E78-F757-4878-BC98-A7CFE84374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B64AA9-510E-4116-AC0A-618B23558E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EEA1C4-66FC-4DB9-B6AD-EA76A20E4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E091CC8-35D0-47AE-8F05-CA91FADCF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5BA2DED-9E2D-4B98-94F2-A68C8F24F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6D0192-3196-4AF5-9AB7-12C26A1E9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F067212-5884-4E70-B375-BE69221E0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DA07C0A-FDE5-4CD0-8380-EF37B55CB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2E523AF-541D-4055-809C-4812B5663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5D3973-6D35-445C-B62B-75BAF667A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C5BE3E7-78A4-4C94-A960-C56EC58E6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B611B37-98B3-4404-B71B-B827F3DD5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43AB683-77B1-4681-B09C-B33F40CA9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8783EB6-A58A-4789-9F25-2A654DEDC8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400FB0E-C865-4786-8010-E44F6B9ECB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3599C60-DB78-4844-9162-E9654958D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B029C43-F195-4336-AD8E-FA7A8653A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7403522-5BC6-4237-B0C7-1DF2695D1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80596B3-E221-44CB-855A-433F081590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892600" y="520560"/>
            <a:ext cx="3495600" cy="26226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38040" y="3317760"/>
            <a:ext cx="6794280" cy="314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304B-092A-4E9C-9B8D-FC505337AD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48EC-836F-4F4A-A689-03BE11287D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656F0-ABFA-43FA-A819-98C5617D71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6F62C-6399-4638-9D9D-7AE1625FA3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F2F58-3949-40CA-9784-47F34AFFC5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15176A-97FA-40F0-BE3B-2E766CB8F5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F24A-A42F-4378-BFF7-27E36F21AD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B3B29-1F47-423A-B6C5-E410E315F6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2778C-42BC-4EC6-8763-B155BF76AF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E41B4-5D36-496A-8149-3E993763C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53BF1-D866-48DE-B954-495EAC0B7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D7E19F-F409-4DFA-AC64-9CFACBE0CF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3423-425C-4BF6-92D5-0DEFA7DBC5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Famil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ADFD-8D9D-4244-A2C8-B3026F5538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ates uses a clocked pMOS pull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mod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5"/>
          <p:cNvGraphicFramePr/>
          <p:nvPr/>
        </p:nvGraphicFramePr>
        <p:xfrm>
          <a:off x="914400" y="2590920"/>
          <a:ext cx="6172200" cy="203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590920"/>
                    <a:ext cx="6172200" cy="20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Object 6"/>
          <p:cNvGraphicFramePr/>
          <p:nvPr/>
        </p:nvGraphicFramePr>
        <p:xfrm>
          <a:off x="3124080" y="4800600"/>
          <a:ext cx="533412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4800600"/>
                    <a:ext cx="533412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D2DA-4040-42FF-A6B1-D2275B3B81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 Foo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f pulldown network is ON during precharg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eries evaluation transistor to prevent f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838080" y="2895480"/>
          <a:ext cx="3353040" cy="159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95480"/>
                    <a:ext cx="3353040" cy="15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5"/>
          <p:cNvGraphicFramePr/>
          <p:nvPr/>
        </p:nvGraphicFramePr>
        <p:xfrm>
          <a:off x="4800600" y="2819520"/>
          <a:ext cx="3581280" cy="206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819520"/>
                    <a:ext cx="3581280" cy="20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753E-7D0B-48DE-9822-477E6E88C9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43" name="Object 3"/>
          <p:cNvGraphicFramePr/>
          <p:nvPr/>
        </p:nvGraphicFramePr>
        <p:xfrm>
          <a:off x="685800" y="1752480"/>
          <a:ext cx="7772400" cy="342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772400" cy="34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Rectangle 5"/>
          <p:cNvSpPr/>
          <p:nvPr/>
        </p:nvSpPr>
        <p:spPr>
          <a:xfrm>
            <a:off x="3276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3276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276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3276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556272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10"/>
          <p:cNvSpPr/>
          <p:nvPr/>
        </p:nvSpPr>
        <p:spPr>
          <a:xfrm>
            <a:off x="556272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556272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56272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8001000" y="30481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8001000" y="32767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8001000" y="46483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8001000" y="4876920"/>
            <a:ext cx="3808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3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932C9-B6A2-45A6-80BE-46F69481E2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requi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notonically ri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puts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-&gt;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1 -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Object 4"/>
          <p:cNvGraphicFramePr/>
          <p:nvPr/>
        </p:nvGraphicFramePr>
        <p:xfrm>
          <a:off x="3505320" y="3668760"/>
          <a:ext cx="4952880" cy="240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668760"/>
                    <a:ext cx="4952880" cy="24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Object 5"/>
          <p:cNvGraphicFramePr/>
          <p:nvPr/>
        </p:nvGraphicFramePr>
        <p:xfrm>
          <a:off x="4800600" y="2209680"/>
          <a:ext cx="1090440" cy="14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209680"/>
                    <a:ext cx="1090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098E3-F989-4DD0-8A2B-B37B6C2EB0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notonicity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dynamic gates produce monotonically falling outputs during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egal for one dynamic gate to drive anothe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685800" y="3352680"/>
          <a:ext cx="777240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352680"/>
                    <a:ext cx="777240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5"/>
          <p:cNvGraphicFramePr/>
          <p:nvPr/>
        </p:nvGraphicFramePr>
        <p:xfrm>
          <a:off x="689040" y="3352680"/>
          <a:ext cx="776916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9040" y="3352680"/>
                    <a:ext cx="776916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4FB56-5586-4B6E-AE00-D2F1238D4F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dynamic stage with inverting stat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/ static pair is called domino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monotonic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5"/>
          <p:cNvGraphicFramePr/>
          <p:nvPr/>
        </p:nvGraphicFramePr>
        <p:xfrm>
          <a:off x="4191120" y="2940120"/>
          <a:ext cx="4427280" cy="307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940120"/>
                    <a:ext cx="442728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6"/>
          <p:cNvGraphicFramePr/>
          <p:nvPr/>
        </p:nvGraphicFramePr>
        <p:xfrm>
          <a:off x="762120" y="3276720"/>
          <a:ext cx="3276360" cy="23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276720"/>
                    <a:ext cx="3276360" cy="23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438-0977-47A9-9553-A5731A3D01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Optimiz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mino gate triggers next one, like a string of dominos toppling o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evaluate sequentially but precharge in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evaluation is more critical than pre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-skewed static stages can perform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3048120" y="3657600"/>
          <a:ext cx="3886200" cy="23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3657600"/>
                    <a:ext cx="3886200" cy="23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90BDD-AC4C-429C-B15C-B7B5DAA8EA9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Rail Domin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only performs noninverting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OR but not NAND, NOR, or X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 solves this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true and complementary inpu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s true and complementary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762120" y="3962520"/>
          <a:ext cx="4190760" cy="1981080"/>
        </p:xfrm>
        <a:graphic>
          <a:graphicData uri="http://schemas.openxmlformats.org/drawingml/2006/table">
            <a:tbl>
              <a:tblPr/>
              <a:tblGrid>
                <a:gridCol w="1346040"/>
                <a:gridCol w="1346400"/>
                <a:gridCol w="14983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_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harg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al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2" name="Object 51"/>
          <p:cNvGraphicFramePr/>
          <p:nvPr/>
        </p:nvGraphicFramePr>
        <p:xfrm>
          <a:off x="5105520" y="4191120"/>
          <a:ext cx="3504960" cy="15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Object 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4191120"/>
                    <a:ext cx="3504960" cy="15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891A-8C1E-4B1A-B2C4-ACEDE134D65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AND/NAN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_h, A_l, B_h, B_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Y_h = AB, Y_l = 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down networks are 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4"/>
          <p:cNvGraphicFramePr/>
          <p:nvPr/>
        </p:nvGraphicFramePr>
        <p:xfrm>
          <a:off x="1219320" y="3352680"/>
          <a:ext cx="6629400" cy="24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29400" cy="24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0" name="Line 5"/>
          <p:cNvSpPr/>
          <p:nvPr/>
        </p:nvSpPr>
        <p:spPr>
          <a:xfrm>
            <a:off x="4800600" y="2057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D4F-2131-4EE5-ABB7-ABEEC60D82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XOR/XN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possible to shar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762120" y="2666880"/>
          <a:ext cx="7696080" cy="235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666880"/>
                    <a:ext cx="7696080" cy="23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89ED-ECDB-4181-9F29-62BC6AA4C9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7AE9-F34A-4087-A46A-964DE78F4E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node floats high during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leaky (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value will leak away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rly milliseconds, now nano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eeper to hold dynamic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weak enough not to fight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3124080" y="4005360"/>
          <a:ext cx="3048120" cy="19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4005360"/>
                    <a:ext cx="3048120" cy="19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B2B16-4F32-4F85-9576-3E87C74363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rge Shar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s suffer from charge sh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1295280" y="2362320"/>
          <a:ext cx="2590920" cy="21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362320"/>
                    <a:ext cx="2590920" cy="21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5"/>
          <p:cNvGraphicFramePr/>
          <p:nvPr/>
        </p:nvGraphicFramePr>
        <p:xfrm>
          <a:off x="4572000" y="2209680"/>
          <a:ext cx="3048120" cy="2159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209680"/>
                    <a:ext cx="3048120" cy="21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6"/>
          <p:cNvGraphicFramePr/>
          <p:nvPr/>
        </p:nvGraphicFramePr>
        <p:xfrm>
          <a:off x="4648320" y="4572000"/>
          <a:ext cx="2971800" cy="944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4572000"/>
                    <a:ext cx="2971800" cy="94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7"/>
          <p:cNvGraphicFramePr/>
          <p:nvPr/>
        </p:nvGraphicFramePr>
        <p:xfrm>
          <a:off x="4572000" y="2209680"/>
          <a:ext cx="3043080" cy="215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2209680"/>
                    <a:ext cx="304308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Rectangle 9"/>
          <p:cNvSpPr/>
          <p:nvPr/>
        </p:nvSpPr>
        <p:spPr>
          <a:xfrm>
            <a:off x="5943600" y="4572000"/>
            <a:ext cx="16765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989C-1E32-43C9-A8CA-545BA1C311A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condary Prechar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add secondary precharg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need to precharge every other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load capacitance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s as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2514600" y="32767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32767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8A3D-5B54-49B2-BCCE-E44D3BA1BE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gates are very sensitive to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s: floating output susceptibl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through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mo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2489-B683-4FB5-9D06-3D9DB275FF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w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gates have high activity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evaluates and pre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output probability = 0.5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rises and falls on half the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transistors hav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s to very high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BDC6-DB48-4C67-914E-DDB8D68FFA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mino 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o logic is attractive for high-speed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– 2x faster than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many challen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otonicity, leakage, charge sharing,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high-performance microprocessors in 1990s when speed was 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ly displaced by static CMOS now that power is the lim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sed in memories for area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770A-11E7-48D0-8BF9-3A8F4D53B6E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ass transistors like switches to do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s drive diffusion terminals as well a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+ Transmission G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input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should be 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Object 4"/>
          <p:cNvGraphicFramePr/>
          <p:nvPr/>
        </p:nvGraphicFramePr>
        <p:xfrm>
          <a:off x="1752480" y="4114800"/>
          <a:ext cx="213372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11480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5"/>
          <p:cNvGraphicFramePr/>
          <p:nvPr/>
        </p:nvGraphicFramePr>
        <p:xfrm>
          <a:off x="5029200" y="4038480"/>
          <a:ext cx="2133720" cy="213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038480"/>
                    <a:ext cx="213372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A73-6E24-4EB7-A259-9084433751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E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tegration with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rid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eak pMOS feedback to pull fully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constra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4"/>
          <p:cNvGraphicFramePr/>
          <p:nvPr/>
        </p:nvGraphicFramePr>
        <p:xfrm>
          <a:off x="1905120" y="3276720"/>
          <a:ext cx="4952880" cy="234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276720"/>
                    <a:ext cx="4952880" cy="234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5AF3-6EC9-4487-AFCE-7D2206C433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P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plementary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-transistor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form of pass transistor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s need for ratioed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onal cross-coupling for rail-to-rai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2" name="Object 4"/>
          <p:cNvGraphicFramePr/>
          <p:nvPr/>
        </p:nvGraphicFramePr>
        <p:xfrm>
          <a:off x="2286000" y="3463920"/>
          <a:ext cx="2895480" cy="24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3463920"/>
                    <a:ext cx="2895480" cy="24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3DEA-5807-4367-89A5-A9C94E7986A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ss Transistor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ers investigated pass transistor logic for general purpose applications in the 199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efits over static CMOS were small or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gener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ass transistors still have a niche in special circuits such as memories where they offer small size and the threshold drops can be manag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3357C-AAA0-4FEA-A0F9-52407A09C8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makes a circuit fas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= C dV/dt    -&gt; 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≈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proportional to C/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are the enem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apacitance for a given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take the pMOS capacitance off the in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circuit families try to do thi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6324480" y="3124080"/>
          <a:ext cx="22860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3124080"/>
                    <a:ext cx="22860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098E-C0B9-47C4-8135-2C13939E1A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old days, nMOS processes had no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use pull-up transistor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CMOS, use a pMOS that is alway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t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pMOS about ¼ effective strength of pull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5"/>
          <p:cNvGraphicFramePr/>
          <p:nvPr/>
        </p:nvGraphicFramePr>
        <p:xfrm>
          <a:off x="1447920" y="3938760"/>
          <a:ext cx="2286000" cy="203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938760"/>
                    <a:ext cx="228600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4724280" y="3662280"/>
          <a:ext cx="2895840" cy="244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662280"/>
                    <a:ext cx="2895840" cy="24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7611-92AB-49A2-8844-3ECDA1B5E7B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3137-0077-47B9-AF7C-1177EB55A7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238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or unit current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with unit inver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fights 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4"/>
          <p:cNvGraphicFramePr/>
          <p:nvPr/>
        </p:nvGraphicFramePr>
        <p:xfrm>
          <a:off x="762120" y="3992400"/>
          <a:ext cx="7619760" cy="20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992400"/>
                    <a:ext cx="7619760" cy="20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Object 5"/>
          <p:cNvGraphicFramePr/>
          <p:nvPr/>
        </p:nvGraphicFramePr>
        <p:xfrm>
          <a:off x="6705720" y="1752480"/>
          <a:ext cx="1904760" cy="167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752480"/>
                    <a:ext cx="190476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8781-B662-4DD6-BDC6-1404D7095D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Design a k-input AND gate using pseudo-nMOS.  Estimate the delay driving a fanout of 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8/9 = 8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8H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 + (4+8k)/9 = (8k+13)/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4"/>
          <p:cNvGraphicFramePr/>
          <p:nvPr/>
        </p:nvGraphicFramePr>
        <p:xfrm>
          <a:off x="5181480" y="2438280"/>
          <a:ext cx="3505320" cy="15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438280"/>
                    <a:ext cx="3505320" cy="15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5"/>
          <p:cNvGraphicFramePr/>
          <p:nvPr/>
        </p:nvGraphicFramePr>
        <p:xfrm>
          <a:off x="3429000" y="4343400"/>
          <a:ext cx="1752480" cy="70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343400"/>
                    <a:ext cx="1752480" cy="70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Rectangle 6"/>
          <p:cNvSpPr/>
          <p:nvPr/>
        </p:nvSpPr>
        <p:spPr>
          <a:xfrm>
            <a:off x="1752480" y="281952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752480" y="32004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52480" y="3657600"/>
            <a:ext cx="3429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1752480" y="4038480"/>
            <a:ext cx="1828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1752480" y="4419720"/>
            <a:ext cx="34290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352680" y="4343400"/>
            <a:ext cx="182880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677C-E586-4BB1-A6BA-EB68915F6C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seudo-nMOS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draws power whenever Y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tatic power     P =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ew mA / gate * 1M gates would be a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s why nMOS went extin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seudo-nMOS sparingly for wide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 off pMOS when not in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2666880" y="4267080"/>
          <a:ext cx="3505320" cy="158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267080"/>
                    <a:ext cx="3505320" cy="15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0: Circuit Famil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19E3B-AB8D-4381-8ECC-3CB1C1E214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tio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ip contains a 32 word x 48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seudo-nMOS decoder and bitline pull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verage, one wordline and 24 bitlines are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static power drawn by the 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-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350532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Object 5"/>
          <p:cNvGraphicFramePr/>
          <p:nvPr/>
        </p:nvGraphicFramePr>
        <p:xfrm>
          <a:off x="2763720" y="4624560"/>
          <a:ext cx="3538800" cy="80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63720" y="4624560"/>
                    <a:ext cx="3538800" cy="80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Rectangle 7"/>
          <p:cNvSpPr/>
          <p:nvPr/>
        </p:nvSpPr>
        <p:spPr>
          <a:xfrm>
            <a:off x="3581280" y="4572000"/>
            <a:ext cx="27432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3581280" y="5029200"/>
            <a:ext cx="27432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2-24T19:03:27Z</dcterms:modified>
  <cp:revision>1168</cp:revision>
  <dc:subject/>
  <dc:title>PowerPoint Presentation</dc:title>
</cp:coreProperties>
</file>