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892240" y="522360"/>
            <a:ext cx="3493800" cy="262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16C82A-9558-40AE-9D71-B633A31A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F97433F-DEA7-4838-848F-5527066F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43725D-E118-4F77-8A54-8D78C22A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2C79BA-A8A3-4C29-A72C-3A96B4042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66FA5B-718E-4C63-B480-82651E02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2AFC3B-D621-4989-A3EF-4F602465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0FC9F3-B647-4704-8F79-F1DC58F7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372539-D5F2-452E-AD24-587D01BC6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C1D7FA-FF3E-4356-A181-9040757D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238A7F-70AC-4A84-B71D-BE0EB690A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DCFF85-5640-4D35-8391-8EF31721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F06E8E-9FC5-405A-9281-D34B2A8C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B542FF-3EB7-4A8C-9203-0DA741C6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EE07E5-86D1-45D3-A81B-B765631E9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203F731-EB8D-4605-8BF5-002737B2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C140B5-696E-4912-929E-0F481612D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3E6BDE-7078-48F9-9C55-F30787BE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7C6432-D388-4CF4-A0DA-4F39999C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18C143-11C5-4829-9E14-C6D2487D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628374-9B22-46F9-A946-D6490BE3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3C7253-9ADE-4E7C-BEC8-43F2E88F4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1BF8611-5D3C-4743-A226-4AE1CC7E2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F5E9D9-8D88-4F79-8EAE-B30684909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FC0B65-9D0D-4648-BDB4-35F65626B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CD3A75-6202-40B3-98F1-AC84DCE0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987458-BC7C-4C0B-BB44-F3E4CC42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219A7F-3603-4F46-8F44-5650DC4D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894E93-3075-49DE-9A2B-C2E1C64E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663B72-DD60-4D9B-B303-FDB7981A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B3AC5FB-1D52-4C2C-A919-C214BF84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92600" y="520560"/>
            <a:ext cx="3495600" cy="2622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B6DC-D7E7-41E7-92E6-12BF4963E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841F-49F1-49DC-9924-EC4EA9D54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DD2D-BD6A-44F1-AA88-EADE6A25C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832D-5693-4A54-9D6F-D7F88BA83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93FE-4538-4EE5-B186-899268E73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67C9-0D47-4E40-B0EC-1022C73C6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91C1-E8F7-4AAB-B44A-F9183FF79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1B83-651A-46B6-8BC6-A36FBB469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6A89-D9FE-4504-8023-F90D32F45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99F8-42A0-4672-A518-6DD7C8498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8945-86F0-4688-8026-0474C79D2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E94B-4CE2-48A5-AA9E-DAF4F56B3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183E-4615-48BD-A9F7-08ED62E116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4B3E-436F-4B12-B2C7-6B6B184E36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9B6-E538-4ECC-8294-A06236E2C5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5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4597-6B60-4BE1-85B7-330EE9F2CA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C610-75E3-41EF-A135-B74829E04A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9213-31F3-45BA-BADB-3716B13627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F04-C414-4615-A4C2-C795F9E301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0FD-4EFB-4844-AA38-C324410208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1E1-6061-43F2-A545-BDB293154A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3962520"/>
          <a:ext cx="4190760" cy="19810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BAB-60BD-4E5F-895B-7419FABCC2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Line 5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BA2A-C0C0-4032-9BB4-C99D0144A9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DAC3-B96C-4670-9CFB-DC16F03E50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DC7B-70DF-4A1A-A8BE-44DE910CFA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820D-7B2B-4FD1-91B8-CEA67EFE9BF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5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7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9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FD6-D06A-4F17-BEC3-0BE3FD840D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23E2-F848-426E-8999-9C7D4E6853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5584-C4F1-40A8-84E6-C4C8A2CA4E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B64-6DC7-4ECF-A3C3-5571E0FF97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8C1A-D6ED-4340-8044-A9D23816BB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5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3212-7A16-4C6F-9C1E-2F2D8A1B46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353-34DF-48B4-9185-A32AD360DD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E4C-B6B4-4C1E-9361-05166901B6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4A53-9CC5-40CF-A521-30C999F96B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72E-8807-44EE-A4F8-16CED82402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C101-1115-4804-B4EE-A1CA8F86DD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07C-060E-4F14-8D8E-0600316C3F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6DAA-E8C5-4D3D-809F-9D87247087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6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B65-585A-41C4-8F0C-15233A3547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A6F-24B8-410F-8E8E-7B3D8D94A2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7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2-24T19:03:27Z</dcterms:modified>
  <cp:revision>1168</cp:revision>
  <dc:subject/>
  <dc:title>PowerPoint Presentation</dc:title>
</cp:coreProperties>
</file>