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27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5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5.png" ContentType="image/png"/>
  <Override PartName="/ppt/media/image28.wmf" ContentType="image/x-wmf"/>
  <Override PartName="/ppt/media/image10.png" ContentType="image/png"/>
  <Override PartName="/ppt/media/image47.png" ContentType="image/png"/>
  <Override PartName="/ppt/media/image50.wmf" ContentType="image/x-wmf"/>
  <Override PartName="/ppt/media/image14.wmf" ContentType="image/x-wmf"/>
  <Override PartName="/ppt/media/image6.png" ContentType="image/png"/>
  <Override PartName="/ppt/media/image33.wmf" ContentType="image/x-wmf"/>
  <Override PartName="/ppt/media/image1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wmf" ContentType="image/x-wmf"/>
  <Override PartName="/ppt/media/image39.wmf" ContentType="image/x-wmf"/>
  <Override PartName="/ppt/media/image43.wmf" ContentType="image/x-wmf"/>
  <Override PartName="/ppt/media/image44.png" ContentType="image/png"/>
  <Override PartName="/ppt/media/image45.png" ContentType="image/png"/>
  <Override PartName="/ppt/media/image30.wmf" ContentType="image/x-wmf"/>
  <Override PartName="/ppt/media/image34.wmf" ContentType="image/x-wmf"/>
  <Override PartName="/ppt/media/image46.wmf" ContentType="image/x-wmf"/>
  <Override PartName="/ppt/media/image52.wmf" ContentType="image/x-wmf"/>
  <Override PartName="/ppt/media/image32.wmf" ContentType="image/x-wmf"/>
  <Override PartName="/ppt/media/image42.wmf" ContentType="image/x-wmf"/>
  <Override PartName="/ppt/media/image9.png" ContentType="image/png"/>
  <Override PartName="/ppt/media/image17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media/image41.wmf" ContentType="image/x-wmf"/>
  <Override PartName="/ppt/media/image8.png" ContentType="image/png"/>
  <Override PartName="/ppt/media/image16.wmf" ContentType="image/x-wmf"/>
  <Override PartName="/ppt/media/image48.png" ContentType="image/png"/>
  <Override PartName="/ppt/media/image51.wmf" ContentType="image/x-wmf"/>
  <Override PartName="/ppt/media/image11.png" ContentType="image/png"/>
  <Override PartName="/ppt/media/image7.jpeg" ContentType="image/jpeg"/>
  <Override PartName="/ppt/media/image3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5438880" y="-36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2973240" y="549000"/>
            <a:ext cx="3656160" cy="274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4"/>
          </p:nvPr>
        </p:nvSpPr>
        <p:spPr>
          <a:xfrm>
            <a:off x="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5"/>
          </p:nvPr>
        </p:nvSpPr>
        <p:spPr>
          <a:xfrm>
            <a:off x="5438880" y="6948000"/>
            <a:ext cx="4162320" cy="3668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0E11626-2455-44CC-9C1B-2BC30EDDB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A3F54ADA-2FA2-42BA-971B-44B8C04EB2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5C4D20E-098D-4B80-936D-A06EC7B25A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6EE2E25-7FB2-43CB-BF24-0A0EBA55B2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4F31A48-1AB1-454E-AD40-0295293C74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FDE72ED2-60B8-4B17-A6C6-4D37A87331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E84A7E6-BE62-4B7B-B5A0-9420B43D59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399684D-C4CB-4D24-8310-D6435E52EC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12496DD-6368-4837-87D2-8BDAC2D73B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D2AC952-EEB6-461D-A76C-2B96D55441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147CE7B-F06E-4FAC-9286-A693A3313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BE01A9F-72B4-4244-953B-C012269DC9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DB3D388-B4F9-46C7-BA05-C51901A6AA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0A00F85-A589-4B6E-BDCF-85F47EC427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4F3010C-C5BE-4D56-ACF8-1686412CAB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E9BF1AD-5787-424B-9B00-D2C3BB0BC3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03EAB8F-9479-40F1-B1A8-5CF0D27396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5C8CAB5-D725-4100-B77F-2C76C01AD5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E9E31A0-E6E5-430F-BEF0-4BB81C7C2D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4FDADB7-3479-41C9-AD3E-9DF78C2B4B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7E4CD9A5-301F-4C16-B8FC-9DAD2DFFD3E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7D4AB8B-48BB-4141-806C-8317107D5F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83F8E8A-0BCC-4626-BBA9-4DEBBFA83A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16AC52FC-E444-47C7-A35B-7DBF4277B1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1B7B3C2-07BA-4794-9ACA-0D486A847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73F5347-2759-41C4-A023-34EE452E01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9A32B18-5801-4A56-A6CF-832F47ACB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48E8EF7-6CF5-4A48-B1FF-E5FF5C9DB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D8AB0661-88B1-413E-A656-6ACB2AFBDE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5E28EDD-D9C4-45D3-8354-4FA4DEFB3F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201B8C82-48FB-4FAD-AECF-51A2C21423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38D5C9F6-C3DC-4349-AFC2-897F9499EC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9B989A1A-E285-4C7B-AB5A-6725439C9D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8B68111-E316-4314-84AE-C552983756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4AAB5D23-1A09-479A-A572-EF98E7FCE6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49D1C0B-4BF3-4D4F-AB45-FE1B850212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0E71FAB-7519-4D32-B52C-3BB0953E91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E3F9703-7C6B-471F-8F8A-5B0F2A7418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5184C355-B3EA-4BC4-9D5E-AF1D59F68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6AF86B14-EF56-40D9-8CC8-3947D51D7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D023302-2A3C-409B-9CAC-EC10962A58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C2E82B9A-8AD7-4F86-97F3-E6BE63B91C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00DE7691-9D1E-42C7-8993-36053D11D6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EF4AA985-1345-4F8C-A41F-9C76EE08D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D79C2EE-5A84-47A1-AEEB-C93C357162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438880" y="6948360"/>
            <a:ext cx="41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8C79A2F6-65C2-4FD0-BCE7-60862B5A7E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73240" y="549360"/>
            <a:ext cx="3656160" cy="27414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81240" y="34732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F0B7A-3662-4A24-AA66-50209847EE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7F48D-C13C-4912-9F45-0478B1830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BB42-3680-4F97-B684-AF232A4213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ACCBA-C3F2-4E62-9150-F7FDAD0717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9D19A-7F56-4B3C-B2E7-B87636110BD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EF0CE-79BC-4F98-AC60-0C20100B2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48432-D298-4A7E-8DDC-5C4A900F8E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8042-9D9C-40AB-9F3A-21B1C67488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48451-A32F-4396-BD82-41DC310446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B3560-F879-4311-B0C2-4B63BC482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5CE4F-EBDB-4338-A435-961B82B2C3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EBA26-7529-4E1B-AB42-7A34526E8C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9A10-5374-4836-8E02-A3A323EC838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5905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s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Picture 17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2E749-1DE3-492C-BFA8-5EC8ED8B4A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d Now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Picture 7" descr="0104"/>
          <p:cNvPicPr/>
          <p:nvPr/>
        </p:nvPicPr>
        <p:blipFill>
          <a:blip r:embed="rId1"/>
          <a:stretch/>
        </p:blipFill>
        <p:spPr>
          <a:xfrm>
            <a:off x="685800" y="2209680"/>
            <a:ext cx="7772400" cy="3435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06C7-034F-4D14-AE4B-267B46ED20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eature Siz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feature size shrinking 30% every 2-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010640" cy="3975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4EE38-D09C-4F6E-8C50-91F25B12FD6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5" descr="0105"/>
          <p:cNvPicPr/>
          <p:nvPr/>
        </p:nvPicPr>
        <p:blipFill>
          <a:blip r:embed="rId1"/>
          <a:stretch/>
        </p:blipFill>
        <p:spPr>
          <a:xfrm>
            <a:off x="1295280" y="2419200"/>
            <a:ext cx="5943600" cy="36766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rolla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other factors grow exponentiall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clock frequency, processo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F981-76F3-477C-8846-4ABC0B1F79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MOS Gate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a 4-input CMOS NOR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3714840" y="28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Object 5"/>
          <p:cNvGraphicFramePr/>
          <p:nvPr/>
        </p:nvGraphicFramePr>
        <p:xfrm>
          <a:off x="1600200" y="2438280"/>
          <a:ext cx="5410080" cy="353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438280"/>
                    <a:ext cx="5410080" cy="353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Rectangle 7"/>
          <p:cNvSpPr/>
          <p:nvPr/>
        </p:nvSpPr>
        <p:spPr>
          <a:xfrm>
            <a:off x="1600200" y="2438280"/>
            <a:ext cx="5257800" cy="358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FC05-2DEC-4AA3-958F-BF7636FEB7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mentary CMO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logic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ll-up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static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5638680" y="1981080"/>
          <a:ext cx="2971800" cy="25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981080"/>
                    <a:ext cx="2971800" cy="25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609480" y="3962520"/>
          <a:ext cx="5639040" cy="1485720"/>
        </p:xfrm>
        <a:graphic>
          <a:graphicData uri="http://schemas.openxmlformats.org/drawingml/2006/table">
            <a:tbl>
              <a:tblPr/>
              <a:tblGrid>
                <a:gridCol w="1879560"/>
                <a:gridCol w="1879920"/>
                <a:gridCol w="187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up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(floa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down 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 (crowb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0395-3444-4271-8531-E901C22658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ries and Paralle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: 1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: 0 =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both must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ither can be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4"/>
          <p:cNvGraphicFramePr/>
          <p:nvPr/>
        </p:nvGraphicFramePr>
        <p:xfrm>
          <a:off x="5029200" y="1523880"/>
          <a:ext cx="3257640" cy="454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523880"/>
                    <a:ext cx="3257640" cy="45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B67EB-26AF-4141-9210-86354C7FAC3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nduction Comple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ary CMOS gates always produce 0 o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N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ries nMOS: Y=0 when both inputs ar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Y=1 when either input i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parallel p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duction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up network is complement of pull-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-&gt; series, series -&gt; 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5943600" y="2895480"/>
          <a:ext cx="2362320" cy="180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95480"/>
                    <a:ext cx="236232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1C4E-B38E-44BD-B4A4-C33E65AF7F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ound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pound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do any invert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1652760" y="1889280"/>
          <a:ext cx="7067520" cy="59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2760" y="1889280"/>
                    <a:ext cx="7067520" cy="59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5"/>
          <p:cNvGraphicFramePr/>
          <p:nvPr/>
        </p:nvGraphicFramePr>
        <p:xfrm>
          <a:off x="1600200" y="2438280"/>
          <a:ext cx="5334120" cy="361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2438280"/>
                    <a:ext cx="5334120" cy="36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D2E2-3332-4D52-9B42-4BE3560278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 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185840" y="1414440"/>
          <a:ext cx="2666880" cy="7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5840" y="1414440"/>
                    <a:ext cx="2666880" cy="7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Object 5"/>
          <p:cNvGraphicFramePr/>
          <p:nvPr/>
        </p:nvGraphicFramePr>
        <p:xfrm>
          <a:off x="2666880" y="1828800"/>
          <a:ext cx="3897360" cy="396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1828800"/>
                    <a:ext cx="389736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909F-8181-4E08-A192-F84B4CE99EE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al Streng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ng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lose it approximates ideal voltage 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rails are strongest 1 and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strong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pass strong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egraded or weak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nMOS are best for pull-down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70C-D73C-4A56-9E0A-76AF481FBC4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rief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Gat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OS Latches &amp; 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Lay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F1C7-FE3E-4739-984D-8EBF5B4853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ss Transis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stors can be used as swit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057400"/>
          <a:ext cx="7543800" cy="366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543800" cy="366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Object 7"/>
          <p:cNvGraphicFramePr/>
          <p:nvPr/>
        </p:nvGraphicFramePr>
        <p:xfrm>
          <a:off x="838080" y="2286000"/>
          <a:ext cx="9255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2286000"/>
                    <a:ext cx="9255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97F87-B142-441E-BD95-2E2ED917961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s produce degraded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mission ga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ss both 0 and 1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143000" y="2514600"/>
          <a:ext cx="6705720" cy="34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14600"/>
                    <a:ext cx="6705720" cy="34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AB731-DA53-458B-AD12-F977CE19A29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istate buff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duces Z when not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914400" y="2514600"/>
          <a:ext cx="2666880" cy="2031840"/>
        </p:xfrm>
        <a:graphic>
          <a:graphicData uri="http://schemas.openxmlformats.org/drawingml/2006/table">
            <a:tbl>
              <a:tblPr/>
              <a:tblGrid>
                <a:gridCol w="888840"/>
                <a:gridCol w="889200"/>
                <a:gridCol w="888840"/>
              </a:tblGrid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0" name="Object 30"/>
          <p:cNvGraphicFramePr/>
          <p:nvPr/>
        </p:nvGraphicFramePr>
        <p:xfrm>
          <a:off x="6172200" y="2133720"/>
          <a:ext cx="1960560" cy="368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2133720"/>
                    <a:ext cx="196056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Rectangle 31"/>
          <p:cNvSpPr/>
          <p:nvPr/>
        </p:nvSpPr>
        <p:spPr>
          <a:xfrm>
            <a:off x="2743200" y="29718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32"/>
          <p:cNvSpPr/>
          <p:nvPr/>
        </p:nvSpPr>
        <p:spPr>
          <a:xfrm>
            <a:off x="274320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33"/>
          <p:cNvSpPr/>
          <p:nvPr/>
        </p:nvSpPr>
        <p:spPr>
          <a:xfrm>
            <a:off x="2743200" y="38098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34"/>
          <p:cNvSpPr/>
          <p:nvPr/>
        </p:nvSpPr>
        <p:spPr>
          <a:xfrm>
            <a:off x="274320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46D4-983A-48A2-934E-AF6279C1ED6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restoring Trist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 acts as tristate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on A is passed on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Object 4"/>
          <p:cNvGraphicFramePr/>
          <p:nvPr/>
        </p:nvGraphicFramePr>
        <p:xfrm>
          <a:off x="1295280" y="3352680"/>
          <a:ext cx="187020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352680"/>
                    <a:ext cx="187020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1888F-BC1C-4087-AEEE-251D728D5B8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istate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inverter produces resto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olates conduction complement r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we want a Z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Object 4"/>
          <p:cNvGraphicFramePr/>
          <p:nvPr/>
        </p:nvGraphicFramePr>
        <p:xfrm>
          <a:off x="1295280" y="2895480"/>
          <a:ext cx="5791320" cy="303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895480"/>
                    <a:ext cx="5791320" cy="303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C79D-44E6-4C13-80CC-D3EB0E0A10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1 multiplexer chooses between two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838080" y="2819520"/>
          <a:ext cx="4038840" cy="2184120"/>
        </p:xfrm>
        <a:graphic>
          <a:graphicData uri="http://schemas.openxmlformats.org/drawingml/2006/table">
            <a:tbl>
              <a:tblPr/>
              <a:tblGrid>
                <a:gridCol w="1009800"/>
                <a:gridCol w="1009800"/>
                <a:gridCol w="1009440"/>
                <a:gridCol w="1009800"/>
              </a:tblGrid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3" name="Object 36"/>
          <p:cNvGraphicFramePr/>
          <p:nvPr/>
        </p:nvGraphicFramePr>
        <p:xfrm>
          <a:off x="5638680" y="2362320"/>
          <a:ext cx="2819520" cy="218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2362320"/>
                    <a:ext cx="2819520" cy="218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Rectangle 38"/>
          <p:cNvSpPr/>
          <p:nvPr/>
        </p:nvSpPr>
        <p:spPr>
          <a:xfrm>
            <a:off x="3962520" y="335268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39"/>
          <p:cNvSpPr/>
          <p:nvPr/>
        </p:nvSpPr>
        <p:spPr>
          <a:xfrm>
            <a:off x="3962520" y="37339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40"/>
          <p:cNvSpPr/>
          <p:nvPr/>
        </p:nvSpPr>
        <p:spPr>
          <a:xfrm>
            <a:off x="3962520" y="4191120"/>
            <a:ext cx="2286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41"/>
          <p:cNvSpPr/>
          <p:nvPr/>
        </p:nvSpPr>
        <p:spPr>
          <a:xfrm>
            <a:off x="3962520" y="4572000"/>
            <a:ext cx="2286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27F6-2EE7-4AE8-93E7-B963104358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-Level Mux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transistors are needed?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1219320" y="1447920"/>
          <a:ext cx="5033880" cy="5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447920"/>
                    <a:ext cx="503388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371600" y="2666880"/>
          <a:ext cx="6629400" cy="326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2666880"/>
                    <a:ext cx="6629400" cy="32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6"/>
          <p:cNvSpPr/>
          <p:nvPr/>
        </p:nvSpPr>
        <p:spPr>
          <a:xfrm>
            <a:off x="6019920" y="2057400"/>
            <a:ext cx="457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1447920" y="2666880"/>
            <a:ext cx="5943600" cy="335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DB60C-03E8-49E7-9368-D040F597891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mission Gate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 mux uses two transmissi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4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3" name="Object 1028"/>
          <p:cNvGraphicFramePr/>
          <p:nvPr/>
        </p:nvGraphicFramePr>
        <p:xfrm>
          <a:off x="2895480" y="2133720"/>
          <a:ext cx="324648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4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133720"/>
                    <a:ext cx="324648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B2F1-F585-4140-9415-15C43B1EC98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rting Mux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multiplex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mpound AOI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air of tristate inver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ly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 multiplexer adds an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9" name="Object 4"/>
          <p:cNvGraphicFramePr/>
          <p:nvPr/>
        </p:nvGraphicFramePr>
        <p:xfrm>
          <a:off x="609480" y="3886200"/>
          <a:ext cx="7925040" cy="202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86200"/>
                    <a:ext cx="79250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B0786-2D86-4605-B29D-83EBE9E810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4:1 Multiplex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:1 mux chooses one of 4 inputs using two sel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levels of 2:1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four tri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5" name="Object 4"/>
          <p:cNvGraphicFramePr/>
          <p:nvPr/>
        </p:nvGraphicFramePr>
        <p:xfrm>
          <a:off x="1676520" y="2514600"/>
          <a:ext cx="586728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514600"/>
                    <a:ext cx="586728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5926-6CE4-4EB8-98AB-E43921AA7CB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Brief Histo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58: First integrated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using two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by Jack Kilby at Texas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Core i7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3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Gb Flash memo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6 billion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0102b"/>
          <p:cNvPicPr/>
          <p:nvPr/>
        </p:nvPicPr>
        <p:blipFill>
          <a:blip r:embed="rId1"/>
          <a:stretch/>
        </p:blipFill>
        <p:spPr>
          <a:xfrm>
            <a:off x="5715000" y="1523880"/>
            <a:ext cx="2743200" cy="18385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5638680" y="3429000"/>
            <a:ext cx="2819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1973160" cy="2297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9"/>
          <p:cNvSpPr/>
          <p:nvPr/>
        </p:nvSpPr>
        <p:spPr>
          <a:xfrm>
            <a:off x="7696080" y="5562720"/>
            <a:ext cx="9907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200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9F01F-D465-4210-8537-26A45B3C2C2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1,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flows through to Q like a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= 0, the latch i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 holds its old value independent of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ransparent l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vel-sensitive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Object 4"/>
          <p:cNvGraphicFramePr/>
          <p:nvPr/>
        </p:nvGraphicFramePr>
        <p:xfrm>
          <a:off x="838080" y="3733920"/>
          <a:ext cx="2438640" cy="22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33920"/>
                    <a:ext cx="2438640" cy="22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Object 5"/>
          <p:cNvGraphicFramePr/>
          <p:nvPr/>
        </p:nvGraphicFramePr>
        <p:xfrm>
          <a:off x="3352680" y="3886200"/>
          <a:ext cx="4953240" cy="202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886200"/>
                    <a:ext cx="4953240" cy="202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ADC11-F4B4-44BE-8D5B-1D72DACDDC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xer chooses D or old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5"/>
          <p:cNvGraphicFramePr/>
          <p:nvPr/>
        </p:nvGraphicFramePr>
        <p:xfrm>
          <a:off x="533520" y="2133720"/>
          <a:ext cx="8153280" cy="309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153280" cy="30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E9D4-171A-43F0-A847-03B1FFE72C0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Latch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858960" y="1523880"/>
          <a:ext cx="742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523880"/>
                    <a:ext cx="742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4C4A6-2070-45F6-9302-067C9DC711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CLK rises, D is copied to 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all other times, Q holds its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ositive edge-triggered flip-flo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ster-slave flip-fl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609480" y="4095720"/>
          <a:ext cx="198144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095720"/>
                    <a:ext cx="198144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5"/>
          <p:cNvGraphicFramePr/>
          <p:nvPr/>
        </p:nvGraphicFramePr>
        <p:xfrm>
          <a:off x="2666880" y="3784680"/>
          <a:ext cx="5791320" cy="190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784680"/>
                    <a:ext cx="5791320" cy="190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B891E-9604-46F1-A309-DE416D11D3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t from master and slave 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Object 5"/>
          <p:cNvGraphicFramePr/>
          <p:nvPr/>
        </p:nvGraphicFramePr>
        <p:xfrm>
          <a:off x="533520" y="2362320"/>
          <a:ext cx="8076960" cy="21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362320"/>
                    <a:ext cx="8076960" cy="21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CF3D-C411-4CCE-8AC3-046DB83530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 Flip-flop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83" name="Object 3"/>
          <p:cNvGraphicFramePr/>
          <p:nvPr/>
        </p:nvGraphicFramePr>
        <p:xfrm>
          <a:off x="2062080" y="1523880"/>
          <a:ext cx="50180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080" y="1523880"/>
                    <a:ext cx="50180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33E1D-3DA0-4151-A3CD-3B8257805C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ace Con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-to-back flops can malfunction from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flip-flop fires 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s first flip-flop change and captures its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hold-time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ac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9" name="Object 4"/>
          <p:cNvGraphicFramePr/>
          <p:nvPr/>
        </p:nvGraphicFramePr>
        <p:xfrm>
          <a:off x="533520" y="3365640"/>
          <a:ext cx="8001000" cy="25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65640"/>
                    <a:ext cx="8001000" cy="25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06B1A-DB1A-4485-8A15-61EC9387FA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noverlapping Clo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overlapping clocks can prevent r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nonoverlap exceeds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use them in this class for saf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manages skew more carefully inste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2209680" y="3352680"/>
          <a:ext cx="4572000" cy="27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4572000" cy="27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DA71D-83EF-482E-9DE1-185CCA1611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out can be very time consu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gates to fit together nic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 library of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cell design 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GND should abut (standard heigh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acent gates should satisfy desig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t bottom and pMOS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ates include well and substrate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DC9F-40A9-4814-8114-7D9F362BBA8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04" name="Picture 6" descr=""/>
          <p:cNvPicPr/>
          <p:nvPr/>
        </p:nvPicPr>
        <p:blipFill>
          <a:blip r:embed="rId1"/>
          <a:stretch/>
        </p:blipFill>
        <p:spPr>
          <a:xfrm>
            <a:off x="1752480" y="1460520"/>
            <a:ext cx="4724640" cy="4476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0BE7-9DDD-4976-9A53-85889B7CDD1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wth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3% compound annual growth rate over 5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other technology has grown so fast so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n by miniaturization of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 is cheaper, faster, lower in po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lutionary effects on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762120" y="3809880"/>
            <a:ext cx="6400800" cy="2186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7086600" y="548640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B699C-3F44-4386-896D-49719E5ACAD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NAND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N-diffusion and p-diffusion str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tical polysilic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il at 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1 GND rail at bott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4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622680" cy="4114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25927-E92B-4FD0-8C19-5E8998918F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ick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ick dia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elp plan layout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not be to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 with color pencils or dry-erase mar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7"/>
          <p:cNvSpPr/>
          <p:nvPr/>
        </p:nvSpPr>
        <p:spPr>
          <a:xfrm>
            <a:off x="0" y="270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Object 6"/>
          <p:cNvGraphicFramePr/>
          <p:nvPr/>
        </p:nvGraphicFramePr>
        <p:xfrm>
          <a:off x="762120" y="2971800"/>
          <a:ext cx="7696080" cy="28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971800"/>
                    <a:ext cx="7696080" cy="28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96899-464C-415F-8FB2-23DBC619EF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iring Trac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iring trac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pace required for a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dth, 4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pacing from neighbor =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also consume one wiring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1"/>
          <a:stretch/>
        </p:blipFill>
        <p:spPr>
          <a:xfrm>
            <a:off x="1981080" y="2971800"/>
            <a:ext cx="4648320" cy="3003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BA845-987A-4855-9879-462654CAED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ell spa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s must surround transistors by 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es 1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opposite transistor flav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s room for one wire 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1"/>
          <a:stretch/>
        </p:blipFill>
        <p:spPr>
          <a:xfrm>
            <a:off x="1828800" y="2819520"/>
            <a:ext cx="4724280" cy="3157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620E-778D-45DA-AD36-9991BB81048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Object 7"/>
          <p:cNvGraphicFramePr/>
          <p:nvPr/>
        </p:nvGraphicFramePr>
        <p:xfrm>
          <a:off x="2209680" y="2438280"/>
          <a:ext cx="3524400" cy="358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438280"/>
                    <a:ext cx="352440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ectangle 9"/>
          <p:cNvSpPr/>
          <p:nvPr/>
        </p:nvSpPr>
        <p:spPr>
          <a:xfrm>
            <a:off x="2133720" y="2514600"/>
            <a:ext cx="396216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ea Estim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area by counting wiring tra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y by 8 to express in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6"/>
          <p:cNvSpPr/>
          <p:nvPr/>
        </p:nvSpPr>
        <p:spPr>
          <a:xfrm>
            <a:off x="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5" name="Object 5"/>
          <p:cNvGraphicFramePr/>
          <p:nvPr/>
        </p:nvGraphicFramePr>
        <p:xfrm>
          <a:off x="2209680" y="2438280"/>
          <a:ext cx="3532320" cy="358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09680" y="2438280"/>
                    <a:ext cx="353232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4AB-21BE-434D-BBC5-4F0081C7F2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O3AI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693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ketch a stick diagram for O3AI and estimate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1" name="Object 4"/>
          <p:cNvGraphicFramePr/>
          <p:nvPr/>
        </p:nvGraphicFramePr>
        <p:xfrm>
          <a:off x="1676520" y="1905120"/>
          <a:ext cx="260028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260028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8"/>
          <p:cNvSpPr/>
          <p:nvPr/>
        </p:nvSpPr>
        <p:spPr>
          <a:xfrm>
            <a:off x="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7"/>
          <p:cNvGraphicFramePr/>
          <p:nvPr/>
        </p:nvGraphicFramePr>
        <p:xfrm>
          <a:off x="1905120" y="2514600"/>
          <a:ext cx="4876560" cy="3503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5120" y="2514600"/>
                    <a:ext cx="4876560" cy="35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Rectangle 9"/>
          <p:cNvSpPr/>
          <p:nvPr/>
        </p:nvSpPr>
        <p:spPr>
          <a:xfrm>
            <a:off x="5410080" y="2438280"/>
            <a:ext cx="144792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10"/>
          <p:cNvSpPr/>
          <p:nvPr/>
        </p:nvSpPr>
        <p:spPr>
          <a:xfrm>
            <a:off x="2666880" y="5334120"/>
            <a:ext cx="3429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3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B9BF-3894-4762-81F2-BC298A02C02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nual Sal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istors manufactured in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billion for every human on the pla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7848360" cy="3494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3196-9772-45E8-B9A1-D63031A4AF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vention of the Transis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cuum tubes ruled in first half of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entury Large, expensive, power-hungry, un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47: first point contac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hn Bardeen and Walter Brattain at Bell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rystal F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Riordan, Hodde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lect1transistor"/>
          <p:cNvPicPr/>
          <p:nvPr/>
        </p:nvPicPr>
        <p:blipFill>
          <a:blip r:embed="rId1"/>
          <a:stretch/>
        </p:blipFill>
        <p:spPr>
          <a:xfrm>
            <a:off x="4952880" y="3166920"/>
            <a:ext cx="3451320" cy="2913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8"/>
          <p:cNvSpPr/>
          <p:nvPr/>
        </p:nvSpPr>
        <p:spPr>
          <a:xfrm>
            <a:off x="3886200" y="5486400"/>
            <a:ext cx="990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&amp;T Archives.  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2FD96-72F4-4885-A1D3-8C9EB5C0BBB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ransistor Typ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polar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pn or pnp silicon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current into very thin base layer controls large currents between emitter and colle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urrents limit integration den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l Oxide Semiconductor Field Effect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and pMOS MOSF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 applied to insulated gate controls current between source and dr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power allows very high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8FFFC-023D-4A83-8AA5-1DC66B6FE5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processes usually had only nMO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xpensive, but consume power while i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47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-451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80s-present: CMOS processes for low idl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 Integrated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68580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1101 256-bit S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495680" y="51814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4004 4-bit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0103a"/>
          <p:cNvPicPr/>
          <p:nvPr/>
        </p:nvPicPr>
        <p:blipFill>
          <a:blip r:embed="rId1"/>
          <a:stretch/>
        </p:blipFill>
        <p:spPr>
          <a:xfrm>
            <a:off x="914400" y="2438280"/>
            <a:ext cx="2371680" cy="2743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1" descr="0103b"/>
          <p:cNvPicPr/>
          <p:nvPr/>
        </p:nvPicPr>
        <p:blipFill>
          <a:blip r:embed="rId2"/>
          <a:stretch/>
        </p:blipFill>
        <p:spPr>
          <a:xfrm>
            <a:off x="4267080" y="2438280"/>
            <a:ext cx="3733920" cy="2759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3276720" y="4648320"/>
            <a:ext cx="99036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Vadasz69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© 1969 IEEE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8001000" y="4419720"/>
            <a:ext cx="838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l Museum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printed with permission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: Circuits &amp; Lay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1225-C4E7-43EA-A4EB-D1AE4D3788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or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Law: The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65: Gordon Moore plotted transistor on each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t straight line on semilog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 counts have doubled every 2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5486400" y="3124080"/>
            <a:ext cx="2895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tion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,000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LS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k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6" descr=""/>
          <p:cNvPicPr/>
          <p:nvPr/>
        </p:nvPicPr>
        <p:blipFill>
          <a:blip r:embed="rId1"/>
          <a:stretch/>
        </p:blipFill>
        <p:spPr>
          <a:xfrm>
            <a:off x="1066680" y="3048120"/>
            <a:ext cx="3140280" cy="2814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3429000" y="5638680"/>
            <a:ext cx="13716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[Moore65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lectronics Magazi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David Harris</cp:lastModifiedBy>
  <dcterms:modified xsi:type="dcterms:W3CDTF">2015-01-22T21:31:51Z</dcterms:modified>
  <cp:revision>411</cp:revision>
  <dc:subject/>
  <dc:title>PowerPoint Presentation</dc:title>
</cp:coreProperties>
</file>