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C5AE7A6-40FB-4328-8443-A2837F13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D06889-8FE3-4CAB-86EA-130249EF0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044BA7-CD95-4DBC-A4CB-641D7BA11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F26367-7FDF-4FD7-9B73-6F215F374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9D2752-4954-49C6-8E60-0EF2D5EE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198C6C-CE91-436F-8FBB-1FC3A992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96472A-5C14-478F-9D22-D01C4EC3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B182EE-FF2F-46B6-980F-AE36F636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8DA7BC-24B5-4A07-A40F-6D0616217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1F0B18-2A08-4C9D-A5FF-B5B43D005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F15051-86C1-4F2E-A922-F574CDE8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11168F-6EEF-4C8E-B25A-6683DFF9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2760E6-40D8-4E3C-B1AB-3ED4DBF6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0681FB-5A39-45F0-98BC-71EF8EE7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C5D4E8-5827-4935-8B2E-9D7E7D72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B288D35-DD4B-4A3C-B25C-0CA274A0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60E271-E988-41EC-BE12-48967D75F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FF5F31-A2ED-4819-AF12-77D20EFDA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84A4E3-65DE-482D-8B5D-657B0A5D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0432F5-86F1-4387-AFAE-1F4C300C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7AF5FE-955A-40DF-BF9E-CDDDA1064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B2DD9E-B452-4427-A901-9B40E4EC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57C7D1-035A-47AC-84BB-4DAE2609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E4FF6A-2B6B-48EF-A106-7CE5F8A77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2D6E48-CADA-4173-A556-8CAB1078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4DF5C9-A8C0-4A6C-87E2-EF9D842C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B6D745C-001E-4C24-88A2-F3B0D2F3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EE1800-545A-4E78-8DD1-A38C0098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857563-A69E-46C9-8488-C8BF195A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DFEC70B-EE9A-4FA4-A99E-BB15740D4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1A6309-73CC-4D98-99CD-BB164411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CA50C3-0F2A-403F-8EF9-C4B20768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EDB63B-ECB6-4460-898D-0BCB30A3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09D10F-A1DD-4D91-860D-B22A2AA5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BCEDFD-BF2E-421E-B0C8-98F7DCEF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C6958E-A41F-4587-9B8D-E1F37B6A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CBCD7C-A7C9-4574-B54D-2DB45040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1033AB-9185-4E01-90AE-B26336AFF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44DBC9-118F-46C0-8C76-D5074CE77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A701AC-1A8B-4AE7-A8B9-B718BDFB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8D5054-FD12-43A1-9061-AB74C8465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8BF867-E704-4B60-AA80-39B8E6800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73443B-CFA0-4A9F-A1BE-17D93B8E4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EC0BC3-80A8-41CA-B511-EE4189E15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7ECB3D-DB0B-4C43-81A3-9FCE7B5A3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8D65B8-7BAB-428A-AEFA-4FDA8CCF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5803-891D-42F2-A81E-4A2E3F3EE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B659-B7A7-45F8-977C-62B836B3A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7013-FF36-406D-8307-B7266586E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9568-20CA-4626-8FA5-F94BEC793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E414-5185-4D5F-BD41-254195B13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8919-1906-48C4-9576-D4A549C0A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24BA-B6E4-4CE1-AB29-FF7413F9B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25D4-236F-4155-AD67-8721EC11B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C8DB-181C-47D0-ABB5-9ADBFF3DD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2F57-70A0-4344-9F3B-01F84EE6D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4016-6118-4E0B-AED3-C1C4EE40E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E7D2-BA95-4F50-A356-2F172EE4B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F0D-91E6-4843-8B7B-4A3634E453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ＭＳ Ｐゴシック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D1AF-5DA4-49D2-BDE6-17302DB690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41F6-ECAC-4C35-9B6C-8A1C1B5FCD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2289-A307-48B1-B8F0-622CF3F8C5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0.8, 0.7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scaling down as transistors sh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C90-C73D-4A37-A822-6BAD2895AF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80D5-B44A-4F56-A7ED-30B9973357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89F-318A-4C16-BB82-FC9741E5D7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6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6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7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8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8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B082-1AF8-4491-AD5E-9A0D77410A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DC8A-BD9A-4531-A9B4-0A38E860EC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62B-0CC3-4292-8AA7-7C52027E9C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6822-E639-4CFC-B3EF-59D1393E58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pMOS p-type source/drain doesn’t short to p-type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609480" y="342756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2756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424D-4A24-4CCF-A078-3FB980C686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is lecture, you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MOS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behavior of CMOS transistors as digit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ogic gates using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cross-sections of transistors and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sks and steps used to fabricate a CMO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70C-72B6-43C7-8281-779E7FAC4F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3AF-32F7-43AF-B1EF-C26CFD9C83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20C0-F6DF-4D77-9A59-EE6DC99580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D0A-1733-4B5C-9388-60DDB04FCF9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, costing billions of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0301"/>
          <p:cNvPicPr/>
          <p:nvPr/>
        </p:nvPicPr>
        <p:blipFill>
          <a:blip r:embed="rId1"/>
          <a:stretch/>
        </p:blipFill>
        <p:spPr>
          <a:xfrm>
            <a:off x="1143000" y="2792520"/>
            <a:ext cx="4267080" cy="3166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BC0-CA48-4F14-9517-70CC074ADB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46B-AEE4-4B49-B917-BF877BD867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A01D-139E-40B9-9C0B-F606B938FA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E1A1-4320-4291-8636-768E096DA3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1DA-BC6F-4036-B2F5-CADAE80C06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2958-2683-4CEC-85BB-6169005742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9D99-CEE5-4DF5-BB3E-F42AF9086C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2CFF-F390-4ECA-A60F-0120D1BE8D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3BB-0288-4F05-B983-8A266CAD8BE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4B76-34B8-4208-B094-1C9F6A4BE6F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44D-6E65-4914-9701-4F6CEA589A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D72A-32DE-476A-ABDB-6F0EBA1CDC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852-9915-4D8B-9289-AE4390FB04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749-DAE7-4F9A-9FA0-821CDE16C5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441A-F49F-49C5-8EFC-424EB934EE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5A2A-4853-4FC7-A4D8-D59C9740B8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9F86-B733-4ADB-9663-6E7E0DBD34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AA24-C37F-4C5D-91B4-3379FD0DE8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77C0-1DDF-4BBB-A2BA-C478BCD886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E9FC-3A12-4B36-ADA3-1069B083E2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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F7E5-A892-42B7-8739-1D982EE46D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A99-EFEC-4673-B761-1500017B83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7BFB-3250-4E4C-93AC-35D689C239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86C-BA84-46A2-BAC7-5391F8BCB2F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20 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1F8A-4113-46EC-BD83-2D85418B15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1A30-C2F6-4BDE-B32F-325B206AE1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E7F7-AA1E-48E0-8C5E-F5D589D51C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shows gate, source,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omits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are logically indistinguis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889520" y="4114800"/>
          <a:ext cx="366696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4114800"/>
                    <a:ext cx="366696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46E-1E4B-4D3D-A382-C6B492BF4A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lightly doped 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is metal or polycrystalline silicon (polysilic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n excellent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(n+)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4889520" y="4114800"/>
          <a:ext cx="366696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4114800"/>
                    <a:ext cx="366696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A0C-4271-4AAF-8ED9-76567A51DC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9-12-24T11:59:58Z</dcterms:modified>
  <cp:revision>342</cp:revision>
  <dc:subject/>
  <dc:title>PowerPoint Presentation</dc:title>
</cp:coreProperties>
</file>