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40.wmf" ContentType="image/x-wmf"/>
  <Override PartName="/ppt/media/image31.wmf" ContentType="image/x-wmf"/>
  <Override PartName="/ppt/media/image46.png" ContentType="image/png"/>
  <Override PartName="/ppt/media/image43.wmf" ContentType="image/x-wmf"/>
  <Override PartName="/ppt/media/image32.wmf" ContentType="image/x-wmf"/>
  <Override PartName="/ppt/media/image47.png" ContentType="image/png"/>
  <Override PartName="/ppt/media/image44.wmf" ContentType="image/x-wmf"/>
  <Override PartName="/ppt/media/image45.wmf" ContentType="image/x-wmf"/>
  <Override PartName="/ppt/media/image10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234488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234000" cy="69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231880" y="-360"/>
            <a:ext cx="4000680" cy="345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7480" rIns="87480" tIns="43560" bIns="435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-36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23188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8249D2F-D435-44A0-99EE-6A28B759A3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F108CD3-B04D-4D33-BA88-2794D19EE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3301DE5-9832-49D2-987D-AC1B4EC56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53A1E4B-2270-4B14-816E-98430B25D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FA749B6-36D7-4929-B08D-9C7EF048DB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8A6CBB1-CCAA-458F-BBF0-F5448B859B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544FD6-FAE4-4541-BBC2-952C2BC788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E84B1B2-9C02-4AB4-B6F6-EAA76ACD1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04ED2D-624B-4A3B-BDFF-A26E2E9B3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B1BDAEA-106B-4B0F-80B4-8E128894D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9284A18-FA09-4FD8-950A-B5C994CB9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49CD6BC-6D53-4551-9EC3-9C413B446C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302DF3D-3C53-47DF-A3C2-5617C5CC4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5595341-A040-484B-B4B4-0A4EF92F07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56BE61F-71F2-4C36-9546-898929D34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CDFC546-8FEB-4A69-B2DA-6BCCF612F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6AD4452-856E-49B8-BB94-B4560AD2E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1EFE250-6628-4DBE-B7C4-4CE4A01B8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63E0623-F29C-4424-8EF4-A99A4610E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58A667A6-BCA1-4655-AEFF-0F42B70AF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89E73F3-BC6A-444C-A8A4-7875AADEC6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55682FD-C676-4889-B426-5A64CB76CA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15F96878-7F45-4B8C-BF35-0AADFE274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2DF1336-97CF-4EE2-ACD5-596F54C4B1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1B2A02-824C-4823-86C4-D2DC90422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40354C5-F530-40E1-862B-AB0F8BB66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7734EC0-6161-4B69-BB2F-9EE850476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22CAF8D-65B1-4E03-92F7-C02EB9647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6A1495B-112D-4FC7-BC12-0980175E86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8177FD0-307B-45CA-A66E-0F1EE900F4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B2C811D-A8F3-44BC-A91E-383646C74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A791CBC-9DE8-466B-BAD8-B61D3163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A94591F-D292-4158-AE37-7B8FDD85A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1EBAB7-70B7-4283-AB08-BAA1C5B4E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DE7ADE-0675-43BF-BC7E-2B1BF1285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25BBCEB-3646-467B-A7C5-56A1D8437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5EAE2FA-F6AB-42D5-9420-FB3A46FA1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FCF91E97-8981-4B54-A0B6-DA85315EFC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E7CEC92-64AB-4F2E-8DAE-24A4AD371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360640D-2D29-40B7-AA4A-C224191F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6052962-DF73-4354-9528-3FF457DB02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A219F90-8F71-4AD2-9EFE-E67E6A276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AC88B4A5-E02A-4F24-A43B-04E93ADD36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3FCA944-6754-4779-BF6D-6154400A6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C2D4B85-9E85-4AD6-91FC-825AB2717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232240" y="6588000"/>
            <a:ext cx="40006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D358632D-F92D-4FF8-83E2-BDB562BC22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882880" y="519120"/>
            <a:ext cx="3471840" cy="260352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33000" y="3295440"/>
            <a:ext cx="6766200" cy="311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5A03-14DF-473A-AA34-C374ECB43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E5D1-3A6E-4862-A890-0EEBDFE548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D325F-F916-4E44-8F8C-9FB79246F1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0BF83-8C69-4F46-99A5-2F5C1EEAD4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94CC5-F66A-475F-9490-7900A3B0EC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2703B-F30C-4C54-8713-70D9FCD72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4FA60-192D-46D1-8523-CDA6782E7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A1764-8CAF-4DE5-9AA5-4416FB603D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239C-B947-454F-A1EB-E9F749DFF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E3C1-C868-4888-83CB-EE76AB5EF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86279-ED06-46A9-A797-62777C106D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23EF-0C5C-4082-BC88-85F296704B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8F36-3649-4903-B55D-6087C7F1B0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  <a:ea typeface="ＭＳ Ｐゴシック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ecture 0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194C2-AE3B-46D2-9A3A-726DE1310A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high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charge on gate of MOS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charge attracted to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s a channel under gate to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current can flow through n-type silicon from source through channel to drain, transistor i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4"/>
          <p:cNvGraphicFramePr/>
          <p:nvPr/>
        </p:nvGraphicFramePr>
        <p:xfrm>
          <a:off x="2819520" y="4114800"/>
          <a:ext cx="3429000" cy="18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4114800"/>
                    <a:ext cx="3429000" cy="18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F511A-CDFE-4864-94EE-DB1FFF6628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, but doping and voltages rever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tied to high 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ow: transist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high: transist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bble indicates inverted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2057400" y="3733920"/>
          <a:ext cx="441972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733920"/>
                    <a:ext cx="441972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2145-DA52-46A7-B9C1-0BC1422F8B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wer Supply Volt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ND = 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8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5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decreased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uld damage modern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3, 2.5, 1.8, 1.5, 1.2, 1.0, 0.8, 0.7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ly scaling down as transistors shri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FFB2-EB5E-499F-B59C-739D9FAC88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s as Swi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view MOS transistors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t gate controls path from source to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990720" y="2590920"/>
          <a:ext cx="7162560" cy="34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590920"/>
                    <a:ext cx="7162560" cy="34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449F-DB89-4A61-94F2-2E49F635FC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57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45"/>
          <p:cNvGraphicFramePr/>
          <p:nvPr/>
        </p:nvGraphicFramePr>
        <p:xfrm>
          <a:off x="4191120" y="1523880"/>
          <a:ext cx="359388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1523880"/>
                    <a:ext cx="359388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838080" y="1905120"/>
          <a:ext cx="1447920" cy="167616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3" name="Object 46"/>
          <p:cNvGraphicFramePr/>
          <p:nvPr/>
        </p:nvGraphicFramePr>
        <p:xfrm>
          <a:off x="762120" y="4572000"/>
          <a:ext cx="3733560" cy="1087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4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4572000"/>
                    <a:ext cx="3733560" cy="10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0"/>
          <p:cNvSpPr/>
          <p:nvPr/>
        </p:nvSpPr>
        <p:spPr>
          <a:xfrm>
            <a:off x="16002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3"/>
          <p:cNvSpPr/>
          <p:nvPr/>
        </p:nvSpPr>
        <p:spPr>
          <a:xfrm>
            <a:off x="16002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58"/>
          <p:cNvSpPr/>
          <p:nvPr/>
        </p:nvSpPr>
        <p:spPr>
          <a:xfrm>
            <a:off x="914400" y="251460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9144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5"/>
          <p:cNvSpPr/>
          <p:nvPr/>
        </p:nvSpPr>
        <p:spPr>
          <a:xfrm>
            <a:off x="5944320" y="411480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6"/>
          <p:cNvSpPr/>
          <p:nvPr/>
        </p:nvSpPr>
        <p:spPr>
          <a:xfrm>
            <a:off x="5944680" y="3048120"/>
            <a:ext cx="723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61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62"/>
          <p:cNvSpPr/>
          <p:nvPr/>
        </p:nvSpPr>
        <p:spPr>
          <a:xfrm>
            <a:off x="5943600" y="41148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54"/>
          <p:cNvSpPr/>
          <p:nvPr/>
        </p:nvSpPr>
        <p:spPr>
          <a:xfrm>
            <a:off x="4802400" y="3276720"/>
            <a:ext cx="349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1"/>
          <p:cNvSpPr/>
          <p:nvPr/>
        </p:nvSpPr>
        <p:spPr>
          <a:xfrm>
            <a:off x="5867280" y="4114800"/>
            <a:ext cx="83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52"/>
          <p:cNvSpPr/>
          <p:nvPr/>
        </p:nvSpPr>
        <p:spPr>
          <a:xfrm>
            <a:off x="5868360" y="3048120"/>
            <a:ext cx="790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63"/>
          <p:cNvSpPr/>
          <p:nvPr/>
        </p:nvSpPr>
        <p:spPr>
          <a:xfrm>
            <a:off x="5943600" y="3048120"/>
            <a:ext cx="609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64"/>
          <p:cNvSpPr/>
          <p:nvPr/>
        </p:nvSpPr>
        <p:spPr>
          <a:xfrm>
            <a:off x="5867280" y="411480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0"/>
          <p:cNvSpPr/>
          <p:nvPr/>
        </p:nvSpPr>
        <p:spPr>
          <a:xfrm>
            <a:off x="4800600" y="3276720"/>
            <a:ext cx="3049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787DA-F68B-4657-AE40-EEF8960B08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3" name="Object 21"/>
          <p:cNvGraphicFramePr/>
          <p:nvPr/>
        </p:nvGraphicFramePr>
        <p:xfrm>
          <a:off x="1295280" y="4572000"/>
          <a:ext cx="1273320" cy="151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572000"/>
                    <a:ext cx="1273320" cy="151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Rectangle 48"/>
          <p:cNvSpPr/>
          <p:nvPr/>
        </p:nvSpPr>
        <p:spPr>
          <a:xfrm>
            <a:off x="2362320" y="2286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2362320" y="2819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0"/>
          <p:cNvSpPr/>
          <p:nvPr/>
        </p:nvSpPr>
        <p:spPr>
          <a:xfrm>
            <a:off x="2362320" y="342900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51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Group 109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60" name="Text Box 52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54"/>
            <p:cNvSpPr/>
            <p:nvPr/>
          </p:nvSpPr>
          <p:spPr>
            <a:xfrm>
              <a:off x="541116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55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56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Text Box 57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Text Box 58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Group 110"/>
          <p:cNvGrpSpPr/>
          <p:nvPr/>
        </p:nvGrpSpPr>
        <p:grpSpPr>
          <a:xfrm>
            <a:off x="4269240" y="2133720"/>
            <a:ext cx="3579480" cy="2593080"/>
            <a:chOff x="4269240" y="2133720"/>
            <a:chExt cx="3579480" cy="2593080"/>
          </a:xfrm>
        </p:grpSpPr>
        <p:sp>
          <p:nvSpPr>
            <p:cNvPr id="167" name="Text Box 111"/>
            <p:cNvSpPr/>
            <p:nvPr/>
          </p:nvSpPr>
          <p:spPr>
            <a:xfrm>
              <a:off x="6935040" y="213372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Text Box 112"/>
            <p:cNvSpPr/>
            <p:nvPr/>
          </p:nvSpPr>
          <p:spPr>
            <a:xfrm>
              <a:off x="5410440" y="213372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Text Box 113"/>
            <p:cNvSpPr/>
            <p:nvPr/>
          </p:nvSpPr>
          <p:spPr>
            <a:xfrm>
              <a:off x="6934320" y="42670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Text Box 114"/>
            <p:cNvSpPr/>
            <p:nvPr/>
          </p:nvSpPr>
          <p:spPr>
            <a:xfrm>
              <a:off x="6934320" y="335268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Text Box 115"/>
            <p:cNvSpPr/>
            <p:nvPr/>
          </p:nvSpPr>
          <p:spPr>
            <a:xfrm>
              <a:off x="4269240" y="40384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Text Box 116"/>
            <p:cNvSpPr/>
            <p:nvPr/>
          </p:nvSpPr>
          <p:spPr>
            <a:xfrm>
              <a:off x="4269240" y="312408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Group 131"/>
          <p:cNvGrpSpPr/>
          <p:nvPr/>
        </p:nvGrpSpPr>
        <p:grpSpPr>
          <a:xfrm>
            <a:off x="4268880" y="2209680"/>
            <a:ext cx="3579480" cy="2593440"/>
            <a:chOff x="4268880" y="2209680"/>
            <a:chExt cx="3579480" cy="2593440"/>
          </a:xfrm>
        </p:grpSpPr>
        <p:sp>
          <p:nvSpPr>
            <p:cNvPr id="174" name="Text Box 118"/>
            <p:cNvSpPr/>
            <p:nvPr/>
          </p:nvSpPr>
          <p:spPr>
            <a:xfrm>
              <a:off x="693432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Text Box 119"/>
            <p:cNvSpPr/>
            <p:nvPr/>
          </p:nvSpPr>
          <p:spPr>
            <a:xfrm>
              <a:off x="5410800" y="2209680"/>
              <a:ext cx="7902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120"/>
            <p:cNvSpPr/>
            <p:nvPr/>
          </p:nvSpPr>
          <p:spPr>
            <a:xfrm>
              <a:off x="6933960" y="43434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Text Box 121"/>
            <p:cNvSpPr/>
            <p:nvPr/>
          </p:nvSpPr>
          <p:spPr>
            <a:xfrm>
              <a:off x="6933960" y="342900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Text Box 122"/>
            <p:cNvSpPr/>
            <p:nvPr/>
          </p:nvSpPr>
          <p:spPr>
            <a:xfrm>
              <a:off x="4268880" y="41148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123"/>
            <p:cNvSpPr/>
            <p:nvPr/>
          </p:nvSpPr>
          <p:spPr>
            <a:xfrm>
              <a:off x="4268880" y="320040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Group 124"/>
          <p:cNvGrpSpPr/>
          <p:nvPr/>
        </p:nvGrpSpPr>
        <p:grpSpPr>
          <a:xfrm>
            <a:off x="4269240" y="2209680"/>
            <a:ext cx="3579480" cy="2593080"/>
            <a:chOff x="4269240" y="2209680"/>
            <a:chExt cx="3579480" cy="2593080"/>
          </a:xfrm>
        </p:grpSpPr>
        <p:sp>
          <p:nvSpPr>
            <p:cNvPr id="181" name="Text Box 125"/>
            <p:cNvSpPr/>
            <p:nvPr/>
          </p:nvSpPr>
          <p:spPr>
            <a:xfrm>
              <a:off x="693468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Text Box 126"/>
            <p:cNvSpPr/>
            <p:nvPr/>
          </p:nvSpPr>
          <p:spPr>
            <a:xfrm>
              <a:off x="5410440" y="2209680"/>
              <a:ext cx="80856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N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127"/>
            <p:cNvSpPr/>
            <p:nvPr/>
          </p:nvSpPr>
          <p:spPr>
            <a:xfrm>
              <a:off x="6934320" y="43430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Text Box 128"/>
            <p:cNvSpPr/>
            <p:nvPr/>
          </p:nvSpPr>
          <p:spPr>
            <a:xfrm>
              <a:off x="6934320" y="3428640"/>
              <a:ext cx="9144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OF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Text Box 129"/>
            <p:cNvSpPr/>
            <p:nvPr/>
          </p:nvSpPr>
          <p:spPr>
            <a:xfrm>
              <a:off x="4269240" y="41144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Text Box 130"/>
            <p:cNvSpPr/>
            <p:nvPr/>
          </p:nvSpPr>
          <p:spPr>
            <a:xfrm>
              <a:off x="4269240" y="3200040"/>
              <a:ext cx="3499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Group 80"/>
          <p:cNvGrpSpPr/>
          <p:nvPr/>
        </p:nvGrpSpPr>
        <p:grpSpPr>
          <a:xfrm>
            <a:off x="4267080" y="2209680"/>
            <a:ext cx="3429000" cy="2590560"/>
            <a:chOff x="4267080" y="2209680"/>
            <a:chExt cx="3429000" cy="2590560"/>
          </a:xfrm>
        </p:grpSpPr>
        <p:sp>
          <p:nvSpPr>
            <p:cNvPr id="188" name="Rectangle 53"/>
            <p:cNvSpPr/>
            <p:nvPr/>
          </p:nvSpPr>
          <p:spPr>
            <a:xfrm>
              <a:off x="4267080" y="411444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Rectangle 75"/>
            <p:cNvSpPr/>
            <p:nvPr/>
          </p:nvSpPr>
          <p:spPr>
            <a:xfrm>
              <a:off x="4267080" y="3124080"/>
              <a:ext cx="30492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Rectangle 76"/>
            <p:cNvSpPr/>
            <p:nvPr/>
          </p:nvSpPr>
          <p:spPr>
            <a:xfrm>
              <a:off x="6934320" y="43430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Rectangle 77"/>
            <p:cNvSpPr/>
            <p:nvPr/>
          </p:nvSpPr>
          <p:spPr>
            <a:xfrm>
              <a:off x="6934320" y="342864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Rectangle 78"/>
            <p:cNvSpPr/>
            <p:nvPr/>
          </p:nvSpPr>
          <p:spPr>
            <a:xfrm>
              <a:off x="70102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Rectangle 79"/>
            <p:cNvSpPr/>
            <p:nvPr/>
          </p:nvSpPr>
          <p:spPr>
            <a:xfrm>
              <a:off x="5410080" y="2209680"/>
              <a:ext cx="6858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94" name="Object 19"/>
          <p:cNvGraphicFramePr/>
          <p:nvPr/>
        </p:nvGraphicFramePr>
        <p:xfrm>
          <a:off x="3505320" y="1905120"/>
          <a:ext cx="5029200" cy="38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905120"/>
                    <a:ext cx="5029200" cy="38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27C3A-A78E-4CA7-9029-C3C27C862E9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NOR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838080" y="1676520"/>
          <a:ext cx="2171880" cy="2790720"/>
        </p:xfrm>
        <a:graphic>
          <a:graphicData uri="http://schemas.openxmlformats.org/drawingml/2006/table">
            <a:tbl>
              <a:tblPr/>
              <a:tblGrid>
                <a:gridCol w="723960"/>
                <a:gridCol w="723960"/>
                <a:gridCol w="723960"/>
              </a:tblGrid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0" name="Object 31"/>
          <p:cNvGraphicFramePr/>
          <p:nvPr/>
        </p:nvGraphicFramePr>
        <p:xfrm>
          <a:off x="1219320" y="4495680"/>
          <a:ext cx="1284120" cy="152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495680"/>
                    <a:ext cx="1284120" cy="15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Object 32"/>
          <p:cNvGraphicFramePr/>
          <p:nvPr/>
        </p:nvGraphicFramePr>
        <p:xfrm>
          <a:off x="3505320" y="1600200"/>
          <a:ext cx="5181480" cy="427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3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1600200"/>
                    <a:ext cx="518148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D0DD-E4F1-4B7D-829B-FFF2C41222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3-input NAND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low if ALL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pulls high if ANY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Object 4"/>
          <p:cNvGraphicFramePr/>
          <p:nvPr/>
        </p:nvGraphicFramePr>
        <p:xfrm>
          <a:off x="2209680" y="2438280"/>
          <a:ext cx="4648320" cy="353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4648320" cy="35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0" name="Rectangle 5"/>
          <p:cNvSpPr/>
          <p:nvPr/>
        </p:nvSpPr>
        <p:spPr>
          <a:xfrm>
            <a:off x="2209680" y="2666880"/>
            <a:ext cx="449604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B600-644A-4BAD-9298-1897CC5C7C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 are fabricated on silicon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hography process similar to printing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step, different materials are deposited or e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st to understand by viewing both top and cross-section of wafer in a simplified manufactur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3DB6-F178-43A8-9DC3-A1A91017C0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Cross-s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use p-type substrate for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n-well for body of p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pMOS p-type source/drain doesn’t short to p-type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Object 4"/>
          <p:cNvGraphicFramePr/>
          <p:nvPr/>
        </p:nvGraphicFramePr>
        <p:xfrm>
          <a:off x="609480" y="3427560"/>
          <a:ext cx="8153640" cy="266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427560"/>
                    <a:ext cx="8153640" cy="266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001F-7D1B-45DE-9E79-8F6AF740BB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is lecture, you should be able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MOS VLSI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behavior of CMOS transistors as digital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logic gates using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cross-sections of transistors and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masks and steps used to fabricate a CMOS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F1918-58AD-4169-954C-3A172F8712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and Substrate Ta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trate must be tied to GND and n-well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to lightly-doped semiconductor forms poor connection called Shottky Di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heavily doped well and substrate contacts /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4"/>
          <p:cNvGraphicFramePr/>
          <p:nvPr/>
        </p:nvGraphicFramePr>
        <p:xfrm>
          <a:off x="457200" y="3130560"/>
          <a:ext cx="8077320" cy="296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130560"/>
                    <a:ext cx="807732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FF8CA-2682-466E-873A-C9FF7A034C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Mask 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nd wires are defi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-section taken along dashed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5"/>
          <p:cNvGraphicFramePr/>
          <p:nvPr/>
        </p:nvGraphicFramePr>
        <p:xfrm>
          <a:off x="533520" y="2514600"/>
          <a:ext cx="8001000" cy="34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514600"/>
                    <a:ext cx="8001000" cy="34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591-F38C-45C5-9A67-9617F2C98D5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tailed Mask View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Object 5"/>
          <p:cNvGraphicFramePr/>
          <p:nvPr/>
        </p:nvGraphicFramePr>
        <p:xfrm>
          <a:off x="4038480" y="1523880"/>
          <a:ext cx="4148280" cy="441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523880"/>
                    <a:ext cx="4148280" cy="441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9D889-27D7-4B79-BE93-B2E87A882D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built in huge factories called f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 clean rooms as large as football fields, costing billions of dol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5" descr="0301"/>
          <p:cNvPicPr/>
          <p:nvPr/>
        </p:nvPicPr>
        <p:blipFill>
          <a:blip r:embed="rId1"/>
          <a:stretch/>
        </p:blipFill>
        <p:spPr>
          <a:xfrm>
            <a:off x="1143000" y="2792520"/>
            <a:ext cx="4267080" cy="31669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5868720" y="5410080"/>
            <a:ext cx="203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urtesy of Internat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siness Machines Corporation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authorized use not permitt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F6BD-A220-4DF7-8D55-D55B384C60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abrication Ste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with blank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inverter from the botto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ep will be to form the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wafer with protective layer o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ve layer where n-well should be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ant or diffuse n dopants into exposed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9" name="Object 5"/>
          <p:cNvGraphicFramePr/>
          <p:nvPr/>
        </p:nvGraphicFramePr>
        <p:xfrm>
          <a:off x="533520" y="5097600"/>
          <a:ext cx="8153280" cy="93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097600"/>
                    <a:ext cx="8153280" cy="93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EC4E0-B4D9-49DC-8971-555314F83A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xid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op of Si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00 – 1200 C with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or 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oxidation furn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533520" y="487692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AD279-CB06-4FCF-A059-DF78150AD7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 on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resist is a light-sensitive organic poly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ens where exposed to l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4"/>
          <p:cNvGraphicFramePr/>
          <p:nvPr/>
        </p:nvGraphicFramePr>
        <p:xfrm>
          <a:off x="533520" y="472428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2428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76EA-C374-4B65-B02B-2CE046B0D0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thograph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se photoresist through n-well m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exposed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990720" y="3429000"/>
          <a:ext cx="6484680" cy="97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429000"/>
                    <a:ext cx="648468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F863-23BD-4656-ACD5-942B9AC8E2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ith hydrofluoric acid (H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ps through skin and eats bone; nasty stuf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ttacks oxide where resist has been ex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Object 6"/>
          <p:cNvGraphicFramePr/>
          <p:nvPr/>
        </p:nvGraphicFramePr>
        <p:xfrm>
          <a:off x="533520" y="4648320"/>
          <a:ext cx="815328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48320"/>
                    <a:ext cx="815328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B2D4-0A94-4485-8D84-41103F294B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Photoresis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remaining photores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mixture of acids called piranah e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ary so resis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in next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1" name="Object 4"/>
          <p:cNvGraphicFramePr/>
          <p:nvPr/>
        </p:nvGraphicFramePr>
        <p:xfrm>
          <a:off x="533520" y="4898880"/>
          <a:ext cx="8076960" cy="109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98880"/>
                    <a:ext cx="807696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CCAE8-273D-4658-B683-313D38BFDC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circuits: many transistors on one chi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ry Large Scale Integ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VLSI): bucketload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lementary Metal Oxide Semicondu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cheap, low pow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:  How to build your own simple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logic gates from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layout and 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 of the course: How to build a good CMOS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20076-841E-4DD4-9D6C-130BC4C3BBB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w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well is formed with diffusion or ion impla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arsenic 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until As atoms diffuse into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 Implana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st wafer with beam of As 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ons blocked by 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only enter exposed 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4"/>
          <p:cNvGraphicFramePr/>
          <p:nvPr/>
        </p:nvGraphicFramePr>
        <p:xfrm>
          <a:off x="533520" y="4888080"/>
          <a:ext cx="815328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88080"/>
                    <a:ext cx="815328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AACB-2129-4390-97D5-26B5243842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rip Ox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the remaining oxide using H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bare wafer with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steps involve similar series of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533520" y="5105520"/>
          <a:ext cx="8153280" cy="96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105520"/>
                    <a:ext cx="8153280" cy="96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4B6B2-618A-4339-90DE-35DF119148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 very thin layer of gate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6-7 atomic lay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Vapor Deposition (CVD) of silicon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wafer in furnace with Silane gas (Si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many small crystals called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to be good 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E149B-FC9E-4A00-AD02-0EB30F9CEA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olysilicon Patter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ame lithography process to pattern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6"/>
          <p:cNvGraphicFramePr/>
          <p:nvPr/>
        </p:nvGraphicFramePr>
        <p:xfrm>
          <a:off x="304920" y="2590920"/>
          <a:ext cx="8229600" cy="178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590920"/>
                    <a:ext cx="822960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7"/>
          <p:cNvGraphicFramePr/>
          <p:nvPr/>
        </p:nvGraphicFramePr>
        <p:xfrm>
          <a:off x="533520" y="4772160"/>
          <a:ext cx="8153280" cy="122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72160"/>
                    <a:ext cx="8153280" cy="122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0154-BA3C-4AA8-998D-DDC9974D88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Aligned Proc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xide and masking to expose where n+ dopants should be diffused or impl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diffusion forms nMOS source, drain, and n-wel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4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C0EC3-79F7-4654-929E-33FC1CC072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oxide and form n+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lf-aligned proc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ere gate blocks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silicon is better than metal for self-aligned gates because i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melt during later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Object 4"/>
          <p:cNvGraphicFramePr/>
          <p:nvPr/>
        </p:nvGraphicFramePr>
        <p:xfrm>
          <a:off x="609480" y="4751280"/>
          <a:ext cx="8077320" cy="130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51280"/>
                    <a:ext cx="8077320" cy="13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1" name="Object 5"/>
          <p:cNvGraphicFramePr/>
          <p:nvPr/>
        </p:nvGraphicFramePr>
        <p:xfrm>
          <a:off x="380880" y="3352680"/>
          <a:ext cx="8229600" cy="89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352680"/>
                    <a:ext cx="8229600" cy="89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D597-BA7B-4DB6-9AAF-7FEC7D7B55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 dopants were diff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ion implantation to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gions are still calle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533520" y="4740120"/>
          <a:ext cx="8153280" cy="131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40120"/>
                    <a:ext cx="8153280" cy="131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C0859-0E2C-4B2F-BC6B-AF1A0DCF0A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-diffusion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 off oxide to complete patterning st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984F-DD85-4313-988F-AEA48FE810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Diffu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set of steps form p+ diffusion regions for pMOS source and drain and substrate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380880" y="3276720"/>
          <a:ext cx="8229600" cy="9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276720"/>
                    <a:ext cx="822960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Object 5"/>
          <p:cNvGraphicFramePr/>
          <p:nvPr/>
        </p:nvGraphicFramePr>
        <p:xfrm>
          <a:off x="533520" y="4768920"/>
          <a:ext cx="8153280" cy="123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768920"/>
                    <a:ext cx="8153280" cy="12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139E-2800-4A6A-A9B1-A210D17D38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ta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need to wire together the de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ver chip with thick field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ch oxide where contact cut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Object 4"/>
          <p:cNvGraphicFramePr/>
          <p:nvPr/>
        </p:nvGraphicFramePr>
        <p:xfrm>
          <a:off x="533520" y="4675320"/>
          <a:ext cx="8153280" cy="130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75320"/>
                    <a:ext cx="8153280" cy="13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9" name="Object 5"/>
          <p:cNvGraphicFramePr/>
          <p:nvPr/>
        </p:nvGraphicFramePr>
        <p:xfrm>
          <a:off x="304920" y="3581280"/>
          <a:ext cx="8001000" cy="766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581280"/>
                    <a:ext cx="800100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D976-4ED9-4F9F-9CBE-ACB023F3F1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licon Latti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re built on a silico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Group IV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crystal lattice with bonds to four neighb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2895480" y="2895480"/>
          <a:ext cx="3124440" cy="306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895480"/>
                    <a:ext cx="3124440" cy="30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1600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F27A1-25B0-42A5-9FAB-1848D0D713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aliz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utter on aluminum over whole wa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tern to remove excess metal, leavi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533520" y="4660920"/>
          <a:ext cx="8153280" cy="135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660920"/>
                    <a:ext cx="8153280" cy="135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Object 5"/>
          <p:cNvGraphicFramePr/>
          <p:nvPr/>
        </p:nvGraphicFramePr>
        <p:xfrm>
          <a:off x="304920" y="2362320"/>
          <a:ext cx="7924680" cy="22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362320"/>
                    <a:ext cx="7924680" cy="22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17D46-6733-498B-84F0-F2A3E80E02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ps are specified with set of m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dimensions of masks determine transistor size (and hence speed, cost, and pow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distance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by minimum width of poly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improves 30% every 3 years or 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ize for feature size when describing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rules in terms of 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000000"/>
                </a:solidFill>
                <a:latin typeface="Apple Symbols"/>
                <a:ea typeface="Apple Symbols"/>
              </a:rPr>
              <a:t>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0.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in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ECD93-FCAB-44E2-BE5E-957673E9720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Design Ru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rvative rules to get you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4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696080" cy="403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CCDD-B6EA-49F6-BED0-9780DBC2E6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"/>
          <p:cNvPicPr/>
          <p:nvPr/>
        </p:nvPicPr>
        <p:blipFill>
          <a:blip r:embed="rId1"/>
          <a:stretch/>
        </p:blipFill>
        <p:spPr>
          <a:xfrm>
            <a:off x="914400" y="3124080"/>
            <a:ext cx="1163520" cy="289584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dimensions specified as Width /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 is 4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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called 1 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process, this is 1.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wide, 0.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6" descr=""/>
          <p:cNvPicPr/>
          <p:nvPr/>
        </p:nvPicPr>
        <p:blipFill>
          <a:blip r:embed="rId2"/>
          <a:stretch/>
        </p:blipFill>
        <p:spPr>
          <a:xfrm>
            <a:off x="2895480" y="3505320"/>
            <a:ext cx="4191120" cy="2371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E0D5-5402-419C-80F7-DAA2C018A1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 transistors are stacks of gate, oxide,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 as electrically controlled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logic gates out of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masks to specify layout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you know everything necessary to start designing schematics and layout for a simple chip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5A75-D75C-4EAF-8A29-806EAEEC2A8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bout these Not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 notes © 2020 David Har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otes may be used and modified for educational and/or non-commercial purposes so long as the source is at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AFDC2-38FF-4A20-A3DD-6ABCFAF1AC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pa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icon is a semi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re silicon has no free carriers and conducts poo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dopants increases the con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V: extra electron (n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p III: missing electron, called hole (p-ty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1905120" y="4027320"/>
          <a:ext cx="4419360" cy="189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4027320"/>
                    <a:ext cx="4419360" cy="18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900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6488-31DE-4541-AAE1-860F02F653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-n Jun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unction between p-type and n-type semiconductor forms a di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flows only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Object 4"/>
          <p:cNvGraphicFramePr/>
          <p:nvPr/>
        </p:nvGraphicFramePr>
        <p:xfrm>
          <a:off x="2286000" y="2881440"/>
          <a:ext cx="434340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881440"/>
                    <a:ext cx="434340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CF9F-35F3-43CF-A77C-89780F0061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inals: gate, source, drain,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mbol shows gate, source,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omits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are logically indistinguis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889520" y="4114800"/>
          <a:ext cx="366696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4114800"/>
                    <a:ext cx="366696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251F-C214-4890-99C7-2ED9CD0E596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– oxide – body stack looks like a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and body are 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lightly doped 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is metal or polycrystalline silicon (polysilic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xide) is an excellent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metal – oxide – semiconductor (MOS)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and drain 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vily doped (n+) silic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5"/>
          <p:cNvGraphicFramePr/>
          <p:nvPr/>
        </p:nvGraphicFramePr>
        <p:xfrm>
          <a:off x="4889520" y="4114800"/>
          <a:ext cx="3666960" cy="18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89520" y="4114800"/>
                    <a:ext cx="3666960" cy="18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0: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C709-756E-446F-9F63-DB0096483B4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MOS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is usually tied to ground (0 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gate is at a low volt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 body is at low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body and drain-body diodes are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s, transistor i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5"/>
          <p:cNvGraphicFramePr/>
          <p:nvPr/>
        </p:nvGraphicFramePr>
        <p:xfrm>
          <a:off x="2209680" y="3733920"/>
          <a:ext cx="4191120" cy="23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733920"/>
                    <a:ext cx="4191120" cy="23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9-12-24T11:59:58Z</dcterms:modified>
  <cp:revision>342</cp:revision>
  <dc:subject/>
  <dc:title>PowerPoint Presentation</dc:title>
</cp:coreProperties>
</file>