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44A4-0A2B-4EC7-8862-EF0242B26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6D27-97DE-46A8-89ED-98211D414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78C1-308E-4DFA-9D91-1DF7FF45D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AA6B-9428-4E39-87DB-6959A8EE9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9311-7739-4165-A0C0-429062FFF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EC7D-388F-4429-8AAC-45B76BD98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BFA7-8D33-4A91-9067-322F796C4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4DC4-6D06-4E28-9A25-583C84444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A98E-3C88-41E7-BCCE-ADEB3DF68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7A66-B27F-40B5-A520-2775A45A9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7605-6BBD-466A-8ED3-456626B6F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AC3A-76A7-4872-8810-C73F0AC55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77F2-5E33-4800-9EF3-3DC61FC6357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9: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binational Circuit Desig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2F41-8EAB-48E0-8310-8BD84913411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25146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954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FAFF-7569-45A8-9C8C-9D179B385993}" type="slidenum">
              <a:t>10</a:t>
            </a:fld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75B0-7C21-4076-8D51-C3CB748FF05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05120" y="3809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911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648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BD31-A6B4-4573-AC08-0C05D2E596B9}" type="slidenum">
              <a:t>12</a:t>
            </a:fld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BDD7-89A8-4261-953B-763BA90CA5E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09680" y="52578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150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087CA-04D6-420F-9E63-5A0461278FA7}" type="slidenum">
              <a:t>14</a:t>
            </a:fld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A541-FD16-4802-BE13-8512C6619B3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85800" y="1542960"/>
          <a:ext cx="7772400" cy="440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4296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72D2-CD40-499C-852F-8D57728396C7}" type="slidenum">
              <a:t>16</a:t>
            </a:fld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F150-9E04-4157-8650-52D1DDD9B91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286000" y="37339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41911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45720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5029200"/>
            <a:ext cx="4876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4100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7616-5222-455C-A273-BD96C7FFCCFF}" type="slidenum">
              <a:t>18</a:t>
            </a:fld>
          </a:p>
        </p:txBody>
      </p:sp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4849-E427-49D5-B113-5694A6B9FF75}" type="slidenum">
              <a:t>19</a:t>
            </a:fld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0FDC-3399-4494-BB8B-D5009890C34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9786-E99D-41DE-8A7C-912693BDF7C1}" type="slidenum">
              <a:t>20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350C-2687-4EE1-B20B-235DC3B1719F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F9F3-E820-4F1A-B16D-CDE44AF2150F}" type="slidenum">
              <a:t>4</a:t>
            </a:fld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D334-CE9B-484D-8C93-F76FE012A04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8A65-E649-4930-8FE0-B0AFD5CE2817}" type="slidenum">
              <a:t>6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72428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638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5181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562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791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9A0A-BD6E-4133-8B47-09B3EB5A58BB}" type="slidenum">
              <a:t>7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two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4648320"/>
          <a:ext cx="175248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648320"/>
                    <a:ext cx="1752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66680" y="3124080"/>
          <a:ext cx="297180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419720" y="3124080"/>
          <a:ext cx="3962160" cy="15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124080"/>
                    <a:ext cx="396216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1430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   B = 1  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495680" y="4572000"/>
          <a:ext cx="13860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572000"/>
                    <a:ext cx="1386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28195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648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8769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1814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791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572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48769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71500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A271-E23F-4DBF-B551-FEEC28641C61}" type="slidenum">
              <a:t>8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82DB-570C-41C3-9CCF-EF0CBEE7E511}" type="slidenum">
              <a:t>9</a:t>
            </a:fld>
          </a:p>
        </p:txBody>
      </p:sp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33:11Z</dcterms:modified>
  <cp:revision>1061</cp:revision>
  <dc:subject/>
  <dc:title>PowerPoint Presentation</dc:title>
</cp:coreProperties>
</file>