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98CF-581B-4BE7-9CC3-68B87178D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2652-9EE8-42A2-8F6A-02ED4D93E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534B-3937-4B70-8D7E-96AB6EA80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B5BD-94D0-4426-8B6A-455A691AF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60B7-5801-46DC-8FBC-2DB1829EE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B079-5033-4169-B3D1-2B989737F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30D9-0506-4E1F-9D3B-C7BA159AF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8660-A244-439E-9808-66572B670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9BBD-9ABC-43BE-AE1F-F3F0A87EB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2CEE-ABEA-4CA7-81C0-98249993D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8F44-B022-4AA5-979B-DF38EBB75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C28B-0856-4B74-B236-195B531CD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F5C3-AF1F-400D-AC3F-DDCA2872EA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195C-1DA8-4E59-B742-41C37F65C90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16D8-15C9-43D1-8E5B-31168F64812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6A13-7EFC-4E7B-BB46-41EE892F0FB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B9C0-2571-4C7E-91FA-F9AA85218F1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7826-5D1F-433E-9240-637343467DE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5C95-357C-4B2D-8C54-863F5324CC5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3CEC-F9C4-49DA-A6DA-72B1ED343D9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9492-21FE-46FB-ABA6-85CAD0F51DD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CB4D-2E5D-44B1-9637-03FC5A6916C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EF99-857D-4E36-BC20-4327FD794C6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B6B8-9D4D-41EC-A0B6-3AD8ED37233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E610-6EE2-479E-9601-7A017736C52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3548-C609-475A-A7DF-E493D27BF3C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43A5-680B-43C3-8EFB-5FB344B0D63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5863-39C5-4269-9D24-D0D22E84DF2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E086-CBEF-4EBB-B10C-BD28671B4FF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8A0B-5747-43F3-AA79-FA9C975F752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0EA1-599A-44EC-9681-DE2E3ECFF0A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611D-E63B-4F54-8848-AA816BAD7B0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67AB-D2E6-4637-A48F-1C85576584E6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D40F-954F-4637-9D63-1E23AB978E2B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E16D-163D-49B0-963F-C5764697D18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F005-3665-443F-BB05-93F2780BB38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4266-D61E-479F-BB26-16624C41D53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9A1D-6DC5-4DD0-A6B0-969242BF494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2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3088-0DC7-4B4B-83DA-BC92BE466A8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73D9-87C7-4347-90C5-5605213DF8A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10:49Z</dcterms:modified>
  <cp:revision>989</cp:revision>
  <dc:subject/>
  <dc:title>PowerPoint Presentation</dc:title>
</cp:coreProperties>
</file>