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F228E-2DCB-4AEC-833B-3743C25E6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D664C-F70D-4D94-8EB9-F3A4CADA3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86F69-E890-493E-8BCF-D128800FE4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C029B-BADF-4FEA-AB13-8F258A69B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BA9B-0029-4BC8-8DAC-C4993C0EE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F1F94-3417-4AB2-B260-7A3897AFC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90AE2-1541-424D-8DF8-81FE3B354B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2FA5-0CE2-458A-9B93-2FF6801B2E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DDE74-EF97-4BB1-8CBF-F3272F354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9170-34E0-43F1-98F5-0D2FF86D6C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A9CC-44CF-4B71-8536-568885D86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AEF0-7815-4E5E-84D2-CD3695955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FFF5-1548-4966-854D-D95E74B2AC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94184-29FB-4B68-98C2-7D9C16E539E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B9256-9034-4358-AF7C-01AC826D6A4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D1CF7-E082-4F38-A0AA-47E8DE98666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5086-7913-4273-B046-0FBDBDE4392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DA22-ACDB-4230-A409-F3B19FC9418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6731-0B18-4167-A366-BCBEBDC0C71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B4551-11A9-4485-84A9-47661EF86A3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ADACE-8699-4635-AEC2-6448C2EB4B5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8D9E-FD6A-4CFC-AF3B-E9FCC297C68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C92A0-109F-4250-873D-1A05007FC0F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8B55-4191-484B-8FB5-F080230F8A53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71FCA-CE8A-4B22-B023-807E3C40A53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1D1B-E2C4-4AF6-B53E-10023B16696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9953-F3D1-4526-89FE-88C25CF0701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611E-157D-4B45-AC8D-2FD6C8BAF3A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FE43F-28D7-47EC-97C6-73486AFD72B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C402-EFBF-4D5B-A5D7-84FF93868E9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7823-5A7C-408E-AB6D-AEA77373420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D7B1-D2DC-4DCE-AB80-CB4080C5F7D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50AD-80E6-471C-92B4-8A8EDD9894CC}" type="slidenum">
              <a:t>27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8C67-E477-474C-9A77-E359A66E35C5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B175F-30B6-493D-B0AC-7CACC66FD69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023B-10E9-432B-93DA-4975CA3ABD3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A76D0-8142-42F5-9E17-6AD375E274B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4665D-D374-41EE-95F1-57C22CA36D3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2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E17AA-55AD-42E7-A131-6A33B8760B4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612B8-527E-41E4-99C4-5636A02E11C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10:49Z</dcterms:modified>
  <cp:revision>989</cp:revision>
  <dc:subject/>
  <dc:title>PowerPoint Presentation</dc:title>
</cp:coreProperties>
</file>