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1.png" ContentType="image/png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0AB9-505A-4889-B16A-8D4B6C0293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2E7CD-1F75-41C5-9FBD-F18D906A8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004EA-F833-4DC1-A11E-6C2943A05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83FA-80F0-4688-9670-E6D0A32902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CF08A-A4EA-4F03-925D-616A1EE731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FCEDC-B258-49F1-85AD-97B4D72F9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07AD0-B4C0-41C1-8FD8-B0C162C32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F08B7-CED4-4CCA-9351-D2DADC725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34603-471E-4017-BA6B-5352EE9D89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12C52-29CC-4C78-8CAD-575961DD5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450C0-32F3-4A41-BEF5-93FF3828B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81E91-1D5D-4EA7-815A-CDFC4C118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D732-3981-4099-A806-7D05291369C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9850-0673-4AC2-819D-D7F96919914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Dissipation 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i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hort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load capaci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-circuit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un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nt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28172-DBD3-48F7-BA9D-9345B01170D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M logic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0M memo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V 6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gate) + 0.8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diffu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dynamic power consumption @ 1 GHz.  Neglect wire capacitance and short-circuit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19AA-0414-49A9-A9BC-1A7145BD5A4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90480" y="1600200"/>
          <a:ext cx="731052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600200"/>
                    <a:ext cx="731052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DEB3B-C450-4A59-829E-DCDE9150FF63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Power Re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minimi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838160"/>
          <a:ext cx="251460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38160"/>
                    <a:ext cx="25146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C63C-27A7-458A-8DEA-05DE16CF26D1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ity Factor Estim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rob(node i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random data has P = 0.5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often not completely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upper bits of 64-bit words representing bank account balances are usually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pagating through ANDs and ORs has lower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esign, but typical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6103A-155B-4916-9E17-62A8CEE2C11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Prob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400800" cy="34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8986D-5F81-400F-B03A-61EAE4E6C461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4-input AND is built out of two levels of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activity factor at each node if the inputs have P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187880" cy="2000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33920" y="32004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5720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3505320"/>
            <a:ext cx="838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49F66-420D-4017-8504-22D958BBD677}" type="slidenum">
              <a:t>16</a:t>
            </a:fld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ock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way to reduce the activity is to turn off the clock to registers in unused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clock activity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all switching activity in th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determining if block will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24368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5AA6E-501C-42BE-AF3C-D66DCDB3D81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stages of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loorplanning to keep communicating blocks close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long wires with inverters or buffers rather than complex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82F94-A91E-4DF0-B460-8B5EF4D8F5C2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ltage / Frequen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each block at the lowest possible voltage and frequency that meets performan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eparate supplies to different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converters required when cro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low to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oltage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 according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422440" cy="1641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62920" y="3124080"/>
            <a:ext cx="1295280" cy="10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91119-02C0-4C0C-8958-371683027698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39C6F-AB3A-4E1A-BFF0-50CBD4D27031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 is consumed even when chip is quies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draws power from nominally OFF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ed circuits burn power in fight between 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74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7B7AB-118F-400B-9186-7A3FE42ACBAE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t power estimation for 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static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t used in all memories and in 95% of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359CA-44F8-4585-A1BE-835CB7B958E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779480"/>
          <a:ext cx="784872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79480"/>
                    <a:ext cx="78487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28D92-5045-4A37-9982-7A470DD0688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50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leakage at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219320" y="1981080"/>
          <a:ext cx="312408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31240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169960" y="1600200"/>
            <a:ext cx="343116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values in 65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3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4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5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 = 100 mV/de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A0EAA-B17F-4E1B-B2A5-A3AD30FEAA7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ck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OFF transistors have less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, so N2 has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2-stack reduces ~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3-stack reduces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2590920"/>
          <a:ext cx="4267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90920"/>
                    <a:ext cx="4267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86600" y="1600200"/>
            <a:ext cx="104292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1295280" y="3498840"/>
          <a:ext cx="152424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3498840"/>
                    <a:ext cx="15242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295280" y="4191120"/>
          <a:ext cx="2895840" cy="69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4191120"/>
                    <a:ext cx="28958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9A33-056F-40C8-B833-E87ADFCA6B6E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akage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and delay trad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 for low leakage in sleep and low delay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le 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ow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in critica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put vector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verse body b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ward body bias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1EB33-1004-4CAB-A9FB-5481D285E5C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strong function of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es subthreshold leakage at 65 nm and below in som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der of magnitude less for pMOS than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the process using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10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gate dielectrics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provide multipl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icker oxide for 3.3 V I/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circuits by limit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97806-CFAF-4240-A844-CE497F8F5B45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3 Leakage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3 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.63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.3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346040" cy="1193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62120" y="2855880"/>
            <a:ext cx="6705360" cy="3240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390800" y="5791320"/>
            <a:ext cx="109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from [Lee03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56C3D-5401-46C3-BC77-D7FFC411B120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reverse-bias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diffusion and substrate or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 is 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n high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where other leakage is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 exacerb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f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more neg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4481D-1C27-4F62-BFD7-8B05339E3C59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819520" cy="2149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ower to blocks when they are idle to sav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rtu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outputs to prev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logic levels to next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rop across sleep transistor degrades performance during norma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the transistor wide enough to minimize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wide sleep transistor costs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justified when circuit sleeps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28179-49B3-4365-A3BB-1024B355DF2A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and Energ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drawn from a voltage source attached to th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n(s) of a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421160" y="2844720"/>
          <a:ext cx="190188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1160" y="2844720"/>
                    <a:ext cx="1901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0305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419720" y="3487680"/>
          <a:ext cx="1609560" cy="9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87680"/>
                    <a:ext cx="160956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609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419720" y="4419720"/>
          <a:ext cx="2786040" cy="98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419720"/>
                    <a:ext cx="27860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257800" y="281952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3505320"/>
            <a:ext cx="1752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49568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F4780-9A33-453C-8114-723DDA7BE133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in Circuit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266688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2666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5800" y="3084480"/>
          <a:ext cx="304812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084480"/>
                    <a:ext cx="3048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486400" y="1828800"/>
            <a:ext cx="1828800" cy="920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5638680" y="3124080"/>
            <a:ext cx="1371600" cy="976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715000" y="4648320"/>
            <a:ext cx="2590920" cy="88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685800" y="4343400"/>
          <a:ext cx="3886200" cy="173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4343400"/>
                    <a:ext cx="3886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176E1-938C-4413-A2F4-FF0C49E55A6C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ing a Capaci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tored in capacitor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energy drawn from the supply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the energy from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issipated in the pMOS transistor as heat, other half stored in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n capacitor is dumped to G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ipated as heat in the nMOS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600200" y="2282760"/>
          <a:ext cx="160020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2760"/>
                    <a:ext cx="16002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943600" y="1523880"/>
            <a:ext cx="2666880" cy="185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600200" y="3043080"/>
          <a:ext cx="2514600" cy="113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043080"/>
                    <a:ext cx="25146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3ECFF-91D5-463D-96A0-7657BF36AEA5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Wavefor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0 fF, f = 1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19320" y="1962000"/>
            <a:ext cx="6553080" cy="405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9320" y="5562720"/>
            <a:ext cx="2057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00800" y="2017800"/>
            <a:ext cx="2286000" cy="159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3B0D4-B76B-4E65-9C25-8EF1796B5B1F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witching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20720" y="1676520"/>
          <a:ext cx="34653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676520"/>
                    <a:ext cx="34653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648320" y="4114800"/>
          <a:ext cx="3809880" cy="19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114800"/>
                    <a:ext cx="3809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972F8-4DFC-4551-AF0B-CF17883D5D9B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Fac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system clock frequency =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is a clock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switches once per cycl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336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59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63520" y="4191120"/>
          <a:ext cx="270504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4191120"/>
                    <a:ext cx="270504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1C5A7-4681-4C7E-A673-9A2CAC20D892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ort Circuit Curr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ransistors switch, both nMOS and pMOS networks may be momentarily ON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 blip of “short circuit”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0% of dynamic power if rise/fall times are comparable for input an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generally ignore this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82C5C-FD0C-47DC-B384-C909D572588A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7T22:01:09Z</dcterms:modified>
  <cp:revision>2043</cp:revision>
  <dc:subject/>
  <dc:title>PowerPoint Presentation</dc:title>
</cp:coreProperties>
</file>