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png" ContentType="image/png"/>
  <Override PartName="/ppt/media/image21.png" ContentType="image/png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B20D-D43A-469C-B8B7-4278FB2A8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AACB-EE4A-4502-AAAB-95B3B579E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06D4F-FA2F-4AC2-B12B-F63FA422E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DB1BA-C0FB-4C47-9BF4-6BC6F5887E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5022C-D1AD-4AB6-AA34-FEE7E7FADE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60F12-EFB7-453D-BBEB-7513EF6FB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18B18-C84A-4DE1-8653-CA68D26F2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F936C-6313-45DC-BBDF-87E0B2D22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9112A-2784-4B25-8523-06B3B8B58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FC6E0-9008-406A-B87F-406C24339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727A4-0D36-45EC-BB3B-48A6468C9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4F00A-C1BE-4EB9-A81F-AB437C74E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C096-E909-4C4B-AC30-50DDC639FE3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7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51464-3552-46E9-ACAB-603070BC6B2F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Dissipation Sou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it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hort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load capaci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-circuit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un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nten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52AD1-095F-4DEC-A2FF-40049E8653C3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transisto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M logic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 =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0M memor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 =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V 65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(gate) + 0.8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(diffu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dynamic power consumption @ 1 GHz.  Neglect wire capacitance and short-circuit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CC32B-7D52-4897-A13B-6BCD4540E1B9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90480" y="1600200"/>
          <a:ext cx="731052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600200"/>
                    <a:ext cx="731052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D7A1E-7495-4B7A-B92C-CD1FE1FE7F8D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ynamic Power Re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minimi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838160"/>
          <a:ext cx="2514600" cy="5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38160"/>
                    <a:ext cx="25146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B8954-FB73-43B1-9214-66D40D25DB8E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ity Factor Estim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rob(node i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random data has P = 0.5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s often not completely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upper bits of 64-bit words representing bank account balances are usually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pagating through ANDs and ORs has lower 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esign, but typical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3992B-72BA-4C93-A6DC-4F203974AE8C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ing Prob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400800" cy="34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FE4F6-E1D7-4AA4-9566-844CEB2FA24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4-input AND is built out of two levels of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activity factor at each node if the inputs have P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187880" cy="2000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33920" y="3200400"/>
            <a:ext cx="685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4572000"/>
            <a:ext cx="685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3505320"/>
            <a:ext cx="838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893FF-DE48-4A06-B0EB-C92AC91CCC7B}" type="slidenum">
              <a:t>16</a:t>
            </a:fld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ock Ga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way to reduce the activity is to turn off the clock to registers in unused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clock activity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s all switching activity in the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determining if block will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24368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2A338-085C-48AB-9562-56D7B9D47A4E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stages of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loorplanning to keep communicating blocks close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long wires with inverters or buffers rather than complex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DD9D6-BC6B-4EE8-95D5-DF7C7BEC563E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ltage / Frequen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each block at the lowest possible voltage and frequency that meets performan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eparate supplies to different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converters required when cro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low to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Voltage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 according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2422440" cy="1641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62920" y="3124080"/>
            <a:ext cx="1295280" cy="10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5DEF3-B0A6-4A00-8252-08843DB9D860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FD86E-605E-4163-80CB-7FD8AC1D03BB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 is consumed even when chip is quies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draws power from nominally OFF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ed circuits burn power in fight between 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974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5BE2C-8B22-4DAA-BE17-AE3CAB646F68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t power estimation for 1 billion transisto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static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t used in all memories and in 95% of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E9D57-5256-4F99-8842-98C203FF8F02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779480"/>
          <a:ext cx="7848720" cy="22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79480"/>
                    <a:ext cx="78487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8D787-822C-4658-96AE-831727A2CF96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bthreshold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50 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leakage at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219320" y="1981080"/>
          <a:ext cx="312408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312408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5169960" y="1600200"/>
            <a:ext cx="343116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values in 65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3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 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4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   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5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 = 100 mV/de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18EA4-CEE8-49FB-93A2-3C72220B45C0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ck Eff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OFF transistors have less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, so N2 has nega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through 2-stack reduces ~1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through 3-stack reduces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5280" y="2590920"/>
          <a:ext cx="42674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90920"/>
                    <a:ext cx="4267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086600" y="1600200"/>
            <a:ext cx="104292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1295280" y="3498840"/>
          <a:ext cx="152424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3498840"/>
                    <a:ext cx="15242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295280" y="4191120"/>
          <a:ext cx="2895840" cy="695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5280" y="4191120"/>
                    <a:ext cx="28958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84CD9-7038-43ED-AE72-3D0717379905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akage 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and delay trad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 for low leakage in sleep and low delay in act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lea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le 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ow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 in critica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put vector con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verse body b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ward body bias in act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F13F2-EA4C-4DEE-B0D5-B2A510F7A741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te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strong function of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for old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es subthreshold leakage at 65 nm and below in som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der of magnitude less for pMOS than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eakage in the process using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10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k gate dielectrics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cesses provide multipl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icker oxide for 3.3 V I/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eakage in circuits by limit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EB3F0-667C-4ED5-82A7-442E5F7E606A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ND3 Leakage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3 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.63 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.3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934320" y="1676520"/>
            <a:ext cx="1346040" cy="1193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62120" y="2855880"/>
            <a:ext cx="6705360" cy="3240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390800" y="5791320"/>
            <a:ext cx="109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from [Lee03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0D441-5255-4F63-9940-8CF1E19F26CB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unction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reverse-biased p-n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diffusion and substrate or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diode leakage is neg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-to-band tunneling (BTBT) can b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n high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where other leakage is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-induced drain leakage (GIDL) exacerb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f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more neg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B22AE-563D-4C45-A725-80FA2865F398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819520" cy="21495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Ga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power to blocks when they are idle to sav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rtual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outputs to prev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logic levels to next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rop across sleep transistor degrades performance during normal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the transistor wide enough to minimize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wide sleep transistor costs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justified when circuit sleeps lon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CBE61-D903-45C1-B285-75B2B19851DA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and Energ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drawn from a voltage source attached to th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n(s) of a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421160" y="2844720"/>
          <a:ext cx="190188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1160" y="2844720"/>
                    <a:ext cx="19018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03056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419720" y="3487680"/>
          <a:ext cx="1609560" cy="9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487680"/>
                    <a:ext cx="160956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609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419720" y="4419720"/>
          <a:ext cx="2786040" cy="98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419720"/>
                    <a:ext cx="278604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257800" y="281952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3505320"/>
            <a:ext cx="1752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49568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EC1F2-A104-48CB-BB67-8C163214DF53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in Circuit El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266688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2666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85800" y="3084480"/>
          <a:ext cx="304812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084480"/>
                    <a:ext cx="30481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486400" y="1828800"/>
            <a:ext cx="1828800" cy="920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5638680" y="3124080"/>
            <a:ext cx="1371600" cy="976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5715000" y="4648320"/>
            <a:ext cx="2590920" cy="88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685800" y="4343400"/>
          <a:ext cx="3886200" cy="1736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" y="4343400"/>
                    <a:ext cx="3886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EDADF-7D51-4527-8EF2-2D60204BE7F4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ging a Capaci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gate output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stored in capacitor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energy drawn from the supply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the energy from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dissipated in the pMOS transistor as heat, other half stored in capac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gate output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n capacitor is dumped to G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ipated as heat in the nMOS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600200" y="2282760"/>
          <a:ext cx="160020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2760"/>
                    <a:ext cx="16002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943600" y="1523880"/>
            <a:ext cx="2666880" cy="185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600200" y="3043080"/>
          <a:ext cx="2514600" cy="113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3043080"/>
                    <a:ext cx="251460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3C795-CC0E-4CD8-BF18-6E887561D99E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ing Wavefor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0 V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0 fF, f = 1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19320" y="1962000"/>
            <a:ext cx="6553080" cy="4057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19320" y="5562720"/>
            <a:ext cx="2057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00800" y="2017800"/>
            <a:ext cx="2286000" cy="159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6E0B8-CEDD-4D85-8514-4E7D6AAC490F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witching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20720" y="1676520"/>
          <a:ext cx="34653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676520"/>
                    <a:ext cx="34653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648320" y="4114800"/>
          <a:ext cx="3809880" cy="19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114800"/>
                    <a:ext cx="3809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93D75-6EBC-41FB-BB35-281A30F4282F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Fac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system clock frequency =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is a clock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switches once per cycl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336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59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63520" y="4191120"/>
          <a:ext cx="270504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4191120"/>
                    <a:ext cx="270504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A957B-69DF-48BA-9C2A-38677F0E6510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ort Circuit Curr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ransistors switch, both nMOS and pMOS networks may be momentarily ON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a blip of “short circuit”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0% of dynamic power if rise/fall times are comparable for input an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generally ignore this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1D0C0-0505-4862-B2B7-2CAF7AE2367D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7T22:01:09Z</dcterms:modified>
  <cp:revision>2043</cp:revision>
  <dc:subject/>
  <dc:title>PowerPoint Presentation</dc:title>
</cp:coreProperties>
</file>