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E40C9-C6CD-4C67-8140-11F68CA78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7B6E0-F449-4438-82DE-FF0269164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562A5-1203-4605-8C92-411C9F1E5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F511A-1038-4E12-A498-131EC41BCD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3E04A-AC78-4EDE-90CA-1652152ECF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C9965-81FC-45F7-92E8-ED4A34D4F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5C124-E6FC-4DD2-B884-D1F1ABEDD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B1101-9F57-4717-A50A-F36D37892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763EA-A2FF-4E3B-90F4-205F5E30B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E147F-9909-4642-B55B-746BB3DC2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8EEF2-987D-4E50-B337-04AC65F86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805D-FEC8-4EC5-B4A9-B62438325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EC26-BA11-4693-868A-AA46375A927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4.wmf"/><Relationship Id="rId3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6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28773-B042-45B4-87C8-01B0A5780F4B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ing Oscill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frequency of an N-stage ring oscil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/(2*N*d) = 1/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52480" y="2209680"/>
          <a:ext cx="52578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09680"/>
                    <a:ext cx="52578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638680" y="3733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 stage ring oscillator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 has frequency of ~ 2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36576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5486400"/>
            <a:ext cx="2514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373392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2520" y="419112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45720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50292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4E66D-0022-42DF-913B-3419D05F6A3F}" type="slidenum">
              <a:t>10</a:t>
            </a:fld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FO4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4 (FO4)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90920" y="1905120"/>
          <a:ext cx="3429000" cy="18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342900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952880" y="4191120"/>
            <a:ext cx="3048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4 delay is ab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ps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ps in a 65 n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36576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952880" y="4038480"/>
            <a:ext cx="304812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41148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5720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50292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9FC69-9C7A-42F2-BDFD-36BA652351BC}" type="slidenum">
              <a:t>11</a:t>
            </a:fld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324320" y="2666880"/>
          <a:ext cx="182880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4320" y="2666880"/>
                    <a:ext cx="18288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71600" y="4572000"/>
          <a:ext cx="6400800" cy="13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64008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ABDE1-D58D-4FEB-8E38-2AE0540D530E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write F = 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267080" y="2666880"/>
          <a:ext cx="19432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666880"/>
                    <a:ext cx="1943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A01E2-FFB4-483C-A27E-38DC052DF2DF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ths that Bran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!  Consider paths that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5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15 +15) / 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1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6 = 2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23623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28195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32767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37339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411480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457200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724280" y="1981080"/>
          <a:ext cx="3657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81080"/>
                    <a:ext cx="3657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8823E-30AF-4CBA-8A2F-83C98054A211}" type="slidenum">
              <a:t>14</a:t>
            </a:fld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anching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s for branching between stages in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compute th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62040" y="2514600"/>
          <a:ext cx="293364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2514600"/>
                    <a:ext cx="2933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523880" y="3733920"/>
          <a:ext cx="144792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733920"/>
                    <a:ext cx="14479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6324480" y="3962520"/>
          <a:ext cx="17780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962520"/>
                    <a:ext cx="1778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625032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5466A-0E7A-4487-A1BF-6AF9F8A6FCB4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Del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419720" y="1523880"/>
          <a:ext cx="16383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1638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4419720" y="2362320"/>
          <a:ext cx="144756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62320"/>
                    <a:ext cx="14475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419720" y="3200400"/>
          <a:ext cx="29336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2004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1D456-93FB-4487-80D0-D8D4B9A62DC3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ing Fast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s smallest when each stage bears sam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minimum delay of N stage pat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 of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fastest possibl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require calculating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219320" y="1600200"/>
          <a:ext cx="29336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295280" y="2895480"/>
          <a:ext cx="212112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895480"/>
                    <a:ext cx="21211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1219320" y="4038480"/>
          <a:ext cx="2082600" cy="47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038480"/>
                    <a:ext cx="2082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1143000" y="3962520"/>
            <a:ext cx="22860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4038480"/>
            <a:ext cx="21333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22C6D-E211-4CA5-BAC2-74B854405AC9}" type="slidenum">
              <a:t>17</a:t>
            </a:fld>
          </a:p>
        </p:txBody>
      </p:sp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he gates be for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backward, apply capacitance transformation to find input capacitance of each gate given load it dr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ork by verifying input cap spec is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143000" y="2209680"/>
          <a:ext cx="2641680" cy="17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26416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DD430-D5FF-46DC-A2A0-1E611B56A104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gate sizes x and y for least delay from A 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838080" y="2057400"/>
          <a:ext cx="7391520" cy="36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39152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B4241-AB29-4294-AD1A-68B51E5FCD05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 a Log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stage Logi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ing th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F027C-13A7-408A-9F88-A79FB5C2F5A4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(4/3)*(5/3)*(5/3) = 100/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5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3 * 2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Stage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2 + 3 + 2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3*5 + 7 = 22 = 4.4 FO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14400" y="1371600"/>
          <a:ext cx="3429000" cy="16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34290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14800" y="4572000"/>
          <a:ext cx="18032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4572000"/>
                    <a:ext cx="1803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4800600" y="281952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27672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6576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41148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45720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50292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24280" y="54864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D3C89-B67A-4015-A878-83E18EF69431}" type="slidenum">
              <a:t>20</a:t>
            </a:fld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backward for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45 * (5/3) / 5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(15*2) * (5/3) / 5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219320" y="3124080"/>
          <a:ext cx="609588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124080"/>
                    <a:ext cx="60958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600200" y="190512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228600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2971800"/>
          <a:ext cx="6172200" cy="30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971800"/>
                    <a:ext cx="61722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BF152-5D19-4A7C-92BA-782FA2CC92EA}" type="slidenum">
              <a:t>21</a:t>
            </a:fld>
          </a:p>
        </p:txBody>
      </p:sp>
    </p:spTree>
  </p:cSld>
  <p:transition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tages should a path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number of stages is not always fas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drive 64-bit datapath with uni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(6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0" y="2895480"/>
          <a:ext cx="3886200" cy="32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895480"/>
                    <a:ext cx="388620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905120" y="365760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11480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5410080"/>
            <a:ext cx="685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39152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A17D4-B9A2-4389-B666-3DB3E84DB49D}" type="slidenum">
              <a:t>22</a:t>
            </a:fld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dding inverters to end of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give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best stag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334120" y="2057400"/>
          <a:ext cx="327636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057400"/>
                    <a:ext cx="32763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85800" y="2438280"/>
          <a:ext cx="48132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438280"/>
                    <a:ext cx="48132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685800" y="3429000"/>
          <a:ext cx="488952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429000"/>
                    <a:ext cx="48895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676520" y="5334120"/>
          <a:ext cx="314964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334120"/>
                    <a:ext cx="3149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4572000" y="4495680"/>
          <a:ext cx="1143000" cy="54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495680"/>
                    <a:ext cx="1143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E487-0A32-47C9-8DFB-1389718BDD68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Stage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no closed-for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ing parasitics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), we f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718 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solve numerically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219320" y="1523880"/>
          <a:ext cx="314964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31496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7E18C-4DD5-4EDC-A7B3-2DDF482240D7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ensitive is delay to using exactly the best number of s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6 gives delay within 15% of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e slopp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038480" y="1981080"/>
          <a:ext cx="403884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981080"/>
                    <a:ext cx="403884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6D27E-0B38-4DF0-A685-2F24B77A9FFC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,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Bitdiddle is the memory designer for the Motoroil 68W86, an embedded automotive processor.  Help Ben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6F8E1-BFE8-4A2F-8A28-A2FBECC4B85E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 effort is mainly electrical and bran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(32*3) / 10 = 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neglect logical effort (assume G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76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tag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 3-stag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19810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7339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457200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548640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933A6-21C2-47A4-AEC5-B04CBB0B1FC7}" type="slidenum">
              <a:t>27</a:t>
            </a:fld>
          </a:p>
        </p:txBody>
      </p:sp>
    </p:spTree>
  </p:cSld>
  <p:transition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 &amp;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6/3 * 1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siz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*1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    y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*2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219320" y="3719520"/>
          <a:ext cx="586728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719520"/>
                    <a:ext cx="586728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505320" y="2362320"/>
          <a:ext cx="233676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362320"/>
                    <a:ext cx="23367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3505320" y="2819520"/>
          <a:ext cx="36702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819520"/>
                    <a:ext cx="36702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4038480" y="15238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19810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1480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2819520"/>
            <a:ext cx="3048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62520" y="33526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77120" y="327672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38D57-385E-4DBE-B179-E5B337852E51}" type="slidenum">
              <a:t>28</a:t>
            </a:fld>
          </a:p>
        </p:txBody>
      </p:sp>
    </p:spTree>
  </p:cSld>
  <p:transition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many alternatives with a spread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N(76.8 G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219320" y="2514600"/>
          <a:ext cx="6476760" cy="3462480"/>
        </p:xfrm>
        <a:graphic>
          <a:graphicData uri="http://schemas.openxmlformats.org/drawingml/2006/table">
            <a:tbl>
              <a:tblPr/>
              <a:tblGrid>
                <a:gridCol w="4038480"/>
                <a:gridCol w="457200"/>
                <a:gridCol w="762120"/>
                <a:gridCol w="457200"/>
                <a:gridCol w="761760"/>
              </a:tblGrid>
              <a:tr h="3114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NV-NAND4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AND2-INV-NAND2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-NAND2-INV-NAND2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INV-NAND2-INV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667D7-4508-4FFA-81FB-9A25A9AC1BE6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p designers face a bewildering array of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best circuit topology for a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of logic give least del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de should the transistors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effort is a method to make thes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model of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back-of-the-envelope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make rapid comparisons between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zes remarkable symme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086600" y="1752480"/>
          <a:ext cx="136836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752480"/>
                    <a:ext cx="13683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DC6F1-4F26-473D-8106-5AB36996DC8A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 of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685800" y="1676520"/>
          <a:ext cx="7696080" cy="4008240"/>
        </p:xfrm>
        <a:graphic>
          <a:graphicData uri="http://schemas.openxmlformats.org/drawingml/2006/table">
            <a:tbl>
              <a:tblPr/>
              <a:tblGrid>
                <a:gridCol w="2678040"/>
                <a:gridCol w="2509920"/>
                <a:gridCol w="250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ng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sitic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5943600" y="2590920"/>
          <a:ext cx="9525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590920"/>
                    <a:ext cx="9525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5950080" y="3009960"/>
          <a:ext cx="9396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0080" y="3009960"/>
                    <a:ext cx="939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5943600" y="2209680"/>
          <a:ext cx="228600" cy="2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2209680"/>
                    <a:ext cx="2286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5969160" y="3505320"/>
          <a:ext cx="90144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69160" y="3505320"/>
                    <a:ext cx="9014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950080" y="3943440"/>
          <a:ext cx="93960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50080" y="3943440"/>
                    <a:ext cx="939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11920" y="4343400"/>
          <a:ext cx="101592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11920" y="4343400"/>
                    <a:ext cx="10159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5943600" y="4876920"/>
          <a:ext cx="90180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3600" y="4876920"/>
                    <a:ext cx="9018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5943600" y="5257800"/>
          <a:ext cx="1866960" cy="343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257800"/>
                    <a:ext cx="1866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429000" y="3048120"/>
          <a:ext cx="660240" cy="36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29000" y="3048120"/>
                    <a:ext cx="6602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3429000" y="3429000"/>
          <a:ext cx="1308240" cy="41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29000" y="3429000"/>
                    <a:ext cx="13082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3429000" y="3962520"/>
          <a:ext cx="685800" cy="26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29000" y="3962520"/>
                    <a:ext cx="6858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3429000" y="4419720"/>
          <a:ext cx="203040" cy="266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4419720"/>
                    <a:ext cx="203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3429000" y="4952880"/>
          <a:ext cx="190440" cy="216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952880"/>
                    <a:ext cx="1904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3429000" y="5334120"/>
          <a:ext cx="927000" cy="266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29000" y="5334120"/>
                    <a:ext cx="9270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3429000" y="2666880"/>
          <a:ext cx="177840" cy="216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29000" y="2666880"/>
                    <a:ext cx="1778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3429000" y="2209680"/>
          <a:ext cx="114480" cy="216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9000" y="220968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C9ACC-7D3A-4219-B70D-BEAB0C064A23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hod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path with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leas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best stag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6400800" y="1600200"/>
          <a:ext cx="123192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600200"/>
                    <a:ext cx="1231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6400800" y="2057400"/>
          <a:ext cx="13716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057400"/>
                    <a:ext cx="1371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6400800" y="2819520"/>
          <a:ext cx="167652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16765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6400800" y="3352680"/>
          <a:ext cx="9399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3352680"/>
                    <a:ext cx="939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6400800" y="4038480"/>
          <a:ext cx="154944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4038480"/>
                    <a:ext cx="1549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1B478-07B9-47E9-A2D5-F4EC9F29C378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s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ken and eg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path to comput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n’t know number of stages without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stic dela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s input rise tim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on required in designs with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speed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inimum area/power for constrained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55072-61B1-45D8-97EF-F6B75EFFA4AF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useful for thinking of delay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 logical effort characterize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re faster than NORs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s are fastest when effort delays are ~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 is weakly sensitive to stages,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using fewer stages doesn’t mean faster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of path is abou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FO4 invert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s and NAND2 best for driving large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language for discussing fast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quires practice to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4BF7-7F60-4B2E-B9E6-F23F968840E6}" type="slidenum">
              <a:t>3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Bitdiddle is the memory designer for the Motoroil 68W86, an embedded automotive processor.  Help Ben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67B96-EEE0-482D-9B92-293E2E730849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in a Logic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 delays in process-independent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has two components: d =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ffort delay =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.k.a. stage eff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 has tw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relative ability of gate to deliver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 for i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of output to input capac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called fan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arasitic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delay of gate driving no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by internal parasitic capac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477120" y="1447920"/>
          <a:ext cx="91440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447920"/>
                    <a:ext cx="9144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172200" y="2057400"/>
            <a:ext cx="2666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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3R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ps in 65 n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 ps in 0.6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23F7F-DD20-4EF0-8612-E028E7B9BC4C}" type="slidenum">
              <a:t>5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276720" y="1600200"/>
          <a:ext cx="50292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0020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3276720" y="1606680"/>
          <a:ext cx="5029200" cy="441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60668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b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666880"/>
            <a:ext cx="1981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C2B2F-C380-47C4-8B36-AA95667331B0}" type="slidenum">
              <a:t>6</a:t>
            </a:fld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uting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ogical effort is the ratio of the input capacitance of a gate to the input capacitance of an inverter delivering the same output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from delay vs. fanout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by counting transistor wid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219320" y="3657600"/>
          <a:ext cx="617220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657600"/>
                    <a:ext cx="61722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76159-8184-47C1-B4EA-588A9C416D11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+2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n+1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 12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 16, 16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E20E6-B3F2-46BF-BB5C-F8D30BB22426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ultiples of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6: Logical Eff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EC4F2-57E9-42A2-8065-431816F26D9F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7T21:39:40Z</dcterms:modified>
  <cp:revision>828</cp:revision>
  <dc:subject/>
  <dc:title>PowerPoint Presentation</dc:title>
</cp:coreProperties>
</file>