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40C0-4AF7-407C-A665-13C341939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0BDA-FC53-4B3E-BA1C-4F2C25A6E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C64B-092E-4936-96EA-5B57C3715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8F18-BED2-4DEF-ACDB-E1F45A418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0EC4-4A9E-468C-8AB3-2DCEDBD83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94D5-B9AD-4A2A-BEDE-A6C581938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40E3-B972-4C96-B983-5DF171842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C7FF-D324-4606-8F5D-18B5501F1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DF64-5A4F-487C-9D5A-909FC2457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FDED-8C40-4B5A-8E08-BD79191DB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82EA-B556-4036-AF04-93289A149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6D7D-CADF-4ADD-9B22-3FB93C8BE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B41-EE07-4077-BD48-3AB279940B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316A-1B3B-4E35-BB3B-79D284D49BE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A212-577F-49BE-93B1-BD6BED634A8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2B52-BE79-4E91-980D-763C2E665F8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2D19-9F52-4E0E-A1F1-F5E3D30110C1}" type="slidenum">
              <a:t>12</a:t>
            </a:fld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DB83-0BE8-4B51-92B1-A22B73B8A40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409A-8912-45FE-9148-93E993A113A1}" type="slidenum">
              <a:t>14</a:t>
            </a:fld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98F6-3BD5-44AF-8BBF-644C2D623AB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2151-5316-4E9E-B788-B41F9FFFBC8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1B6A-C968-464B-B181-D26D42C1D1E3}" type="slidenum">
              <a:t>17</a:t>
            </a:fld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8747-2C19-4717-AFA4-AFF490F231E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08C4-769C-4687-B727-96F7B3605102}" type="slidenum">
              <a:t>19</a:t>
            </a:fld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4454-6737-483C-AB62-5D1AD1B4AF8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1BAF-5AAB-43A4-A405-278442CBE548}" type="slidenum">
              <a:t>20</a:t>
            </a:fld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A152-2CE0-42AD-A348-6509B339A3E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4D06-F3F3-4FB3-AED1-53B207187EA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E733-2C87-4AE0-85C1-49C935DF34B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FB9E-4F49-402B-A7F6-49E9B049109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8D772-3ACC-45B0-9A4C-3F24CAE58A4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4BD8-8082-4E9D-8959-250E0756DA4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CC02-9F19-4FA5-8AB4-DAFCFE10950E}" type="slidenum">
              <a:t>27</a:t>
            </a:fld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F015-A497-4028-BF16-8802628A81A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6C82-BD4A-44FD-8595-7334020233DA}" type="slidenum">
              <a:t>29</a:t>
            </a:fld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08CB-E6F8-4EE7-8CAF-40DF260C771E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B276-81BF-4886-834C-6756929F7991}" type="slidenum">
              <a:t>30</a:t>
            </a:fld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56DA6-E3A2-4378-839D-1D4C2691D8F1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87CF-7251-47DB-B6DB-1CD19C4B13E2}" type="slidenum">
              <a:t>32</a:t>
            </a:fld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AC60F-2197-4987-A512-35EA4CA4E9AF}" type="slidenum">
              <a:t>33</a:t>
            </a:fld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E837-312F-40E0-91E6-D028ACC7AF2D}" type="slidenum">
              <a:t>34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7BDF-E281-4422-AF97-E9B3961704C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7657A-DDE8-482E-9150-8F95684DDFEC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19AD-7EA6-4C27-8831-AE998BB7873F}" type="slidenum">
              <a:t>4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42ED-E35E-4B69-B2DF-BA4575CCC58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B66B-97A6-4FBC-B873-E69D6B502A9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4936-CEB2-430D-A864-B74C72BC7012}" type="slidenum">
              <a:t>7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DA82-7710-40B9-8452-04719806F54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CD26-FB70-4340-BD54-C3CA5DCA009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2Z</dcterms:modified>
  <cp:revision>704</cp:revision>
  <dc:subject/>
  <dc:title>PowerPoint Presentation</dc:title>
</cp:coreProperties>
</file>