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2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E783-CC16-4C85-8A42-6077C86537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6346-4C04-459C-9985-F847F5C912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71FFA-FF9E-4ACD-93D3-C10620890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A895-7428-4351-86AC-A47B44F0C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CF03D-8DDE-4470-916C-AA271027A8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63F75-6E66-47D5-B599-00CEB0D6D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D49BC-FA5F-4442-B7B0-DE27989FA8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EF3A1-CC9B-49F0-9B1C-FCD641EAA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1245-2BDF-4328-999F-5211A0EFE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1337-D207-454A-8FC4-C37B41F170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2358-F9D4-4015-85AF-F468ACEDE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C2C1-97C5-4B20-A903-D89D74569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FDB8-55FB-4A20-A013-C75868FAC20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&amp; 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0E80-05D2-4B0D-9C3C-A453ACE40BD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urrent vs.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ou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EC30-6580-4E4B-88D4-8854FFD766B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2743200"/>
          <a:ext cx="68580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68580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where |currents| are equa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705720" y="4267080"/>
          <a:ext cx="2057400" cy="13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267080"/>
                    <a:ext cx="20574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D89C2-9583-4EC6-9E55-D73E9ACBB18B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62120" y="2133720"/>
          <a:ext cx="7619760" cy="376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2133720"/>
                    <a:ext cx="76197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3628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5238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14600"/>
            <a:ext cx="17524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83293-87C5-44AE-9928-2A950DA22C7F}" type="slidenum">
              <a:t>12</a:t>
            </a:fld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Transfer Cur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be points o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457200" y="2819520"/>
          <a:ext cx="52578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819520"/>
                    <a:ext cx="52578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6BFB-4F7E-4A24-961E-0C2BC7EDB97B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029200" y="3276720"/>
          <a:ext cx="373392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76720"/>
                    <a:ext cx="37339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2743200"/>
          <a:ext cx="4267080" cy="23716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096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3581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3581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9625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962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4343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4724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724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867280" y="1600200"/>
          <a:ext cx="205740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057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2F09-84B5-45A7-9A98-EA7BEB10EDEE}" type="slidenum">
              <a:t>14</a:t>
            </a:fld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ta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switching point will move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kew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ates: collapse into equivalen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438280" y="2819520"/>
          <a:ext cx="434340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34340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33C16-6729-4FCC-93DC-4258EB0596D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Margi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noise can a gate input see before it does not recognize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14400" y="2438280"/>
          <a:ext cx="746748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4674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6A329-C024-49B0-9652-7B6B506F94F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y gain point of DC transfer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1DAE8-859C-4817-ACFB-F1606433BEF3}" type="slidenum">
              <a:t>17</a:t>
            </a:fld>
          </a:p>
        </p:txBody>
      </p:sp>
    </p:spTree>
  </p:cSld>
  <p:transition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lving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is usually considered to be a step or r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E1EEB-C358-457D-A0B5-3C337352BD54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0948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19920" y="4114800"/>
          <a:ext cx="2743200" cy="17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114800"/>
                    <a:ext cx="2743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019920" y="4038480"/>
            <a:ext cx="25146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267080"/>
            <a:ext cx="2743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124080"/>
            <a:ext cx="12952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2590920"/>
            <a:ext cx="12952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981080"/>
            <a:ext cx="1752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BC197-06F8-4280-80F8-7A1A49CBD5D9}" type="slidenum">
              <a:t>19</a:t>
            </a:fld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 and Noise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F2CC-69A4-4923-BE2B-E40AA945729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erage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726080" y="1600200"/>
            <a:ext cx="3884400" cy="346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E6778-D64B-415B-BEC6-99BF4C8E1F83}" type="slidenum">
              <a:t>20</a:t>
            </a:fld>
          </a:p>
        </p:txBody>
      </p:sp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E0A9-3742-4E15-BD83-E3ECEBBF364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differential equations by hand is too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 simulator solves the equations nume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re accurate I-V mode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mulations take time to write, may hid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133720" y="3276720"/>
          <a:ext cx="365760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365760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64E9-825A-418A-B98C-2263683D575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like to be able to easily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asier to ask “What if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 response usually looks like a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C response with a decaying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C delay models to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total capacitance on outpu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ive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transistors by finding their effectiv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verage current as gat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5739C-E9E5-4C54-9035-C6E62BAA670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ffectiv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 models hav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 enough for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icated for much h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: treat transistor as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effective resistanc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veraged across switching of digita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inaccurate to predict current at any give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ood enough to predict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2EE9-D6F5-490C-97A8-ACE250785A9A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Dela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valent circuits for 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switch + capacitance and ON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MOS has resistance 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MOS has resistance 2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versely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4038480"/>
          <a:ext cx="75438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5438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0316A-9A2F-43E6-868B-1280030935C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Val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of gate width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cline to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nanometer te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with shorter channe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to minimum contacted device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matter as long as you ar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2CB75-8F73-413A-AE03-DC502A14C57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838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6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2666880"/>
            <a:ext cx="30481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2057400"/>
            <a:ext cx="304812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0516-87E4-4621-A45B-7CA07549911C}" type="slidenum">
              <a:t>27</a:t>
            </a:fld>
          </a:p>
        </p:txBody>
      </p:sp>
    </p:spTree>
  </p:cSld>
  <p:transition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Model Comparis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4419360" cy="41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343A-17D4-4AC8-82A9-C9680523D343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4864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C7EE-74CE-47ED-B9A9-AE03B3BEBBFB}" type="slidenum">
              <a:t>29</a:t>
            </a:fld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ransistor would turn itself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s pull no high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 degraded “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egraded value slowly (low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transistors pull no low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s are needed to pass both 0 and 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3E13-5C20-42B5-96E7-33FDE0BEAD36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32F9-D79A-4C62-8971-1DD598C87F3F}" type="slidenum">
              <a:t>30</a:t>
            </a:fld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more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ransistors look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 or pulldown network model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more delay of 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52480" y="3984480"/>
          <a:ext cx="60199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984480"/>
                    <a:ext cx="60199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1641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743200"/>
          <a:ext cx="779472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94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AEDE-FA2F-467A-AF9D-2B2947F6CE57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409760" cy="19051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worst-case rising and falling delay of 3-input NAND dri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48320" y="2057400"/>
          <a:ext cx="3733560" cy="19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57400"/>
                    <a:ext cx="373356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914400" y="2286000"/>
          <a:ext cx="3048120" cy="14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286000"/>
                    <a:ext cx="304812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905120" y="5105520"/>
          <a:ext cx="1218960" cy="28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105520"/>
                    <a:ext cx="121896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3505320" y="3886200"/>
            <a:ext cx="16603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4876920" y="4876920"/>
          <a:ext cx="3809880" cy="60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876920"/>
                    <a:ext cx="38098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DF85D-F43C-4802-A3DF-8C1BCC91B05F}" type="slidenum">
              <a:t>32</a:t>
            </a:fld>
          </a:p>
        </p:txBody>
      </p: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Compon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or 11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h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loa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85D7C-5CC2-48E3-BAE1-DFC412E30293}" type="slidenum">
              <a:t>33</a:t>
            </a:fld>
          </a:p>
        </p:txBody>
      </p:sp>
    </p:spTree>
  </p:cSld>
  <p:transition>
    <p:zoom dir="ou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mination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case (contamination) delay can be substantially less than propagation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If all three inputs fall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505320" y="4572000"/>
          <a:ext cx="512100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572000"/>
                    <a:ext cx="51210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143000" y="2666880"/>
          <a:ext cx="3276720" cy="17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666880"/>
                    <a:ext cx="327672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2743200" cy="12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460A3-E27F-488D-8FC8-2815A54F9D4D}" type="slidenum">
              <a:t>34</a:t>
            </a:fld>
          </a:p>
        </p:txBody>
      </p:sp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600200" y="3621240"/>
          <a:ext cx="5867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21240"/>
                    <a:ext cx="5867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ontacted diffusion on every s /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yout minimizes diffusio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3 layout shares one diffusio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utput capacitance by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uncontacted diffusion might help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3951-598F-4C39-B468-34198F5AF2FE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 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ayout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38080" y="2209680"/>
          <a:ext cx="73152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3152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BF530-0736-4AA6-9A24-023DE84A2BC5}" type="slidenum">
              <a:t>3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90512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12408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1911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D367-7CD7-4588-B9F4-1AF792088D9A}" type="slidenum">
              <a:t>4</a:t>
            </a:fld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tween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e an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KCL, must settle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ol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raphical solution gives mor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38680" y="2971800"/>
          <a:ext cx="3124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312444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A5606-CD4D-44D8-97F0-5AB00BDD416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pends on region of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MOS and pMO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202AE-569A-4D99-8494-1B7A4E37920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6483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1814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572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105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17E07-69F3-49CF-9B6F-3517BAF015CD}" type="slidenum">
              <a:t>7</a:t>
            </a:fld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41D0-2146-4731-87BD-8B33EDB8894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is wider than nMOS such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905120"/>
          <a:ext cx="7162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162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AE2F-4286-4937-BF6D-8D59EDD4C812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2Z</dcterms:modified>
  <cp:revision>704</cp:revision>
  <dc:subject/>
  <dc:title>PowerPoint Presentation</dc:title>
</cp:coreProperties>
</file>