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7.wmf" ContentType="image/x-wmf"/>
  <Override PartName="/ppt/media/image12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4CDF0-B397-4ED1-B354-9F887563C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2590-79A2-44EB-AB5C-1479120B8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36F9-5626-4BD8-9F5B-714DF0AF4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594C5-A03D-4FB5-82C2-DA40F09E89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4557D-8AF3-449A-B16C-DBDD305260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FF94-083C-47C6-A05C-887013044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088C-8092-42D3-80DB-FE073ADEC4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FC79-97C9-4F32-BC76-74A32FE2F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500EB-1439-4385-A052-A15EBB8169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F505-0671-4993-B48F-7472E8887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2A1B-8DF5-4DE6-A88A-87B10C02B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96F0-2FEA-4B63-8CDF-36E4C282D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DD6-7A83-4265-890B-B37BA88F72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C0D85-B535-4E70-95E5-6AFC0A27364E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3505320"/>
          <a:ext cx="2666880" cy="50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505320"/>
                    <a:ext cx="266688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97CAE-E8D7-40CB-A1A4-7C96DAD2313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5A1A2-FAE7-49C5-BDDF-B989503D24B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14" name="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17" name="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2ABA6-C57E-438A-A9E1-AFDABBDDDE38}" type="slidenum">
              <a:t>12</a:t>
            </a:fld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1561-38B9-44B1-8A08-F7665312B72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60329-15D3-4643-A2C0-06E8FF62ABED}" type="slidenum">
              <a:t>14</a:t>
            </a:fld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76520" y="338616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38616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00200" y="5029200"/>
          <a:ext cx="2819520" cy="717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029200"/>
                    <a:ext cx="28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8B464-6DB6-4597-B3D4-617A719B649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7BFED-6F4E-409E-B58F-316B7A7A02C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5" name="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46" name="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44B9-1BCA-4DB4-825C-9F2C4418383A}" type="slidenum">
              <a:t>17</a:t>
            </a:fld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280E-AA72-4E88-B4B4-6ACFCCBFE50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00200" y="2895480"/>
            <a:ext cx="213372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8109B-A538-4370-8E0E-B2A77907FA86}" type="slidenum">
              <a:t>19</a:t>
            </a:fld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9105-1E2D-49EE-9994-B6BF99B8F1D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’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8E5F-3BCF-4780-9CCB-9EBD274E97E5}" type="slidenum">
              <a:t>20</a:t>
            </a:fld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80D3-9197-44AA-99D4-45410D3AA7E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4A85-5F0C-449B-8293-A65A04E7057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B85C2-717A-45D0-8B06-D1C2EDC237AC}" type="slidenum">
              <a:t>23</a:t>
            </a:fld>
          </a:p>
        </p:txBody>
      </p:sp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F8CB-3F57-49B9-ABE6-DF9EDD67F657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13D2-8D68-4599-A7F4-926883A8E2E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C7000-4B5D-4466-8410-23C7B0CA644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198" name="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01" name="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EE96-3EC3-4519-BD1E-1D9C023366F4}" type="slidenum">
              <a:t>27</a:t>
            </a:fld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92D82-AE92-476F-B59E-0BA710E54DCC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9" name="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10" name="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13" name="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16" name="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CC9B6-E83B-4033-A34B-33F869E9BAB0}" type="slidenum">
              <a:t>29</a:t>
            </a:fld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8E47-B972-4CD0-AD58-A8C42CD5EFE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66680" y="3886200"/>
          <a:ext cx="6096240" cy="1581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22" name="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25" name="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53A7-88D1-4AF1-89F9-F9CA0CA06FDB}" type="slidenum">
              <a:t>30</a:t>
            </a:fld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8E229-B07D-46EE-B682-6DE6BED8C0D5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838080" y="2895480"/>
          <a:ext cx="6782040" cy="230040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6" name="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E574-2179-4FDF-8C44-4CC5EC65F1C8}" type="slidenum">
              <a:t>32</a:t>
            </a:fld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208FB-951C-4F57-960E-1C2DE1F891AB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4A3C-1D6E-4B86-AA52-33C958D17388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75" name="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78" name="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46A56-5CB4-4AB0-ADA5-D5938833E329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0999-38DC-44CC-99B8-62DF39156C0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4F7E-D00A-4638-97FC-99B038F1FD2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4: Nonideal Transistor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FE917-7D52-4744-A7FC-40340784B82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2-11T00:32:48Z</dcterms:modified>
  <cp:revision>1801</cp:revision>
  <dc:subject/>
  <dc:title>PowerPoint Presentation</dc:title>
</cp:coreProperties>
</file>