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6.png" ContentType="image/png"/>
  <Override PartName="/ppt/media/image14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26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2.wmf" ContentType="image/x-wmf"/>
  <Override PartName="/ppt/media/image7.wmf" ContentType="image/x-wmf"/>
  <Override PartName="/ppt/media/image12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93ACB-9E88-4CD9-BFA9-721637805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6F60-5B2F-475D-964B-CA74F0689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C2DC-BA19-4C14-B9F0-1BB73D536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0DE8-DD42-43F6-97BD-8D616DD7FD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527D-E611-4178-B65D-4FC13BAB5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FBCB6-B83A-41E7-851E-94EC7AA7E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4620-10E0-4E97-8560-AA60247D0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F6F8B-ACD7-4800-8EFF-95DD86507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47027-983B-4FE4-88FD-F7E13A5A1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6FE2-FAC8-49DF-A4A1-37565054A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A6C0-FFEF-45A8-8372-882391500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FFA5-C95F-4D9C-8F36-EA916929E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E921-40A9-4E7F-8DBF-4BEB98B7997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ideal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907A-7111-4377-B0AE-6ECBC565F17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 Sat I-V Effe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transistor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-saturated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ransistors are partially velocity 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 law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 determined empirically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for 65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21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19320" y="2057400"/>
          <a:ext cx="3660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3660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82104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3505320"/>
          <a:ext cx="2666880" cy="50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505320"/>
                    <a:ext cx="2666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3A506-3E5B-44DF-8E20-11DD2D57FDC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Power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0146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6384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1600200"/>
          <a:ext cx="396216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39621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9736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5880" y="1752480"/>
          <a:ext cx="2438640" cy="127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1752480"/>
                    <a:ext cx="24386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514600" y="3276720"/>
            <a:ext cx="3276720" cy="267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6E65-AEA1-4683-8571-777A82885101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Channel Length Modulation</a:t>
            </a:r>
            <a:endParaRPr b="0" lang="en-US" sz="4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form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le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between n and p with no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depletion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 grows with reverse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81480" y="2743200"/>
          <a:ext cx="34290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743200"/>
                    <a:ext cx="34290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7148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81280" y="3352680"/>
            <a:ext cx="762120" cy="304920"/>
            <a:chOff x="3581280" y="3352680"/>
            <a:chExt cx="762120" cy="304920"/>
          </a:xfrm>
        </p:grpSpPr>
        <p:sp>
          <p:nvSpPr>
            <p:cNvPr id="114" name=""/>
            <p:cNvSpPr/>
            <p:nvPr/>
          </p:nvSpPr>
          <p:spPr>
            <a:xfrm>
              <a:off x="3581280" y="3352680"/>
              <a:ext cx="7621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365760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981080" y="3809880"/>
            <a:ext cx="1371240" cy="304920"/>
            <a:chOff x="1981080" y="3809880"/>
            <a:chExt cx="1371240" cy="304920"/>
          </a:xfrm>
        </p:grpSpPr>
        <p:sp>
          <p:nvSpPr>
            <p:cNvPr id="117" name=""/>
            <p:cNvSpPr/>
            <p:nvPr/>
          </p:nvSpPr>
          <p:spPr>
            <a:xfrm>
              <a:off x="1981080" y="3809880"/>
              <a:ext cx="137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81080" y="4114800"/>
              <a:ext cx="12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25FF-5343-4E26-8286-D84184E73309}" type="slidenum">
              <a:t>12</a:t>
            </a:fld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 Length Mod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 length modulat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eatur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ly fit to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16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2057400"/>
          <a:ext cx="457200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45720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4A7A-4BC7-4FB6-88BF-948E66A015D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shold Voltage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hich the channel starts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models assume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y depends (weakly) on almost everything 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35114-D9E8-491A-A13F-70373B126873}" type="slidenum">
              <a:t>14</a:t>
            </a:fld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dy Effe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is a fourth transistor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fects the charge required to invert th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de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rfac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doping level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ntrinsic carrier concentration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dy effect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76520" y="2666880"/>
          <a:ext cx="2361960" cy="4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236196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76520" y="3386160"/>
          <a:ext cx="12189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386160"/>
                    <a:ext cx="12189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00200" y="5029200"/>
          <a:ext cx="281952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029200"/>
                    <a:ext cx="28195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3A4D-721F-4CBB-9B56-4F633A9335F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dy Effect Cont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source-to-body voltage, treat a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2362320" cy="677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2228760" cy="11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5EFE6-3493-4862-9271-24BD996A932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B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from drain affect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ronounced in small transistors where the drain is closer 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 also affec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rain voltage causes current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52960" y="3287880"/>
          <a:ext cx="838080" cy="28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2960" y="3287880"/>
                    <a:ext cx="83808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15296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00200" y="3809880"/>
          <a:ext cx="198108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809880"/>
                    <a:ext cx="19810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6172200" y="4572000"/>
            <a:ext cx="1295280" cy="304920"/>
            <a:chOff x="6172200" y="4572000"/>
            <a:chExt cx="1295280" cy="304920"/>
          </a:xfrm>
        </p:grpSpPr>
        <p:sp>
          <p:nvSpPr>
            <p:cNvPr id="146" name=""/>
            <p:cNvSpPr/>
            <p:nvPr/>
          </p:nvSpPr>
          <p:spPr>
            <a:xfrm>
              <a:off x="6172200" y="4572000"/>
              <a:ext cx="1295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2200" y="4876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638680" y="2362320"/>
            <a:ext cx="2819520" cy="2251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324480" y="33526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7184-0680-444E-8DDF-393C370FC126}" type="slidenum">
              <a:t>17</a:t>
            </a:fld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ort Channel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mall transistors, source/drain depletion regions extend in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the amount of charge required to invert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us mak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function of 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exhibit a reverse short channel effect in whic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47F0-05EC-4963-B445-FFEE79E24A2B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current in 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ff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oe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0 in cu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9880" y="2155680"/>
            <a:ext cx="4934160" cy="394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600200" y="2895480"/>
            <a:ext cx="21337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018E-80D8-4FCD-9EBF-112149F28907}" type="slidenum">
              <a:t>19</a:t>
            </a:fld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ideal Transistor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eld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and Environmental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29AD6-CEC5-41C8-B082-C7A41407861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an’t abruptly turn ON 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 source in contempora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through ultrathin gate di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N junction diod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0764-0A2A-4C17-8F91-BB6A85A278C7}" type="slidenum">
              <a:t>20</a:t>
            </a:fld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 exponential with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is process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1.3-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relative to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log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100 mV/decade @ room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19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08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4191120" cy="982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1460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105000" cy="2479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162920" y="2971800"/>
            <a:ext cx="137160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28954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1908000"/>
          <a:ext cx="3200400" cy="83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1908000"/>
                    <a:ext cx="32004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699F-7126-41B1-BABD-E70AB2B0D630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tunnel thorough very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ly sensitive to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are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for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nMOS gates leak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ly important at 65 nm and below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0.5 Å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5600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971800" cy="2748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467480" y="5029200"/>
            <a:ext cx="930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From [Song0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3124080" cy="108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DA925-EC8D-4DAB-B729-7122B18A56B7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4624560"/>
          <a:ext cx="7772400" cy="13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624560"/>
                    <a:ext cx="7772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9256B-915B-4924-BCB7-ABA2E6DDFC94}" type="slidenum">
              <a:t>23</a:t>
            </a:fld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od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significant negative diode voltag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ea and perimeter of diffusion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&lt; 1 f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glig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1981080"/>
          <a:ext cx="175284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175284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88EC-6CFE-4FE1-8493-0AC30D8B9B98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nd-to-Band Tunn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across heavily dop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sidewall between drain &amp;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lo do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junction leakage to significa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dewall junction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andgap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: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00200" y="3605040"/>
            <a:ext cx="3048120" cy="1043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81480" y="3757680"/>
            <a:ext cx="3140280" cy="68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E086E-2E6F-4E0E-9D63-E29EFF387674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Gate-Induced Drain Leakage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at overlap between gat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when drain is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ate is at a negativ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warts efforts to reduce subthreshold leakage using a negative gat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3105360" cy="2479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5029200"/>
            <a:ext cx="533520" cy="5335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FF0B7-CC56-40E4-9F52-38701416C8DB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mperatur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438280" y="3809880"/>
          <a:ext cx="3102120" cy="21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9880"/>
                    <a:ext cx="310212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752480" y="2895480"/>
            <a:ext cx="1447560" cy="380880"/>
            <a:chOff x="1752480" y="2895480"/>
            <a:chExt cx="1447560" cy="380880"/>
          </a:xfrm>
        </p:grpSpPr>
        <p:sp>
          <p:nvSpPr>
            <p:cNvPr id="198" name=""/>
            <p:cNvSpPr/>
            <p:nvPr/>
          </p:nvSpPr>
          <p:spPr>
            <a:xfrm>
              <a:off x="1752480" y="2895480"/>
              <a:ext cx="14475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52480" y="327636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828800" y="3352680"/>
            <a:ext cx="1295280" cy="380880"/>
            <a:chOff x="1828800" y="3352680"/>
            <a:chExt cx="1295280" cy="380880"/>
          </a:xfrm>
        </p:grpSpPr>
        <p:sp>
          <p:nvSpPr>
            <p:cNvPr id="201" name=""/>
            <p:cNvSpPr/>
            <p:nvPr/>
          </p:nvSpPr>
          <p:spPr>
            <a:xfrm>
              <a:off x="1828800" y="33526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2880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09D6-899D-4BAD-921E-526A7E901B20}" type="slidenum">
              <a:t>27</a:t>
            </a:fld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if transistors are not ide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till behave like swit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se effects matter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scent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ECA4-959C-489D-934E-6F113F79F677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meter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have uncertainty i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around typical (T)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: op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parameters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67280" y="2666880"/>
          <a:ext cx="25639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666880"/>
                    <a:ext cx="25639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2133720" y="3276720"/>
            <a:ext cx="1143000" cy="380520"/>
            <a:chOff x="2133720" y="3276720"/>
            <a:chExt cx="1143000" cy="380520"/>
          </a:xfrm>
        </p:grpSpPr>
        <p:sp>
          <p:nvSpPr>
            <p:cNvPr id="210" name=""/>
            <p:cNvSpPr/>
            <p:nvPr/>
          </p:nvSpPr>
          <p:spPr>
            <a:xfrm>
              <a:off x="2133720" y="32767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33720" y="36572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133720" y="3733920"/>
            <a:ext cx="1143000" cy="380520"/>
            <a:chOff x="2133720" y="3733920"/>
            <a:chExt cx="1143000" cy="380520"/>
          </a:xfrm>
        </p:grpSpPr>
        <p:sp>
          <p:nvSpPr>
            <p:cNvPr id="213" name=""/>
            <p:cNvSpPr/>
            <p:nvPr/>
          </p:nvSpPr>
          <p:spPr>
            <a:xfrm>
              <a:off x="2133720" y="37339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33720" y="41144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33720" y="4191120"/>
            <a:ext cx="1143000" cy="380520"/>
            <a:chOff x="2133720" y="4191120"/>
            <a:chExt cx="1143000" cy="380520"/>
          </a:xfrm>
        </p:grpSpPr>
        <p:sp>
          <p:nvSpPr>
            <p:cNvPr id="216" name=""/>
            <p:cNvSpPr/>
            <p:nvPr/>
          </p:nvSpPr>
          <p:spPr>
            <a:xfrm>
              <a:off x="2133720" y="41911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33720" y="45716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ACC68-30A2-4511-9DAE-F21F345BBFA8}" type="slidenum">
              <a:t>29</a:t>
            </a:fld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deal Transisto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-channel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228600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D99A-5C53-4365-8E1D-6EA054DCEC78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 also vary in time an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6680" y="3886200"/>
          <a:ext cx="6096240" cy="15811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5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2286000" y="2438280"/>
            <a:ext cx="1143000" cy="380880"/>
            <a:chOff x="2286000" y="2438280"/>
            <a:chExt cx="1143000" cy="380880"/>
          </a:xfrm>
        </p:grpSpPr>
        <p:sp>
          <p:nvSpPr>
            <p:cNvPr id="222" name=""/>
            <p:cNvSpPr/>
            <p:nvPr/>
          </p:nvSpPr>
          <p:spPr>
            <a:xfrm>
              <a:off x="2286000" y="24382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0" y="28191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86000" y="2895480"/>
            <a:ext cx="1143000" cy="380880"/>
            <a:chOff x="2286000" y="2895480"/>
            <a:chExt cx="1143000" cy="380880"/>
          </a:xfrm>
        </p:grpSpPr>
        <p:sp>
          <p:nvSpPr>
            <p:cNvPr id="225" name=""/>
            <p:cNvSpPr/>
            <p:nvPr/>
          </p:nvSpPr>
          <p:spPr>
            <a:xfrm>
              <a:off x="2286000" y="28954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0" y="32763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0040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9723-3CBF-4B87-9723-941C7867B979}" type="slidenum">
              <a:t>30</a:t>
            </a:fld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rners describe worst cas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esign works in all corners, it will probably work for any va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orner with four letters (T, F,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39F59-4D4C-45F2-98CF-F627CBDBCBA8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ortant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ritical simulation corner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38080" y="2895480"/>
          <a:ext cx="6782040" cy="2300400"/>
        </p:xfrm>
        <a:graphic>
          <a:graphicData uri="http://schemas.openxmlformats.org/drawingml/2006/table">
            <a:tbl>
              <a:tblPr/>
              <a:tblGrid>
                <a:gridCol w="1905120"/>
                <a:gridCol w="1219320"/>
                <a:gridCol w="1218960"/>
                <a:gridCol w="1219320"/>
                <a:gridCol w="121932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hres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28195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4290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771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396252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44956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AC95-CB9D-44F5-98A3-350B82E5FFE9}" type="slidenum">
              <a:t>32</a:t>
            </a:fld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deal vs. Simulated nMOS I-V Plo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 nm IBM process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438280"/>
            <a:ext cx="1904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90720" y="1857240"/>
          <a:ext cx="711036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7240"/>
                    <a:ext cx="71103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EC45-E718-4E94-BAAF-4C3780FB58B4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N and OFF Curr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257800" y="1523880"/>
          <a:ext cx="30481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523880"/>
                    <a:ext cx="30481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7543800" y="1676520"/>
            <a:ext cx="762120" cy="5331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3047760" cy="257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8680" y="4419720"/>
            <a:ext cx="914400" cy="3045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24AB4-4727-472F-AC30-3279A13F965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ic Fields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s carriers int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s carriers from drain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v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952880" y="1600200"/>
            <a:ext cx="1143000" cy="380520"/>
            <a:chOff x="4952880" y="1600200"/>
            <a:chExt cx="1143000" cy="380520"/>
          </a:xfrm>
        </p:grpSpPr>
        <p:sp>
          <p:nvSpPr>
            <p:cNvPr id="75" name=""/>
            <p:cNvSpPr/>
            <p:nvPr/>
          </p:nvSpPr>
          <p:spPr>
            <a:xfrm>
              <a:off x="4952880" y="160020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52880" y="198072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800600" y="2895480"/>
            <a:ext cx="1295280" cy="380880"/>
            <a:chOff x="4800600" y="2895480"/>
            <a:chExt cx="1295280" cy="380880"/>
          </a:xfrm>
        </p:grpSpPr>
        <p:sp>
          <p:nvSpPr>
            <p:cNvPr id="78" name=""/>
            <p:cNvSpPr/>
            <p:nvPr/>
          </p:nvSpPr>
          <p:spPr>
            <a:xfrm>
              <a:off x="4800600" y="28954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0600" y="32763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24BFB-2A93-4351-8846-8B24E097F047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ffee Cart Ana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d student runs from VLSI lab to coffee 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men are pouring out of the physics lecture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how long you have been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velocity = fatig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ind blowing you against the glass 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are buffeted against the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scatter off freshmen, fall down, g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confuse this with the satura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3679C-04F2-405A-BA22-CD44FE33351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bility Degrad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ively 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oxid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315200" cy="17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CCF86-5E9B-49E7-A55E-07B36A0B239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ocity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rrier velocity roll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scatter off atoms in silicon lat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reach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es: 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228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2971800" cy="174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14800" y="4572000"/>
            <a:ext cx="1428840" cy="979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449440" cy="291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D787-E3C3-445F-BCDE-E2BB5D90217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48Z</dcterms:modified>
  <cp:revision>1801</cp:revision>
  <dc:subject/>
  <dc:title>PowerPoint Presentation</dc:title>
</cp:coreProperties>
</file>