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jpeg" ContentType="image/jpeg"/>
  <Override PartName="/ppt/media/image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9601200" cy="7315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601200" cy="731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160880" cy="365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3"/>
          </p:nvPr>
        </p:nvSpPr>
        <p:spPr>
          <a:xfrm>
            <a:off x="5440320" y="0"/>
            <a:ext cx="4160880" cy="365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sldImg"/>
          </p:nvPr>
        </p:nvSpPr>
        <p:spPr>
          <a:xfrm>
            <a:off x="2971440" y="547200"/>
            <a:ext cx="3662280" cy="27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1282680" y="3476520"/>
            <a:ext cx="7035840" cy="3291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ftr" idx="4"/>
          </p:nvPr>
        </p:nvSpPr>
        <p:spPr>
          <a:xfrm>
            <a:off x="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 type="sldNum" idx="5"/>
          </p:nvPr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E53BE7-2F01-4892-9011-481BE4FEDB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C712C2-352C-412B-A01B-8CAA4A4C5A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2971800" y="547560"/>
            <a:ext cx="3662280" cy="274644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1282680" y="3476520"/>
            <a:ext cx="7035840" cy="32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EF8D13-AC36-46F1-9A15-9F5DCAAA38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2971800" y="547560"/>
            <a:ext cx="3662280" cy="274644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1282680" y="3476520"/>
            <a:ext cx="7035840" cy="32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8C8172-B1BB-4386-9E47-7B5B4D720B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2971800" y="547560"/>
            <a:ext cx="3662280" cy="274644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1282680" y="3476520"/>
            <a:ext cx="7035840" cy="32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ACD8BF-6734-4184-9FA3-A896022A13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2971800" y="547560"/>
            <a:ext cx="3662280" cy="274644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1282680" y="3476520"/>
            <a:ext cx="7035840" cy="32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EA1173-0D17-49DC-B352-5C504E0FE5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2971800" y="547560"/>
            <a:ext cx="3662280" cy="274644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1282680" y="3476520"/>
            <a:ext cx="7035840" cy="32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1A4A70-4DF5-474F-BB45-60B57C4B1E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2971800" y="547560"/>
            <a:ext cx="3662280" cy="274644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1282680" y="3476520"/>
            <a:ext cx="7035840" cy="32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E342D3-6C8F-4F1D-8D75-94CB01A0FF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2971800" y="547560"/>
            <a:ext cx="3662280" cy="274644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1282680" y="3476520"/>
            <a:ext cx="7035840" cy="32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B0A2E4-A652-4DB7-BCC1-0E3411688A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2971800" y="547560"/>
            <a:ext cx="3662280" cy="274644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1282680" y="3476520"/>
            <a:ext cx="7035840" cy="32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46EEB7-E3B3-44FE-88A0-5DD627E499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2971800" y="547560"/>
            <a:ext cx="3662280" cy="274644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1282680" y="3476520"/>
            <a:ext cx="7035840" cy="32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4DF79B-CFD3-41FA-880F-92C97C1958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2971800" y="547560"/>
            <a:ext cx="3662280" cy="274644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1282680" y="3476520"/>
            <a:ext cx="7035840" cy="32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5C0ACD-8816-4538-919F-2A61DC8118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2971800" y="547560"/>
            <a:ext cx="3662280" cy="274644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1282680" y="3476520"/>
            <a:ext cx="7035840" cy="32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67BCFC-4DCC-4E85-A165-76AEEA1110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2971800" y="547560"/>
            <a:ext cx="3662280" cy="274644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1282680" y="3476520"/>
            <a:ext cx="7035840" cy="32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98CC5B-6E82-4E09-9853-97D17100C8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2971800" y="547560"/>
            <a:ext cx="3662280" cy="274644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1282680" y="3476520"/>
            <a:ext cx="7035840" cy="32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A27515-4297-49F9-8C7D-A85EF7602A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2971800" y="547560"/>
            <a:ext cx="3662280" cy="274644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1282680" y="3476520"/>
            <a:ext cx="7035840" cy="32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57A9B6-6464-4889-B4AE-4C42139522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2971800" y="547560"/>
            <a:ext cx="3662280" cy="274644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1282680" y="3476520"/>
            <a:ext cx="7035840" cy="32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E02CC9-4AE9-4258-A706-0EB500840F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2971800" y="547560"/>
            <a:ext cx="3662280" cy="274644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1282680" y="3476520"/>
            <a:ext cx="7035840" cy="32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95C16F-10CC-4EFA-8A0C-3E277FA6DA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2971800" y="547560"/>
            <a:ext cx="3662280" cy="27464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1282680" y="3476520"/>
            <a:ext cx="7035840" cy="32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3FA2F5-669E-442F-A3DA-7042E2BFDD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2971800" y="547560"/>
            <a:ext cx="3662280" cy="274644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1282680" y="3476520"/>
            <a:ext cx="7035840" cy="32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DE792C-52EA-46E8-87B3-4A559C4E20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2971800" y="547560"/>
            <a:ext cx="3662280" cy="274644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1282680" y="3476520"/>
            <a:ext cx="7035840" cy="32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1FC366-E43D-4399-AAD7-B89CD26CD7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36DD90-394F-4E93-8B8B-C7DB88DA20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9CB0D9-E602-4F72-AFAE-0C47F27D06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7F5AE5-6827-407D-B9C6-0010E33B874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F7D965-8C25-49D3-BC22-FA1A7D1B4CF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325EDA-21C4-46E8-BD62-7974170063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2A560F-A50D-48B7-B858-ACB4BC7DC7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9725E3-1353-4610-8A96-E3B3B9B996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8C44FB-446A-4B8D-A2C7-3AC160190F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318ACA-F228-41B7-ADEF-4F26EBBDC4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C876DC-915A-4765-8410-C26B7C1D8C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72ABB0-1BA2-428A-A602-C2DF7F04F0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3: CMOS Transistor The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8E7A3-0A2E-4113-A6ED-03EBF1CF7DBF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Line 7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8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Line 9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Line 10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Rectangle 11"/>
          <p:cNvSpPr/>
          <p:nvPr/>
        </p:nvSpPr>
        <p:spPr>
          <a:xfrm>
            <a:off x="685800" y="6095880"/>
            <a:ext cx="7772400" cy="152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Rectangle 12"/>
          <p:cNvSpPr/>
          <p:nvPr/>
        </p:nvSpPr>
        <p:spPr>
          <a:xfrm>
            <a:off x="685800" y="1295280"/>
            <a:ext cx="7772400" cy="152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Text Box 13"/>
          <p:cNvSpPr/>
          <p:nvPr/>
        </p:nvSpPr>
        <p:spPr>
          <a:xfrm>
            <a:off x="3733920" y="624852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MOS VLSI Desig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Text Box 14"/>
          <p:cNvSpPr/>
          <p:nvPr/>
        </p:nvSpPr>
        <p:spPr>
          <a:xfrm>
            <a:off x="3733920" y="624852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MOS VLSI Design </a:t>
            </a:r>
            <a:r>
              <a:rPr b="1" lang="en-US" sz="1400" spc="-1" strike="noStrike" baseline="30000">
                <a:solidFill>
                  <a:srgbClr val="0000ff"/>
                </a:solidFill>
                <a:latin typeface="Arial"/>
              </a:rPr>
              <a:t>4th 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Line 4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5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6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7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952880" y="4190760"/>
            <a:ext cx="4191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ecture 3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MOS Transistor Theory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60" name="Picture 13" descr="cover"/>
          <p:cNvPicPr/>
          <p:nvPr/>
        </p:nvPicPr>
        <p:blipFill>
          <a:blip r:embed="rId1"/>
          <a:stretch/>
        </p:blipFill>
        <p:spPr>
          <a:xfrm>
            <a:off x="533520" y="762120"/>
            <a:ext cx="4381560" cy="54864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3: CMOS Transistor The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B42CD-4F6F-4050-A6D9-90A9ECE0531E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hannel Charg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 structure looks like parallel plate capacitor while operating in inver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te – oxide – chan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channe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C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 =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ε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L/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 =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g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(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g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2) –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Object 4"/>
          <p:cNvGraphicFramePr/>
          <p:nvPr/>
        </p:nvGraphicFramePr>
        <p:xfrm>
          <a:off x="5105520" y="4191120"/>
          <a:ext cx="3200400" cy="184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05520" y="4191120"/>
                    <a:ext cx="3200400" cy="184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" name="Object 5"/>
          <p:cNvGraphicFramePr/>
          <p:nvPr/>
        </p:nvGraphicFramePr>
        <p:xfrm>
          <a:off x="762120" y="4203720"/>
          <a:ext cx="4724280" cy="1789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6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4203720"/>
                    <a:ext cx="4724280" cy="178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Text Box 6"/>
          <p:cNvSpPr/>
          <p:nvPr/>
        </p:nvSpPr>
        <p:spPr>
          <a:xfrm>
            <a:off x="6248520" y="3200400"/>
            <a:ext cx="2286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ε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/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7"/>
          <p:cNvSpPr/>
          <p:nvPr/>
        </p:nvSpPr>
        <p:spPr>
          <a:xfrm>
            <a:off x="2438280" y="2819520"/>
            <a:ext cx="60984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1752480" y="3276720"/>
            <a:ext cx="52578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9"/>
          <p:cNvSpPr/>
          <p:nvPr/>
        </p:nvSpPr>
        <p:spPr>
          <a:xfrm>
            <a:off x="7086600" y="3276720"/>
            <a:ext cx="99072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10"/>
          <p:cNvSpPr/>
          <p:nvPr/>
        </p:nvSpPr>
        <p:spPr>
          <a:xfrm>
            <a:off x="1752480" y="3733920"/>
            <a:ext cx="373392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11"/>
          <p:cNvSpPr/>
          <p:nvPr/>
        </p:nvSpPr>
        <p:spPr>
          <a:xfrm>
            <a:off x="1143000" y="3200400"/>
            <a:ext cx="60948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3: CMOS Transistor The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D4316-409C-4D4C-8999-173143BFE1C5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arrier velocity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ge is carried by e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ons are propelled by the lateral electric field between source and d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 =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rier velocity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oportional to lateral E-fiel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alled mo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e for carrier to cross chann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L /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4"/>
          <p:cNvSpPr/>
          <p:nvPr/>
        </p:nvSpPr>
        <p:spPr>
          <a:xfrm>
            <a:off x="2133720" y="2819520"/>
            <a:ext cx="8380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5"/>
          <p:cNvSpPr/>
          <p:nvPr/>
        </p:nvSpPr>
        <p:spPr>
          <a:xfrm>
            <a:off x="2057400" y="3657600"/>
            <a:ext cx="38862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6"/>
          <p:cNvSpPr/>
          <p:nvPr/>
        </p:nvSpPr>
        <p:spPr>
          <a:xfrm>
            <a:off x="2057400" y="4572000"/>
            <a:ext cx="76212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3: CMOS Transistor The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DCDDE-9A7A-4D7D-A7A6-5511627023F8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nMOS Linear I-V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w we kn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much charge 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channe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in the chan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much tim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ach carrier takes to cro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4"/>
          <p:cNvSpPr/>
          <p:nvPr/>
        </p:nvSpPr>
        <p:spPr>
          <a:xfrm>
            <a:off x="3535200" y="281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5" name="Object 5"/>
          <p:cNvGraphicFramePr/>
          <p:nvPr/>
        </p:nvGraphicFramePr>
        <p:xfrm>
          <a:off x="762120" y="2895480"/>
          <a:ext cx="4724280" cy="277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895480"/>
                    <a:ext cx="4724280" cy="277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7" name="Rectangle 6"/>
          <p:cNvSpPr/>
          <p:nvPr/>
        </p:nvSpPr>
        <p:spPr>
          <a:xfrm>
            <a:off x="4172040" y="323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8" name="Object 7"/>
          <p:cNvGraphicFramePr/>
          <p:nvPr/>
        </p:nvGraphicFramePr>
        <p:xfrm>
          <a:off x="6248520" y="4724280"/>
          <a:ext cx="1752480" cy="870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9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248520" y="4724280"/>
                    <a:ext cx="1752480" cy="87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" name="Rectangle 8"/>
          <p:cNvSpPr/>
          <p:nvPr/>
        </p:nvSpPr>
        <p:spPr>
          <a:xfrm>
            <a:off x="1523880" y="2895480"/>
            <a:ext cx="106704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1523880" y="3809880"/>
            <a:ext cx="396252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10"/>
          <p:cNvSpPr/>
          <p:nvPr/>
        </p:nvSpPr>
        <p:spPr>
          <a:xfrm>
            <a:off x="1523880" y="4724280"/>
            <a:ext cx="655344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8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8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9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3: CMOS Transistor The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9D723-8C93-421F-8330-D44B991E752A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nMOS Saturation I-V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g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lt;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channel pinches off near d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gt;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sa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g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w drain voltage no longer increases cur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4"/>
          <p:cNvSpPr/>
          <p:nvPr/>
        </p:nvSpPr>
        <p:spPr>
          <a:xfrm>
            <a:off x="4011480" y="323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8" name="Object 5"/>
          <p:cNvGraphicFramePr/>
          <p:nvPr/>
        </p:nvGraphicFramePr>
        <p:xfrm>
          <a:off x="1219320" y="2971800"/>
          <a:ext cx="4267080" cy="189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971800"/>
                    <a:ext cx="4267080" cy="189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" name="Rectangle 6"/>
          <p:cNvSpPr/>
          <p:nvPr/>
        </p:nvSpPr>
        <p:spPr>
          <a:xfrm>
            <a:off x="4191120" y="1981080"/>
            <a:ext cx="11430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7"/>
          <p:cNvSpPr/>
          <p:nvPr/>
        </p:nvSpPr>
        <p:spPr>
          <a:xfrm>
            <a:off x="1981080" y="2971800"/>
            <a:ext cx="350532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8"/>
          <p:cNvSpPr/>
          <p:nvPr/>
        </p:nvSpPr>
        <p:spPr>
          <a:xfrm>
            <a:off x="1981080" y="3962520"/>
            <a:ext cx="18288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9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0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0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3: CMOS Transistor The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30399-756D-49D6-ABFA-150059BDA215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nMOS I-V Summary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Rectangle 3"/>
          <p:cNvSpPr/>
          <p:nvPr/>
        </p:nvSpPr>
        <p:spPr>
          <a:xfrm>
            <a:off x="2960640" y="2808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4"/>
          <p:cNvSpPr/>
          <p:nvPr/>
        </p:nvSpPr>
        <p:spPr>
          <a:xfrm>
            <a:off x="2960640" y="2808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5"/>
          <p:cNvSpPr/>
          <p:nvPr/>
        </p:nvSpPr>
        <p:spPr>
          <a:xfrm>
            <a:off x="2960640" y="2808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Rectangle 6"/>
          <p:cNvSpPr/>
          <p:nvPr/>
        </p:nvSpPr>
        <p:spPr>
          <a:xfrm>
            <a:off x="2583000" y="318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7"/>
          <p:cNvSpPr/>
          <p:nvPr/>
        </p:nvSpPr>
        <p:spPr>
          <a:xfrm>
            <a:off x="2960640" y="2808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1" name="Object 8"/>
          <p:cNvGraphicFramePr/>
          <p:nvPr/>
        </p:nvGraphicFramePr>
        <p:xfrm>
          <a:off x="685800" y="2590920"/>
          <a:ext cx="7772400" cy="299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2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7772400" cy="299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hockle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der transistor 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3: CMOS Transistor The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4DA84-1FAC-4DE4-AEBE-4953AA79E525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will be using a 0.6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 process for your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AMI Semicondu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100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350 c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V*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0.7 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 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vs.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g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0, 1, 2, 3, 4,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W/L = 4/2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6"/>
          <p:cNvSpPr/>
          <p:nvPr/>
        </p:nvSpPr>
        <p:spPr>
          <a:xfrm>
            <a:off x="2697120" y="23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9" name="Object 5"/>
          <p:cNvGraphicFramePr/>
          <p:nvPr/>
        </p:nvGraphicFramePr>
        <p:xfrm>
          <a:off x="728640" y="5334120"/>
          <a:ext cx="4943520" cy="64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8640" y="5334120"/>
                    <a:ext cx="4943520" cy="64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1" name="Object 4"/>
          <p:cNvGraphicFramePr/>
          <p:nvPr/>
        </p:nvGraphicFramePr>
        <p:xfrm>
          <a:off x="4572000" y="2514600"/>
          <a:ext cx="4191120" cy="3132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2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2514600"/>
                    <a:ext cx="4191120" cy="31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3: CMOS Transistor The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06153-1DD2-435E-9B2D-E7307D986CB5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MOS I-V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pings and voltages are inverted for pM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urce is the more positive termi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bilit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μ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determined by ho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ically 2-3x lower than that of electron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μ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0 c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V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in AMI 0.6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us pMOS must be wider 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same cur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is class, assum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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μ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/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μ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7" name="Object 5"/>
          <p:cNvGraphicFramePr/>
          <p:nvPr/>
        </p:nvGraphicFramePr>
        <p:xfrm>
          <a:off x="5715000" y="3581280"/>
          <a:ext cx="2789280" cy="253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15000" y="3581280"/>
                    <a:ext cx="2789280" cy="253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3: CMOS Transistor The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2841E-F29B-436D-8BF2-E5BF79DDB2CE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apacitanc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 two conductors separated by an insulator have capaci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te to channel capacitor is very import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s channel charge necessary for op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urce and drain have capacitance to bo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ross reverse-biased di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ed diffusion capacitance because it is associated with source/drain diff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3: CMOS Transistor The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CACBE-5BE2-47B7-8CC5-66D693F60359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Gate Capacitanc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roximate channel as connected to 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g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ε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L/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L =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permicr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permicr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ypically about 2 fF/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7" name="Object 4"/>
          <p:cNvGraphicFramePr/>
          <p:nvPr/>
        </p:nvGraphicFramePr>
        <p:xfrm>
          <a:off x="685800" y="3048120"/>
          <a:ext cx="7543800" cy="2857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3048120"/>
                    <a:ext cx="7543800" cy="285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3: CMOS Transistor The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C7239-BFDE-447E-A985-4404451A9A5C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iffusion Capacitanc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s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sirable, calle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arasit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apaci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acitance depends on area and perim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small diffusion n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rable to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contacted di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½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uncontac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s with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5"/>
          <p:cNvSpPr/>
          <p:nvPr/>
        </p:nvSpPr>
        <p:spPr>
          <a:xfrm>
            <a:off x="2629080" y="209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4" name="Picture 6" descr=""/>
          <p:cNvPicPr/>
          <p:nvPr/>
        </p:nvPicPr>
        <p:blipFill>
          <a:blip r:embed="rId1"/>
          <a:stretch/>
        </p:blipFill>
        <p:spPr>
          <a:xfrm>
            <a:off x="4495680" y="3540240"/>
            <a:ext cx="4011840" cy="22669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3: CMOS Transistor The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E314B-1947-4BF8-B390-1BDAEBAFF0DE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 Capaci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MOS I-V Character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MOS I-V Character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te and Diffusion Capaci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3: CMOS Transistor The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31B9F-B88B-425D-80D8-0D248B57387E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 far, we have treated transistors as ideal swit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ON transistor passes a finite amount of cur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ends on terminal vol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rive current-voltage (I-V) relationsh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istor gate, source, drain all have capaci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= C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/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) -&gt;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 = (C/I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acitance and current determine sp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Object 5"/>
          <p:cNvGraphicFramePr/>
          <p:nvPr/>
        </p:nvGraphicFramePr>
        <p:xfrm>
          <a:off x="762120" y="5105520"/>
          <a:ext cx="7619760" cy="925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5105520"/>
                    <a:ext cx="7619760" cy="92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Footer Placeholder 5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3: CMOS Transistor The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E5D5D-FC30-4A9C-8DB5-E5F888DF8CD8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" name="Object 4"/>
          <p:cNvGraphicFramePr/>
          <p:nvPr/>
        </p:nvGraphicFramePr>
        <p:xfrm>
          <a:off x="3505320" y="1981080"/>
          <a:ext cx="4495680" cy="4151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1981080"/>
                    <a:ext cx="4495680" cy="415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MOS Capacito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te and body form MOS capaci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rating mo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um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ple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ver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" name="Object 5"/>
          <p:cNvGraphicFramePr/>
          <p:nvPr/>
        </p:nvGraphicFramePr>
        <p:xfrm>
          <a:off x="3505320" y="3352680"/>
          <a:ext cx="4572000" cy="2808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8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05320" y="3352680"/>
                    <a:ext cx="4572000" cy="280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" name="Object 7"/>
          <p:cNvGraphicFramePr/>
          <p:nvPr/>
        </p:nvGraphicFramePr>
        <p:xfrm>
          <a:off x="3581280" y="4751280"/>
          <a:ext cx="4038840" cy="1325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81280" y="4751280"/>
                    <a:ext cx="4038840" cy="132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500" autoRev="1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52,51,51)"/>
                                      </p:to>
                                    </p:set>
                                    <p:set>
                                      <p:cBhvr>
                                        <p:cTn id="7" dur="500" autoRev="1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52,51,51)"/>
                                      </p:to>
                                    </p:set>
                                    <p:set>
                                      <p:cBhvr>
                                        <p:cTn id="8" dur="500" autoRev="1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" dur="500" autoRev="1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52,51,51)"/>
                                      </p:to>
                                    </p:set>
                                    <p:set>
                                      <p:cBhvr>
                                        <p:cTn id="17" dur="500" autoRev="1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52,51,51)"/>
                                      </p:to>
                                    </p:set>
                                    <p:set>
                                      <p:cBhvr>
                                        <p:cTn id="18" dur="500" autoRev="1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" dur="500" autoRev="1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52,51,51)"/>
                                      </p:to>
                                    </p:set>
                                    <p:set>
                                      <p:cBhvr>
                                        <p:cTn id="27" dur="500" autoRev="1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52,51,51)"/>
                                      </p:to>
                                    </p:set>
                                    <p:set>
                                      <p:cBhvr>
                                        <p:cTn id="28" dur="500" autoRev="1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3: CMOS Transistor The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2BF43-2330-4DD1-A0B5-085377832071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Terminal Voltag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46400" indent="-44640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e of operation depends on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44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g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44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g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44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d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g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g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400" indent="-44640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and drain are symmetric diffusion termin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44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convention, source is terminal at lower volt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44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nce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d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≥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400" indent="-44640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MOS body is grounded.  First assume source is 0 to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400" indent="-44640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ree regions of ope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44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uto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44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44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atu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Object 4"/>
          <p:cNvGraphicFramePr/>
          <p:nvPr/>
        </p:nvGraphicFramePr>
        <p:xfrm>
          <a:off x="6629400" y="1447920"/>
          <a:ext cx="2133720" cy="176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29400" y="1447920"/>
                    <a:ext cx="2133720" cy="176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3: CMOS Transistor The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B0310-5DD0-4BD5-B32B-5CB61CF8626E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nMOS Cutoff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han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Object 4"/>
          <p:cNvGraphicFramePr/>
          <p:nvPr/>
        </p:nvGraphicFramePr>
        <p:xfrm>
          <a:off x="4267080" y="2743200"/>
          <a:ext cx="4113360" cy="217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7080" y="2743200"/>
                    <a:ext cx="4113360" cy="217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3: CMOS Transistor The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6B89B-D2E9-4773-A4E6-70917BE76F7B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nMOS Linea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nel for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flows from d to 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rom s to 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creases with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ilar to linear resis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Object 5"/>
          <p:cNvGraphicFramePr/>
          <p:nvPr/>
        </p:nvGraphicFramePr>
        <p:xfrm>
          <a:off x="4419720" y="2286000"/>
          <a:ext cx="4113000" cy="3811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19720" y="2286000"/>
                    <a:ext cx="4113000" cy="381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3: CMOS Transistor The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642CE-C3FC-4D40-A741-BB6F967AABEC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nMOS Satur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nel pinches o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dependent of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ay current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tur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ilar to current 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Object 4"/>
          <p:cNvGraphicFramePr/>
          <p:nvPr/>
        </p:nvGraphicFramePr>
        <p:xfrm>
          <a:off x="4343400" y="3657600"/>
          <a:ext cx="4113360" cy="1879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43400" y="3657600"/>
                    <a:ext cx="4113360" cy="187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3: CMOS Transistor The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211B4-CCEF-4CCC-9C71-72D734FDB4DE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I-V Characteristic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Linear region, 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pends 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much charge is in the channe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fast is the charge mov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03:13:39Z</dcterms:created>
  <dc:creator>David Harris</dc:creator>
  <dc:description/>
  <dc:language>en-US</dc:language>
  <cp:lastModifiedBy>David Harris</cp:lastModifiedBy>
  <dcterms:modified xsi:type="dcterms:W3CDTF">2015-01-29T22:13:10Z</dcterms:modified>
  <cp:revision>552</cp:revision>
  <dc:subject/>
  <dc:title>PowerPoint Presentation</dc:title>
</cp:coreProperties>
</file>