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440" y="547200"/>
            <a:ext cx="3662280" cy="27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37568-895D-4B13-A72D-02CB9EB29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BEF09-4D91-4A31-8529-57CDF3169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71519-12ED-477F-84F5-7AB805ACD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8F234-A411-4AFB-96B0-DAE97F652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B33D5-5301-47C2-AF49-C8D65768A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38439-730B-48B7-920A-8B70501CB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0EFC7-BEE7-4CBB-B47F-BC8CB97AF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BCDCB-97C6-40EA-BB83-FA1CD2619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1B5DB-CE75-45F3-965A-CD9267F5C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1685B-7675-4AFE-A2C6-98478A4AC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FC8DC-9CE9-423B-B78E-860287E61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3CEA0-48CF-41D6-81DC-145C34029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B5AA7-22D6-4560-B009-13227516A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F7184-89DF-4ACF-B007-5D8E6E5B3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79B48-B487-40A3-8E4E-06D2CED6C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3AB50-CCE3-4C35-9303-389704EEB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64622-B9A9-4620-9604-354EAA574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4CA9E-39B6-404A-9123-9DC2367D2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979FE-7CB6-4EC9-8397-5F0F4E0A0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E3005-2EFB-4600-950D-E13F40356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4547-C889-4B92-88CF-4DD899429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4AAE-6A22-438E-B468-2518284A9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DB01-0C26-40E5-A30A-7CA57404A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97BB-AF8E-4EC7-92F3-97495FAB7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ADA6-95AA-4560-8D5C-7F1EF88415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C01D-D21A-4883-989A-A4E3AE413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0BAA-C40E-470E-B2D8-A294477A0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A070-CF68-484C-902E-4D45FC02A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65C1-B331-44E3-A56E-75302ED14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E0020-A0DA-48BD-9E00-C99878C97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DC5CD-17A7-4AF1-BF6F-B41D2E8F0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A6196-C155-4B7A-A4E3-696B5F581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44BA-40A7-429B-8305-1031C408347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3F26-C831-4BC0-BB5E-A76284620CC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6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438280" y="2819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752480" y="327672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086600" y="3276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52480" y="3733920"/>
            <a:ext cx="3733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143000" y="32004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1A2C-7015-4C88-9E01-E9C8FCEC31E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are propelled by the lateral electric 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133720" y="2819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057400" y="3657600"/>
            <a:ext cx="388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057400" y="457200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FA56-9F3C-4485-B9D9-3741EA133F7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7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8"/>
          <p:cNvSpPr/>
          <p:nvPr/>
        </p:nvSpPr>
        <p:spPr>
          <a:xfrm>
            <a:off x="1523880" y="289548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523880" y="3809880"/>
            <a:ext cx="3962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523880" y="472428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CCE9-402F-4F9C-92EB-C638F7C3E1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6"/>
          <p:cNvSpPr/>
          <p:nvPr/>
        </p:nvSpPr>
        <p:spPr>
          <a:xfrm>
            <a:off x="4191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981080" y="2971800"/>
            <a:ext cx="3505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981080" y="39625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8D04-A47C-49DD-A4FD-129C02132A7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BA38-D570-480E-8347-EB04C83D85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728640" y="5334120"/>
          <a:ext cx="49435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334120"/>
                    <a:ext cx="4943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3210-5500-460E-8481-3A9132A3E24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67D2-A3F7-4572-A266-D2113B70807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1EC8-4B38-4F02-B5C2-C881389FF4C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5800" y="3048120"/>
          <a:ext cx="7543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7543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A176-37D3-4E8A-9346-C33B1934B3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4495680" y="3540240"/>
            <a:ext cx="4011840" cy="22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540D-170D-44B8-9276-F61E7E54768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64E8-AFB1-456D-9D9C-DA13DEBEA3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1DDC-ED97-4B11-B7A3-0AA6087BA7A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3505320" y="1981080"/>
          <a:ext cx="449568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44956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505320" y="3352680"/>
          <a:ext cx="45720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457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7"/>
          <p:cNvGraphicFramePr/>
          <p:nvPr/>
        </p:nvGraphicFramePr>
        <p:xfrm>
          <a:off x="3581280" y="4751280"/>
          <a:ext cx="4038840" cy="13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751280"/>
                    <a:ext cx="40388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93FA-6079-424F-93AA-DA3BF6467E0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≥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A6CF-56DB-403F-956E-0116D6F0EE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4207-234C-49BB-A9B5-82FDC4D2517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4419720" y="2286000"/>
          <a:ext cx="411300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41130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02F1-599E-4247-A0C7-CF011F8DF4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AF98-EC09-4675-BFBF-C3DCBF83FDC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9T22:13:10Z</dcterms:modified>
  <cp:revision>552</cp:revision>
  <dc:subject/>
  <dc:title>PowerPoint Presentation</dc:title>
</cp:coreProperties>
</file>