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3.wmf" ContentType="image/x-wmf"/>
  <Override PartName="/ppt/media/image30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42.wmf" ContentType="image/x-wmf"/>
  <Override PartName="/ppt/media/image28.png" ContentType="image/png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1.png" ContentType="image/png"/>
  <Override PartName="/ppt/media/image45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45B14-D716-478F-BDA0-E943670D7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02F32-33CC-48DD-9011-64CAB4C58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A3633-91B2-44F8-A1CA-5B6019F835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B20FD-E6C8-41F3-A51F-FBD521242A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8CF83-CF48-447F-A61D-6B48482A4A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064F-4C06-45DB-843B-8B5485E80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68CA-77B8-4910-9C9D-D6DF4159A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FDB18-D95D-498D-B52E-D09A6224F8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4B837-4E59-4DC2-85E8-F8D1437CF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9C4CE-CA04-44AE-B581-C58D20AD6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D44BE-7FD6-411F-B726-3C96D18B9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D317-8F0E-40FB-9822-0760F5C16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4A78-E389-4754-B37C-A78FBC02A9F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, ROM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C4844-65DE-4376-AF7E-EB8D4EE8F4A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te RO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83348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333760" cy="46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009E2-CBD4-423C-B15C-E354C5DD33F4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Ms and EP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rray with transistors at ever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out fuses to disable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oating gate to turn off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M, EEPROM,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14600" y="4114800"/>
          <a:ext cx="403848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114800"/>
                    <a:ext cx="403848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C2CDA-E8AC-44F7-9433-7ED5AE5FE6B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ash Program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on floating gate determin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1: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0: posi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erased to 1 by applying a high body voltage so that electrons tunnel off floating gate into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to 0 by applying high gate vol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00200" y="4370400"/>
            <a:ext cx="5715000" cy="14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E0F3-713C-40F1-9705-F8F39DDC11B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ensity, low cost /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one pag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sed one block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96-bi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pages / 8 KB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locks /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51460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3AF49-733D-4139-85C4-65F080B5FF6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4 Gb 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K cells /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its / cell (multipl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cells /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 pages /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K blocks /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416400" cy="396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02360" y="56689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1E6A7-E59C-45A6-ACA5-81B10F9B1E68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ding Logic with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OM as lookup table containing tru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 requir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ds x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function is easy – reprogram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, s bits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+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x 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OM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4038480"/>
          <a:ext cx="222552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222552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43400" y="4495680"/>
          <a:ext cx="297180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495680"/>
                    <a:ext cx="29718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1981080"/>
            <a:ext cx="304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73392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7339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24118-2FEB-4C5C-BEB3-7FE584117E24}" type="slidenum">
              <a:t>1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build an 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ns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enn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,R) – 1 when in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ctua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step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degree turns TL, 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our ant smart enoug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out of a m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rateg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ep right antenna on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oboAnt adapted from MIT 6.004 2002 OpenCourseWare by Ward and Ter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990360" cy="112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2065320" cy="2041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5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36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8CC7-6E24-4843-BB6C-257E86DE862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st in sp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go forward until we hit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3939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199728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00D8F-54B2-4BF1-940B-0C25ED569D2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nk!!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turn left (rotate counterclockw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we don’t touch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063960" cy="19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9943-89B7-46AE-8D26-999E49181636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little to the righ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forward and turn right a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for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1152360" cy="146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3048120" cy="22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E0CCD-D416-43EA-BEE9-1F6F4B8DB6F6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-Addressable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Logic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961AC-B117-4286-8059-88FB73216887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n a little to the lef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left a little, until not tou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1006560" cy="1515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114800" cy="23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3E99-CC9C-4798-89B4-03D48881C84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oops – a corner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right until hitting nex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457520" cy="165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4038480" cy="23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96575-A398-4A23-A7CE-7D1BF92462F8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equivalent states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3429000" cy="203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429000" cy="2417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114800" y="350532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39013-8FA2-4325-8BFB-1D00D4590DD2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e Transition T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81080" y="1752480"/>
          <a:ext cx="5029200" cy="4095720"/>
        </p:xfrm>
        <a:graphic>
          <a:graphicData uri="http://schemas.openxmlformats.org/drawingml/2006/table">
            <a:tbl>
              <a:tblPr/>
              <a:tblGrid>
                <a:gridCol w="719280"/>
                <a:gridCol w="717480"/>
                <a:gridCol w="719280"/>
                <a:gridCol w="717480"/>
                <a:gridCol w="719280"/>
                <a:gridCol w="717480"/>
                <a:gridCol w="7189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 flipH="1">
            <a:off x="1676160" y="21337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590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76160" y="32004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6576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676160" y="4876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53341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76160" y="41911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4419720"/>
            <a:ext cx="228600" cy="304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9880" y="2362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" y="3429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C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040" y="41911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9040" y="51055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5868-432B-46EC-B018-9ACB63B6B037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BBF4D-1010-49C2-90C6-93A66926CA63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03E2-D388-4815-AE45-39B6E6CB3B09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ammable Logic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forms any function in sum-of-product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puts &amp;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/ Min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D of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R of Min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63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90720" y="4648320"/>
          <a:ext cx="396216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3962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257800" y="3048120"/>
          <a:ext cx="313704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048120"/>
                    <a:ext cx="3137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39031-83E1-4052-A517-19E32F1FD74A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R-NOR 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s and ORs are not very efficient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or Pseudo-nMOS NORs are ver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Morgan’s Law to convert to all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66680" y="2895480"/>
          <a:ext cx="29559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9559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648320" y="2895480"/>
          <a:ext cx="3070080" cy="308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895480"/>
                    <a:ext cx="3070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7AF4-2CC1-4B8A-978B-56282EFD0A85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 Schematic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1676520"/>
          <a:ext cx="41353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135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55932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105520" y="1600200"/>
          <a:ext cx="3268440" cy="44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600200"/>
                    <a:ext cx="3268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F7E4C-3D85-4CB5-AC12-FEC06BC30C8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 vs.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 plane of the PLA is like the ROM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D plane of the PLA is like the ROM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 are more flexible than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hav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s for n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enerate the minterms that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dvantage of logic 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0CF2-6401-41DB-B729-3A86749B2D17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of ordinary memory (e.g.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memory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e which words conta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828800" y="3048120"/>
          <a:ext cx="51055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1055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6A0DB-E8E5-4206-AB1C-63355BAEE3C8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 PL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tate transition table to log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120" y="1905120"/>
          <a:ext cx="4572000" cy="4095720"/>
        </p:xfrm>
        <a:graphic>
          <a:graphicData uri="http://schemas.openxmlformats.org/drawingml/2006/table">
            <a:tbl>
              <a:tblPr/>
              <a:tblGrid>
                <a:gridCol w="653760"/>
                <a:gridCol w="652680"/>
                <a:gridCol w="654120"/>
                <a:gridCol w="650880"/>
                <a:gridCol w="653760"/>
                <a:gridCol w="652680"/>
                <a:gridCol w="6541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1828800" cy="1468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1752480" cy="14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5943600" y="5181480"/>
          <a:ext cx="898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5181480"/>
                    <a:ext cx="898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7B5ED-3E77-4F43-A4E3-90E7C1F335A3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boAnt 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62120" y="2286000"/>
          <a:ext cx="1844640" cy="15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286000"/>
                    <a:ext cx="18446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09E52-DDAD-4EB9-A7BA-79F59554089A}" type="slidenum">
              <a:t>31</a:t>
            </a:fld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0T C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four match transistors to 6T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 x 4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2743200"/>
          <a:ext cx="28670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28670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191120" y="2819520"/>
          <a:ext cx="3733560" cy="28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819520"/>
                    <a:ext cx="373356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67F08-3C46-42A4-B919-DBAC8CFF4471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 Cell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like ordinary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tc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wordlin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match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key on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lines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NOR of match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high if no words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1905120"/>
          <a:ext cx="388620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38862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9513-D6FA-491F-8664-A70962929A2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d-Only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 are non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their contents when power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-programmed ROMs use one transistor per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or absence determines 1 o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F885C-272F-40BA-A0DE-FE62E0AE1422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word x 6-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ed with dot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s indicate 1’s in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600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0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1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3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90720" y="2819520"/>
          <a:ext cx="43434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43434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486400" y="3657600"/>
          <a:ext cx="274320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27432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71360" y="571500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s like 6 4-input pseudo-nMOS N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1298-9A7A-49FF-AE5D-5F17EB6D020F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Array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cell is 12 x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1/10 size of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2286000"/>
          <a:ext cx="579096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9096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4475-5B70-4083-B9F1-2406D9BCA72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w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row decoders must pitch-match with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single track per wo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700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6933960" cy="36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732B-E252-456A-8991-80CE1F6D7AB9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7T03:36:16Z</dcterms:modified>
  <cp:revision>1567</cp:revision>
  <dc:subject/>
  <dc:title>PowerPoint Presentation</dc:title>
</cp:coreProperties>
</file>