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25.png" ContentType="image/png"/>
  <Override PartName="/ppt/media/image15.wmf" ContentType="image/x-wmf"/>
  <Override PartName="/ppt/media/image7.png" ContentType="image/png"/>
  <Override PartName="/ppt/media/image6.wmf" ContentType="image/x-wmf"/>
  <Override PartName="/ppt/media/image11.wmf" ContentType="image/x-wmf"/>
  <Override PartName="/ppt/media/image16.wmf" ContentType="image/x-wmf"/>
  <Override PartName="/ppt/media/image8.png" ContentType="image/png"/>
  <Override PartName="/ppt/media/image27.png" ContentType="image/png"/>
  <Override PartName="/ppt/media/image4.png" ContentType="image/png"/>
  <Override PartName="/ppt/media/image12.wmf" ContentType="image/x-wmf"/>
  <Override PartName="/ppt/media/image13.png" ContentType="image/png"/>
  <Override PartName="/ppt/media/image17.wmf" ContentType="image/x-wmf"/>
  <Override PartName="/ppt/media/image9.png" ContentType="image/png"/>
  <Override PartName="/ppt/media/image30.jpeg" ContentType="image/jpeg"/>
  <Override PartName="/ppt/media/image10.png" ContentType="image/png"/>
  <Override PartName="/ppt/media/image5.png" ContentType="image/png"/>
  <Override PartName="/ppt/media/image3.wmf" ContentType="image/x-wmf"/>
  <Override PartName="/ppt/media/image26.wmf" ContentType="image/x-wmf"/>
  <Override PartName="/ppt/media/image1.png" ContentType="image/png"/>
  <Override PartName="/ppt/media/image14.wmf" ContentType="image/x-wmf"/>
  <Override PartName="/ppt/media/image29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21.png" ContentType="image/png"/>
  <Override PartName="/ppt/media/image19.png" ContentType="image/png"/>
  <Override PartName="/ppt/media/image22.wmf" ContentType="image/x-wmf"/>
  <Override PartName="/ppt/media/image28.jpeg" ContentType="image/jpeg"/>
  <Override PartName="/ppt/media/image23.wmf" ContentType="image/x-wmf"/>
  <Override PartName="/ppt/media/image2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601200" cy="731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3"/>
          </p:nvPr>
        </p:nvSpPr>
        <p:spPr>
          <a:xfrm>
            <a:off x="5440320" y="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ftr" idx="4"/>
          </p:nvPr>
        </p:nvSpPr>
        <p:spPr>
          <a:xfrm>
            <a:off x="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 type="sldNum" idx="5"/>
          </p:nvPr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E1285-069B-43BE-A9C9-D1A4A222C08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FFDCF-6655-4F04-B0BB-9367A59527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63E9A-84F4-4033-AE90-94EC0648493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3ADD2-B935-4963-8BD6-4244AB9BE96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C0C7C-31AE-498E-BCB0-AC8A95FEB6E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D081D-C43E-413F-8695-E60B9D8A355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E0930-EA54-41A8-9F3C-63318A02D27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ACF33-5DDE-4650-AC57-21224C82EBA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313EF-1FF3-4E50-9315-1401A13F099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BF409-8131-4F38-82F5-3B162FC75A5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1CA56-A7F3-435D-AC53-A4C877466D8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A4F8A-9E68-454E-A0D1-42800288827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E3D46-BDA7-44C9-972D-E79167C2934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33FDF-6EE2-47BB-9981-5F6E36F2C4D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7BE5C-C6BE-4B1F-8086-75F95181AF1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CA99C-A44B-4BF6-AF2E-50C043DE340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FC3EA-017B-4F77-9753-E68440C248C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AF14D-7A6C-4331-A278-C0F9531D355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86D73-D456-4AD8-90A4-7DE2CF508E2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46DE4-8D67-4991-9867-B1453789C98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13C51-A68B-4C66-84F7-493AFE783D2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72279-793B-4586-9FEC-421D351305D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FEE10-F113-4B54-AB40-7484C72EA9D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2C5F0-1CC6-4E56-9E4D-AAC40C12E35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58038-3617-4B8D-B074-AC175501915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29C74-0F33-4D15-9462-31F116DD49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80B90-9B13-4032-A72D-214F94CC463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F192B-36A4-4E6D-AA37-C585BD25356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7CC3D-6B46-42D8-9B0D-8711A657360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77E45-43EA-423A-9287-0A7BE84797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328F5-7586-491F-A218-653B790310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8DCCF-A50C-4F74-99F5-6B884380B36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C38F7-4101-4A41-9537-24C08C112F3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526A4-4AFF-422C-A63E-AA7E49B6AB3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7A053-2A56-4921-8CAA-7BEF4D8E462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E3F5D-187F-4B5C-89AC-CAB4B7204DC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730BB-3E35-4EAC-8619-518FB3D6264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89BC0-EB6D-462B-AE61-D0A03CFE7D8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1FEC7-9791-4CB4-8CB5-ABA61BA3232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9EB03-044A-4977-AAB0-29DF7A87FB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52D7A-8B41-4B65-91BD-D0DA4202202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7A444B-0B3A-42BA-BA25-94FF8E20ED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B34F7C-E371-4A77-9336-3FDA258658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BD6CFA-AB84-4BFC-B317-0210F9C263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69315E-3E9F-4769-B9BB-B1EE1BE862A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BA88EB-2F74-4FEF-94C1-5C5DCB097F2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765EA3-F155-4F65-B7F6-7933136FC0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ADEB31-674C-46EB-8F16-955D23AC90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529663-BA4F-4590-BE85-F9DD19EF0D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D9BDE9-4B37-4C03-ACDB-D13189CB31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C91864-BF28-4861-93B1-3CF2BB168C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3B19E8-3674-470B-A59C-63D33AAF9D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0DED21-2AC2-449D-AF78-F51C070967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92EC0-7EEF-4C24-9844-F07FCFD7A3C5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7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8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9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10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11"/>
          <p:cNvSpPr/>
          <p:nvPr/>
        </p:nvSpPr>
        <p:spPr>
          <a:xfrm>
            <a:off x="685800" y="6095880"/>
            <a:ext cx="7772400" cy="15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Rectangle 12"/>
          <p:cNvSpPr/>
          <p:nvPr/>
        </p:nvSpPr>
        <p:spPr>
          <a:xfrm>
            <a:off x="685800" y="1295280"/>
            <a:ext cx="7772400" cy="152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Text Box 13"/>
          <p:cNvSpPr/>
          <p:nvPr/>
        </p:nvSpPr>
        <p:spPr>
          <a:xfrm>
            <a:off x="3733920" y="624852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Text Box 14"/>
          <p:cNvSpPr/>
          <p:nvPr/>
        </p:nvSpPr>
        <p:spPr>
          <a:xfrm>
            <a:off x="3733920" y="62485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 </a:t>
            </a:r>
            <a:r>
              <a:rPr b="1" lang="en-US" sz="1400" spc="-1" strike="noStrike" baseline="30000">
                <a:solidFill>
                  <a:srgbClr val="0000ff"/>
                </a:solidFill>
                <a:latin typeface="Arial"/>
              </a:rPr>
              <a:t>4th 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Line 4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5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6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7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2880" y="419076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ecture 2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IP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rocessor Exampl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0" name="Picture 13" descr="cover"/>
          <p:cNvPicPr/>
          <p:nvPr/>
        </p:nvPicPr>
        <p:blipFill>
          <a:blip r:embed="rId1"/>
          <a:stretch/>
        </p:blipFill>
        <p:spPr>
          <a:xfrm>
            <a:off x="533520" y="762120"/>
            <a:ext cx="4381560" cy="54864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9148A-9066-4DB5-998E-AA7EEB57FED7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struction Encod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2-bit instruction enco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four cycles to fetch on 8-bit datap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2038320" y="26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" name="Object 4"/>
          <p:cNvGraphicFramePr/>
          <p:nvPr/>
        </p:nvGraphicFramePr>
        <p:xfrm>
          <a:off x="762120" y="2819520"/>
          <a:ext cx="7619760" cy="229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819520"/>
                    <a:ext cx="7619760" cy="22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CE328-6E8F-464C-9EAE-7C92ABF65E0D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Fibonacci (C)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; 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= 1, 1, 2, 3, 5, 8, 13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838080" y="2819520"/>
            <a:ext cx="7543800" cy="32241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C9F59-34E5-4290-9F5F-C56B4FD53339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Fibonacci (Assembly)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tatement: n =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we translate this to assembl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7" descr=""/>
          <p:cNvPicPr/>
          <p:nvPr/>
        </p:nvPicPr>
        <p:blipFill>
          <a:blip r:embed="rId1"/>
          <a:stretch/>
        </p:blipFill>
        <p:spPr>
          <a:xfrm>
            <a:off x="685800" y="2514600"/>
            <a:ext cx="7772400" cy="3492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1AE4B-C591-401D-A50A-E9A83F6A5618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Fibonacci (Binary)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tatement: addi $3, $0,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we translate this to machine languag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nt: use instruction encodings be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Object 6"/>
          <p:cNvGraphicFramePr/>
          <p:nvPr/>
        </p:nvGraphicFramePr>
        <p:xfrm>
          <a:off x="1523880" y="4038480"/>
          <a:ext cx="5562720" cy="167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4038480"/>
                    <a:ext cx="5562720" cy="167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1A81F-1DD2-44A9-83C4-49DE6FD0985A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Fibonacci (Binary)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hine language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7696080" cy="25416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7B41E-D811-4366-B752-F15A8A816D16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IPS Microarchitectur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cyc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tecture ( [Paterson04], [Harris07]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5"/>
          <p:cNvSpPr/>
          <p:nvPr/>
        </p:nvSpPr>
        <p:spPr>
          <a:xfrm>
            <a:off x="1828800" y="190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6" descr="0153"/>
          <p:cNvPicPr/>
          <p:nvPr/>
        </p:nvPicPr>
        <p:blipFill>
          <a:blip r:embed="rId1"/>
          <a:stretch/>
        </p:blipFill>
        <p:spPr>
          <a:xfrm>
            <a:off x="685800" y="2133720"/>
            <a:ext cx="7848720" cy="38210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A310C-C5E0-4399-9ED3-92296001FFBC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ulticycle Controll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1833480" y="87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7" name="Object 4"/>
          <p:cNvGraphicFramePr/>
          <p:nvPr/>
        </p:nvGraphicFramePr>
        <p:xfrm>
          <a:off x="2057400" y="1523880"/>
          <a:ext cx="4800600" cy="448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1523880"/>
                    <a:ext cx="4800600" cy="448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95C72-4B65-42C6-9977-140B8E278EED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ogic Desig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 at top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erarchically decompose MIPS into un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-level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2655720" y="289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4" name="Object 4"/>
          <p:cNvGraphicFramePr/>
          <p:nvPr/>
        </p:nvGraphicFramePr>
        <p:xfrm>
          <a:off x="685800" y="3124080"/>
          <a:ext cx="7543800" cy="211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124080"/>
                    <a:ext cx="7543800" cy="211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444FA-DC54-4C6F-AE72-AE2A9C055E39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lock Diagram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2305080" y="1978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Picture 10" descr="0156"/>
          <p:cNvPicPr/>
          <p:nvPr/>
        </p:nvPicPr>
        <p:blipFill>
          <a:blip r:embed="rId1"/>
          <a:stretch/>
        </p:blipFill>
        <p:spPr>
          <a:xfrm>
            <a:off x="1219320" y="1600200"/>
            <a:ext cx="6324480" cy="4441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714A6-1245-443F-805C-8450C3021959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ierarchical Desig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54" name="Object 3"/>
          <p:cNvGraphicFramePr/>
          <p:nvPr/>
        </p:nvGraphicFramePr>
        <p:xfrm>
          <a:off x="1562040" y="1523880"/>
          <a:ext cx="601812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62040" y="1523880"/>
                    <a:ext cx="601812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86E91-AEEC-409D-AB6C-655FCFCFEB98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Partitio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PS Processor 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ro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rcuit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brication, Packaging, 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9A537-CD67-4E9C-A978-9AFEC18870BE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DL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dware Descriptio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dely used in logic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ilog and VHD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hardware using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 logic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ulate logic before buil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nthesize code into gates and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a library of standard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79522-4785-4707-BFFC-07C7D015F8FF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Verilog Exampl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odu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fulladder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pu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a, b, c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outpu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s, c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u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1(a, b, c, s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arr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1(a, b, c, c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ndmo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odu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carry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pu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a, b, c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outpu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cou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ssig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cout = (a&amp;b) | (a&amp;c) | (b&amp;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ndmo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5"/>
          <p:cNvSpPr/>
          <p:nvPr/>
        </p:nvSpPr>
        <p:spPr>
          <a:xfrm>
            <a:off x="3230640" y="2671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5" name="Object 4"/>
          <p:cNvGraphicFramePr/>
          <p:nvPr/>
        </p:nvGraphicFramePr>
        <p:xfrm>
          <a:off x="5943600" y="1676520"/>
          <a:ext cx="2682720" cy="151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43600" y="1676520"/>
                    <a:ext cx="2682720" cy="15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EAB6D-2018-4D67-9E03-7A289BCFE109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ircuit Desig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logic be implement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NDs and NORs vs. ANDs and O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n-in and fan-ou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wide should transistors b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choices affect speed, area,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 synthesis makes these choices for y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enough for many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nd-crafted circuits are still be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Footer Placeholder 5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44BB0-A104-40EB-9FA5-B0F259A12D11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: Carry Logic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ssig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cout = (a&amp;b) | (a&amp;c) | (b&amp;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Object 6"/>
          <p:cNvGraphicFramePr/>
          <p:nvPr/>
        </p:nvGraphicFramePr>
        <p:xfrm>
          <a:off x="914400" y="2362320"/>
          <a:ext cx="3200400" cy="233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362320"/>
                    <a:ext cx="3200400" cy="23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" name="Text Box 5"/>
          <p:cNvSpPr/>
          <p:nvPr/>
        </p:nvSpPr>
        <p:spPr>
          <a:xfrm>
            <a:off x="2209680" y="548640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stors?  Gate Delay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8" name="Object 8"/>
          <p:cNvGraphicFramePr/>
          <p:nvPr/>
        </p:nvGraphicFramePr>
        <p:xfrm>
          <a:off x="4267080" y="2819520"/>
          <a:ext cx="4343400" cy="1892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9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67080" y="2819520"/>
                    <a:ext cx="4343400" cy="189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7A6EA-B062-4E70-A064-2B3809DE4090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Gate-level Netlis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685800" y="1600200"/>
            <a:ext cx="7772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odul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carry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pu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a, b, c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utpu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co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r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x, y, z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g1(x, a, b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g2(y, a, c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g3(z, b, c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r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g4(cout, x, y, z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modu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Object 5"/>
          <p:cNvGraphicFramePr/>
          <p:nvPr/>
        </p:nvGraphicFramePr>
        <p:xfrm>
          <a:off x="5791320" y="2362320"/>
          <a:ext cx="2743200" cy="200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1320" y="2362320"/>
                    <a:ext cx="2743200" cy="200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8479F-69B8-4B76-B41E-CE62C5C1D12F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ransistor-Level Netlis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89" name="Object 4"/>
          <p:cNvGraphicFramePr/>
          <p:nvPr/>
        </p:nvGraphicFramePr>
        <p:xfrm>
          <a:off x="4800600" y="3048120"/>
          <a:ext cx="3809880" cy="166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3048120"/>
                    <a:ext cx="3809880" cy="166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Rectangle 5"/>
          <p:cNvSpPr/>
          <p:nvPr/>
        </p:nvSpPr>
        <p:spPr>
          <a:xfrm>
            <a:off x="685800" y="1523880"/>
            <a:ext cx="571500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odul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carry(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a, b, c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out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cou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wir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i1, i2, i3, i4, cn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ranif1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n1(i1, 0, a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ranif1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n2(i1, 0, b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ranif1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n3(cn, i1, 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ranif1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n4(i2, 0, b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ranif1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n5(cn, i2, a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ranif0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1(i3, 1, a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ranif0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2(i3, 1, b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ranif0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3(cn, i3, 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ranif0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4(i4, 1, b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ranif0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5(cn, i4, a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ranif1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n6(cout, 0, cn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ranif0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6(cout, 1, cn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ndmodul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48B1A-1719-41D4-A91D-08679F46695F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PICE Netlis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1080" indent="0">
              <a:lnSpc>
                <a:spcPct val="100000"/>
              </a:lnSpc>
              <a:buNone/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BCK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CARRY A B C COUT VDD G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100000"/>
              </a:lnSpc>
              <a:buNone/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N1 I1 A GND GND NMOS W=1U L=0.18U AD=0.3P AS=0.5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100000"/>
              </a:lnSpc>
              <a:buNone/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N2 I1 B GND GND NMOS W=1U L=0.18U AD=0.3P AS=0.5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100000"/>
              </a:lnSpc>
              <a:buNone/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N3 CN C I1 GND NMOS W=1U L=0.18U AD=0.5P AS=0.5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100000"/>
              </a:lnSpc>
              <a:buNone/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N4 I2 B GND GND NMOS W=1U L=0.18U AD=0.15P AS=0.5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100000"/>
              </a:lnSpc>
              <a:buNone/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N5 CN A I2 GND NMOS W=1U L=0.18U AD=0.5P AS=0.15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100000"/>
              </a:lnSpc>
              <a:buNone/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P1 I3 A VDD VDD PMOS W=2U L=0.18U AD=0.6P AS=1 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100000"/>
              </a:lnSpc>
              <a:buNone/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P2 I3 B VDD VDD PMOS W=2U L=0.18U AD=0.6P AS=1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100000"/>
              </a:lnSpc>
              <a:buNone/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P3 CN C I3 VDD PMOS W=2U L=0.18U AD=1P AS=1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100000"/>
              </a:lnSpc>
              <a:buNone/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P4 I4 B VDD VDD PMOS W=2U L=0.18U AD=0.3P AS=1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100000"/>
              </a:lnSpc>
              <a:buNone/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P5 CN A I4 VDD PMOS W=2U L=0.18U AD=1P AS=0.3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100000"/>
              </a:lnSpc>
              <a:buNone/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N6 COUT CN GND GND NMOS W=2U L=0.18U AD=1P AS=1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100000"/>
              </a:lnSpc>
              <a:buNone/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P6 COUT CN VDD VDD PMOS W=4U L=0.18U AD=2P AS=2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100000"/>
              </a:lnSpc>
              <a:buNone/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1 I1 GND 2F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100000"/>
              </a:lnSpc>
              <a:buNone/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3 I3 GND 3F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100000"/>
              </a:lnSpc>
              <a:buNone/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 A GND 4F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100000"/>
              </a:lnSpc>
              <a:buNone/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B B GND 4F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100000"/>
              </a:lnSpc>
              <a:buNone/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C C GND 2F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100000"/>
              </a:lnSpc>
              <a:buNone/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CN CN GND 4F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100000"/>
              </a:lnSpc>
              <a:buNone/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COUT COUT GND 2F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100000"/>
              </a:lnSpc>
              <a:buNone/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DS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35593-EF65-4C29-AB05-02E19C950009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hysical Desig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oor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ce &amp; ro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pa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ce pla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a esti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04377-25E9-4F59-AC5B-4D8300AF6D43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IPS Floorpla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Picture 6" descr=""/>
          <p:cNvPicPr/>
          <p:nvPr/>
        </p:nvPicPr>
        <p:blipFill>
          <a:blip r:embed="rId1"/>
          <a:stretch/>
        </p:blipFill>
        <p:spPr>
          <a:xfrm>
            <a:off x="2311560" y="1546200"/>
            <a:ext cx="4519440" cy="45259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145BC-826B-48C0-8EFB-785C58C97712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IPS Layou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7" name="Picture 5" descr=""/>
          <p:cNvPicPr/>
          <p:nvPr/>
        </p:nvPicPr>
        <p:blipFill>
          <a:blip r:embed="rId1"/>
          <a:stretch/>
        </p:blipFill>
        <p:spPr>
          <a:xfrm>
            <a:off x="2209680" y="1447920"/>
            <a:ext cx="4646880" cy="46418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0A410-4DC3-4955-9485-61FFF1BE8E4E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Activity 2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ketch a stick diagram for a 4-input NOR g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291924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Object 5"/>
          <p:cNvGraphicFramePr/>
          <p:nvPr/>
        </p:nvGraphicFramePr>
        <p:xfrm>
          <a:off x="1676520" y="2057400"/>
          <a:ext cx="6248160" cy="394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057400"/>
                    <a:ext cx="6248160" cy="394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Rectangle 6"/>
          <p:cNvSpPr/>
          <p:nvPr/>
        </p:nvSpPr>
        <p:spPr>
          <a:xfrm>
            <a:off x="1752480" y="2057400"/>
            <a:ext cx="5257800" cy="388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CFCA3-DE6E-4001-9393-C31EFFCE3D43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tandard Cell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form cell he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form well he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1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GND ra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2 Access to I/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ll / substrate t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oits reg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6" descr="layouts.tif"/>
          <p:cNvPicPr/>
          <p:nvPr/>
        </p:nvPicPr>
        <p:blipFill>
          <a:blip r:embed="rId1"/>
          <a:stretch/>
        </p:blipFill>
        <p:spPr>
          <a:xfrm>
            <a:off x="4495680" y="1523880"/>
            <a:ext cx="3657600" cy="44751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17BD5-CD45-4F80-A8BC-7C08B96B81AD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ynthesized Controll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nthesize HDL into gate-level net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ce &amp; Route using standard cell libr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4" descr=""/>
          <p:cNvPicPr/>
          <p:nvPr/>
        </p:nvPicPr>
        <p:blipFill>
          <a:blip r:embed="rId1"/>
          <a:stretch/>
        </p:blipFill>
        <p:spPr>
          <a:xfrm>
            <a:off x="762120" y="2590920"/>
            <a:ext cx="7772400" cy="16239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6AB23-078B-4B1C-B103-017346AEA402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itch Match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nthesized controller area is mostly w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is smaller if wires run through/over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er = faster, lower power as well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snap-together cells for datapaths and arr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 wires into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nect by abu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oits loc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es lots of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5"/>
          <p:cNvSpPr/>
          <p:nvPr/>
        </p:nvSpPr>
        <p:spPr>
          <a:xfrm>
            <a:off x="3753000" y="272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3" name="Object 4"/>
          <p:cNvGraphicFramePr/>
          <p:nvPr/>
        </p:nvGraphicFramePr>
        <p:xfrm>
          <a:off x="5105520" y="3352680"/>
          <a:ext cx="3047760" cy="262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5520" y="3352680"/>
                    <a:ext cx="3047760" cy="262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B2D20-934D-4244-9CEE-CD91EBDD4665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IPS Datapath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-bit datapath built from 8 bitslices (regulari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ipper at top drives control signals to datap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5" descr=""/>
          <p:cNvPicPr/>
          <p:nvPr/>
        </p:nvPicPr>
        <p:blipFill>
          <a:blip r:embed="rId1"/>
          <a:stretch/>
        </p:blipFill>
        <p:spPr>
          <a:xfrm>
            <a:off x="990720" y="2438280"/>
            <a:ext cx="7162560" cy="36100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D7959-4AA3-46ED-A4DD-6DE9A9D98CED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lice Plan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ce plan for bitsl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ll ordering, dimensions, wiring tra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range cells for wiring loc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2053" descr=""/>
          <p:cNvPicPr/>
          <p:nvPr/>
        </p:nvPicPr>
        <p:blipFill>
          <a:blip r:embed="rId1"/>
          <a:stretch/>
        </p:blipFill>
        <p:spPr>
          <a:xfrm>
            <a:off x="914400" y="2895480"/>
            <a:ext cx="7238880" cy="31640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CA59E-D2D8-4AC7-8B7A-881337694B91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Area Estim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area estimates to make floor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e to another block you already desig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estimate from transistor cou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dget room for large wiring tra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 mileage may vary; derate by 2x for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" descr=""/>
          <p:cNvPicPr/>
          <p:nvPr/>
        </p:nvPicPr>
        <p:blipFill>
          <a:blip r:embed="rId1"/>
          <a:stretch/>
        </p:blipFill>
        <p:spPr>
          <a:xfrm>
            <a:off x="1371600" y="3699000"/>
            <a:ext cx="6248520" cy="23968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4948F-7DD4-4DBC-8E92-A8F93D8E1034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esign Verific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brication is slow &amp; expens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IS 0.6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$1000, 3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5 nm: $3M, 1 mon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bugging chips is very h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mited visibility into op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e design is right before building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 sim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kt. simulation / formal ver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yout vs. schematic compari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&amp; electrical rule che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ification is &gt; 50% of effort on most chip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4" name="Object 4"/>
          <p:cNvGraphicFramePr/>
          <p:nvPr/>
        </p:nvGraphicFramePr>
        <p:xfrm>
          <a:off x="6324480" y="1676520"/>
          <a:ext cx="2316240" cy="380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1676520"/>
                    <a:ext cx="231624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71364-0D2A-4C4A-A627-C25CF735C33C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Picture 4" descr="1"/>
          <p:cNvPicPr/>
          <p:nvPr/>
        </p:nvPicPr>
        <p:blipFill>
          <a:blip r:embed="rId1"/>
          <a:stretch/>
        </p:blipFill>
        <p:spPr>
          <a:xfrm>
            <a:off x="2057400" y="4495680"/>
            <a:ext cx="4495680" cy="1424160"/>
          </a:xfrm>
          <a:prstGeom prst="rect">
            <a:avLst/>
          </a:prstGeom>
          <a:ln w="0">
            <a:noFill/>
          </a:ln>
        </p:spPr>
      </p:pic>
      <p:sp>
        <p:nvSpPr>
          <p:cNvPr id="249" name="Line 6"/>
          <p:cNvSpPr/>
          <p:nvPr/>
        </p:nvSpPr>
        <p:spPr>
          <a:xfrm flipV="1">
            <a:off x="4114800" y="1600200"/>
            <a:ext cx="1066680" cy="327672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Line 7"/>
          <p:cNvSpPr/>
          <p:nvPr/>
        </p:nvSpPr>
        <p:spPr>
          <a:xfrm flipV="1">
            <a:off x="4419720" y="3809520"/>
            <a:ext cx="3733560" cy="129564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Fabrication &amp; Packag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peout final lay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br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, 8, 12” waf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mized for throughput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latency (10 weeks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t into individual d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ckag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nd gold wires from die I/O pads to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5" descr="4E0172-50xchip"/>
          <p:cNvPicPr/>
          <p:nvPr/>
        </p:nvPicPr>
        <p:blipFill>
          <a:blip r:embed="rId2"/>
          <a:stretch/>
        </p:blipFill>
        <p:spPr>
          <a:xfrm>
            <a:off x="5257800" y="1600200"/>
            <a:ext cx="2895480" cy="21718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95B83-5F61-4F54-B244-19D78A32B7EB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est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that chip oper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err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ufacturing err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ingle dust particle or wafer defect kills a d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elds from 90% to &lt; 1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ends on die size, maturity of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each part before shipping to custo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E6B84-83E0-4CF0-B2F5-CF858192D839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ustom vs. Synthesi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-bit Implem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Picture 9" descr=""/>
          <p:cNvPicPr/>
          <p:nvPr/>
        </p:nvPicPr>
        <p:blipFill>
          <a:blip r:embed="rId1"/>
          <a:stretch/>
        </p:blipFill>
        <p:spPr>
          <a:xfrm>
            <a:off x="685800" y="2062080"/>
            <a:ext cx="4038480" cy="403380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11" descr=""/>
          <p:cNvPicPr/>
          <p:nvPr/>
        </p:nvPicPr>
        <p:blipFill>
          <a:blip r:embed="rId2"/>
          <a:stretch/>
        </p:blipFill>
        <p:spPr>
          <a:xfrm>
            <a:off x="4844880" y="2133720"/>
            <a:ext cx="3689640" cy="36972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A8F0C-FDB8-4024-A96D-017526B6946F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oping with Complexit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design System-on-Chip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millions (even billions!) of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ns to hundreds of engine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uctured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Partitio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FC335-E2A4-48DD-B919-D7ACC09E0A13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IPS R3000 Processo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2-bit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eneration commercial processor (198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d by John Hennessy (Stanford, MIPS Found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2-64 KB Ca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1K Transis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 to 12-40 MH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6 m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45 I/O P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5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Wat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GI Works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4" descr="mipsr3000dielarge"/>
          <p:cNvPicPr/>
          <p:nvPr/>
        </p:nvPicPr>
        <p:blipFill>
          <a:blip r:embed="rId1"/>
          <a:stretch/>
        </p:blipFill>
        <p:spPr>
          <a:xfrm>
            <a:off x="4114800" y="2514600"/>
            <a:ext cx="3733920" cy="3257640"/>
          </a:xfrm>
          <a:prstGeom prst="rect">
            <a:avLst/>
          </a:prstGeom>
          <a:ln w="0">
            <a:noFill/>
          </a:ln>
        </p:spPr>
      </p:pic>
      <p:sp>
        <p:nvSpPr>
          <p:cNvPr id="269" name="Rectangle 6"/>
          <p:cNvSpPr/>
          <p:nvPr/>
        </p:nvSpPr>
        <p:spPr>
          <a:xfrm>
            <a:off x="4258440" y="5791320"/>
            <a:ext cx="3405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ttp://gecko54000.free.fr/?documentations=1988_MIPS_R3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A2288-9654-4BD8-BA91-C9102FEF622B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tructured Desig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erarch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Divide and Conqu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ursively system into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g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modules wherever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Standard cell libr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well-formed interf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modules to be treated as black box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c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nd tempo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F9659-9F1D-462C-8384-80DD65913BFB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esign Partition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chitectu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User’s perspective, what does it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 set,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PS, x86, Alpha, PIC, ARM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cro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le cycle, multcycle, pipelined, superscala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how are functional blocks constru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pple carry, carry lookahead, carry select ad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ircu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how are transistors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mentary CMOS, pass transistors, domi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ysic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chip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paths, memories, random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925EE-E224-4B3A-8C7A-93DB15D4BF8F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Gajski Y-Char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3116160" y="2046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Object 4"/>
          <p:cNvGraphicFramePr/>
          <p:nvPr/>
        </p:nvGraphicFramePr>
        <p:xfrm>
          <a:off x="2057400" y="1447920"/>
          <a:ext cx="4876920" cy="463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1447920"/>
                    <a:ext cx="4876920" cy="463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0BF1B-80AA-4468-82F6-2CABF8762644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IPS Architectur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subset of MIPS processor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wn from Patterson &amp; Henness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PS is a 32-bit architecture with 32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 8-bit subset using 8-bit datap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implement 8 registers ($0 - $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0 hardwired to 0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-bit program cou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’ll build this processor in the la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ustrate the key concepts in VLSI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BFCF2-4DC7-4EC4-9DCC-65EFF51956B2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struction Se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8" name="Picture 181" descr=""/>
          <p:cNvPicPr/>
          <p:nvPr/>
        </p:nvPicPr>
        <p:blipFill>
          <a:blip r:embed="rId1"/>
          <a:stretch/>
        </p:blipFill>
        <p:spPr>
          <a:xfrm>
            <a:off x="685800" y="181296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03:13:39Z</dcterms:created>
  <dc:creator>David Harris</dc:creator>
  <dc:description/>
  <dc:language>en-US</dc:language>
  <cp:lastModifiedBy>Prof. David Money Harris</cp:lastModifiedBy>
  <dcterms:modified xsi:type="dcterms:W3CDTF">2011-01-26T22:24:33Z</dcterms:modified>
  <cp:revision>476</cp:revision>
  <dc:subject/>
  <dc:title>PowerPoint Presentation</dc:title>
</cp:coreProperties>
</file>