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BC879-3991-43D9-9BBF-9C559D21E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B053-4A4D-4EDB-A408-6E946D5F52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74F5-92B7-4DB3-9FE5-DF32A5EE4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2CCE-3619-42CA-9B95-51BF8A7449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1F9D0-4B90-47E5-9BFC-5C57A2F3F8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21AB-E885-4434-B8D3-D49523533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C2C3-B3DC-4DAB-9AAB-1C8407509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6CC27-634A-4D2C-B658-89A71BA0A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0DC5-E666-4421-852D-9C1AA3B1D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2935E-24AA-4855-8B15-8CE9F28DB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7A23-F655-490F-BBD7-869091533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F27A-708E-4272-9938-C3ABC6520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8EA6-3E91-4749-B808-D2D53CB2D6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0D74B-C024-4E08-BAE3-2C6E3E465FF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09D26-4228-4460-ABB7-1B5F363D7A1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BA26F-0C5C-4DBC-9309-F48CCEAE0A2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7952-3ACC-4645-9EA0-54B949898C0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04234-FFC3-4243-9E4D-3404B872C33C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F620-0480-4FB3-92E8-2523999FEAC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020B-9AD4-44FB-BDF0-492B6FC5FEB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3888-9FD9-47FA-B03A-35CBF5D8A69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B3944-861C-4449-819D-2ECBAD20187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7139-EC0F-451C-A5F7-96B3E62EB89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DA82-32E4-4573-9679-902576BCB7E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8605D-034A-41D9-A36D-78D4A300F059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E67E-D893-44F3-B70B-A1E7FC6E367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E311-2AD6-43DA-94ED-3264069DA7D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E9F1-28F7-492E-B63C-A0422B495208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E8052-0F27-4075-8C50-7115BBF0EE2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DD0CA-EE0D-49C4-9573-1AD379E9268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081A-972F-4E4A-ABB1-81D3B06FD61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69CDC-9D6C-4F17-BF6B-2577C7C665B0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F3E7-ABE1-4B58-94A4-1333EAFC841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5BBC-AFF5-4D39-9BFE-4B5D4AF0967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8F90-5D8F-4A1D-B3A6-27F2A8DFEC8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CBA29-23F1-4CC1-9A5B-4647F7DDF92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A3F2-0D17-415F-B377-8515AF849D75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7E3E-0D66-4D76-9E52-F6B6E37AAEB9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E3F4-DE6B-46F0-B709-9FCA8575463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A5C3B-12AC-410A-A423-CE7ABBD4FC2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’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47E7A-013C-43B2-90CB-4B1A39F75B0E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A7B2-ACB0-46D1-AC7E-E7B79A67AD4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0303-45C9-4567-964B-E1997B1CEFCB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0A9A8-4F8E-480A-8F80-E9D457B32D5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997DD-0393-4DB4-99A9-CB0B608B04D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87E79-DEEB-4D0E-96A2-0975163B409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47CC-3BDA-497E-B583-D6B9F4AB225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B10EC-0134-4F22-920E-55D28C1A988E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4D22-DF26-4937-966E-4740EC7BF6F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DF5C-2D42-4154-8365-8CCD02F76755}" type="slidenum">
              <a:t>7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334F5-7195-45C9-9797-F825B9F71215}" type="slidenum">
              <a:t>8</a:t>
            </a:fld>
          </a:p>
        </p:txBody>
      </p:sp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9: S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E6DD-C3F5-45A8-A9D9-E04A93C29CF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13T22:33:58Z</dcterms:modified>
  <cp:revision>1499</cp:revision>
  <dc:subject/>
  <dc:title>PowerPoint Presentation</dc:title>
</cp:coreProperties>
</file>