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6.wmf" ContentType="image/x-wmf"/>
  <Override PartName="/ppt/media/image31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3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.jpeg" ContentType="image/jpeg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png" ContentType="image/png"/>
  <Override PartName="/ppt/media/image16.wmf" ContentType="image/x-wmf"/>
  <Override PartName="/ppt/media/image17.wmf" ContentType="image/x-wmf"/>
  <Override PartName="/ppt/media/image19.wmf" ContentType="image/x-wmf"/>
  <Override PartName="/ppt/media/image21.wmf" ContentType="image/x-wmf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B9219-591C-4CE8-A4F9-31734E3AB4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8C01E-77BF-4C87-AB84-0B2881905A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CFF35-330F-4C30-BCAC-44A53D3266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A5723-5FEC-4C0D-B214-886B144760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9FC22-B6E0-4020-A27E-3529CD692A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B45E3-B15F-4E8A-B6B3-7319B98CAC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5E04A-4EB5-4166-9A8C-AC5F9ADF5B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B1903-D420-40DF-8C69-492225E4B7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3F73E-A5B1-4C8D-83C4-CE24315C19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7E789-A327-40BA-BB11-54740A9D8A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BBFAB-2FEF-42B3-948C-F28549294F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B67DB-B005-4434-A653-1B2488FFF3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FC525-B0AD-4F54-9973-364E7E25275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18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atapat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unctiona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Uni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6800D-C3AF-448D-993E-CF598845A765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unnel Source Generato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772400" cy="25891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762120" y="2133720"/>
            <a:ext cx="2971800" cy="32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tate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2514600"/>
            <a:ext cx="2971800" cy="34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cal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2928960"/>
            <a:ext cx="2971800" cy="34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ithmetic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3352680"/>
            <a:ext cx="2971800" cy="34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tate Le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3733920"/>
            <a:ext cx="2971800" cy="34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cal/Arithmetic Le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8D215-DF76-40AA-9709-03F0D83E5C42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rray Funnel Shift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N-input multiplex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1-of-N hot select signals for shift am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 pass transistor design 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rops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295280" y="2743200"/>
          <a:ext cx="3276720" cy="32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743200"/>
                    <a:ext cx="327672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5257800" y="3124080"/>
            <a:ext cx="216684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F954F-B795-41B1-BA2D-AB659E7C2EF9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garithmic Funnel Shift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N stages of 2-input mu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elect decoding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00200" y="2835360"/>
            <a:ext cx="5410080" cy="2651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EEDD1-7F5B-49AB-9712-2F4ABDE203DD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32-bit Logarithmic Funne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r multiplexers reduce delay and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nds &gt; 32 bits introduce datapath irreg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3443400" cy="3581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572000" y="2973240"/>
            <a:ext cx="4114800" cy="2532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4C484-912B-4B19-8BFD-BA1C170D97A1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rrel Shif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el shifters perform right rotations using wrap-around wi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ft rotations are right rotations by N – k = k + 1 b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s are rotations with the end bits masked of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010280" y="23623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462D1-DB44-4501-BCA8-E0D14964AE02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ogarithmic Barrel Shif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1981080" cy="17953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85800" y="3581280"/>
            <a:ext cx="2590920" cy="20894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3573360" cy="40273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762120" y="327672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shift on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56386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/Left shi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00600" y="55627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/Left Shift &amp; Ro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6FFF9-3D37-4528-AE06-D6FF23CFF5D7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32-bit Logarithmic Barre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path never wider than 32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stage preshifts by 1 to handle left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743200" y="2362320"/>
            <a:ext cx="3203640" cy="365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55962-3AC3-49D7-922D-477BDFE6DDEB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-input Add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we want to add k N-bit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0001 + 0111 + 1101 + 0010 = 10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ightforward solution: k-1 N-input CP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and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581280" y="3809880"/>
          <a:ext cx="1943280" cy="20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3809880"/>
                    <a:ext cx="194328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93390-D0FD-4F6E-A81D-5B7CC447C534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y Save Addi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ull adder sums 3 inputs and produces 2 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 output has twic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eigh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sum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full adders in parallel are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rry save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 N sums and N carry o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209680" y="3352680"/>
          <a:ext cx="3733920" cy="26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352680"/>
                    <a:ext cx="3733920" cy="26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2C818-31BD-4B51-9AB2-77466FA1DC14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SA Applic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k-2 stages of C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result in carry-save redundant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 CPA computes actual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209680" y="2971800"/>
          <a:ext cx="3581640" cy="30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971800"/>
                    <a:ext cx="3581640" cy="30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4572000" y="4800600"/>
            <a:ext cx="6858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95680" y="5791320"/>
            <a:ext cx="83844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743200" y="4724280"/>
            <a:ext cx="712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021200" y="4724280"/>
            <a:ext cx="5331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429000" y="5486400"/>
            <a:ext cx="6094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54BB0-87BB-4602-8DF4-B5B1CAC6D6CD}" type="slidenum">
              <a:t>19</a:t>
            </a:fld>
          </a:p>
        </p:txBody>
      </p:sp>
    </p:spTree>
  </p:cSld>
  <p:transition>
    <p:zoom dir="ou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-input Ad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1F5FE-AFB3-45B5-B60B-2B4C02D35BBD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plic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x N-bit multi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 N M-bit partial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 these to produce M+N-bit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666880" y="1523880"/>
          <a:ext cx="5334120" cy="266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523880"/>
                    <a:ext cx="5334120" cy="26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3429000" y="2438280"/>
            <a:ext cx="7621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76720" y="2743200"/>
            <a:ext cx="7617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24080" y="3048120"/>
            <a:ext cx="7621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971800" y="3429000"/>
            <a:ext cx="7621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19520" y="3733920"/>
            <a:ext cx="24382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1D59B-A18C-40E4-ACE6-F83B54CBB584}" type="slidenum">
              <a:t>20</a:t>
            </a:fld>
          </a:p>
        </p:txBody>
      </p:sp>
    </p:spTree>
  </p:cSld>
  <p:transition>
    <p:zoom dir="out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eneral For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icand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= 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-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…,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ier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= 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-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…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30372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743200" y="2590920"/>
          <a:ext cx="5105520" cy="96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590920"/>
                    <a:ext cx="510552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1143000" y="3657600"/>
          <a:ext cx="6477120" cy="231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3657600"/>
                    <a:ext cx="6477120" cy="23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E9286-EBDE-41B4-956B-C69078CB5DB5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ot Diagra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dot represents a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838080" y="2209680"/>
          <a:ext cx="7848720" cy="313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848720" cy="31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D2D6B-59D4-40A0-BFBC-3CC09CED4951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rray Multipli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057400" y="1523880"/>
          <a:ext cx="487692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523880"/>
                    <a:ext cx="48769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9354A-A650-4A22-AED5-96A4EBA7E25F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ctangular Arra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quash array to fit rectangular floor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514600" y="1981080"/>
          <a:ext cx="342108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1981080"/>
                    <a:ext cx="342108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F7BA8-03EA-4C3F-A88D-0A0250721328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ewer Partial Produc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ay multiplier requires N partial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e looked at groups of r bits, we could form N/r partial produ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er and small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radix-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r = 2: look at pairs of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 partial products of 0, Y, 2Y, 3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three are easy, but 3Y requires adder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0CCD4-D234-4969-BD45-9A99BE5DF833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ooth Encod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ead of 3Y, try –Y, then increment next partial product to add 4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ly, for 2Y, try –2Y + 4Y in next partial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295280" y="2895480"/>
            <a:ext cx="6858000" cy="31356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429000" y="419112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429000" y="449568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429000" y="480060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429000" y="510552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429000" y="541008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429000" y="571500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105520" y="41911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248520" y="41911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391520" y="4191120"/>
            <a:ext cx="6094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105520" y="449568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248520" y="449568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391520" y="4495680"/>
            <a:ext cx="6094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05520" y="480060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248520" y="480060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391520" y="4800600"/>
            <a:ext cx="6094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105520" y="51055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248520" y="51055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391520" y="5105520"/>
            <a:ext cx="6094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105520" y="541008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248520" y="541008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391520" y="5410080"/>
            <a:ext cx="6094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05520" y="571500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248520" y="571500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391520" y="5715000"/>
            <a:ext cx="6094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35E38-9D07-4DBD-9CBF-6C0141EB311D}" type="slidenum">
              <a:t>26</a:t>
            </a:fld>
          </a:p>
        </p:txBody>
      </p:sp>
    </p:spTree>
  </p:cSld>
  <p:transition>
    <p:zoom dir="ou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ooth Hardwar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h encoder generates control lines for each 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h selectors choose PP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828800" y="2362320"/>
            <a:ext cx="5029200" cy="364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60360-D742-4727-A7F0-2026B1E4439B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gn Extens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al products can be neg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sign extension, which is cumber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fanout on most significant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990720" y="2666880"/>
          <a:ext cx="7467480" cy="344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666880"/>
                    <a:ext cx="7467480" cy="34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0D00E-8C50-47BC-B606-0693E62C1F30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mplified Sign Ext.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 bits are either all 0’s or all 1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all 0’s is all 1’s + 1 in proper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is to reduce loading on MS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295280" y="3048120"/>
          <a:ext cx="5715000" cy="299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048120"/>
                    <a:ext cx="5715000" cy="29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59364-BFB5-4542-A87B-F744611D9575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mparato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’s detecto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= 00…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’s detector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= 11…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ity comparato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=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gnitude comparato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&lt;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B67EB-665E-4C38-891B-A1BC29ACF12E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ven Simpler Sign Ext.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to add all the 1’s in 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ompute the answ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990720" y="2743200"/>
          <a:ext cx="7467480" cy="201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743200"/>
                    <a:ext cx="7467480" cy="20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15D77-17D7-405C-8439-9F717400B4E5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dvanced Multiplic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ed vs. unsigned 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er radix Booth en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ay vs. tree CSA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85071-6779-478B-A826-B9DD7232E749}" type="slidenum">
              <a:t>31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1’s &amp; 0’s Detecto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’s detector: N-input AND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’s detector: NOTs + 1’s detector (N-input N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219320" y="2590920"/>
          <a:ext cx="2895480" cy="18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590920"/>
                    <a:ext cx="2895480" cy="18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5105520" y="2743200"/>
          <a:ext cx="3047760" cy="125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2743200"/>
                    <a:ext cx="3047760" cy="12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1295280" y="4419720"/>
          <a:ext cx="4648320" cy="1447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5280" y="4419720"/>
                    <a:ext cx="464832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1A55F-564A-47CE-86E2-E01C86333963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quality Comparat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if each bit is equal (XNOR, aka equality g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’s detect on bitwise e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057400" y="2819520"/>
          <a:ext cx="4724280" cy="27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819520"/>
                    <a:ext cx="4724280" cy="27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3EA56-E6AE-4869-944F-267A91822FDA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agnitude Comparat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B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and look at 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= B + ~A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unsigned numbers, carry out is sign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666880" y="2971800"/>
          <a:ext cx="3276720" cy="290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2971800"/>
                    <a:ext cx="3276720" cy="29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C9619-F3F0-42F3-B3EB-2510D775F3D3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gned vs. Unsigne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igned numbers, comparison is ha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: carr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: zero (all bits of 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are 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: negative (MSB of resul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: overflow (inputs had different signs, output sig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: N xor V (sign of resul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09680" y="3630600"/>
            <a:ext cx="4800600" cy="23893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038480" y="50292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EAF27-9E33-4DF3-B05C-AB6FA0E5381F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hift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Shif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s number left or right and fills with 0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 LSR 1 = 010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 LSL1 = 0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 Shif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s number left or right.  Rt shift sign ext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 ASR1 = 110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 ASL1 = 0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s number left or right and fills with lost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 ROR1 = 110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 ROL1 = 0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86200" y="2438280"/>
            <a:ext cx="1066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162920" y="2438280"/>
            <a:ext cx="1066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373392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373392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86200" y="502920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238880" y="5029200"/>
            <a:ext cx="10670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C7A6D-3FD4-41D8-B9F4-DB383A079743}" type="slidenum">
              <a:t>8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unnel Shift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unnel shifter can do all six types of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s N-bit field Y from 2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-bit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 by k bits (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k &lt; 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ly involves N N:1 multiplex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8120" y="3408480"/>
            <a:ext cx="3581280" cy="2458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7312B-2839-441C-A903-255D4F63A8B1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4-09T19:03:48Z</dcterms:modified>
  <cp:revision>1518</cp:revision>
  <dc:subject/>
  <dc:title>PowerPoint Presentation</dc:title>
</cp:coreProperties>
</file>