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224D-E57F-4B5F-8F4E-0F0CA1998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BBB0-84CD-4948-9AD4-BB347029D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DCF9D-F7BA-46B6-9907-33EABC866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4FE0D-D4B8-4F45-9DB9-7283064AAC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6536-9799-49C4-9087-A7218FF9A0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6E7EA-3E42-4481-BA31-A78ABD509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38133-213C-4EBF-9837-6E372915F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B4BE6-1BF8-4C31-9959-D9141E34B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C06F2-9785-4324-837B-5D61A76084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7689B-EF40-4785-9FF1-C250E1E19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9DA79-DBC1-4B56-BFF2-37D3127CE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FF08-2D34-4BD2-BAD2-A0BCC2382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8614-BD55-43A1-BC06-04E97DD0C8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86A1B-37DF-4856-98B9-580BC1D58670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8F8F7-F877-4D9A-96B0-528B103D612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37D6D-754C-4AF7-B587-48ADCB6016B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8EE2-941F-4E8A-B45C-EFC73B79AACD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45F4-DB8E-42DF-B411-3ECCEA1711C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CF1BC-AA79-429B-B4FC-CD635D51769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1D59-27EB-460C-95DC-804478037A2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ECD5-1EEC-416C-A807-56D19D7A7B2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27DD0-1CD6-4206-A8ED-7C23A7A14AD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95EF6-A5D9-47A6-BD04-875848D2FDE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4572000" y="480060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23C8B-FE76-4401-AEF8-CC5CB3D0F7F2}" type="slidenum">
              <a:t>19</a:t>
            </a:fld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B220A-5D3A-44F5-B372-4B5ADF741C0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6002C-9021-4718-91A8-1C41464A7C83}" type="slidenum">
              <a:t>20</a:t>
            </a:fld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8D0F-0882-4079-8943-1EF85CE81E1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6DEEA-9FA6-409E-96D6-FCFBB63B82B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8E63-3E59-48F8-A83C-0A37902DAA9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E1FC-5726-48CB-AC2E-A4CD13861ED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6873-F73C-4FCE-8F9E-19FF8B95D21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9E36C-8AD6-4EF2-9A6E-8A8FFB373A19}" type="slidenum">
              <a:t>26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BEF27-F8B3-49B8-AC24-8BE8F8EC6CF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46FFE-152C-4F70-B8EC-D68EDFAD8CA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’s or all 1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’s is all 1’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F6D0-45A1-48CA-AF00-78B7C1E0561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C2D4-C7EE-44DB-81CC-AAD56CA6DEF3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’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53AD-619D-48BD-B39B-D5B53A1DD44A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0C67-EA92-4892-BDC9-3B9B7A4792C7}" type="slidenum">
              <a:t>31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’s &amp; 0’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’s detector: NOTs + 1’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1B83-9496-4753-866B-DE4B0BB68A48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’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CA6F7-8342-4482-81E5-8F67F926D44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38BC1-6A68-4F6C-9BD9-D0565D27532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63B2C-946F-4143-8BC4-26F59C0DFD9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710D5-C218-469D-B0B0-F44FEFC0BC7B}" type="slidenum">
              <a:t>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8: Datapath Functional Un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3DB91-036A-4F02-824B-D8585A4D456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9T19:03:48Z</dcterms:modified>
  <cp:revision>1518</cp:revision>
  <dc:subject/>
  <dc:title>PowerPoint Presentation</dc:title>
</cp:coreProperties>
</file>