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3.wmf" ContentType="image/x-wmf"/>
  <Override PartName="/ppt/media/image50.wmf" ContentType="image/x-wmf"/>
  <Override PartName="/ppt/media/image30.wmf" ContentType="image/x-wmf"/>
  <Override PartName="/ppt/media/image40.wmf" ContentType="image/x-wmf"/>
  <Override PartName="/ppt/media/image41.wmf" ContentType="image/x-wmf"/>
  <Override PartName="/ppt/media/image39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51.wmf" ContentType="image/x-wmf"/>
  <Override PartName="/ppt/media/image42.wmf" ContentType="image/x-wmf"/>
  <Override PartName="/ppt/media/image9.png" ContentType="image/png"/>
  <Override PartName="/ppt/media/image17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19781-F9C2-4D51-ADF6-77A6D76A51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22408-4955-4ADB-A404-AFF09BE38A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30D8B-FE8D-4ACE-8CE4-73ADCF1034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CCDC9-2142-4B72-8A22-D8C68ABB00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92EE8-9D7C-4AE7-B929-A0BCA594D5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975AA-03B3-4222-8324-3DD261BD56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C0C70-FBA2-4B33-B0C9-546331C6E9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A3ADF-DAC4-4AEE-B1F6-360A19ABFE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DF89A-3A33-4B6F-B03E-A016D56386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A8B79-7D90-48C6-A9D3-DAF8A60F5D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3E43B-693E-415E-843C-1906EA3232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941A0-3382-4B28-B9B8-C21E2DB708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E87D4D54-4CE1-4FF1-9DAE-8A4908C28B9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7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d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613A0-0657-4A9D-9242-5B0CD762B99E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 Propagate Ad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bit adder called C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um bit depends on all previous car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compute all these carries quick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14400" y="3352680"/>
          <a:ext cx="2514600" cy="21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352680"/>
                    <a:ext cx="2514600" cy="21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886200" y="3733920"/>
          <a:ext cx="4419720" cy="15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3733920"/>
                    <a:ext cx="441972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35A08-C974-4923-9A2F-B530CF51AFC1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Ripple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st design: cascade full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path goes from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ull adder to have fast carry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5800" y="3124080"/>
          <a:ext cx="7772400" cy="28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124080"/>
                    <a:ext cx="7772400" cy="28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67101-D907-4255-ABC0-702834C16837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s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path passes through majority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from minority +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 inverter and use inverting full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52480" y="3048120"/>
          <a:ext cx="533412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48120"/>
                    <a:ext cx="533412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03F17-0254-474C-A802-2B2EAD12CCCF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enerate / Propa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ons often factored into G and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and propagate for groups spanning i: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736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219320" y="2514600"/>
          <a:ext cx="281916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14600"/>
                    <a:ext cx="281916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411480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295280" y="4191120"/>
          <a:ext cx="1981440" cy="86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191120"/>
                    <a:ext cx="198144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316400" y="3230640"/>
          <a:ext cx="511200" cy="39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16400" y="3230640"/>
                    <a:ext cx="5112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431640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316400" y="3230640"/>
          <a:ext cx="511200" cy="39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16400" y="3230640"/>
                    <a:ext cx="5112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799160" y="4114800"/>
          <a:ext cx="1677960" cy="860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99160" y="4114800"/>
                    <a:ext cx="16779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371600" y="5562720"/>
          <a:ext cx="1622520" cy="417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71600" y="5562720"/>
                    <a:ext cx="162252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1981080" y="251460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304812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411480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457200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403848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86400" y="449568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5120" y="548640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1889D-F775-4B68-A004-79BC5656150B}" type="slidenum">
              <a:t>13</a:t>
            </a:fld>
          </a:p>
        </p:txBody>
      </p:sp>
    </p:spTree>
  </p:cSld>
  <p:transition>
    <p:zoom dir="ou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G Logic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14400" y="1600200"/>
          <a:ext cx="746748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74674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1BF41-2108-4A56-9187-A89D0A4B25FE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Ripple Revisit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404640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838080" y="1600200"/>
          <a:ext cx="2667240" cy="4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266724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2209680" y="2057400"/>
          <a:ext cx="4343400" cy="394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057400"/>
                    <a:ext cx="4343400" cy="39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9D5E5-F87A-4828-BF0F-7449B018065C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Ripple PG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809880" y="1447920"/>
          <a:ext cx="45720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447920"/>
                    <a:ext cx="4572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372600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62120" y="2362320"/>
          <a:ext cx="304776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362320"/>
                    <a:ext cx="304776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1523880" y="23623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CE77A-3C17-45FA-8009-F9DEACF22A93}" type="slidenum">
              <a:t>16</a:t>
            </a:fld>
          </a:p>
        </p:txBody>
      </p:sp>
    </p:spTree>
  </p:cSld>
  <p:transition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G Diagram Not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85800" y="1968480"/>
          <a:ext cx="7772400" cy="36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68480"/>
                    <a:ext cx="7772400" cy="36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4D922-BA73-4767-AFB8-19F109C1DB73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Skip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ripple is slow through all 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kip allows carry to skip over groups of n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based on n-bit propagate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762120" y="3200400"/>
          <a:ext cx="7696080" cy="18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200400"/>
                    <a:ext cx="769608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9EFD8-210F-4FA1-B9AF-1A23948CEDF2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Skip PG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k n-bit groups (N = 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219320" y="5486400"/>
          <a:ext cx="419076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5486400"/>
                    <a:ext cx="41907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828800" y="1600200"/>
          <a:ext cx="5181480" cy="332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1600200"/>
                    <a:ext cx="518148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1828800" y="5486400"/>
            <a:ext cx="3581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019AA-A19E-400D-887C-7B0FCF2F3CCC}" type="slidenum">
              <a:t>19</a:t>
            </a:fld>
          </a:p>
        </p:txBody>
      </p:sp>
    </p:spTree>
  </p:cSld>
  <p:transition>
    <p:zoom dir="ou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bit 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Rippl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kip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Lookahead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elect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Increment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F7BF2-E28E-4081-9F80-90ECAF6B0A1A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ariable Group Siz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56386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grows as O(sqrt(N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85800" y="1600200"/>
          <a:ext cx="7772400" cy="41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772400" cy="41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D2C8D-8820-44FD-9B51-E0F6C1846DD8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Lookahead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lookahead adder computes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: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y bits in parall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higher-valency cells with more than two in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762120" y="3429000"/>
          <a:ext cx="7619760" cy="18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429000"/>
                    <a:ext cx="7619760" cy="18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1EAFD-6DA6-40B4-B64D-6B8614A32C78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A PG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838080" y="2133720"/>
          <a:ext cx="7467840" cy="32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467840" cy="32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E0253-00D1-46A6-A048-DCEDF2D5D488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igher-Valency Cel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85800" y="2546280"/>
          <a:ext cx="7772400" cy="25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46280"/>
                    <a:ext cx="7772400" cy="25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E33B8-F16D-4017-88CF-9131629FCCE0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Select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k for critical paths dependent on late input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mpute two possible outputs for X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proper output when X ar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elect adder precomputes n-bit s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both possible carries into n-bi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066680" y="3886200"/>
          <a:ext cx="6705720" cy="21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886200"/>
                    <a:ext cx="6705720" cy="21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96B17-2DD3-4229-94BC-3AC19BDFCE4E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Increment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initial PG and final XOR out of carry-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523880" y="2057400"/>
          <a:ext cx="5715000" cy="30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57400"/>
                    <a:ext cx="5715000" cy="30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334152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066680" y="5257800"/>
          <a:ext cx="518184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5257800"/>
                    <a:ext cx="51818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2286000" y="5334120"/>
            <a:ext cx="3962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ACD93-2765-4083-B06A-0FBFED830786}" type="slidenum">
              <a:t>25</a:t>
            </a:fld>
          </a:p>
        </p:txBody>
      </p:sp>
    </p:spTree>
  </p:cSld>
  <p:transition>
    <p:zoom dir="ou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ariable Group Siz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buf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657600" y="1523880"/>
          <a:ext cx="480996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523880"/>
                    <a:ext cx="480996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424C9-B834-4D3C-B1D5-A684B3AC5312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lookahead is good, lookahead across lookahea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 lookahead gives O(log N)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variations on tree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F7C2C-39E6-4FDB-80B1-2D3D59DB72B1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rent-Ku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828720" y="1523880"/>
          <a:ext cx="74865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1523880"/>
                    <a:ext cx="74865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B4CC6-40FE-4CD0-9927-05BD1BE53C7B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lansk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85800" y="2197080"/>
          <a:ext cx="7772400" cy="32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97080"/>
                    <a:ext cx="7772400" cy="32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7C441-552B-4058-9BBE-2A302FDC4320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ngle-Bit Addi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f Ad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Full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62120" y="2743200"/>
          <a:ext cx="2438280" cy="182556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181480" y="2743200"/>
          <a:ext cx="2819520" cy="3286080"/>
        </p:xfrm>
        <a:graphic>
          <a:graphicData uri="http://schemas.openxmlformats.org/drawingml/2006/table">
            <a:tbl>
              <a:tblPr/>
              <a:tblGrid>
                <a:gridCol w="563760"/>
                <a:gridCol w="565200"/>
                <a:gridCol w="561960"/>
                <a:gridCol w="565200"/>
                <a:gridCol w="56340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230560" y="1371600"/>
          <a:ext cx="13158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0560" y="1371600"/>
                    <a:ext cx="1315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6705720" y="1379520"/>
          <a:ext cx="1447560" cy="13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379520"/>
                    <a:ext cx="144756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838080" y="1981080"/>
          <a:ext cx="1295640" cy="69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1981080"/>
                    <a:ext cx="12956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870440" y="1981080"/>
          <a:ext cx="1835280" cy="623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0440" y="1981080"/>
                    <a:ext cx="183528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205740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3505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505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3886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886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4267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4267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3432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46748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34320" y="3505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467480" y="3505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3886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467480" y="3886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934320" y="4267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467480" y="4267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93432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748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5029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467480" y="5029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934320" y="5334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5334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5715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467480" y="5715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F57BE-CF8C-42C6-B5E4-AA1AD525B570}" type="slidenum">
              <a:t>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Kogge-Sto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85800" y="1933560"/>
          <a:ext cx="777240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33560"/>
                    <a:ext cx="777240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0E3C8-E20B-47B6-9D71-484602146A28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Adder Taxonom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N-bit tree adder would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og N   logic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out never exceeding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ore than one wiring track between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dder with 3-D taxonomy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level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ou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ing track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tree adders sit on plane defin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50DDC-E237-4767-AB42-A67DEDF50E7F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Adder Taxonom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676520" y="1523880"/>
          <a:ext cx="57592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3880"/>
                    <a:ext cx="57592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6324480" y="220968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518148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2362320"/>
            <a:ext cx="5331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A9D12-42C0-4A4D-91F9-D539203F8BA0}" type="slidenum">
              <a:t>32</a:t>
            </a:fld>
          </a:p>
        </p:txBody>
      </p:sp>
    </p:spTree>
  </p:cSld>
  <p:transition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n-Carl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685800" y="1700280"/>
          <a:ext cx="777240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00280"/>
                    <a:ext cx="777240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A9980-BF5D-48D0-944B-7BA6E755266B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Knowles [2, 1, 1, 1]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685800" y="1933560"/>
          <a:ext cx="777240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33560"/>
                    <a:ext cx="777240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62841-8231-4D1D-B5BD-7B12F11E84B3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dner-Fisch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85800" y="1814400"/>
          <a:ext cx="7772400" cy="39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14400"/>
                    <a:ext cx="7772400" cy="39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44926-8E92-4EE4-B61E-D355225643CF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axonomy Revisit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209680" y="2057400"/>
          <a:ext cx="472464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057400"/>
                    <a:ext cx="472464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295280" y="4800600"/>
          <a:ext cx="2222640" cy="12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800600"/>
                    <a:ext cx="222264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685800" y="3276720"/>
          <a:ext cx="1905120" cy="106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276720"/>
                    <a:ext cx="190512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609480" y="1676520"/>
          <a:ext cx="1905120" cy="933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1676520"/>
                    <a:ext cx="190512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6553080" y="1523880"/>
          <a:ext cx="2133720" cy="1252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53080" y="1523880"/>
                    <a:ext cx="2133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6248520" y="2743200"/>
          <a:ext cx="2209680" cy="1528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48520" y="2743200"/>
                    <a:ext cx="2209680" cy="15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5638680" y="4572000"/>
          <a:ext cx="2362320" cy="1469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4572000"/>
                    <a:ext cx="236232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11016-7D9C-4DB5-A83C-BDA05DC91400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33520" y="2819520"/>
          <a:ext cx="8153280" cy="3078000"/>
        </p:xfrm>
        <a:graphic>
          <a:graphicData uri="http://schemas.openxmlformats.org/drawingml/2006/table">
            <a:tbl>
              <a:tblPr/>
              <a:tblGrid>
                <a:gridCol w="1752480"/>
                <a:gridCol w="1676520"/>
                <a:gridCol w="1295280"/>
                <a:gridCol w="990720"/>
                <a:gridCol w="990360"/>
                <a:gridCol w="1447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hite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 Lev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Fan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-Rip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-Skip n=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4 +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5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-Inc. n=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4 +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-K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-1, 0,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lans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 L-1,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2 +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 N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gge-S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 0, L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685800" y="16002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r architectures offer area / power / delay tradeoff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he best one for your appl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5D511-8B81-41EF-8993-9D1097741E1C}" type="slidenum">
              <a:t>37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G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ull adder, define what happens to car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 terms of A and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independent of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agate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ll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independent of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= ~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2895480"/>
            <a:ext cx="7621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14600" y="373392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46483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4F323-D3E5-4E46-B8FC-3187B37A6659}" type="slidenum">
              <a:t>4</a:t>
            </a:fld>
          </a:p>
        </p:txBody>
      </p:sp>
    </p:spTree>
  </p:cSld>
  <p:transition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te force implementation from eq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19320" y="2057400"/>
          <a:ext cx="2743200" cy="9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274320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295280" y="3200400"/>
          <a:ext cx="6172200" cy="283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200400"/>
                    <a:ext cx="6172200" cy="28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D3FFD-5277-467C-87F5-279A24A448EE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S in terms of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ABC + (A + B + C)(~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path is usually C to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rippl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47920" y="2743200"/>
          <a:ext cx="609588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743200"/>
                    <a:ext cx="609588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A6B27-6BA5-4A14-8DE5-C00AD90434CC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ver layout circumvents usual line of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ide transistors on critical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 output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7696080" cy="246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145B3-0066-4A07-8B70-FD6334402C8B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I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Pass Transistor Logic (CP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faster, but mor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3880" y="2293920"/>
          <a:ext cx="579132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93920"/>
                    <a:ext cx="579132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46618-313A-4DE2-BA5E-0783911786EE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-rail do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fast, but large and power hung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very fast multi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371600" y="2787480"/>
          <a:ext cx="5715000" cy="33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787480"/>
                    <a:ext cx="5715000" cy="33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FB797-5E81-49BD-87F1-1DD1D0F7BE8C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09T19:03:56Z</dcterms:modified>
  <cp:revision>1404</cp:revision>
  <dc:subject/>
  <dc:title>PowerPoint Presentation</dc:title>
</cp:coreProperties>
</file>