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9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0.wmf" ContentType="image/x-wmf"/>
  <Override PartName="/ppt/media/image31.wmf" ContentType="image/x-wmf"/>
  <Override PartName="/ppt/media/image32.wmf" ContentType="image/x-wmf"/>
  <Override PartName="/ppt/media/image35.wmf" ContentType="image/x-wmf"/>
  <Override PartName="/ppt/media/image40.wmf" ContentType="image/x-wmf"/>
  <Override PartName="/ppt/media/image30.wmf" ContentType="image/x-wmf"/>
  <Override PartName="/ppt/media/image42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AB78A-6CC2-4B3F-99E1-A6BC11FEA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29579-0330-45CE-BA2F-A517E4ED4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1FCD-6836-4F70-AEF7-2BC1FA33C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D6110-6DC4-4D21-9898-FE330A277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1EF64-4171-4816-9AFE-E2E88376B7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A833-AF6B-407F-AD61-9AFCF645A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9E21-FE5D-44D0-A93F-9F0F66210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DDB69-FF53-46F2-9305-60B2A62D7D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34D8-9FF9-4CAC-A65D-28E4695476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9263-97C5-4160-A6B7-FFA754CEF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C7AD4-EFFF-4281-92C6-E806C606F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134DD-53A0-428D-A82D-330D03327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4E8B-DF54-4714-A5E9-ABD77169E4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A0882-F6BF-4C2C-A496-4D34E5963DD1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te Carlo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ocess variation increases, the worst-case corners become too pessimistic for pract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: repeated simulations with parameters randomly varie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catter plot of results to predict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mpac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560680" cy="22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29EF-7997-449B-9A66-08537E61B879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3904-6362-47DA-B927-8839828C3D2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e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oltag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ing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time between failures (MT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vice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urs of operation / number of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time (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failures / thousand hours / millio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038480" cy="221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67FB-8F78-413B-B33E-2839D0FDFCF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Lifetim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reliability typically exceed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oducts come to market in 1-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d lifetime testing required to predict adequate long-term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578400" cy="267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951440" y="579132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rnaud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734BF-6D0F-49F8-9892-3F634C049A84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“hot”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A28B-FB43-426E-80F6-70B57D027EF9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B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applied across oxide forms dangling bonds called traps at Si-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traps caus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for pMOS transistors with strong negative bias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8800" cy="741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600200" cy="308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628C-47AA-47B6-92A7-759577737FA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DD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 increase in gate leakage when an electric field is applied across a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-induced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0-year life at 125 C, keep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 V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4D76-7D85-4B24-93B3-039AA27D922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”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’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114800" y="4137120"/>
          <a:ext cx="1676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137120"/>
                    <a:ext cx="1676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324480" y="3992400"/>
            <a:ext cx="2340000" cy="142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627240" y="5440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hristianse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9370-25E2-4EE5-B4DF-4626037FD85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B007D-0011-4500-875B-981E9F5055DA}" type="slidenum">
              <a:t>18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CDF5-098B-40F8-941E-DB4A7049E908}" type="slidenum">
              <a:t>19</a:t>
            </a:fld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A3C8E-4717-438C-BB2B-76D927F8E88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1EE87-A94B-4228-8739-ACFE7992441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oltage Fail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blow out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volts from static electricity when the package pins are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ide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65 nm proces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V c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depletion region between source and drain to touch, leading to high current flow and destructive over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B073-5D70-4651-881B-72FEA7493BF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’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295280" y="3668760"/>
            <a:ext cx="5334120" cy="24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D276C-EBA4-4A2D-82F4-B65E5C7ED2B4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B0C8-197A-410F-864B-BB423512BDF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’s, DRAMs were observed to randomly fli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atom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p-n junction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26000" y="4343400"/>
            <a:ext cx="3222720" cy="1670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79120" y="571500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auman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EC19-B524-4C78-B413-4AF3F3D5127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diation Harde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hardening reduces 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ode capacitance to minimize impact of coll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interlocke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 soft errors that d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193920" cy="208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95D2B-BE41-459B-991E-2A4708C0922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C939C-69E8-4C40-94E5-64FD8363144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4191120"/>
            <a:ext cx="6858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55627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672B-CA12-4758-BB04-A050E77831C9}" type="slidenum">
              <a:t>27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34320" y="491184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91184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00200" y="4191120"/>
            <a:ext cx="6477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95280" y="4876920"/>
            <a:ext cx="7239240" cy="1218960"/>
            <a:chOff x="1295280" y="4876920"/>
            <a:chExt cx="7239240" cy="1218960"/>
          </a:xfrm>
        </p:grpSpPr>
        <p:sp>
          <p:nvSpPr>
            <p:cNvPr id="161" name=""/>
            <p:cNvSpPr/>
            <p:nvPr/>
          </p:nvSpPr>
          <p:spPr>
            <a:xfrm>
              <a:off x="2286000" y="4876920"/>
              <a:ext cx="62485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295280" y="525780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4708C-A2E8-4EEA-B318-4DC979F70847}" type="slidenum">
              <a:t>28</a:t>
            </a:fld>
          </a:p>
        </p:txBody>
      </p: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429000" y="487692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7692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0" y="4876920"/>
            <a:ext cx="60958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4EF9-BA35-4594-805D-89C4706365B3}" type="slidenum">
              <a:t>29</a:t>
            </a:fld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/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15E69-CCAD-4019-87E3-4D64ECB6EA01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8769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1D999-519A-4353-954F-45278CD9D407}" type="slidenum">
              <a:t>30</a:t>
            </a:fld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5867280" y="3989520"/>
          <a:ext cx="228600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89520"/>
                    <a:ext cx="228600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4191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95280" y="5257800"/>
            <a:ext cx="7231320" cy="685800"/>
            <a:chOff x="1295280" y="5257800"/>
            <a:chExt cx="7231320" cy="685800"/>
          </a:xfrm>
        </p:grpSpPr>
        <p:sp>
          <p:nvSpPr>
            <p:cNvPr id="193" name=""/>
            <p:cNvSpPr/>
            <p:nvPr/>
          </p:nvSpPr>
          <p:spPr>
            <a:xfrm>
              <a:off x="2362320" y="5257800"/>
              <a:ext cx="6164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280" y="5638680"/>
              <a:ext cx="68580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92C8-8684-48F4-B628-07328D0B262B}" type="slidenum">
              <a:t>31</a:t>
            </a:fld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5715000" y="462276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228600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114800"/>
            <a:ext cx="4114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4495680"/>
            <a:ext cx="6705360" cy="1600200"/>
            <a:chOff x="1219320" y="4495680"/>
            <a:chExt cx="6705360" cy="1600200"/>
          </a:xfrm>
        </p:grpSpPr>
        <p:sp>
          <p:nvSpPr>
            <p:cNvPr id="207" name=""/>
            <p:cNvSpPr/>
            <p:nvPr/>
          </p:nvSpPr>
          <p:spPr>
            <a:xfrm>
              <a:off x="2438280" y="4495680"/>
              <a:ext cx="54864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19320" y="4876920"/>
              <a:ext cx="312408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58C6-F025-4854-B667-99E3384A83F4}" type="slidenum">
              <a:t>32</a:t>
            </a:fld>
          </a:p>
        </p:txBody>
      </p: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36232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191120"/>
            <a:ext cx="4114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44956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48583-E3FF-4086-B455-4CEA9B701F41}" type="slidenum">
              <a:t>33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0" y="3809880"/>
            <a:ext cx="3733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4114800"/>
            <a:ext cx="6705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4876920"/>
            <a:ext cx="525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6750B-549F-49E4-A10F-C3059888B351}" type="slidenum">
              <a:t>34</a:t>
            </a:fld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’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0A96-F0E9-48D5-92D4-7253C54D9849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31680" cy="1614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placement of dopants i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versely proportional to channe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ss-chip linewidth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L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ine edge roughness (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hing variations affect w, s,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217332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703520" cy="81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764400" y="286704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ernstei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7560" y="5334120"/>
            <a:ext cx="20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7202520" y="3200400"/>
            <a:ext cx="1484280" cy="2614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082640" y="5715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Larry Pile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43C4-3A53-4BEB-A33E-17D2DC042FFF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atial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show spatial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-to-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2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fer-to-wa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2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e-to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2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-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transistors match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97280" y="1981080"/>
            <a:ext cx="3837240" cy="3335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409360" y="533412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M. Pelg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2DF7E-7134-4592-AAA2-7CAA8F30565C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designed +/-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droop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temperatur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ie temperature ele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hip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38520" cy="1981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629760" y="3505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62440" cy="671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14520" cy="1303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467480" y="4876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rris01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82A70-FF5B-4B23-B164-70D25B41988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hange over time as they wea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reshold volta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this la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2B29-A946-4A3B-B742-0570569704DC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xtremes of process variations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733560" cy="106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808F2-3963-4EB1-8685-2A15DE4A621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ner Che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are simulated in different corners to verify different performance and correctn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3884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6: Circuit Pitfal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7D703-874B-431D-8A77-08AC00F56A6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4-05T17:38:40Z</dcterms:modified>
  <cp:revision>1810</cp:revision>
  <dc:subject/>
  <dc:title>PowerPoint Presentation</dc:title>
</cp:coreProperties>
</file>