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9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0.wmf" ContentType="image/x-wmf"/>
  <Override PartName="/ppt/media/image31.wmf" ContentType="image/x-wmf"/>
  <Override PartName="/ppt/media/image32.wmf" ContentType="image/x-wmf"/>
  <Override PartName="/ppt/media/image35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DF8C4-5454-4F21-9FF3-97D5944C8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336A7-4892-4599-BA4C-2704953C3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986A-B433-4F18-AE95-5BE5652E9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1374C-15E2-46A9-AC2F-5D4FBF14B7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7A872-BFE1-4E80-8C41-634AC6F9CA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70F67-B9CD-479B-84BE-6191B5939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8300-EA32-441D-9E8B-9E7412DDB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F46D6-93DE-43FA-88FE-3096CC44C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36D56-3D52-4FC9-A9B1-A656F3EB4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C9651-3E9D-43A3-9153-975F16E64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64EB9-8F69-41FA-B5BE-1B11C40BF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757D-6B3F-48A2-A0D8-A56ED27DC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4601-D0A2-4FCB-8BF5-06A226E80B3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6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Pitfa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61B6B-E826-4B36-B536-05B80D8BF1C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nte Carlo Simu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rocess variation increases, the worst-case corners become too pessimistic for pract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 Carlo: repeated simulations with parameters randomly varied ea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scatter plot of results to predict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mpac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2560680" cy="22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62B7B-AE9C-455D-9815-442556EE4A4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 / ground b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feed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(for noise to settle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correct comp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73E06-14D9-4B26-9CD2-ED30E75F367F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e wear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 wear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oltag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ing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time between failures (MTB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devices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urs of operation / number of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s in time (F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failures / thousand hours / million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03848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10022-2AB6-4E65-97AD-D091165B34F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ed Lifetime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reliability typically exceeds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roducts come to market in 1-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d lifetime testing required to predict adequate long-term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3578400" cy="2676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51440" y="579132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rnaud0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7D02-84BA-4820-AFEC-BF34C86B5205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t Carr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across channel impart high energies to som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“hot” carriers may be blasted into the gate oxide where they become tra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charge in oxide causes shift i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s too far for devices to operate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hieve reasonable product lif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problems for inverters and NORs with slow input risetime and long propagation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96542-EF8B-44C1-BB62-96F1727DF1B1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BT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ative bias temperature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applied across oxide forms dangling bonds called traps at Si-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traps caus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nounced for pMOS transistors with strong negative bias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t hig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1828800" cy="741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600200" cy="30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4D40F-BBB7-4498-8882-F583D151DB2D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DD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me-dependent dielectric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 increase in gate leakage when an electric field is applied across an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ss-induced leakag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10-year life at 125 C, keep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 V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4DC06-4A37-4B31-8804-BA91EA454BE9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ectromig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wind” causes movement of metal atoms a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electromigration leads to ope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ignificant for unidirectional (DC)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current density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urrent / 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dependence on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’s Equ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 – 2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2596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114800" y="4137120"/>
          <a:ext cx="167652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4137120"/>
                    <a:ext cx="16765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324480" y="3992400"/>
            <a:ext cx="2340000" cy="142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627240" y="54403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hristiansen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06AB-BF25-4E1F-93F3-41E094B04E8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igration Vide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69FB6-D7C8-49C8-8906-19786267F933}" type="slidenum">
              <a:t>18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igration Video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F8E1F-E1DF-4E58-A262-2D9FEC21EE0F}" type="slidenum">
              <a:t>19</a:t>
            </a:fld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FA139-9782-4D87-AB95-8E5A400E1A89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Hea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through wire resistance generat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 surrounding wires is a thermal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ends to build up in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ter wires are more resistive,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heating limits AC current densities for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5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056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71600" y="3809880"/>
          <a:ext cx="108252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9880"/>
                    <a:ext cx="10825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E1FEF-4511-4388-972D-969FA51F644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voltage Fail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oltages can blow out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static dis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ovolts from static electricity when the package pins are hand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xide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65 nm proces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V cau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nch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uses depletion region between source and drain to touch, leading to high current flow and destructive over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11B8A-BE59-44C2-8F60-2DAEA4BA3F9A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u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162920" y="4419720"/>
            <a:ext cx="1676160" cy="1255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: positive feedback leading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GND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problem for 1970’s CMOS processes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well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y minimizing resistance of body to GND /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lenty of substrate and well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95280" y="3668760"/>
            <a:ext cx="5334120" cy="242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2E19C-204B-4078-AB02-101C39A4A378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uard Ring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 risk greatest when diffusion-to-substrate diodes could become forward-bi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und sensitive region with guard ring to collect inj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933960" cy="29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F8126-4ED0-4F4F-8E50-96B819370043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ft Err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0’s, DRAMs were observed to randomly fli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 linked to alpha particles and cosmic ray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atoms create electron-hole pairs i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riers are collected on p-n junctions, disturbing th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26000" y="4343400"/>
            <a:ext cx="3222720" cy="1670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79120" y="571500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aumann0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C0DD7-51AB-40EA-B557-683E0745889A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diation Harde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hardening reduces sof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node capacitance to minimize impact of coll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redund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ual-interlocked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-correcting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for soft errors that d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193920" cy="20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6AD8B-B359-40E1-9C43-255C94BC511D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uit Pitfa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ve puzz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circuit and symptom, diagnose cause and recommen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se pitfalls have caused failures in re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B1B42-1560-44C5-8FE1-859ED6657B51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1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x works when selected D is 0 but not 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at low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in SF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19320" y="2301840"/>
          <a:ext cx="2971800" cy="14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01840"/>
                    <a:ext cx="29718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Threshold 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ever rises abov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aised by the body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shold drop is most serious a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omes a greater fraction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Use transmission gates, not pass tran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4191120"/>
            <a:ext cx="6858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5562720"/>
            <a:ext cx="6095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4FF7F-A1C4-4098-BF12-EA47F25F5BFF}" type="slidenum">
              <a:t>27</a:t>
            </a:fld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a 0 in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Q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Staticize node with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eriodically refresh node (requires fast cloc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actical processes with big leak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2286000"/>
          <a:ext cx="236232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23623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34320" y="4911840"/>
          <a:ext cx="1717560" cy="12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911840"/>
                    <a:ext cx="1717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4191120"/>
            <a:ext cx="6477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95280" y="4876920"/>
            <a:ext cx="7239240" cy="1218960"/>
            <a:chOff x="1295280" y="4876920"/>
            <a:chExt cx="7239240" cy="1218960"/>
          </a:xfrm>
        </p:grpSpPr>
        <p:sp>
          <p:nvSpPr>
            <p:cNvPr id="161" name=""/>
            <p:cNvSpPr/>
            <p:nvPr/>
          </p:nvSpPr>
          <p:spPr>
            <a:xfrm>
              <a:off x="2286000" y="4876920"/>
              <a:ext cx="624852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5280" y="5257800"/>
              <a:ext cx="2743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CD019-C7D3-48F6-BD8F-CE8E75A23450}" type="slidenum">
              <a:t>28</a:t>
            </a:fld>
          </a:p>
        </p:txBody>
      </p: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(Y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Y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Kee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666880" y="2209680"/>
          <a:ext cx="205740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20574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429000" y="4876920"/>
          <a:ext cx="190512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876920"/>
                    <a:ext cx="19051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41911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4876920"/>
            <a:ext cx="60958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F2726-7C3A-4709-A155-40A73A4D153B}" type="slidenum">
              <a:t>29</a:t>
            </a:fld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ar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ng /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DD331-6B49-4F6D-BB50-FA09ECA3EEBA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udo-nMO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nly one input is true, Y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only happens in 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and pMOS fight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MOS is too strong, nMOS cannot pull X low enou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Check that ratio is satisfied in all cor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2971800" cy="1150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41911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4876920"/>
            <a:ext cx="6095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FFA82-75D7-41F1-9703-70870301BDC5}" type="slidenum">
              <a:t>30</a:t>
            </a:fld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stuck a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only happen for certain latches where input is driven by a small gate located far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 (ag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es resistance of D driver, w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, and tgate must be mu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weak feedback inver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Check relative str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nbuffered diffusion inputs where driver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295280" y="2286000"/>
          <a:ext cx="182880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18288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5867280" y="3989520"/>
          <a:ext cx="2286000" cy="14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989520"/>
                    <a:ext cx="2286000" cy="14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419112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95280" y="5257800"/>
            <a:ext cx="7231320" cy="685800"/>
            <a:chOff x="1295280" y="5257800"/>
            <a:chExt cx="7231320" cy="685800"/>
          </a:xfrm>
        </p:grpSpPr>
        <p:sp>
          <p:nvSpPr>
            <p:cNvPr id="193" name=""/>
            <p:cNvSpPr/>
            <p:nvPr/>
          </p:nvSpPr>
          <p:spPr>
            <a:xfrm>
              <a:off x="2362320" y="5257800"/>
              <a:ext cx="6164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5280" y="5638680"/>
              <a:ext cx="68580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9C798-0800-47A8-9204-16E311D6B963}" type="slidenum">
              <a:t>31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 = 0, so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observed to sometimes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was low, it shares charge with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Limit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if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&gt;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recharge node X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715000" y="4622760"/>
            <a:ext cx="2286000" cy="1397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00200" y="4800600"/>
          <a:ext cx="175248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80060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286000" y="3809880"/>
            <a:ext cx="3124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4114800"/>
            <a:ext cx="4114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219320" y="4495680"/>
            <a:ext cx="6705360" cy="1600200"/>
            <a:chOff x="1219320" y="4495680"/>
            <a:chExt cx="6705360" cy="1600200"/>
          </a:xfrm>
        </p:grpSpPr>
        <p:sp>
          <p:nvSpPr>
            <p:cNvPr id="207" name=""/>
            <p:cNvSpPr/>
            <p:nvPr/>
          </p:nvSpPr>
          <p:spPr>
            <a:xfrm>
              <a:off x="2438280" y="4495680"/>
              <a:ext cx="548640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19320" y="4876920"/>
              <a:ext cx="312408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F3DBD-F59C-421D-A838-EB9DB25E1CA5}" type="slidenum">
              <a:t>32</a:t>
            </a:fld>
          </a:p>
        </p:txBody>
      </p:sp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7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 +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transmission gat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tch becomes transparent, X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 was low, it shares charge with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ynamic nodes bef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ing transmission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057400" cy="1170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362320" y="3809880"/>
            <a:ext cx="3124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4191120"/>
            <a:ext cx="4114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4495680"/>
            <a:ext cx="3352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89219-0056-485C-BC30-ED62C92C0DE3}" type="slidenum">
              <a:t>33</a:t>
            </a:fld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changes whil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if D comes from a far-away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Diffusion Input Noise Sensi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 &lt; 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ansmission gate turn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kely because of power supply noise or coupling o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 l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286000" cy="1145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029200" y="4876920"/>
            <a:ext cx="2590920" cy="1193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0" y="3809880"/>
            <a:ext cx="3733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4114800"/>
            <a:ext cx="6705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4876920"/>
            <a:ext cx="5257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01C94-5157-478C-B08B-364BDDBFD96D}" type="slidenum">
              <a:t>34</a:t>
            </a:fld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gates are very rob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ettle to correct value if you wait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ircuits suffer from a variety of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performance &amp;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to check circuits for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chips, you need an automatic che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rules aren’t worth the paper they are printed on unless you back them up with a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D937-8011-4728-976E-76B4BD7804CD}" type="slidenum">
              <a:t>35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1831680" cy="161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placement of dopants in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 inversely proportional to channe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ross-chip linewidth var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CL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ine edge roughness (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hing variations affect w, s,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217332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0" y="4572000"/>
            <a:ext cx="1703520" cy="81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764400" y="2867040"/>
            <a:ext cx="10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ernstein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7560" y="5334120"/>
            <a:ext cx="20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202520" y="3200400"/>
            <a:ext cx="1484280" cy="2614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82640" y="571500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Larry Pile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E3D22-F889-43D7-B8E0-C96E1A245B1D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atial Distrib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show spatial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t-to-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2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fer-to-wa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2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e-to-d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2D)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-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in-d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ID)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a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r transistors match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97280" y="1981080"/>
            <a:ext cx="3837240" cy="3335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09360" y="5334120"/>
            <a:ext cx="161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M. Pelg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F8C4F-F224-4FA0-94D3-3E1A21A77DA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ually designed +/-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hip droop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ent temperature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die temperature elev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hip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738520" cy="198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29760" y="35053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2962440" cy="671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1514520" cy="1303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467480" y="4876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arris01b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2D939-4E82-4CDC-8026-C24BC8E42CA2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hange over time as they wea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ias temperature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-dependent dielectric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threshold voltag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n this lat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3325B-70AF-4309-AF8C-ED11C9906FE7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extremes of process variations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133360" cy="2068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4876920"/>
            <a:ext cx="3733560" cy="106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110D9-1AEC-4482-81F4-F389D371864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ner Chec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are simulated in different corners to verify different performance and correctness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638840" cy="26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A546C-3791-4942-A855-C8A43A38E18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5T17:38:40Z</dcterms:modified>
  <cp:revision>1810</cp:revision>
  <dc:subject/>
  <dc:title>PowerPoint Presentation</dc:title>
</cp:coreProperties>
</file>