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4ACC-F284-4DC0-91FB-9D2B52755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091D-E877-4B5E-80DB-C0FE475E3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BDE2-D598-4A8A-96D4-F7FB1CC1A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90A8-DCA9-4D8C-BF8E-BDF7A210E4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85D2-B693-49C6-A4EC-0A8AA8536B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5B670-1258-4AAF-9028-A5B1CC87E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0DBCE-BBEE-484D-ACA8-B24349F2C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651C-C0C7-4CB6-878C-FD147A314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E936C-0953-4CEC-9D43-FF334CF60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BEECB-090E-4D59-9FCE-13FE5BE81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A064A-4C6D-4871-8F70-E5D7BC8BE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766E-1109-4DF9-AC02-A899F4446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B4E1-D903-4934-8A4B-BBE9D4DF131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&amp;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0EF8E-7ACD-4227-873A-DB019371FC47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l Sca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y gate tunneling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are only about 4 atomic layers thi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dielectrics have helped continued scaling of effective oxide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 stability at low voltage is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nard scaling predicts cost, speed, power all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65 nm, some designers find they must choose just two of the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9E96-B9A7-42BD-97E3-4FE5B6818AFF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ross-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s, t al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/ scaled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ize scaled by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630A5-D32D-4C66-B81D-EA321D6AC287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523880"/>
          <a:ext cx="6781680" cy="3556080"/>
        </p:xfrm>
        <a:graphic>
          <a:graphicData uri="http://schemas.openxmlformats.org/drawingml/2006/table">
            <a:tbl>
              <a:tblPr/>
              <a:tblGrid>
                <a:gridCol w="4114800"/>
                <a:gridCol w="1371600"/>
                <a:gridCol w="129528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: spac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: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: heigh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die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wire resistance/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w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fringing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parallel plat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otal wir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un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RC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talk noi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energy per bit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8A91-6D3F-4FA6-8CB9-59CB10524C9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523880"/>
          <a:ext cx="6705720" cy="127008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828800"/>
                <a:gridCol w="9907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/ Semi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epeated wire RC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ed wir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1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per b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D748-2D84-4839-AB54-DBABD3B4A39D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er micron is remaining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1/5 of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wires are getting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acking transist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a majo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 are getting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possible to cross chip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4BF52-C464-4CD6-B777-8114DA62F32E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 Industry Association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l. Technology Roadmap for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4872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6995C-FCD9-45A2-8BB6-D36474C597B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ity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E259-7096-4E44-B193-0F159AC1440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st Improv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3, $0.01 bought you 100,000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re’s Law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3335400"/>
            <a:ext cx="7543800" cy="2687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5320" y="5788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BA84-E527-4581-B2CF-A4853B646C8F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made a gloomy forecas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would reach minimum at 250 – 180 nm, then get worse because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leadin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kgate block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62520" y="2971800"/>
          <a:ext cx="47242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971800"/>
                    <a:ext cx="47242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867640" y="578808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IA9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70F8C-E531-4B06-8795-ED0B178DD339}" type="slidenum">
              <a:t>18</a:t>
            </a:fld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chable Radiu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send a signal across a large fast chip in one cycle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microarchitect can plan around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off-chip memory latencies were tol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245736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48F82-FCB5-4BBF-B8E8-2FDB1D0FD11B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E284-70B3-4944-B18B-FCAD2278D29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VP Patrick Gelsinger (ISSCC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caling continues at present pace, by 2005, high speed processors would have power density of nuclear reactor, by 2010, a rocket nozzle, and by 2015, surface of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s usual will not work in the futu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to powe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8000" y="578808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Intel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3200400" cy="19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84C9-BE1A-45A4-8E35-B0E1ED6E4AD4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in gate oxides and shor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 in high value because of velocity s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decreas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devi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causes expon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OF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utur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426120" cy="2565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10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3962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700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04B9-130C-482A-967B-640D3307926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 is increasing faster than designer productivity (gates /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design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500 for a high-end micro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pensive design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to raise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y on synthesis, IP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good engineering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6A69D-2245-4B0C-A902-6A19FE518C02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Lim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oore’s Law run out of st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build transistors smaller than an ato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asons have been predicted for end of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,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demise have been exagg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D6D8-916A-4BF9-914A-AFB34958310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LSI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ing pric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(1-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profit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o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curring engineering cost (N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7F6C-26AD-4E75-8922-0BCF7C9DD96E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size of desig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benefits, training,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front end: $1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 front end: $1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back end: $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costs: $5M in 4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ixture and package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4223-F676-4D5D-A715-0B35767469A2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urring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 / (Dice per wafer * Y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: $500 - $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e per waf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: Y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cost proportional to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, cost increases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872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86200" y="2819520"/>
          <a:ext cx="190512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19520"/>
                    <a:ext cx="19051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56A9-8BF8-4862-9EDD-EBC2788B97F6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xed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heets and applicatio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8C1D-9354-4D2B-A9E5-275BD0ED5F09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to start a company to build a wireless communications chip.  How much venture capital must you ra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you are smarter than everyone else, you can get away with a small team in just two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 digital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analog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support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8D1B-C50B-494A-B75B-B15E3C03046D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desig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120k * 7 = $84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des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240k * 3 = $72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5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70k * 5 = $35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 tools: $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s: $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6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@ $7.91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6M design &amp;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52F9-1EED-4AD2-ACD3-8C66F5F2077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’s La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Moore’s Law has been driving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120" y="3502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2133360" cy="1913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4089240"/>
            <a:ext cx="4191120" cy="185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105520" y="2514600"/>
            <a:ext cx="3276360" cy="2027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00400" y="5791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re’s Law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6483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llary: clock speeds have im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CB6A-3E14-4196-8E0F-D8AA74CA63BE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ore transistors per 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faster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fast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icroarchitecture (more I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gate delays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5BC3E-36E6-4E32-BD3A-D03E4A873ABC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constant in VLSI is constan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shrinks by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faster and lowe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do not impr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may get wo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facto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95480" y="4572000"/>
          <a:ext cx="99072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572000"/>
                    <a:ext cx="990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19720" y="3654360"/>
            <a:ext cx="4038480" cy="22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B503-CEDC-4ABE-9EC2-B39EB82C20F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nard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Dennard in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 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remain the same as features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imensions (x, y, z =&gt; W, L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4B110-2565-44DB-850B-BFDEE947E16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523880"/>
          <a:ext cx="5334120" cy="4429080"/>
        </p:xfrm>
        <a:graphic>
          <a:graphicData uri="http://schemas.openxmlformats.org/drawingml/2006/table">
            <a:tbl>
              <a:tblPr/>
              <a:tblGrid>
                <a:gridCol w="2484360"/>
                <a:gridCol w="1095840"/>
                <a:gridCol w="17539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nard Scal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oxide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upply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hreshold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: substrate do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(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ON curr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: effective resis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: gate capaci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/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: clock frequ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: switching energy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: switching power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: area per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power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current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AD86-59F6-4683-A45C-28926AC20409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per micron is nearly independent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N resistance * micron improv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et faster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 goes down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nsity goes up with scaling (b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273B7-BBD6-4C9E-AE95-A6F123E3B16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is typically about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ical FO4 inverter delay for a process of 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nm) is about 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ON resistance of a unit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ran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4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= (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15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30) ps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 = 16.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resistance is roughly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962520"/>
            <a:ext cx="6858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D428C-44B5-4713-8DEC-15BFE57D82D3}" type="slidenum">
              <a:t>9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31T16:16:51Z</dcterms:modified>
  <cp:revision>2224</cp:revision>
  <dc:subject/>
  <dc:title>PowerPoint Presentation</dc:title>
</cp:coreProperties>
</file>