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4AAE-8C24-4E6F-ACB9-7237FC2DC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7A3B-D3EE-459E-8FC4-D9437AFC0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C564-4041-4403-A08F-87AB1A1DA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8906-1670-4B87-B432-3A293C7AC8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C02B-F62C-428C-8BDA-FBEA9D666E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DED0-91C6-40A0-A9FB-78F307055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04BA-1E36-4B9F-A67A-BA701DD23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FF93-CF67-4027-80F3-253923831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B43D-4D1C-449B-8FF0-E4B0076C0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B147-1CFE-494E-9FD7-B2540BECB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8B36-5ABB-4908-B3F7-0C8934160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1DEF-9EAB-4962-9D7C-19889F6C4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AF99-4AB6-4EB0-B6F4-BCC9D62E5E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9DC3-9240-446D-86A8-CA8941E5BAB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processes normally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352680"/>
          <a:ext cx="5562720" cy="258624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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(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BD1F-A132-4D70-A94F-EE848C6690C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C668-AF52-4B16-99EF-E08C0F746DF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per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wires diffusion barrier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is also pr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resistance is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1891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219320" y="2971800"/>
          <a:ext cx="380988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971800"/>
                    <a:ext cx="380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EDFE-20A1-4500-BA06-3E9B888FF3F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sheet resistance of a 0.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hick Cu wire in a 65 nm process.  Ignore d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otal resistance if the wire is 0.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and 1 mm long.  Ignore the barrier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2438280"/>
          <a:ext cx="403884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40388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295280" y="4648320"/>
          <a:ext cx="41148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648320"/>
                    <a:ext cx="4114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905120" y="236232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572000"/>
            <a:ext cx="3657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9CF4-7C21-4C77-AC76-FBD6382C04A4}" type="slidenum">
              <a:t>13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8E96-2004-4737-8418-BBE833771732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836D-B671-4A96-A41F-9D8454C73CB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 Formu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a line without neighbors can be approxim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mpirical formula is accurate to 6% for AR &lt;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2443320"/>
          <a:ext cx="57150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43320"/>
                    <a:ext cx="5715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A44D-BF9A-4ED3-A089-F20A376F735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nse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D174-583F-4623-9956-64AC05165BA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147D-6937-4443-A4A4-C50105E172F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1 mm wire.  Assume wire capacitance is 0.2 fF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and that a unit-sized inverter has R = 10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 = 0.1 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fF) + (1000 + 8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+ 0.6 fF) = 281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3873600"/>
            <a:ext cx="5638680" cy="191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3352680"/>
            <a:ext cx="6019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FFF5-B2FE-486A-827F-217132478904}" type="slidenum">
              <a:t>19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EEB6-FF8F-41C2-B826-05E8A1EE315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re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energy per unit length to send a bit of information (one rising and one falling transition) in a CMO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(0.2 pF/mm)(1.0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pJ/bit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mW/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048120"/>
            <a:ext cx="6019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6D36-2147-49B7-889B-294C05AB5554}" type="slidenum">
              <a:t>20</a:t>
            </a:fld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8DF5-9433-451A-830B-9D4F3D20483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191120" y="4800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8006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1814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18148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562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5627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5627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698F-6DAE-4A54-AACF-E2BAA510D5F4}" type="slidenum">
              <a:t>22</a:t>
            </a:fld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1115-17B5-4BB7-B836-D3C5B4B2999A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48F5-88B4-4E9F-964C-A73C778D91B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70572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A18B-2993-49BA-A4BD-28B9C8584AB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1D21-E7E9-4F0D-9FF2-108FE2CC0DD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1BF7-8261-4301-A4FF-B81FB95543FC}" type="slidenum">
              <a:t>27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952880" y="1600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0C4A-D7C3-48D0-AF53-0B2732F5AC76}" type="slidenum">
              <a:t>28</a:t>
            </a:fld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4800600"/>
            <a:ext cx="44956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403B-651C-4FA4-8500-203862E6B700}" type="slidenum">
              <a:t>29</a:t>
            </a:fld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31D8-38B4-44B5-8812-E8CE27B6062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4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65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F7E3-4E6E-42FD-9438-5B2C4CA3280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eater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/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87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premium over unrepeated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power is consumed in the large 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peaters are downsized for minimum ED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emium is onl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creases by 14% from mi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01B4-7D3F-45CA-A2C5-36C201C9EF4C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7F2F-59CC-4880-8F0C-A8C8B3D41A6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 for within-cel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2 for vertic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3 for horizont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er and wider, (density vs. sp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layers: thick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FA8C-A56B-4D77-A7ED-271EAA504A6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46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90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64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5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343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995640" cy="2602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6560" y="57913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Thompson0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9960" y="57913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Moon0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C6EB-3052-4C17-9835-79312501759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connect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 a wire is analogous to current in a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: narrow size impede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: trough under the leaky pipe must fill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ance: paddle wheel inertia opposes changes in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for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006720"/>
            <a:ext cx="3962160" cy="30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B2E3-B7D7-4360-8E2A-D5CA8EF2407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0512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0476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657600"/>
            <a:ext cx="12952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949C-2924-4B39-B2F6-AF91EC2CDBD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6694-9461-4F6E-8BAF-52826AA405A4}" type="slidenum">
              <a:t>9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29T15:24:17Z</dcterms:modified>
  <cp:revision>940</cp:revision>
  <dc:subject/>
  <dc:title>PowerPoint Presentation</dc:title>
</cp:coreProperties>
</file>