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EA05-24EF-4489-A714-CD9061A75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85C62-0C46-4550-BE64-FF4C74590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47A8-CFCE-4BDA-9223-AFCD5D661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3504-7171-4D60-A7AB-18484E0A03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2B2F2-6714-41DD-81DE-B99042A33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9980B-C932-4492-932E-D66311AFA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7E22F-BF7A-4401-8DA4-EB58EDFC4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9F880-ABAF-4775-A9E5-144BA4A7E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73BD-BBB0-4DCF-A246-2C622CF91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C2C6A-1565-4F5C-8EC4-245A0F742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BE7D-8F6F-4F95-ACCF-5E3228260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91CFF-B21F-43AD-99DE-ECF1EC88A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AC28-C0EB-47A0-9476-BF1355C518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CA5EC-61BB-4660-8643-0D268D63479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352680"/>
          <a:ext cx="5562720" cy="258624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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AE8B-91ED-4303-89C5-3DE36286949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FBF6-97EE-4E3B-809A-A6F9CF0383B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05AD-E496-43A6-97CD-83306BCAC1C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95280" y="2438280"/>
          <a:ext cx="403884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95280" y="4648320"/>
          <a:ext cx="411480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648320"/>
                    <a:ext cx="41148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905120" y="236232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A8725-5AB1-45E8-AF9F-9622664643A4}" type="slidenum">
              <a:t>13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415D-C1B6-4D36-9BAB-92FCAB57F43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DEF0E-9E52-414D-BF71-733E534CC48C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05A9-5455-455D-B908-9245454DB25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C1F0-DB8A-4834-B49A-2989A992A585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AD86-1026-41E5-93C3-698C0C012F7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057400" y="3352680"/>
            <a:ext cx="6019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9E88-6387-4A68-9850-362B9F14003E}" type="slidenum">
              <a:t>19</a:t>
            </a:fld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5927F-F6BC-4A61-902E-F4F39F0E567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52480" y="3048120"/>
            <a:ext cx="60199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79E7C-BD17-4C15-A468-219F7BE9D1D3}" type="slidenum">
              <a:t>20</a:t>
            </a:fld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B8602-61CF-422B-BB02-28EA9701F359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447920" y="4343400"/>
          <a:ext cx="5790960" cy="158112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6844-5259-4D62-A429-A16C8D83EAE8}" type="slidenum">
              <a:t>22</a:t>
            </a:fld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26E27-A31A-4BAD-BDF5-1BB5A54FFE1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6915-134E-4AC0-8284-88A246CE785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AE57-71F3-467A-BD0E-85760F8CB2B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37F4B-DD0F-450C-A9D8-DF0E8578709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A0C29-09F5-48DE-983A-7F49CFB6F247}" type="slidenum">
              <a:t>27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9193-BC85-4B6C-A5EA-597A200ED1DC}" type="slidenum">
              <a:t>28</a:t>
            </a:fld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’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B6CDB-B9CB-4081-BE2B-6D9DE342DF36}" type="slidenum">
              <a:t>29</a:t>
            </a:fld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E0EB-577D-4FAA-B45D-015F375274F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065F-B918-43EB-A098-1C439CA897D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2140D-FBE8-48DB-911E-4D1FE4917E18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146DC-E9C2-490B-8548-86413A55AA2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784A6-0FE7-4782-9370-F8346B96E15F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1774D-BCBD-4FD3-9CEE-4C75B6F71A0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C560-A844-453E-9BFD-633D94CCE00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56051-09F5-4BDC-84D2-C07ECE65AFA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4: Wir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34DB4-35A1-454F-8D2D-B8F6819FB499}" type="slidenum">
              <a:t>9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29T15:24:17Z</dcterms:modified>
  <cp:revision>940</cp:revision>
  <dc:subject/>
  <dc:title>PowerPoint Presentation</dc:title>
</cp:coreProperties>
</file>