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F00A5-C84C-46A2-8841-06464BF976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90136-D69D-427D-8ABB-45A886E6B2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5AE5D-9DE9-4323-B176-71743B8E26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8F02B-4EF5-4DAF-9051-CFBDE586C4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97B70-4DE8-44F8-A8E3-166DBA3241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BAC20-6CA3-4B42-A843-08D7C3B8AB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78054-7DF6-4BD6-A25A-A98007B24A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6A254-CA28-41A4-8E65-6AD05AA7E5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EB636-B589-4EC7-B496-E07EEAB534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0534C-6946-4DF1-A920-9F8CFC3145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07EEA-C754-4817-8245-9AD68EA4DB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41F22-466E-4585-ACEA-F1FA0A3550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CEAE-7FC0-4D35-9956-D882A2B8068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2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for Testabil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5509F-A484-474A-A2CE-7D0466D23113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79080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3B40D-D2D0-4512-98CF-981FE8BCF331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ervability &amp; Controlla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bserv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ase of observing a node by watching external output pins of the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troll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ase of forcing a node to 0 or 1 by driving input pins of the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al logic is usually easy to observe an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state machines can be very difficult, requiring many cycles to enter desired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if state transition diagram is not known to the test engi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63105-4DA6-4ECD-99AE-287A868670FC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 Pattern Gen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test ideally would check every node in the circuit to prove it is not stu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the smallest sequence of test vectors necessary to prove each node is not stu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observability and controllability reduces number of test vectors required for manufacturing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the cost of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es design-for-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929D0-FE0B-49AA-89AB-3FBB4F6A099A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0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1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et: {0100, 0101, 0110, 0111, 1010, 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638680" y="1676520"/>
          <a:ext cx="274320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676520"/>
                    <a:ext cx="274320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2590920" y="19810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19810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23623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23623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27432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27432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32004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32004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35812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35812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0920" y="43434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43434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48006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48006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5562720"/>
            <a:ext cx="5181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37670-1A2F-47A5-A0E4-A16C67AE5CDA}" type="slidenum">
              <a:t>1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for Te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the chip to increase observability and control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each register could be observed and controlled, test problem reduces to testing combinational logic between regi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yet, logic blocks could enter test mode where they generate test patterns and report the results automat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7A798-D190-4611-84EB-78259A8880F6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each flip-flop to a scan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sts one extra multip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mode: flip-flops behave as u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mode: flip-flops behave as shif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s of f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sc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 and n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 sc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553080" y="1447920"/>
          <a:ext cx="2210040" cy="126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1447920"/>
                    <a:ext cx="221004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276720" y="3276720"/>
          <a:ext cx="5181480" cy="277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276720"/>
                    <a:ext cx="5181480" cy="27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1A193-BCA8-4657-A6D1-BA737D27FCCE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nnable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35000" y="1523880"/>
          <a:ext cx="70740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1523880"/>
                    <a:ext cx="7074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3EED8-F5B0-4C75-819D-C658D8DAF5FE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TP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pattern generation is ted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Test Pattern Generation (ATPG) tools produce a good set of vectors for each block of combination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chains are used to control and observe th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coverage requires a large number of vectors, raising the cost of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oducts settle for covering 90+% of potential stuck-at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6FCEA-380A-4DB6-9B46-097529C832B5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uilt-in Self-te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self-test lets blocks test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pseudo-random inputs to comb.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outputs into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high probability, block is fault-free if it produces the expected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6A28A-9CF2-4C76-9BD1-4B8339F654AF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S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near Feedback Shif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register with input taken from XOR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seudo-Random Sequence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3276720"/>
          <a:ext cx="3886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276720"/>
                    <a:ext cx="3886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4952880" y="2971800"/>
          <a:ext cx="3124440" cy="301464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 (repea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6553080" y="335268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53080" y="373392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403848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434340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472428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502920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3080" y="533412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71500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46483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ps reset to 1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32004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C27DD-8BB4-46B4-9616-85CF4FB1AAC2}" type="slidenum">
              <a:t>19</a:t>
            </a:fld>
          </a:p>
        </p:txBody>
      </p:sp>
    </p:spTree>
  </p:cSld>
  <p:transition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Deb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ul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bility and Control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S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DCDF2-1963-4978-95F8-5ACDDC342E2B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ILB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Logic Block Ob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scan with PRSG &amp; signatur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71600" y="2438280"/>
          <a:ext cx="6095880" cy="35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38280"/>
                    <a:ext cx="6095880" cy="35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1619F-873B-494D-A633-79AFAC7D0B3B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undary Sca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boards is also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verify solder joints are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a pin to 0, then 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at all connected pins get th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-hold boards used “bed of nail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T and BGA boards cannot easily contact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capability of observing and controlling pins into each chip to make board test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B3C75-2746-4051-AD61-0BF7841AA18E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undary Scan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38440" y="1523880"/>
          <a:ext cx="56671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8440" y="1523880"/>
                    <a:ext cx="5667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0D745-D053-4BC5-91C1-43A9EAA424FD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undary Scan Interfa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scan is accessed through five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K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mode 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I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data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O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data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ST*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reset (op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with internal scan chains can access the chains through boundary scan for unified test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4F50A-5201-4888-A8A0-F1D5430E2B8C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sting Your Class Projec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ilicon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vectors: corner cases and random 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 simulation of schematics for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2-phase clocking to avoid r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atic CMOS gates to avoid electrical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VS to ensure layout matches sche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worry about 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silicon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your test vectors on the fabricated 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functional chip t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ly use breadboard or PCB for ful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41186-B67B-43DC-A4B8-D37F0A9792A4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oster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osterICs functional chip t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by clinic teams and David Diaz at H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your test vectors, applies them to your chip, and reports assertion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0" y="3962520"/>
            <a:ext cx="3873600" cy="2089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5800" y="3209760"/>
            <a:ext cx="3352680" cy="284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7E03B-4DFC-40A6-8394-C22D97D59B7F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testing from the begi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as you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test after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on’t test it, it won’t work!  (Guaranteed)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464E3-46D2-4F70-AD40-45C4DC8559A5}" type="slidenum">
              <a:t>26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is one of the most expensive parts of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verification accounts for &gt; 50% of design effort for many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ug time after fabrication has enormous opportunity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ping defective parts can sink a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Intel FDIV bug (19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error not caught until &gt; 1M units shi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cost $450M (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1D226-1D31-4FA5-88B4-13293B562BFE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 Verif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chip simulate correct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done at HD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tion engineers write test bench for H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test all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for corner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break logic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32-bit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all combinations of corner cases as inpu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 1, 2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, -1, -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few random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tests require inge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487AF-5987-4F7F-A962-4510502C073C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licon Debu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first chips back from fabr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are lucky, they work the firs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bugs vs. electrical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hip failures are logic bugs from inadequate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are electrical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ta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nodes: leakage, charge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ew are tool or methodology failures (e.g. D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 the bugs and fabricate a corrected 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C5866-0FB2-4429-B1B0-0D4F7B2B01C1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moo Plo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iagnose failu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to access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op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er voltage prob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self-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moo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 voltage,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for caus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825640" cy="441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34945-C518-4E1B-8AA8-1805639FC5ED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nufacturing Te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eck of dust on a wafer is sufficient to kill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ie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ny chip is &lt;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test chips after manufacturing before delivery to customers to only ship good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testers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time on t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 selec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181480" y="3365640"/>
            <a:ext cx="3413160" cy="26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33B89-1DD8-460E-8A91-3337DFAC3381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nufacturing Failu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69160" cy="4618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400800" y="5881680"/>
            <a:ext cx="236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M images courtesy Intel Corpo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05D0C-CD24-47A3-A1C1-088383ED6A7C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uck-At Fa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a chip fai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failures are shorts between two conductors or opens in a 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cause very complicated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er model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ck-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all failures cause nodes to be “stuck-at” 0 or 1, i.e. shorted to GND or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quite true, but works well in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F45CD-F48C-4902-9AA2-4BAE6F04068A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3-08T18:34:21Z</dcterms:modified>
  <cp:revision>1883</cp:revision>
  <dc:subject/>
  <dc:title>PowerPoint Presentation</dc:title>
</cp:coreProperties>
</file>