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42.png" ContentType="image/png"/>
  <Override PartName="/ppt/media/image2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D510-81D0-4B39-8C30-3007DD0CA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6580-E34B-4E25-B09B-4F54360D9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DD8E5-703C-4194-9B90-7A2FAABF4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E88D1-81EB-4F8B-8545-DBFA32EA25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C35DB-21CD-4C73-B359-4FE5F60693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7D106-E956-4AB6-A18F-7371B402A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825B4-A73B-4D99-934F-33663294C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E595-0FEA-4791-90C2-A31576A58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554A4-5059-4371-B6E2-117E70E20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8ED2-5D16-4CD4-AC7E-DB4D78DB4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C4212-863D-4AAB-9F4B-85D5F5AA9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91E3-5F70-476F-B3DA-7ECA36553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8AA4-1D6B-41B7-A548-20C55DCABDF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tial 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D1303-E3AA-48D4-AE70-8EAFEC5D506D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latches are now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638680" y="1828800"/>
          <a:ext cx="274320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828800"/>
                    <a:ext cx="27432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A4AEE-6B12-4FCA-96CB-90B7638EE2B8}" type="slidenum">
              <a:t>10</a:t>
            </a:fld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4120" y="1828800"/>
          <a:ext cx="304776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828800"/>
                    <a:ext cx="304776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7DA78-5089-449C-9C88-5A31257DC7C4}" type="slidenum">
              <a:t>11</a:t>
            </a:fld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Very robust (most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slow (1.5 – 2 FO4 del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lock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952880" y="1600200"/>
          <a:ext cx="320040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2004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0F992-5934-4ACE-B6B9-24933542AFF1}" type="slidenum">
              <a:t>12</a:t>
            </a:fld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410080" y="1676520"/>
          <a:ext cx="266724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676520"/>
                    <a:ext cx="26672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895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E7DA7-772F-4B61-A9A0-182D86FFE1F3}" type="slidenum">
              <a:t>13</a:t>
            </a:fld>
          </a:p>
        </p:txBody>
      </p: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is built as pair of back-to-back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00200" y="2057400"/>
          <a:ext cx="48006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48006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04CDF-362C-4FF3-B302-835ACBBED996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: ignore clock when en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x: increase latch D-Q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Gating: increase en setup time,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33720" y="2971800"/>
          <a:ext cx="396216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396216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9286-00D6-4508-AED0-3DF5442E2E05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output low when reset ass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vs. a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52480" y="2362320"/>
          <a:ext cx="524844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2320"/>
                    <a:ext cx="52484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97082-6090-4244-9EBF-A1E4205C506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t / 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forces output high when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with asynchronous set and 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2801880"/>
          <a:ext cx="69339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01880"/>
                    <a:ext cx="69339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066D-8C6F-433A-8856-C3604845E75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Metho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14800" y="1447920"/>
          <a:ext cx="44276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447920"/>
                    <a:ext cx="44276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6D3A5-3262-4A6D-92C7-CE8F1029C768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ing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67080" y="2286000"/>
          <a:ext cx="441972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441972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85800" y="2743200"/>
          <a:ext cx="3657600" cy="3162240"/>
        </p:xfrm>
        <a:graphic>
          <a:graphicData uri="http://schemas.openxmlformats.org/drawingml/2006/table">
            <a:tbl>
              <a:tblPr/>
              <a:tblGrid>
                <a:gridCol w="700200"/>
                <a:gridCol w="29574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Setup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Hold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685800" y="1828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and Propagation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95730-382D-44FE-A50D-B2BE92A51927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 Elem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and Min-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hase C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ABC1-961A-4A45-957D-D59B4881C6F2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x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8120" y="1676520"/>
          <a:ext cx="5410080" cy="27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410080" cy="27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9736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38080" y="1752480"/>
          <a:ext cx="22100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752480"/>
                    <a:ext cx="22100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905120" y="1828800"/>
            <a:ext cx="990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21D54-EE83-4C56-BC68-9DFB24E133F9}" type="slidenum">
              <a:t>20</a:t>
            </a:fld>
          </a:p>
        </p:txBody>
      </p:sp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505320" y="1600200"/>
          <a:ext cx="464796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00200"/>
                    <a:ext cx="464796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5800" y="1828800"/>
          <a:ext cx="271620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828800"/>
                    <a:ext cx="27162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666880" y="17524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87CDC-25D9-4D2E-B9BC-5600A4AAC426}" type="slidenum">
              <a:t>21</a:t>
            </a:fld>
          </a:p>
        </p:txBody>
      </p:sp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886200" y="1752480"/>
          <a:ext cx="4648320" cy="33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752480"/>
                    <a:ext cx="4648320" cy="33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486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62120" y="1752480"/>
          <a:ext cx="34988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3498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286000" y="17524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BCE91-B532-49C0-AFB0-352AC4273A09}" type="slidenum">
              <a:t>22</a:t>
            </a:fld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n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1981080"/>
          <a:ext cx="141264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4126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657600" y="1600200"/>
          <a:ext cx="5029200" cy="341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00200"/>
                    <a:ext cx="502920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2BFA-7DB6-4568-BC6A-B321A5948CEC}" type="slidenum">
              <a:t>23</a:t>
            </a:fld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38080" y="1981080"/>
          <a:ext cx="276408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276408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038480" y="1752480"/>
          <a:ext cx="4434120" cy="33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752480"/>
                    <a:ext cx="44341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838080" y="2666880"/>
            <a:ext cx="3276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reduced by non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: hold applies twice each cycle, vs. only once for flo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flop is made of two latch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19810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7305C-6A3A-449F-B360-9E2CE5FCC40E}" type="slidenum">
              <a:t>24</a:t>
            </a:fld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62120" y="1981080"/>
          <a:ext cx="190476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9047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733920" y="1676520"/>
          <a:ext cx="4732200" cy="33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76520"/>
                    <a:ext cx="47322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838080" y="266688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increased by pulse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571B0-58F1-4101-B9A4-87238D15EAC2}" type="slidenum">
              <a:t>25</a:t>
            </a:fld>
          </a:p>
        </p:txBody>
      </p:sp>
    </p:spTree>
  </p:cSld>
  <p:transition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lop-based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unches on one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tup before next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late, system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early, time is w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ps have hard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latch-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an pass through latch while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ycle of logic can borrow time into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each loop completes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781C7-FC92-4BC4-B493-0FCDD218CDAC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152360" y="1523880"/>
          <a:ext cx="683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523880"/>
                    <a:ext cx="683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4A02C-790A-47C2-9479-FC015B76AEE1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w Much Borrowing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9880" y="1676520"/>
          <a:ext cx="440856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676520"/>
                    <a:ext cx="44085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62120" y="2057400"/>
          <a:ext cx="282564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28256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85800" y="1600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62120" y="3733920"/>
          <a:ext cx="169848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733920"/>
                    <a:ext cx="16984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7621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7B28-4B22-4467-8B7C-72C79D11746D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zero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s really have uncertainty in arriv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maximum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minimum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1337-CDAF-4FF7-A4BA-90BCB6C69327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and previous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parating previous, current,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SM,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4495680"/>
          <a:ext cx="7696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495680"/>
                    <a:ext cx="7696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70684-761C-46BD-9A1F-96B35B24C337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838080" y="182880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82880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C260-BCA7-47CB-98B2-4124E3E0F031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La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724280" y="1676520"/>
          <a:ext cx="371628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76520"/>
                    <a:ext cx="371628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762120" y="2057400"/>
          <a:ext cx="3460680" cy="194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346068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85800" y="1523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4343400"/>
          <a:ext cx="41148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4114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685800" y="3962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A66D-0805-469D-9410-8FC86BF894B8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o-Phase Clock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tup times are violated, reduce clock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old times are violated, chip fails at an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working chips are most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ools to 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asy way to guarantee hold times is to use 2-phase latches with big nonoverlap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hese clock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1, ph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D7477-3FB2-469F-AFA8-3778159ECBDD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afe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years used flip-flop with nonoverlapping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– nonoverlap adds to setu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 hol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dustry, use a better timing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ffers to slow signals if hold time is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905120" y="3733920"/>
          <a:ext cx="480060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480060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0D544-A060-4256-B2FD-4C3CDE80CBE6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aptive Sequenc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s include timing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ep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 inaccu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run faster and check for near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introduced as “Raz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frequency until at the verge of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reduce cycle time by ~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715000" y="1371600"/>
          <a:ext cx="25304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371600"/>
                    <a:ext cx="2530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2F0CE-B685-4AF3-86EC-A2A41C030086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asy to use, supported by all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Transparent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skew tolerance and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some skew tol &amp; borrow, hold tim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62120" y="4162320"/>
            <a:ext cx="761976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7145-D0BC-4008-9481-27E452317EED}" type="slidenum">
              <a:t>35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s moved through pipeline at constant speed, no sequencing elements would b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ber-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pulses (tokens) are sent down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pulse sent before first reaches end of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hardware to separate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s min time between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ve pipel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ircuits, dispersion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ast tokens so they don’t catch slow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00332-DCA7-4743-9943-07561DFF3B60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Overh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ip-flops to delay fast tokens so they move through exactly one stage each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y adds some delay to the slow 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circuit slower than just the log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equenc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call this clock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applies to asynchronous circuits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e side effect of maintaining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ED0EC-45F6-4BBC-9B0D-D965CAD0934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evel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transparent latch, D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dge 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master-slave flip-flop, D flip-flop, D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-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D6D2-1DD1-4D40-A3D9-2917C4A1534D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lock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72200" y="1828800"/>
          <a:ext cx="20574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828800"/>
                    <a:ext cx="20574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86728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1970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3623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7432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3581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9625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4343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4724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5181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55627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B24E-2381-4E17-8E0E-457828A8F3AF}" type="slidenum">
              <a:t>7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inverted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324480" y="1752480"/>
          <a:ext cx="1694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752480"/>
                    <a:ext cx="1694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FE53E-8C96-400D-B80A-50D906E49EC5}" type="slidenum">
              <a:t>8</a:t>
            </a:fld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5880" y="1600200"/>
          <a:ext cx="22734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00200"/>
                    <a:ext cx="22734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3352680"/>
            <a:ext cx="3353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733920"/>
            <a:ext cx="3353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41911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2B0D-1D7A-493E-B728-6F0D07294738}" type="slidenum">
              <a:t>9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3T06:25:45Z</dcterms:modified>
  <cp:revision>1291</cp:revision>
  <dc:subject/>
  <dc:title>PowerPoint Presentation</dc:title>
</cp:coreProperties>
</file>