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A5596-7CAD-4A24-AED7-EF0C68272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E4F11-9DC1-4BA5-AA20-5B13EB0D4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AF77-3968-47E3-B511-44305A32B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0A282-C092-4F6C-83E7-7500CE3955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D8CBB-526B-4E29-9FBC-46EA63E75D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D0639-B3A0-4ED5-9FF8-2C970ED59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BDFEF-B030-461B-82A9-1310149A6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66EF0-83F6-4435-940F-637911D24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1B12C-154F-426D-968F-A5F64C2ED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244FD-FD58-46B5-B225-796B1FEAAF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8855-3031-4248-9D04-5969402A7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C5BC1-9B8D-4151-AAAC-AFB6008AF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4424-8CE6-46F4-B6B3-BB88D27E5E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01F1-D44E-4895-81A3-5C491162458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CA0C9-3416-4F4E-A432-5BBA04066F8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CCC77-1160-4DD5-915F-1A91F167486F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D5F6-8569-4A98-ADCE-FC0F95C57C4D}" type="slidenum">
              <a:t>12</a:t>
            </a:fld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FBD6D-DAC4-4BF0-A499-61DAEDC3EC8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8184C-264C-4981-A968-EB31FF7CB4AC}" type="slidenum">
              <a:t>14</a:t>
            </a:fld>
          </a:p>
        </p:txBody>
      </p:sp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DBD63-9E54-4350-9895-E5BF33A619C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2465-CE6F-4B1B-8D1F-60A93DD3A0E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120" y="3962520"/>
          <a:ext cx="4190760" cy="19764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15B4-E31C-4C55-8F5B-80A65A4F807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5BB63-5221-4971-AE63-134E0A21B920}" type="slidenum">
              <a:t>18</a:t>
            </a:fld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6875C-4DDD-4D0C-8275-B9F5EF9E804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8B1C-23E9-4BA9-B2D8-303E0F6A046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9153E-3B05-4859-9305-92FB4E1F14EA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FFF4-EE4D-4A22-B6DA-C7F0FD36961E}" type="slidenum">
              <a:t>21</a:t>
            </a:fld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F4268-C7C2-4C08-870C-74D43644E712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2B8AF-C00C-4B3A-9491-69E6F497987A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67331-C54C-463F-85B6-6A8A4D44464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12BD-046E-4594-9C40-6B035979FA3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6F3C4-E963-460C-ADE9-532CC809F6E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A1109-315C-4AE4-BE5E-9BC182CD9948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249F-115C-4608-9C17-6BA1BDECA3B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C90AE-F7E2-49D7-95CC-8C52AB85E95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44BB7-EA9D-43B5-B070-A1DCA3E2F584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04FF7-6062-4F89-A3BC-10514A36E1E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19CB-5F14-402C-BB81-FF5903B54A1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F36A-D537-47BD-9DE1-61CE5F0A90F1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59B7-36EF-444D-9151-6516A04209C6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C05F-28A8-4DE3-89FA-85717A86A59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0: Circuit Famil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1905-78BE-43C8-9B5D-5F62232D411E}" type="slidenum">
              <a:t>9</a:t>
            </a:fld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1T20:53:08Z</dcterms:modified>
  <cp:revision>1166</cp:revision>
  <dc:subject/>
  <dc:title>PowerPoint Presentation</dc:title>
</cp:coreProperties>
</file>