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FE1C-578A-43BF-A3CF-C43AAE252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D29E-4168-4374-A63C-E50E0AD2A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53C7-B276-4970-9867-A6BB8F2BD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452A-DD88-4174-BFF4-43A95FDAE0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592E-6C2E-452C-A993-211D8F2D57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1A82-8346-49E0-AB90-26DB92611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2A6E-D552-4F2B-8E3D-56AC7075B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370F-2F32-4477-8E58-C2748B884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108B-2822-48C2-8DB7-E34378F89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0195-E169-4DC0-932F-D964B117A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4636-6C9F-48A9-8BD1-CA4B4BDE7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9393-DE84-4253-9120-5B2F9F532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8C08-8262-4CEF-A586-A6C9E4D228E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0337-3831-4CC1-912D-4B445766B4E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DD92-9996-43CD-928A-546915C1CE3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6755-6416-4853-B01D-B29D44E17AD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83F0-425E-4C4F-B14C-B644D2EAD3F6}" type="slidenum">
              <a:t>12</a:t>
            </a:fld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8901-9904-4506-BC85-2E71D8DB4B4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E558-E454-439E-BE95-381DA6A27846}" type="slidenum">
              <a:t>14</a:t>
            </a:fld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281B-5B3F-4256-8746-3203FAC83F0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1AD8-AB74-4E13-875C-1403EE31B78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DB3B-8EE3-418C-A340-447D355DD84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175E-B64C-4F5A-96FB-135476E2855D}" type="slidenum">
              <a:t>18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63D3-2931-4979-98FB-876B171363C2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23FA-78D8-4404-9434-8853249829A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A69B-15F8-416A-AF0D-3C2B17ACC67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C25D-CB1C-4A6D-A873-75ED8BBF82A1}" type="slidenum">
              <a:t>21</a:t>
            </a:fld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9273-6944-4555-870E-BDE958E9B69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FB06-5E87-4FC9-96E9-D8933901D66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6E37-2294-4166-8684-B788C6D2640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4392-0B43-42ED-B0E0-90DC983CC09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1CF2-EB74-4ED1-A70B-8DCEF91CC5C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EC02-E456-4AD9-985D-F18F5395712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DEED-A47E-4146-A0AF-857BF053B0D1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7E28-E26F-4441-9987-E46B8C78171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C2FB-E484-4F33-97CD-5F9DBB9B5002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00C5-E3CD-4D6B-9998-C80A0D1A88B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28A1-9737-42B4-ACA9-B1FFCE42FCF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7FDA-D6C2-452F-8E34-91467E579A8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3193-F987-4B7A-9F2F-C56BB8C26F3C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9B32-F85F-472C-A7CC-FB689EABABB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6AC1-5D14-495D-9159-3E816B241014}" type="slidenum">
              <a:t>9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1T20:53:08Z</dcterms:modified>
  <cp:revision>1166</cp:revision>
  <dc:subject/>
  <dc:title>PowerPoint Presentation</dc:title>
</cp:coreProperties>
</file>