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4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52.wmf" ContentType="image/x-wmf"/>
  <Override PartName="/ppt/media/image32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8.png" ContentType="image/png"/>
  <Override PartName="/ppt/media/image51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43888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973240" y="549000"/>
            <a:ext cx="3656160" cy="27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43888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640A012-9F1B-46B7-B2AC-1E4D68F03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58AE874-DA0A-4C36-9DFC-064A66E4B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EF89CC8-2D0F-414D-ADA3-4FB8AC934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1107FC9-923A-4377-8598-2E2477C2E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DD25009-6C1C-477B-B71A-05C22BBBC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586F52E-D5E4-4919-A1CD-CDD0FA0EB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25E9806-3704-4B6A-8761-145C5774C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79BCAFF-A7B0-4E82-9E46-1D4D608DD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7474FC0-0422-481B-99A0-C5BD0B0EF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3DFEBA9-5AF5-4EA0-86C3-206130286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1CF045A-D572-46CD-BE8F-345356A75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2900994-6B2B-4DE5-8682-F96399263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1EBA569-309A-456B-A963-DF9017BD7A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AC37744-D5F3-4DA4-8AB6-12B5F63744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1E4D6B0-445F-4AF6-9DF0-9418618457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649FE5A-2431-4049-BC51-8DAF0ABAF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53396A0-F9D1-4915-9DA9-494D81C3D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B426C79-5AD2-432E-865C-636496464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BA587F5-61E6-481F-B63E-64E49B5BE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DE487B8-8D7D-4D98-9EF5-25E688F2A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D461C47-6F5F-4E1A-9EEE-AEA42E85D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1914F12-66E4-4B25-97C7-414084A37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8AED055-CF24-498E-B57E-6F8483734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518D79B-B7AC-47E5-9EF8-A16F0F099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66DF168-A1C5-414F-A48F-FF288696B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8E508B2-EA41-474A-8529-0BB9D9A89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D675F09-E3A8-42E1-B2DF-9BA7D04551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FF64104-CB8F-4714-A73D-F1D3FE1E3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E0399B4-CBF3-4F01-8329-7955F6499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E864701-8FB4-4939-B6BF-F08DC4FC2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DA175CE-0183-454A-B853-913770B43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201F5FA-34E6-43D2-9E15-3EA1CF5F9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6612BD1-A261-4DAB-A989-6374EFADF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D201321-1138-4E2D-90F8-B3C5D0760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93CB21B-FD20-4667-8884-16FE389C6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4E5EB0B-D8FA-434A-BB9B-F0CC9877D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CB30FA8-3DFC-44ED-B34E-0E985AE1C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183B335-B227-4EC8-A883-698DD8815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6658BC2-C058-4BE9-BF33-049EE04E61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9CC7817-0520-4645-99AF-90216A13C7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F2F8660-2334-4021-A43A-9B8384962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8991CEE-B83F-493A-A058-AC3867A93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DC4E371-D77D-4D72-8B8F-382972573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E166143-F0DF-4E95-A631-B0F786518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36203A6-8DFB-4147-91A0-4132837C3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63FCD1C-B290-4145-9909-D46E18D26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039E-E90C-49E8-BF77-881F43F0B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72AE-37D7-4565-86EB-F5EEB273C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11BC-A840-4D44-BD39-74D9D7581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982B-6F03-4C60-8187-3AFB008B4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3903-A6CC-469E-89B4-954DEFAD36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726B-B387-4DA8-A355-DDAD394CF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A139-13E8-4397-8D84-D289503BE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E385-8F7C-4EF7-84FA-8E2D4424B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A97BE-1594-4F5F-8A05-6AE96168B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7D6D-B6EF-4109-83B5-D5B41ACC4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AD92B-F71A-4203-9E06-19AB5F599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10AD-FDB8-4F22-AA4B-B97465406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EA70-F9B5-49B6-B2BC-0A8DB0EB2B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s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17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DA7F-A80A-44FC-A1FD-F17F74D71A3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Now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7" descr="0104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216C-274A-446E-91E1-38590663CD0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feature size shrinking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97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6FAD-EE0E-45C8-9E5C-0DD755687E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0105"/>
          <p:cNvPicPr/>
          <p:nvPr/>
        </p:nvPicPr>
        <p:blipFill>
          <a:blip r:embed="rId1"/>
          <a:stretch/>
        </p:blipFill>
        <p:spPr>
          <a:xfrm>
            <a:off x="1295280" y="2419200"/>
            <a:ext cx="5943600" cy="3676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B577-39E1-4C0E-9D41-33FC8C9122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7"/>
          <p:cNvSpPr/>
          <p:nvPr/>
        </p:nvSpPr>
        <p:spPr>
          <a:xfrm>
            <a:off x="1600200" y="2438280"/>
            <a:ext cx="52578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E456-A304-4B55-91D0-703A9A9F842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3962520"/>
          <a:ext cx="5639040" cy="148572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A7F9-9495-4F62-8284-C147FF0DDD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2595-BE0C-45CD-84F9-720582F03F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0853-278C-4E52-AD62-7D3F165FFC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652760" y="1889280"/>
          <a:ext cx="7067520" cy="59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889280"/>
                    <a:ext cx="706752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9E10-3981-41F4-9E10-BAD68793C6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185840" y="1414440"/>
          <a:ext cx="26668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414440"/>
                    <a:ext cx="26668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7AAF-436E-4DFF-9034-29AD87561B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C423-8E76-4DA4-A549-4754C413E7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9C75-556B-4F53-8478-F36456778B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838080" y="2286000"/>
          <a:ext cx="9255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0"/>
                    <a:ext cx="925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706A-CE2B-434B-9DD8-2EE50D2E5E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93E9-A539-4351-9761-FAFEAF5B43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8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0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1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274320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2743200" y="38098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274320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2DDB-D063-44FF-A770-596094FCC4C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8D3C-D1D6-4B1A-A036-859635EA5A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E76A-4CEB-48B4-B163-CCB9BBDD507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36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8"/>
          <p:cNvSpPr/>
          <p:nvPr/>
        </p:nvSpPr>
        <p:spPr>
          <a:xfrm>
            <a:off x="39625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9"/>
          <p:cNvSpPr/>
          <p:nvPr/>
        </p:nvSpPr>
        <p:spPr>
          <a:xfrm>
            <a:off x="3962520" y="3733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0"/>
          <p:cNvSpPr/>
          <p:nvPr/>
        </p:nvSpPr>
        <p:spPr>
          <a:xfrm>
            <a:off x="396252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3962520" y="45720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2E08-A378-405E-A046-6D4EF7B43B1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5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6019920" y="2057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447920" y="2666880"/>
            <a:ext cx="5943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CC4B-5743-41F6-9324-769949AF0A2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028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B5D7-2D58-4D2A-9E53-59AE71F35C8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AB60-E512-45B3-B4FB-7B871B0285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D74A-FE93-48B1-8D5F-FE7956792AA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e i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Gb Flash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6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102b"/>
          <p:cNvPicPr/>
          <p:nvPr/>
        </p:nvPicPr>
        <p:blipFill>
          <a:blip r:embed="rId1"/>
          <a:stretch/>
        </p:blipFill>
        <p:spPr>
          <a:xfrm>
            <a:off x="5715000" y="1523880"/>
            <a:ext cx="2743200" cy="1838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638680" y="342900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973160" cy="2297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7696080" y="556272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BCC-789E-4D9F-8B4E-1DD476BAD0A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A51E-D47F-48ED-A2C8-404A52D0FBF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7FEF-9FF7-4DA9-ADD5-621DA9DB78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28FD-2076-4E0F-A0F4-534CFA8DFE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5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ED29-44F4-4845-9933-7C827338089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F2C5-C096-4483-BFD7-E205A9A4DEA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2744-1A19-4D2D-A1B6-B7B5BD40A7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E2ED-B2C2-4BBE-93FE-CE11FBBA1FF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7F49-1BD5-49BB-AF0B-8CA9C78ED11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324A-0C3A-4FD6-A5D8-8A69625B59B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1379-20F3-4110-9675-3FF464E2109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wth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6400800" cy="2186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086600" y="548640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48BA-B562-49B8-BFDA-ED53E42C25C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5711-5C43-46A2-B908-AAFAE66B9C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6"/>
          <p:cNvGraphicFramePr/>
          <p:nvPr/>
        </p:nvGraphicFramePr>
        <p:xfrm>
          <a:off x="762120" y="2971800"/>
          <a:ext cx="76960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696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1666-4FFB-4D50-80CD-527D796E56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0407-5006-49E4-AE6F-533F11861F0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DBD9-06E6-4742-8A11-362C9B6E087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Object 7"/>
          <p:cNvGraphicFramePr/>
          <p:nvPr/>
        </p:nvGraphicFramePr>
        <p:xfrm>
          <a:off x="2209680" y="2438280"/>
          <a:ext cx="35244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524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9"/>
          <p:cNvSpPr/>
          <p:nvPr/>
        </p:nvSpPr>
        <p:spPr>
          <a:xfrm>
            <a:off x="2133720" y="25146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2209680" y="2438280"/>
          <a:ext cx="35323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3532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6422-2B66-4EF7-A0D8-8F038FC63AA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8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1905120" y="2514600"/>
          <a:ext cx="487656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8765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5410080" y="2438280"/>
            <a:ext cx="1447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2666880" y="533412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5FA1-1D96-47E3-84AA-95414D32604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349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2B0A-2210-428F-BE7E-C25F33CB19C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lect1transistor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886200" y="5486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 Archives. 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F3D6-A55A-4C27-ACB2-C73F97C8850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F3AF-8A77-4CA3-9210-DE9C85C18EA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0103a"/>
          <p:cNvPicPr/>
          <p:nvPr/>
        </p:nvPicPr>
        <p:blipFill>
          <a:blip r:embed="rId1"/>
          <a:stretch/>
        </p:blipFill>
        <p:spPr>
          <a:xfrm>
            <a:off x="914400" y="2438280"/>
            <a:ext cx="237168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103b"/>
          <p:cNvPicPr/>
          <p:nvPr/>
        </p:nvPicPr>
        <p:blipFill>
          <a:blip r:embed="rId2"/>
          <a:stretch/>
        </p:blipFill>
        <p:spPr>
          <a:xfrm>
            <a:off x="4267080" y="2438280"/>
            <a:ext cx="3733920" cy="2759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3276720" y="4648320"/>
            <a:ext cx="990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Vadasz6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6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001000" y="4419720"/>
            <a:ext cx="83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 Museu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5D63-C47B-43D8-B41C-A74296DB497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Law: The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4864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14028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429000" y="563868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2T21:31:51Z</dcterms:modified>
  <cp:revision>411</cp:revision>
  <dc:subject/>
  <dc:title>PowerPoint Presentation</dc:title>
</cp:coreProperties>
</file>