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5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3.png" ContentType="image/png"/>
  <Override PartName="/ppt/media/image5.png" ContentType="image/png"/>
  <Override PartName="/ppt/media/image28.wmf" ContentType="image/x-wmf"/>
  <Override PartName="/ppt/media/image10.png" ContentType="image/png"/>
  <Override PartName="/ppt/media/image47.png" ContentType="image/png"/>
  <Override PartName="/ppt/media/image50.wmf" ContentType="image/x-wmf"/>
  <Override PartName="/ppt/media/image14.wmf" ContentType="image/x-wmf"/>
  <Override PartName="/ppt/media/image6.png" ContentType="image/png"/>
  <Override PartName="/ppt/media/image33.wmf" ContentType="image/x-wmf"/>
  <Override PartName="/ppt/media/image13.png" ContentType="image/png"/>
  <Override PartName="/ppt/media/image35.wmf" ContentType="image/x-wmf"/>
  <Override PartName="/ppt/media/image36.wmf" ContentType="image/x-wmf"/>
  <Override PartName="/ppt/media/image37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43.wmf" ContentType="image/x-wmf"/>
  <Override PartName="/ppt/media/image44.png" ContentType="image/png"/>
  <Override PartName="/ppt/media/image45.png" ContentType="image/png"/>
  <Override PartName="/ppt/media/image30.wmf" ContentType="image/x-wmf"/>
  <Override PartName="/ppt/media/image34.wmf" ContentType="image/x-wmf"/>
  <Override PartName="/ppt/media/image46.wmf" ContentType="image/x-wmf"/>
  <Override PartName="/ppt/media/image52.wmf" ContentType="image/x-wmf"/>
  <Override PartName="/ppt/media/image32.wmf" ContentType="image/x-wmf"/>
  <Override PartName="/ppt/media/image42.wmf" ContentType="image/x-wmf"/>
  <Override PartName="/ppt/media/image9.png" ContentType="image/png"/>
  <Override PartName="/ppt/media/image17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media/image41.wmf" ContentType="image/x-wmf"/>
  <Override PartName="/ppt/media/image8.png" ContentType="image/png"/>
  <Override PartName="/ppt/media/image16.wmf" ContentType="image/x-wmf"/>
  <Override PartName="/ppt/media/image48.png" ContentType="image/png"/>
  <Override PartName="/ppt/media/image51.wmf" ContentType="image/x-wmf"/>
  <Override PartName="/ppt/media/image11.png" ContentType="image/png"/>
  <Override PartName="/ppt/media/image7.jpeg" ContentType="image/jpeg"/>
  <Override PartName="/ppt/media/image3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162320" cy="366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5438880" y="-360"/>
            <a:ext cx="4162320" cy="366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2973240" y="549000"/>
            <a:ext cx="3656160" cy="274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4"/>
          </p:nvPr>
        </p:nvSpPr>
        <p:spPr>
          <a:xfrm>
            <a:off x="0" y="6948000"/>
            <a:ext cx="4162320" cy="366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5"/>
          </p:nvPr>
        </p:nvSpPr>
        <p:spPr>
          <a:xfrm>
            <a:off x="5438880" y="6948000"/>
            <a:ext cx="4162320" cy="366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55D1DD0F-8D6C-423F-864B-33208DE2AE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001FC2AC-20EB-46C2-B5C0-C52A82EBC3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2D7139B0-B18B-4B4D-A606-2996520DDF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533C999C-0A67-4240-ACCF-3C6E27CEEA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CC03FC09-5766-4557-946B-5AF22091C0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DDB8DB52-C538-4C65-BA4B-EB84A3AA5A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76D1A502-7CA5-46AA-BCE4-CB6EF3B73F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F4960BB2-AAA0-48D6-8F26-8348CD9EED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E0F609D0-AA7C-4E52-A81C-EF5B09FD2D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A9A1F197-840A-4D6A-AA2C-709176C495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6623F19D-837A-4B8C-806F-34AE035BBF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429725F6-FEBF-4E9A-9692-B443CEC28E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10861EA1-2D03-4356-953F-BE88DE7225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B05025B3-08AE-4742-A7F6-18757C6B5B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9808FCB0-2CCA-4AA9-AC1F-0B5004E81D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BCF3CDBD-CED8-4F0A-8190-F844E47AED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61E894FB-A150-4E0C-91FC-B1988FD581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D574E746-16C7-40B3-934C-E6D3F85466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B8760BDA-528F-492B-ADA4-5E7D28D75F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C6356F5E-3CD7-4980-BC39-D7A7C605B7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61F0D8EC-6F79-40A1-94B2-2DC71E6B79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508A934B-8E6E-4F64-ADAA-A08CA97128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9792926B-8601-47E9-8CA4-2C12604070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66751007-67D2-4658-8131-FE212FEE6D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106BF1F7-1409-4843-A9E1-5045F87DDB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4EB82516-1124-4F13-B195-16C046EB55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392300CF-7AE9-4D2F-BF75-1EB5834185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619A3EBA-61D1-4153-98A6-99DD5363F7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8634E8CD-D814-4AB0-9359-B7C37064BA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12435117-A271-4ADD-BC0A-4D5C2DA495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C29EE2AF-9254-41F4-B9F7-AF3C86FF02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A502FC90-39D9-480B-97A2-892D60AB44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FCE57F99-A9F6-4D52-9D49-8112E6EAC8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829E1DFD-48D1-4883-AB3E-A567B2B00C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7F84543C-7D4F-4AB3-B9AB-98DE30A89E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67414185-F30A-4681-9588-AA31F569B3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FDD12EF8-D2E0-443F-A44C-7FBD4D5B05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9F6A890E-CFE1-4771-8788-C161DA4A38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2D390BCF-02BF-4D4C-9EEF-944277B5BD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D6338B25-0C40-4BC4-89BB-10A8A41283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6C5EEF8D-8BE2-4BB3-985E-720D7B0EF9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20B18BFF-4D06-471F-935E-29FC28EEFE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BA2CD87E-1803-4C1A-AA82-E89CD4F8C0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4B8DF2A0-A0FA-4541-97E7-DA0B322950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FC6893D5-AD43-43FA-BD79-E880362D03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BA79927C-1E87-40EB-B4F8-26E28CD838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E4162-A201-4A04-B9FD-4B5C8D6332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5F83D-CFFB-4AFD-9EA8-1479779348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DE141-3663-4D0F-83AD-651D62BFA1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F38D0-CC68-4538-9F1E-AD333F9948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34C63-D1AA-48E0-A74F-C195EB50AE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46847-856B-42F9-9B3B-154C12A2DC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6BE19-237A-4398-B16D-956F9EC7D5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C0D99-3003-41DD-9F73-8C455AA6E9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71C0C-575C-4FDE-9BDB-795997C1E9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B2300-44C4-4F9E-A830-8A6C9B56C5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5C081-CE1A-49FD-BC37-54792747FC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EFBD8-884C-451A-B96D-A0830FE533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E327-D1F2-4FB4-BCF4-3444620113E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5905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ircuits &amp;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9" name="Picture 17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9954-29D0-41D8-A205-F0047FAF2E5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d Now…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Picture 7" descr="0104"/>
          <p:cNvPicPr/>
          <p:nvPr/>
        </p:nvPicPr>
        <p:blipFill>
          <a:blip r:embed="rId1"/>
          <a:stretch/>
        </p:blipFill>
        <p:spPr>
          <a:xfrm>
            <a:off x="685800" y="2209680"/>
            <a:ext cx="7772400" cy="3435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5DA3-6E4F-481E-B428-70F2E4FBC3A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eature Siz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feature size shrinking 30% every 2-3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7010640" cy="3975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E572-A929-4A68-92E1-924904740B1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5" descr="0105"/>
          <p:cNvPicPr/>
          <p:nvPr/>
        </p:nvPicPr>
        <p:blipFill>
          <a:blip r:embed="rId1"/>
          <a:stretch/>
        </p:blipFill>
        <p:spPr>
          <a:xfrm>
            <a:off x="1295280" y="2419200"/>
            <a:ext cx="5943600" cy="36766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rollari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other factors grow exponenti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clock frequency, processor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0B99-CCED-4AA8-BDAC-B55C6CE1403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Gate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a 4-input CMOS NOR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714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5"/>
          <p:cNvGraphicFramePr/>
          <p:nvPr/>
        </p:nvGraphicFramePr>
        <p:xfrm>
          <a:off x="1600200" y="2438280"/>
          <a:ext cx="5410080" cy="353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438280"/>
                    <a:ext cx="5410080" cy="35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Rectangle 7"/>
          <p:cNvSpPr/>
          <p:nvPr/>
        </p:nvSpPr>
        <p:spPr>
          <a:xfrm>
            <a:off x="1600200" y="2438280"/>
            <a:ext cx="5257800" cy="358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A330-4A2D-486A-A672-A7894A42506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lementary CMO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ary CMOS logic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ll-down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ll-up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k.a. static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Object 4"/>
          <p:cNvGraphicFramePr/>
          <p:nvPr/>
        </p:nvGraphicFramePr>
        <p:xfrm>
          <a:off x="5638680" y="1981080"/>
          <a:ext cx="2971800" cy="255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981080"/>
                    <a:ext cx="2971800" cy="25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609480" y="3962520"/>
          <a:ext cx="5639040" cy="1485720"/>
        </p:xfrm>
        <a:graphic>
          <a:graphicData uri="http://schemas.openxmlformats.org/drawingml/2006/table">
            <a:tbl>
              <a:tblPr/>
              <a:tblGrid>
                <a:gridCol w="1879560"/>
                <a:gridCol w="1879920"/>
                <a:gridCol w="1879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-up O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-up 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-down O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(floa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-down 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(crowb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E1B5-5FBB-43EC-8F25-B74586925CB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ries and Paralle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: 1 =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: 0 =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oth must be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all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ither can be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5029200" y="1523880"/>
          <a:ext cx="3257640" cy="454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523880"/>
                    <a:ext cx="3257640" cy="45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9D9A-7DF0-454A-9E48-7F84A992100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nduction Compleme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ary CMOS gates always produce 0 o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NAND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es nMOS: Y=0 when both inputs ar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Y=1 when either input i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parallel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duction Comp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-up network is complement of pull-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-&gt; series, series -&gt;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Object 4"/>
          <p:cNvGraphicFramePr/>
          <p:nvPr/>
        </p:nvGraphicFramePr>
        <p:xfrm>
          <a:off x="5943600" y="2895480"/>
          <a:ext cx="2362320" cy="18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2895480"/>
                    <a:ext cx="236232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8653-018A-4041-82EE-AA5046BFBF1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ound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ound g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do any inverting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4"/>
          <p:cNvGraphicFramePr/>
          <p:nvPr/>
        </p:nvGraphicFramePr>
        <p:xfrm>
          <a:off x="1652760" y="1889280"/>
          <a:ext cx="7067520" cy="59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760" y="1889280"/>
                    <a:ext cx="7067520" cy="59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5"/>
          <p:cNvGraphicFramePr/>
          <p:nvPr/>
        </p:nvGraphicFramePr>
        <p:xfrm>
          <a:off x="1600200" y="2438280"/>
          <a:ext cx="5334120" cy="361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2438280"/>
                    <a:ext cx="5334120" cy="36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2953-7770-43C2-8C8C-5E8065A0FF2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O3AI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4"/>
          <p:cNvGraphicFramePr/>
          <p:nvPr/>
        </p:nvGraphicFramePr>
        <p:xfrm>
          <a:off x="1185840" y="1414440"/>
          <a:ext cx="2666880" cy="7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5840" y="1414440"/>
                    <a:ext cx="266688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5"/>
          <p:cNvGraphicFramePr/>
          <p:nvPr/>
        </p:nvGraphicFramePr>
        <p:xfrm>
          <a:off x="2666880" y="1828800"/>
          <a:ext cx="3897360" cy="396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1828800"/>
                    <a:ext cx="389736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B77B-24D6-4663-91A9-9CA02A13046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gnal Streng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eng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lose it approximates ideal voltag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GND rails are strongest 1 and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pass strong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egraded or weak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pass strong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egraded or weak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nMOS are best for pull-down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7651-7052-4679-A75A-8E7D6FD713A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rief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Gat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Latches &amp; Flip-Fl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Cell Lay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ck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43A1-5780-412B-B4B4-63FB9EF4A3E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ss Transis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5791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stors can be used as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Object 4"/>
          <p:cNvGraphicFramePr/>
          <p:nvPr/>
        </p:nvGraphicFramePr>
        <p:xfrm>
          <a:off x="762120" y="2057400"/>
          <a:ext cx="7543800" cy="36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543800" cy="36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7"/>
          <p:cNvGraphicFramePr/>
          <p:nvPr/>
        </p:nvGraphicFramePr>
        <p:xfrm>
          <a:off x="838080" y="2286000"/>
          <a:ext cx="92556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286000"/>
                    <a:ext cx="9255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C598-5AAC-4854-85EF-E91B038F06E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mission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s produce degraded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nsmission g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ss both 0 and 1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4"/>
          <p:cNvGraphicFramePr/>
          <p:nvPr/>
        </p:nvGraphicFramePr>
        <p:xfrm>
          <a:off x="1143000" y="2514600"/>
          <a:ext cx="6705720" cy="34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514600"/>
                    <a:ext cx="6705720" cy="34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ECD5-43F2-4ECA-9511-FCF9CDD801F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ist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istate buff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duces Z when not ena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914400" y="2514600"/>
          <a:ext cx="2666880" cy="2031840"/>
        </p:xfrm>
        <a:graphic>
          <a:graphicData uri="http://schemas.openxmlformats.org/drawingml/2006/table">
            <a:tbl>
              <a:tblPr/>
              <a:tblGrid>
                <a:gridCol w="888840"/>
                <a:gridCol w="889200"/>
                <a:gridCol w="8888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0" name="Object 30"/>
          <p:cNvGraphicFramePr/>
          <p:nvPr/>
        </p:nvGraphicFramePr>
        <p:xfrm>
          <a:off x="6172200" y="2133720"/>
          <a:ext cx="1960560" cy="368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2133720"/>
                    <a:ext cx="196056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Rectangle 31"/>
          <p:cNvSpPr/>
          <p:nvPr/>
        </p:nvSpPr>
        <p:spPr>
          <a:xfrm>
            <a:off x="2743200" y="297180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32"/>
          <p:cNvSpPr/>
          <p:nvPr/>
        </p:nvSpPr>
        <p:spPr>
          <a:xfrm>
            <a:off x="2743200" y="335268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33"/>
          <p:cNvSpPr/>
          <p:nvPr/>
        </p:nvSpPr>
        <p:spPr>
          <a:xfrm>
            <a:off x="2743200" y="380988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34"/>
          <p:cNvSpPr/>
          <p:nvPr/>
        </p:nvSpPr>
        <p:spPr>
          <a:xfrm>
            <a:off x="2743200" y="4191120"/>
            <a:ext cx="228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8897-9666-454A-8F92-64FB4381355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nrestoring Trist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gate acts as tristate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two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nres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on A is passed on to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Object 4"/>
          <p:cNvGraphicFramePr/>
          <p:nvPr/>
        </p:nvGraphicFramePr>
        <p:xfrm>
          <a:off x="1295280" y="3352680"/>
          <a:ext cx="187020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352680"/>
                    <a:ext cx="187020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B632-EC04-4524-AA1F-49746727D7B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istate Inver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state inverter produces restore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olates conduction complement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we want a Z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Object 4"/>
          <p:cNvGraphicFramePr/>
          <p:nvPr/>
        </p:nvGraphicFramePr>
        <p:xfrm>
          <a:off x="1295280" y="2895480"/>
          <a:ext cx="5791320" cy="30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895480"/>
                    <a:ext cx="5791320" cy="30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F1E8-470B-4683-89E7-6FF54FF76A0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plex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1 multiplexer chooses between two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838080" y="2819520"/>
          <a:ext cx="4038840" cy="2184120"/>
        </p:xfrm>
        <a:graphic>
          <a:graphicData uri="http://schemas.openxmlformats.org/drawingml/2006/table">
            <a:tbl>
              <a:tblPr/>
              <a:tblGrid>
                <a:gridCol w="1009800"/>
                <a:gridCol w="1009800"/>
                <a:gridCol w="1009440"/>
                <a:gridCol w="1009800"/>
              </a:tblGrid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3" name="Object 36"/>
          <p:cNvGraphicFramePr/>
          <p:nvPr/>
        </p:nvGraphicFramePr>
        <p:xfrm>
          <a:off x="5638680" y="2362320"/>
          <a:ext cx="2819520" cy="218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362320"/>
                    <a:ext cx="281952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Rectangle 38"/>
          <p:cNvSpPr/>
          <p:nvPr/>
        </p:nvSpPr>
        <p:spPr>
          <a:xfrm>
            <a:off x="3962520" y="335268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39"/>
          <p:cNvSpPr/>
          <p:nvPr/>
        </p:nvSpPr>
        <p:spPr>
          <a:xfrm>
            <a:off x="3962520" y="3733920"/>
            <a:ext cx="228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40"/>
          <p:cNvSpPr/>
          <p:nvPr/>
        </p:nvSpPr>
        <p:spPr>
          <a:xfrm>
            <a:off x="3962520" y="4191120"/>
            <a:ext cx="228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41"/>
          <p:cNvSpPr/>
          <p:nvPr/>
        </p:nvSpPr>
        <p:spPr>
          <a:xfrm>
            <a:off x="3962520" y="457200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2A33-7F2D-40CB-AEC4-4E2B5E7AADF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-Level Mux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transistors are needed?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Object 4"/>
          <p:cNvGraphicFramePr/>
          <p:nvPr/>
        </p:nvGraphicFramePr>
        <p:xfrm>
          <a:off x="1219320" y="1447920"/>
          <a:ext cx="5033880" cy="5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503388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Object 5"/>
          <p:cNvGraphicFramePr/>
          <p:nvPr/>
        </p:nvGraphicFramePr>
        <p:xfrm>
          <a:off x="1371600" y="2666880"/>
          <a:ext cx="6629400" cy="326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2666880"/>
                    <a:ext cx="6629400" cy="32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Rectangle 6"/>
          <p:cNvSpPr/>
          <p:nvPr/>
        </p:nvSpPr>
        <p:spPr>
          <a:xfrm>
            <a:off x="6019920" y="2057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1447920" y="2666880"/>
            <a:ext cx="5943600" cy="335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3D42-EF48-43F0-98F9-831EFF17DC2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mission Gate Mux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restoring mux uses two transmissio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4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Object 1028"/>
          <p:cNvGraphicFramePr/>
          <p:nvPr/>
        </p:nvGraphicFramePr>
        <p:xfrm>
          <a:off x="2895480" y="2133720"/>
          <a:ext cx="324648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133720"/>
                    <a:ext cx="324648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988F-5204-4C27-9B78-1CC26C2F455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ing Mux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ing multiplex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ompound AOI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pair of tristate i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tially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inverting multiplexer adds an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Object 4"/>
          <p:cNvGraphicFramePr/>
          <p:nvPr/>
        </p:nvGraphicFramePr>
        <p:xfrm>
          <a:off x="609480" y="3886200"/>
          <a:ext cx="7925040" cy="20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86200"/>
                    <a:ext cx="7925040" cy="20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9BA2-C67F-4C9E-8C96-F885172C789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:1 Multiplex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:1 mux chooses one of 4 inputs using two sel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levels of 2:1 mu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four tri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ct 4"/>
          <p:cNvGraphicFramePr/>
          <p:nvPr/>
        </p:nvGraphicFramePr>
        <p:xfrm>
          <a:off x="1676520" y="2514600"/>
          <a:ext cx="5867280" cy="34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514600"/>
                    <a:ext cx="5867280" cy="34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871D-2418-4DEF-8629-73856FAF23E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 Brief Histo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58: First integrated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 using two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by Jack Kilby at Texas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Core i7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3 billion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 Gb Flash mem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16 billion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0102b"/>
          <p:cNvPicPr/>
          <p:nvPr/>
        </p:nvPicPr>
        <p:blipFill>
          <a:blip r:embed="rId1"/>
          <a:stretch/>
        </p:blipFill>
        <p:spPr>
          <a:xfrm>
            <a:off x="5715000" y="1523880"/>
            <a:ext cx="2743200" cy="18385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5638680" y="3429000"/>
            <a:ext cx="281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urtesy Texas Instrum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2"/>
          <a:stretch/>
        </p:blipFill>
        <p:spPr>
          <a:xfrm>
            <a:off x="5715000" y="3733920"/>
            <a:ext cx="1973160" cy="22971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9"/>
          <p:cNvSpPr/>
          <p:nvPr/>
        </p:nvSpPr>
        <p:spPr>
          <a:xfrm>
            <a:off x="7696080" y="5562720"/>
            <a:ext cx="990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[Trinh09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2009 IEE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B358-EF70-4443-81D1-6C6D146EC93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Latc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LK = 1, latch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ns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flows through to Q like a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LK = 0, the latch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pa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 holds its old value independent of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k.a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nsparent la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vel-sensitive l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4"/>
          <p:cNvGraphicFramePr/>
          <p:nvPr/>
        </p:nvGraphicFramePr>
        <p:xfrm>
          <a:off x="838080" y="3733920"/>
          <a:ext cx="2438640" cy="22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733920"/>
                    <a:ext cx="2438640" cy="22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5"/>
          <p:cNvGraphicFramePr/>
          <p:nvPr/>
        </p:nvGraphicFramePr>
        <p:xfrm>
          <a:off x="3352680" y="3886200"/>
          <a:ext cx="4953240" cy="202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3886200"/>
                    <a:ext cx="4953240" cy="20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B551-F84C-46CF-A58A-8ADBDB9C16F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xer chooses D or old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Object 5"/>
          <p:cNvGraphicFramePr/>
          <p:nvPr/>
        </p:nvGraphicFramePr>
        <p:xfrm>
          <a:off x="533520" y="2133720"/>
          <a:ext cx="8153280" cy="30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8153280" cy="30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047D-91E3-46BC-A481-73D75CAB316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Latch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64" name="Object 3"/>
          <p:cNvGraphicFramePr/>
          <p:nvPr/>
        </p:nvGraphicFramePr>
        <p:xfrm>
          <a:off x="858960" y="1523880"/>
          <a:ext cx="74246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8960" y="1523880"/>
                    <a:ext cx="74246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805E-FE06-465A-9C82-48BD7FCD02F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Flip-flo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LK rises, D is copied to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ll other times, Q holds its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k.a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sitive edge-triggered flip-fl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ster-slave flip-fl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Object 4"/>
          <p:cNvGraphicFramePr/>
          <p:nvPr/>
        </p:nvGraphicFramePr>
        <p:xfrm>
          <a:off x="609480" y="4095720"/>
          <a:ext cx="1981440" cy="14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095720"/>
                    <a:ext cx="198144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5"/>
          <p:cNvGraphicFramePr/>
          <p:nvPr/>
        </p:nvGraphicFramePr>
        <p:xfrm>
          <a:off x="2666880" y="3784680"/>
          <a:ext cx="5791320" cy="190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784680"/>
                    <a:ext cx="5791320" cy="19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60CA-78F1-4210-86B3-5CFB23333E2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Flip-flop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from master and slave D l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Object 5"/>
          <p:cNvGraphicFramePr/>
          <p:nvPr/>
        </p:nvGraphicFramePr>
        <p:xfrm>
          <a:off x="533520" y="2362320"/>
          <a:ext cx="8076960" cy="21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362320"/>
                    <a:ext cx="8076960" cy="21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1C6C-BED6-4281-AD0C-2E40212EED7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Flip-flop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83" name="Object 3"/>
          <p:cNvGraphicFramePr/>
          <p:nvPr/>
        </p:nvGraphicFramePr>
        <p:xfrm>
          <a:off x="2062080" y="1523880"/>
          <a:ext cx="50180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080" y="1523880"/>
                    <a:ext cx="50180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DC6D-0B54-405D-948F-87331A57C81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ace Condi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-to-back flops can malfunction from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flip-flop fires 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s first flip-flop change and captures its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ld-time fail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ce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Object 4"/>
          <p:cNvGraphicFramePr/>
          <p:nvPr/>
        </p:nvGraphicFramePr>
        <p:xfrm>
          <a:off x="533520" y="3365640"/>
          <a:ext cx="8001000" cy="25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365640"/>
                    <a:ext cx="8001000" cy="25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0257-EAD7-43C7-966C-4A25942A6BD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noverlapping Cloc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overlapping clocks can prevent r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ong as nonoverlap exceeds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use them in this class for saf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stry manages skew more carefully inste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Object 4"/>
          <p:cNvGraphicFramePr/>
          <p:nvPr/>
        </p:nvGraphicFramePr>
        <p:xfrm>
          <a:off x="2209680" y="3352680"/>
          <a:ext cx="4572000" cy="27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352680"/>
                    <a:ext cx="457200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AE20-964E-42AE-9B3D-2C467D8F0C1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out can be very time consu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gates to fit together nic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 library of standar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cell design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GND should abut (standard he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acent gates should satisfy desig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at bottom and pMOS at 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ates include well and substrate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7278-9A0B-41EE-9916-372F54FB63D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Inver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04" name="Picture 6" descr=""/>
          <p:cNvPicPr/>
          <p:nvPr/>
        </p:nvPicPr>
        <p:blipFill>
          <a:blip r:embed="rId1"/>
          <a:stretch/>
        </p:blipFill>
        <p:spPr>
          <a:xfrm>
            <a:off x="1752480" y="1460520"/>
            <a:ext cx="4724640" cy="4476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B53A-CDE9-47E9-A0D8-48342770F3F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rowth Ra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3% compound annual growth rate over 5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other technology has grown so fast so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n by miniaturization of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is cheaper, faster, lower in pow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olutionary effects on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762120" y="3809880"/>
            <a:ext cx="6400800" cy="21862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7086600" y="5486400"/>
            <a:ext cx="13716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[Moore65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ctronics Magaz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024E-5DD6-45E3-8458-3EC8AB93622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NAND3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tal N-diffusion and p-diffusion str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polysilico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1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il at 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1 GND rail at bot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4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62268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4B63-E4E1-4D06-8289-9A766B45A45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ick Diagra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ick diagra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elp plan layout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not be to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with color pencils or dry-erase ma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Object 6"/>
          <p:cNvGraphicFramePr/>
          <p:nvPr/>
        </p:nvGraphicFramePr>
        <p:xfrm>
          <a:off x="762120" y="2971800"/>
          <a:ext cx="7696080" cy="28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971800"/>
                    <a:ext cx="7696080" cy="28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DF0C-1D0C-4562-B49B-032AEB6166D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ing Trac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iring tr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pace required for a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dth,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pacing from neighbor = 8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lso consume one wiring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" descr=""/>
          <p:cNvPicPr/>
          <p:nvPr/>
        </p:nvPicPr>
        <p:blipFill>
          <a:blip r:embed="rId1"/>
          <a:stretch/>
        </p:blipFill>
        <p:spPr>
          <a:xfrm>
            <a:off x="1981080" y="2971800"/>
            <a:ext cx="4648320" cy="3003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DFC9-04B4-4D56-A60D-5029C307698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ell spac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s must surround transistors by 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es 1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opposite transistor flav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es room for one wire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4" descr=""/>
          <p:cNvPicPr/>
          <p:nvPr/>
        </p:nvPicPr>
        <p:blipFill>
          <a:blip r:embed="rId1"/>
          <a:stretch/>
        </p:blipFill>
        <p:spPr>
          <a:xfrm>
            <a:off x="1828800" y="2819520"/>
            <a:ext cx="4724280" cy="3157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AB6A-BD05-4E56-A49F-C9C62E87C74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9" name="Object 7"/>
          <p:cNvGraphicFramePr/>
          <p:nvPr/>
        </p:nvGraphicFramePr>
        <p:xfrm>
          <a:off x="2209680" y="2438280"/>
          <a:ext cx="3524400" cy="358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438280"/>
                    <a:ext cx="352440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Rectangle 9"/>
          <p:cNvSpPr/>
          <p:nvPr/>
        </p:nvSpPr>
        <p:spPr>
          <a:xfrm>
            <a:off x="2133720" y="2514600"/>
            <a:ext cx="396216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rea Estim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5715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area by counting wiring tra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by 8 to express i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6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Object 5"/>
          <p:cNvGraphicFramePr/>
          <p:nvPr/>
        </p:nvGraphicFramePr>
        <p:xfrm>
          <a:off x="2209680" y="2438280"/>
          <a:ext cx="3532320" cy="358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2438280"/>
                    <a:ext cx="353232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02BF-6DD1-40DB-9F4B-60D2A3F4784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O3AI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6934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etch a stick diagram for O3AI and estimate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Object 4"/>
          <p:cNvGraphicFramePr/>
          <p:nvPr/>
        </p:nvGraphicFramePr>
        <p:xfrm>
          <a:off x="1676520" y="1905120"/>
          <a:ext cx="26002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05120"/>
                    <a:ext cx="26002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Rectangle 8"/>
          <p:cNvSpPr/>
          <p:nvPr/>
        </p:nvSpPr>
        <p:spPr>
          <a:xfrm>
            <a:off x="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Object 7"/>
          <p:cNvGraphicFramePr/>
          <p:nvPr/>
        </p:nvGraphicFramePr>
        <p:xfrm>
          <a:off x="1905120" y="2514600"/>
          <a:ext cx="4876560" cy="350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2514600"/>
                    <a:ext cx="4876560" cy="35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Rectangle 9"/>
          <p:cNvSpPr/>
          <p:nvPr/>
        </p:nvSpPr>
        <p:spPr>
          <a:xfrm>
            <a:off x="5410080" y="2438280"/>
            <a:ext cx="144792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0"/>
          <p:cNvSpPr/>
          <p:nvPr/>
        </p:nvSpPr>
        <p:spPr>
          <a:xfrm>
            <a:off x="2666880" y="5334120"/>
            <a:ext cx="3429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8F1B-FF91-4C7F-9215-91319F588A1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nnual Sal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istors manufactured in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billion for every human on the pla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7848360" cy="3494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AC2F-5CB1-42A4-9FC9-9E9E4761F63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ntion of the Transis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cuum tubes ruled in first half of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ntury Large, expensive, power-hungry, un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47: first point contact tran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Bardeen and Walter Brattain at Bell L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ystal F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Riordan, Hodde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lect1transistor"/>
          <p:cNvPicPr/>
          <p:nvPr/>
        </p:nvPicPr>
        <p:blipFill>
          <a:blip r:embed="rId1"/>
          <a:stretch/>
        </p:blipFill>
        <p:spPr>
          <a:xfrm>
            <a:off x="4952880" y="3166920"/>
            <a:ext cx="3451320" cy="29131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8"/>
          <p:cNvSpPr/>
          <p:nvPr/>
        </p:nvSpPr>
        <p:spPr>
          <a:xfrm>
            <a:off x="3886200" y="5486400"/>
            <a:ext cx="99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&amp;T Archives.  Reprinted with permiss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BE29-4DF8-4E40-B9A9-5581F56FCC0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stor Typ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polar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n or pnp silicon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current into very thin base layer controls large currents between emitter and coll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currents limit integration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Oxide Semiconductor Field Effect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and pMOS MOSF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applied to insulated gate controls current between source and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power allows very high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FEEB7-E6EF-4BAD-9710-49B99452326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7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processes usually had only n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xpensive, but consume power while i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80s-present: CMOS processes for low idle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S Integrated Circu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685800" y="5181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1101 256-bit S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4495680" y="5181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4004 4-b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0" descr="0103a"/>
          <p:cNvPicPr/>
          <p:nvPr/>
        </p:nvPicPr>
        <p:blipFill>
          <a:blip r:embed="rId1"/>
          <a:stretch/>
        </p:blipFill>
        <p:spPr>
          <a:xfrm>
            <a:off x="914400" y="2438280"/>
            <a:ext cx="2371680" cy="2743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0103b"/>
          <p:cNvPicPr/>
          <p:nvPr/>
        </p:nvPicPr>
        <p:blipFill>
          <a:blip r:embed="rId2"/>
          <a:stretch/>
        </p:blipFill>
        <p:spPr>
          <a:xfrm>
            <a:off x="4267080" y="2438280"/>
            <a:ext cx="3733920" cy="27590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2"/>
          <p:cNvSpPr/>
          <p:nvPr/>
        </p:nvSpPr>
        <p:spPr>
          <a:xfrm>
            <a:off x="3276720" y="4648320"/>
            <a:ext cx="9903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[Vadasz69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1969 IEE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8001000" y="4419720"/>
            <a:ext cx="8380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l Museum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rinted with permiss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D473-05DE-4DD7-89C9-98F582A5901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ore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 Law: The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65: Gordon Moore plotted transistor on each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 straight line on semilog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counts have doubled every 2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486400" y="3124080"/>
            <a:ext cx="2895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tegration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0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,000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L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10k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1066680" y="3048120"/>
            <a:ext cx="3140280" cy="28144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7"/>
          <p:cNvSpPr/>
          <p:nvPr/>
        </p:nvSpPr>
        <p:spPr>
          <a:xfrm>
            <a:off x="3429000" y="5638680"/>
            <a:ext cx="13716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[Moore65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ctronics Magaz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David Harris</cp:lastModifiedBy>
  <dcterms:modified xsi:type="dcterms:W3CDTF">2015-01-22T21:31:51Z</dcterms:modified>
  <cp:revision>411</cp:revision>
  <dc:subject/>
  <dc:title>PowerPoint Presentation</dc:title>
</cp:coreProperties>
</file>