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DA4F53-D5AE-44D9-9067-DF12B5050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699814-62DE-417E-9B92-400FAAF3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11AC87-64AA-4D24-A72D-6DB67234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011DA4-0843-45C5-A018-3E0A6619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BA2A91-6040-482E-9DA4-33C23154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40FCB1-CF1F-4AA2-92B3-BC6FAC44F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BC2DD2-EB9A-4A0D-8066-11D3FCDE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B51D0B-3A72-4E2D-B5DB-618812F56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C42D05-CF64-4230-86F5-6F1F8C338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29F446-99A9-4A3D-A43F-F1D03E21F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AD5550-08D0-4E95-894A-9BDDDFD3A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A33EDC-7CF4-427E-8C32-4F5C302B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64F7AC-3628-4129-8CEE-F7611542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957CFF-DF5D-42D6-BA23-90FB3950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E4D573-F235-40C5-B813-C2F06DFB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E13642-F6FB-45B9-9346-042134AC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F096E8-5314-43C0-81D6-AED09FB9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CB93D66-5680-466A-A9A6-AA190982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7A1364-B345-4960-B429-B3E30A2B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F4DBC2-54AB-4BD3-9680-FF8F48A1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5C10E9-4010-4BE1-88DA-F1E3C136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11FF32-E739-4E14-AACB-17DA3CA7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86E983-0725-4C3F-B8AF-FA6C3DD6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45E17E-6686-4ABB-891C-272717690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98222C-BEC0-49EA-862E-1C3335F9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09BF55-ED57-4BF1-8FC4-0829E435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AF19D4-947B-47F8-9CE5-E5549958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B9E586-47EB-4B11-BC96-451B6C3D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C8540D-4AC0-4523-B593-ACB1B506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159A83-294A-4FF0-AD14-9442891F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70917B5-5367-4D08-91F6-9F08A75A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58435E-07A3-4ED1-994C-6262E23B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E30C5C-B196-459D-8195-E406FCB2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9D3887-39F6-4958-857F-51464422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F64353-A0EC-4ACB-8883-38F37BDD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9A3144-D975-4CE2-A9FA-603727CC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12C74F-9EB4-4140-A430-2D3D9D99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214D64-F2B0-485C-82DE-38B43D75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B30ABA-88EA-4DE1-9363-F646477F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A962AE-32F7-4FB3-9414-1A209F49C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EF6CC6A-C104-4CDB-926E-C1C00791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8F1676-636C-4607-A8DD-7EB4ADDB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A8F9D8-3B75-439F-8FCF-3EC71315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8A7894-85D8-48A9-902F-92F6362D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248A-8A57-48F9-B91D-6155B683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8006-6918-48DD-8AEF-714D1A020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6ACE-FA84-4B76-91B9-AFAB9ABF7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DB73-F914-4120-94DB-BC3E1CE0F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9692-9B6D-48C4-B1C4-612FB6FC1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D077-FD70-4A64-A104-97FA4988B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CF8B-9C99-41BC-8F3F-08484A9D1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33D9-760C-4094-B9BF-3991492A8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92DC-0809-4C94-8583-4A7E5C54F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F3CA-8993-404D-A0FD-897F8B75A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0E63-CCB5-4EB2-985D-F6D83C367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84EE-FAB3-4BCA-B6B1-88F86380B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45B-58FD-45DB-B7F8-A1B745E5FB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AB6B-BAEF-4A94-A974-69A0AB0D1C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D82A-59BD-44FD-84FB-7DCB67CDE2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A3C-2D34-45FF-A381-6D06850260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4803-A84F-4A16-A8C3-64D8DCC3C5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50F7-0E11-4EA7-8A74-C249653C90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D0A-C601-4708-9E3B-7F98947333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8137-D09F-429F-9D1E-801034189F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367-A103-44BC-A649-C621741B74E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E4D9-5268-4CAC-B2A6-6E8C4AEEFC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FD12-7BAE-40D9-BE17-760E6E9EB2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C2E-8571-4122-87FC-B7FFD1B0967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E9A-6131-4ED8-BD82-F818A94465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C81-B07C-4F06-B619-BEFD84C343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515-0816-49BE-82E0-4FA76118B6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614C-E379-478C-8D6A-DDEE9E67C5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863D-CEC6-4FE5-96AC-A4E2547E08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F84-AB72-4138-99FC-C8DBCEE567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97B7-102E-42DC-ABF0-5CB0DAC69F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89F-7A0B-4637-A692-C7246D0387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938-21F5-4DA3-8A06-C3BC86B136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38F-D3BB-4541-8330-E41E396D05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4F6C-9EB9-4333-9119-2CAEA91188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BF1D-919F-47A4-8999-F8D2969403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452-5863-4A3F-99BE-E51DD304E7E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2B57-AA28-444F-BC43-58ACD64AE4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3F3-91BF-4122-813C-60C85F83A2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6CDC-9328-4C02-983B-1F75E103B3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30F6-5164-4DC1-9F23-24E8E12334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456-B8E3-4338-B95E-E989C5EA3B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A74-B05A-4F7B-B60F-F6F0E34876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519-EB4A-45DE-8E02-B05910990A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A8E-60D4-448E-ACE1-601B498265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981D-6A55-4D95-84A4-1094FFACCA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B6D-1A66-4BF9-9F3D-9B3775B8C4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21A5-1EB5-44C4-9317-B62A0E6B47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641-2B5F-4D10-B33F-C709CCCF99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9B13-111C-49F3-BA42-8204435FF2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D41-E0BB-4DF4-91E3-CD91BD3D79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184-30A3-42FB-BA32-22CAE7A3D7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575-393A-4E75-A5D6-B12B4DF2AF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0A21-3AA1-4C62-A47C-CDA912CB3F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F33-E2C2-43F3-B5BE-EFDD1CC93F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2:35:18Z</dcterms:modified>
  <cp:revision>325</cp:revision>
  <dc:subject/>
  <dc:title>PowerPoint Presentation</dc:title>
</cp:coreProperties>
</file>