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9234488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23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23188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23188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9D943E8-30A2-4323-80FF-DF5961489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03F9378-DCD0-4AF6-87D3-A5186948D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AEBB2D-FCF3-45BC-8B69-CC65EC7A1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395679F-78DE-44DF-B9CF-1DE1BFEBC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B7C72C4-E067-4888-AD86-19DDC8C19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AC6AEA9-68F5-44A1-A3F5-4C720BA9F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146174A-F0F0-4C7A-9FE4-CB59F9BFA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0C159B2-D1D6-4000-860B-6EA840043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71D10F3-E180-4563-BC61-C6BD89E35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DB22E0-7219-4075-A97C-93CE52CE5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B5BA57F-1491-4A77-9452-37211A328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33F69A-B7B9-437C-A658-71B6AC626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59FDC36-6917-47BB-ACBC-5A012AC73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08F104-98D4-45C4-9982-4C6584540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76156DD-4A36-4D30-9B8E-0E197DD16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E331E3C-A76B-4A95-80E6-B7A8C80ED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99435E7-2041-4C1A-9726-18B32163A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D469B93-C025-46F7-AF3A-C394F2BB7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3465CE0-C3FC-4C73-A400-E64D7610C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BC41450-F568-46B6-AC46-9C814166E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8048F5C-6B52-462E-B416-2553DAB5D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8221110-2E1A-4AF0-A93C-427EFA7D5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462B00A-82AE-4F84-B1FB-F4E0E1C97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6C2C021-3AF4-41D7-AAEE-12855A24B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B5C9A89-B054-43D2-B7A0-E5FBA755F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FABF270-4136-4DE4-ADE7-6111C27AF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95A5AD0-2053-4991-9E88-A90AB90D5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7357920-E361-4CD7-A858-82ABBDD19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61CAB62-1F4E-4CDF-9890-248BE88AE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60589F3-AE55-4A89-9083-32419B75EC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92DCEE4-95D4-42F6-8A50-880AC5C24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573AD0D-F418-41D5-A641-2AE2D8A1B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D33787C-4C8E-4047-9D5D-73E77A96F1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363A222-2D96-4B7F-B6A6-A3269BE11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85EA2D3-0250-4A02-86A4-4EF751709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0CB02E2-656A-4778-8A73-D2412C5F1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45A347A-DD72-4A3F-9143-E06248E57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9EE558B-AEFE-423A-9A08-957EDBF98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4F59485-37B9-4061-AED5-E1CE50332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B4032A5-65E8-4DDA-A680-DDC9A6F63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4D6C9A9-A963-4C2D-A7D7-F18D98A3B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2ABD417-3C7B-430A-84B6-2E0EEDBD4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6A90939-6F89-4B22-971F-4A4045286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B9B8E75-E58D-4FE0-9D75-7B1430B70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FC580-9211-4A48-B7D7-0116B8DE1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A91C1-3DF0-4762-8F7D-1A084CBB0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F21E-E759-4106-8911-F26A400D1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EAA0-712B-4CDD-AE65-63A7882E19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3DB3-3A5E-4DDF-A787-42D2DE879B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9F232-72F9-421B-A0DE-1FB645EE0E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D21E-6286-49BC-BA4E-81D5F0AAF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D7B48-94C6-43CA-B187-E86FC9496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8B46B-DADC-4F54-8450-7533B3F4F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BD48-AA36-46D2-A9AC-2FF13A91A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5B898-6AEB-43AD-8E7A-501128F5A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4C3FA-3933-486F-AF65-58E3E42D4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4958-885A-4BDD-8CE2-EC042EB450A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3F3D-77D9-48C7-8BB6-92929F9322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7181-D06A-4A3C-9012-360B4EC0C94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3A35-9FEB-451C-8465-0CF68F7A661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7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5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Object 46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0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8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6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A5BD-1943-41FD-8FBF-3F71F0B401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8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09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0" name="Text Box 52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54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5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56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57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8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10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7" name="Text Box 111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12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13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4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5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16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31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64" name="Text Box 118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19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0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21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2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23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24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71" name="Text Box 125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26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7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8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9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30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80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78" name="Rectangle 53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5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6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7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79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4" name="Object 19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C880-6A5F-4C1C-BB46-161D47CEB7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1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2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04AB-B8B9-48D5-8234-95807A064F8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5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3785-43AF-4AF0-9CBB-35FD4DBA464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35E3-296D-4507-B5D6-508244E147B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8901-B443-4667-8157-93FFAE9FF8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2C43-C51D-41A3-9E85-891A7D6151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2560-2B1B-428F-97FF-5681498844E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0A71-0D5A-4824-AAB2-22EB599FCA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54F5-93D7-41C7-A5E4-C92F4FDED0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0301"/>
          <p:cNvPicPr/>
          <p:nvPr/>
        </p:nvPicPr>
        <p:blipFill>
          <a:blip r:embed="rId1"/>
          <a:stretch/>
        </p:blipFill>
        <p:spPr>
          <a:xfrm>
            <a:off x="1295280" y="2514600"/>
            <a:ext cx="4572000" cy="3392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2368-4F46-4DB6-9034-296C4D27642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C1F5-0D3D-4588-A13B-D8A8FA7A53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0AA0-549D-4C5A-A922-7008400391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8084-1844-4131-85F2-0DFE399937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5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E20B-628D-4A5F-8E03-87085D8B05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F03E-8B25-4038-A694-B0EB09F280C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9945-86ED-4AEC-B773-A199D3A78B2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EB73-DEF1-429D-935F-546D2B5367B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7888-C520-439D-B4E3-F55BE05419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B81F-7F13-4712-9DDB-2971D38E8DD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11BD-C9BE-4787-8299-5530071C5B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6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964E-B3F2-4447-ADC0-6E1DD8EFC69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628C-D74E-4BCA-88CB-F69493AEAA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5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82EB-9DB4-4E4D-B9B1-FB9CED3A1E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7573-D0E9-4E04-8F13-4ADFAB15EEF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FFBA-7C6B-4D16-9E16-C4E9D122E19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3147-B315-4903-B021-2C9CE8DD51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5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6AAE-6D40-4B48-BD02-DDC56B97086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9EAB-97C9-4F3E-8CE4-CC7D694B607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629A-F78D-4F71-A95A-2F143191DC9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9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616A-48F3-4694-AAEF-D0A43F9FA9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2DAE-C102-4A8E-AC2C-9FDCC2238C5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773B-B310-46B1-9566-2C45EDA2D5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ED69-EA13-40E4-AA43-5925B38803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11 David Money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15FF-577F-4C66-90F6-E5B43A86D6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AF78-3166-46C9-8B7C-1D104FF95F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Metal gates are returning tod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6CB3-A9D2-4F4D-A789-A47EAF5C2E2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E3A4-D494-481A-BB22-5F830F544C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14EC-258D-4DE8-926F-C75823AB0A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2T22:35:18Z</dcterms:modified>
  <cp:revision>325</cp:revision>
  <dc:subject/>
  <dc:title>PowerPoint Presentation</dc:title>
</cp:coreProperties>
</file>