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0E424-73AC-42BF-8A51-0D299D333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9452-8E01-4F43-AD69-F8793FBAF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7B883-7126-40D7-8381-60D5A60A4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9353A-C390-4364-9C7F-0CAF2C6058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9DA9-4EFA-4A90-9A6A-6C0FCC352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2A49-EB3A-486F-8284-666FE2C42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E7C4-E0AC-4CD3-9690-886D08A95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C3189-1271-4673-8881-17396A722B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E1362-2DD1-468E-8898-D1C6C15E9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320BC-D206-49FB-8B63-D67198132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0F5AF-B16D-4EFC-9C1B-0DD17999A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BA40-24EF-4382-A496-7AC7892C4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E80-25E0-4B84-A838-D49F8D577E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37182-0415-4DD2-BD45-8A34DE298B3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DFB5-3F79-45EC-A4F7-457217EC246D}" type="slidenum">
              <a:t>10</a:t>
            </a:fld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1358E-1716-4260-83E7-8B5441F93BE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41911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C29D-EC62-4B70-9F98-EC118BFD7CC7}" type="slidenum">
              <a:t>12</a:t>
            </a:fld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775D-334F-4496-8095-0AE8DC0253F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D8891-1A06-4216-AD54-F308AC2B7DF2}" type="slidenum">
              <a:t>14</a:t>
            </a:fld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67775-DCD6-455A-8E8E-6CFB58325912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F906E-8829-4A69-A1E1-3014B5AEF4AB}" type="slidenum">
              <a:t>16</a:t>
            </a:fld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BFA50-A872-4A55-BEF5-3FBE20D82D9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203B5-F6A3-442A-B5C7-3E7CF71671CE}" type="slidenum">
              <a:t>18</a:t>
            </a:fld>
          </a:p>
        </p:txBody>
      </p:sp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54B7D-E2F6-408A-B8F1-389C83E2BFDE}" type="slidenum">
              <a:t>19</a:t>
            </a:fld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CBAC-E796-46C3-80EA-81634E49CDC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BE11-B7DE-40F4-B8CC-AFC0A7B4D950}" type="slidenum">
              <a:t>20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8341-2AFE-4835-92B1-3B43A657ACBF}" type="slidenum">
              <a:t>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BFE18-1A75-4F50-929B-97F316071893}" type="slidenum">
              <a:t>4</a:t>
            </a:fld>
          </a:p>
        </p:txBody>
      </p:sp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’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88BB0-779B-4078-8BB1-FDBEFF51E8C5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E85B6-4270-4BC1-9837-E7FF870C8239}" type="slidenum">
              <a:t>6</a:t>
            </a:fld>
          </a:p>
        </p:txBody>
      </p: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842F8-13F0-4C26-928E-FF372A80C3C5}" type="slidenum">
              <a:t>7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219320" y="4648320"/>
          <a:ext cx="1752480" cy="13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48320"/>
                    <a:ext cx="1752480" cy="13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495680" y="4572000"/>
          <a:ext cx="138600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2000"/>
                    <a:ext cx="13860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26B48-BD9B-4428-BAD6-F8EE9C76F2DA}" type="slidenum">
              <a:t>8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ombination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1C38-350D-43B2-828D-182C62DDB6BA}" type="slidenum">
              <a:t>9</a:t>
            </a:fld>
          </a:p>
        </p:txBody>
      </p:sp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24T01:33:11Z</dcterms:modified>
  <cp:revision>1061</cp:revision>
  <dc:subject/>
  <dc:title>PowerPoint Presentation</dc:title>
</cp:coreProperties>
</file>